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50.png" ContentType="image/png"/>
  <Override PartName="/ppt/media/image6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9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34.jpeg" ContentType="image/jpeg"/>
  <Override PartName="/ppt/media/image46.png" ContentType="image/png"/>
  <Override PartName="/ppt/media/image44.jpeg" ContentType="image/jpeg"/>
  <Override PartName="/ppt/media/image49.png" ContentType="image/png"/>
  <Override PartName="/ppt/media/image51.png" ContentType="image/png"/>
  <Override PartName="/ppt/media/image41.png" ContentType="image/png"/>
  <Override PartName="/ppt/media/image48.jpeg" ContentType="image/jpeg"/>
  <Override PartName="/ppt/media/image53.png" ContentType="image/png"/>
  <Override PartName="/ppt/media/image37.jpeg" ContentType="image/jpeg"/>
  <Override PartName="/ppt/media/image12.jpeg" ContentType="image/jpeg"/>
  <Override PartName="/ppt/media/image54.png" ContentType="image/png"/>
  <Override PartName="/ppt/media/image32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59B-7A79-4E95-A8EC-BCCC8E43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A8D9-5392-4D6D-98EB-29E2FF1F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F76-453D-4B58-B431-A2FC5F55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DC5-F1F5-488F-8D88-AF803927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7324-1F79-422B-B328-2ECDEF89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468A-BAC3-44EC-B6B2-1758E4E6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DD05-555D-45CD-BD6B-0D416C00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7B6C-C7A6-4B27-8793-53A0CCB3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3499-93C8-4DC1-8834-AB54CAA2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3E78-F308-4779-99BD-21BDADCA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984F-ECA5-40F0-97EA-AA81CCA2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35C-63CB-40BB-ACBB-96203BAD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98E7-667E-4E1E-8F9D-17475C0F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00D7-2B79-4C98-AA59-E70C9F83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AA86-FCD6-4EA1-B444-3BBA02A8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1130-7897-4A2B-96D6-9102D61F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A925-70EB-4F6A-8BD4-E28E849A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CDD-628B-4DA8-A9F6-8564DEB3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5E5-E0D1-45DC-ABED-F33FD124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644-996D-4746-AFCF-58C65AF3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09F-7218-4ED2-AA78-E6E76BA5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F72-F8C0-4187-BAEA-330494BF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2CA-5D46-4E99-B1D8-CB810B35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262-9D2C-4C7B-B2C0-6D5A39D0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0A93-14BD-4B34-BF9A-E9CD357CA34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F176-69FB-4EB4-83B2-DC687E67DFC1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oplek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oplek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ma  DNA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avo 4  en VWO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stract t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ra oefenen via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www.bioplek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venbouw Havo/Vw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ncties D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iterlijke eigenschappen (haren bv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rking cellen bijvoorbeel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zy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rmo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moglobin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edeiwit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enzymen celmembr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porteiwitt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membraaneiwit"/>
          <p:cNvPicPr/>
          <p:nvPr/>
        </p:nvPicPr>
        <p:blipFill>
          <a:blip r:embed="rId1"/>
          <a:stretch/>
        </p:blipFill>
        <p:spPr>
          <a:xfrm>
            <a:off x="971640" y="1773360"/>
            <a:ext cx="7056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ructuureiwitt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ar bestaat DNA ui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ucleoti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ze bestaan ui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sfaat </a:t>
            </a:r>
            <a:r>
              <a:rPr b="0" lang="en-US" sz="1600" spc="-1" strike="noStrike">
                <a:solidFill>
                  <a:srgbClr val="33cc33"/>
                </a:solidFill>
                <a:latin typeface="Verdana"/>
              </a:rPr>
              <a:t>(groe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oxyribose (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iker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(blauw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ikstofbase </a:t>
            </a:r>
            <a:r>
              <a:rPr b="0" lang="en-US" sz="1600" spc="-1" strike="noStrike">
                <a:solidFill>
                  <a:srgbClr val="99ff66"/>
                </a:solidFill>
                <a:latin typeface="Verdana"/>
              </a:rPr>
              <a:t>(4 k</a:t>
            </a:r>
            <a:r>
              <a:rPr b="0" lang="en-US" sz="1600" spc="-1" strike="noStrike">
                <a:solidFill>
                  <a:srgbClr val="66ffff"/>
                </a:solidFill>
                <a:latin typeface="Verdana"/>
              </a:rPr>
              <a:t>l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re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4" descr="DNAstuk"/>
          <p:cNvPicPr/>
          <p:nvPr/>
        </p:nvPicPr>
        <p:blipFill>
          <a:blip r:embed="rId6"/>
          <a:stretch/>
        </p:blipFill>
        <p:spPr>
          <a:xfrm>
            <a:off x="5435640" y="1413000"/>
            <a:ext cx="240012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ikstofbas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de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ym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ua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tos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" descr="adn_frag"/>
          <p:cNvPicPr/>
          <p:nvPr/>
        </p:nvPicPr>
        <p:blipFill>
          <a:blip r:embed="rId5"/>
          <a:stretch/>
        </p:blipFill>
        <p:spPr>
          <a:xfrm>
            <a:off x="3492360" y="1700280"/>
            <a:ext cx="5651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ELCYL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4" descr="celcyclus1"/>
          <p:cNvPicPr/>
          <p:nvPr/>
        </p:nvPicPr>
        <p:blipFill>
          <a:blip r:embed="rId1"/>
          <a:stretch/>
        </p:blipFill>
        <p:spPr>
          <a:xfrm>
            <a:off x="1908000" y="1989000"/>
            <a:ext cx="5112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MITOSE en CELDELING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4" descr="celcyclus4"/>
          <p:cNvPicPr/>
          <p:nvPr/>
        </p:nvPicPr>
        <p:blipFill>
          <a:blip r:embed="rId1"/>
          <a:stretch/>
        </p:blipFill>
        <p:spPr>
          <a:xfrm>
            <a:off x="468360" y="1989000"/>
            <a:ext cx="82072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Mitose </a:t>
            </a:r>
            <a:r>
              <a:rPr b="0" lang="en-US" sz="40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Celdeling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4" descr="mitose_b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Mitose:  kenmerke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4" descr="mitose"/>
          <p:cNvPicPr/>
          <p:nvPr/>
        </p:nvPicPr>
        <p:blipFill>
          <a:blip r:embed="rId1"/>
          <a:stretch/>
        </p:blipFill>
        <p:spPr>
          <a:xfrm>
            <a:off x="468360" y="1557360"/>
            <a:ext cx="8016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enmerken Mit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DOEL: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ieuwe cellen mak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identiek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ellen voor groei, vervanging en herst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 jouw cellen (10</a:t>
            </a:r>
            <a:r>
              <a:rPr b="0" lang="nl-NL" sz="3200" spc="-1" strike="noStrike" baseline="30000">
                <a:solidFill>
                  <a:srgbClr val="ffffff"/>
                </a:solidFill>
                <a:latin typeface="Verdana"/>
              </a:rPr>
              <a:t>22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) hebben dezelfde informatie als de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bevruchte eicel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aar je uit bent ont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ar zit DNA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celkern bi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eren, planten, schimm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owel eencellig als meercell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bacteriën (géén celker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Los in cytoplas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Cirkelvormig DNA = plasmi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De fasen van de mit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148360" y="1599840"/>
            <a:ext cx="374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1 + 5: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Inter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Pro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Tussen 2 en 5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Metaf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3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na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6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Telo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7" descr="mitose_da_cebola"/>
          <p:cNvPicPr/>
          <p:nvPr/>
        </p:nvPicPr>
        <p:blipFill>
          <a:blip r:embed="rId6"/>
          <a:stretch/>
        </p:blipFill>
        <p:spPr>
          <a:xfrm>
            <a:off x="0" y="1773360"/>
            <a:ext cx="5076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fase Anafase Metafa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8" name="Picture 3" descr="profase"/>
          <p:cNvPicPr/>
          <p:nvPr/>
        </p:nvPicPr>
        <p:blipFill>
          <a:blip r:embed="rId1"/>
          <a:stretch/>
        </p:blipFill>
        <p:spPr>
          <a:xfrm>
            <a:off x="3203640" y="2421000"/>
            <a:ext cx="2448000" cy="3093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interfase"/>
          <p:cNvPicPr/>
          <p:nvPr/>
        </p:nvPicPr>
        <p:blipFill>
          <a:blip r:embed="rId2"/>
          <a:stretch/>
        </p:blipFill>
        <p:spPr>
          <a:xfrm>
            <a:off x="395280" y="2421000"/>
            <a:ext cx="2365560" cy="309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metafase"/>
          <p:cNvPicPr/>
          <p:nvPr/>
        </p:nvPicPr>
        <p:blipFill>
          <a:blip r:embed="rId3"/>
          <a:stretch/>
        </p:blipFill>
        <p:spPr>
          <a:xfrm>
            <a:off x="6084720" y="2421000"/>
            <a:ext cx="2374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afase   Telofase   Interfa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2" name="Picture 3" descr="anafase"/>
          <p:cNvPicPr/>
          <p:nvPr/>
        </p:nvPicPr>
        <p:blipFill>
          <a:blip r:embed="rId1"/>
          <a:stretch/>
        </p:blipFill>
        <p:spPr>
          <a:xfrm>
            <a:off x="395280" y="2492280"/>
            <a:ext cx="2448000" cy="3168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elofase2"/>
          <p:cNvPicPr/>
          <p:nvPr/>
        </p:nvPicPr>
        <p:blipFill>
          <a:blip r:embed="rId2"/>
          <a:stretch/>
        </p:blipFill>
        <p:spPr>
          <a:xfrm>
            <a:off x="3348000" y="2492280"/>
            <a:ext cx="2513160" cy="314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nterfase"/>
          <p:cNvPicPr/>
          <p:nvPr/>
        </p:nvPicPr>
        <p:blipFill>
          <a:blip r:embed="rId3"/>
          <a:stretch/>
        </p:blipFill>
        <p:spPr>
          <a:xfrm>
            <a:off x="6156360" y="2637000"/>
            <a:ext cx="2303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2N en N  ??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ormale cel bevat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PARE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at is dus altijd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mens 46, een mug 6 enz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getal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2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is ook altijd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gewone cel heeft 2N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Mitose:  2N 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 2N  +  2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Verdana"/>
              </a:rPr>
              <a:t>- na de mitose verandert het aantal chromosomen niet         - de paren zijn dus ook nog aanwezi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www.bioplek.org</a:t>
            </a: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m bin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ov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houd theorie anim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t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ruk op de enkel pijl 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je krijgt de losse fasen te zi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cyclus (herhaling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5" descr="image002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erhaling mitose en celde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4" descr="mitosis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geslachtelijke voortplan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6" name="Picture 3" descr="pantoffeldiertje"/>
          <p:cNvPicPr/>
          <p:nvPr/>
        </p:nvPicPr>
        <p:blipFill>
          <a:blip r:embed="rId1"/>
          <a:stretch/>
        </p:blipFill>
        <p:spPr>
          <a:xfrm>
            <a:off x="539640" y="1268280"/>
            <a:ext cx="3095640" cy="180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ic135-2"/>
          <p:cNvPicPr/>
          <p:nvPr/>
        </p:nvPicPr>
        <p:blipFill>
          <a:blip r:embed="rId2"/>
          <a:stretch/>
        </p:blipFill>
        <p:spPr>
          <a:xfrm>
            <a:off x="4211640" y="1628640"/>
            <a:ext cx="4681440" cy="4038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pleurococcus2"/>
          <p:cNvPicPr/>
          <p:nvPr/>
        </p:nvPicPr>
        <p:blipFill>
          <a:blip r:embed="rId3"/>
          <a:stretch/>
        </p:blipFill>
        <p:spPr>
          <a:xfrm>
            <a:off x="0" y="3141720"/>
            <a:ext cx="4067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ollen en kno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Ongeslachtelijke voortplant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Picture 4" descr="doorwas_aardappelen_knol_uitlopertjes"/>
          <p:cNvPicPr/>
          <p:nvPr/>
        </p:nvPicPr>
        <p:blipFill>
          <a:blip r:embed="rId1"/>
          <a:stretch/>
        </p:blipFill>
        <p:spPr>
          <a:xfrm>
            <a:off x="5435640" y="4149720"/>
            <a:ext cx="3708360" cy="2374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knollen"/>
          <p:cNvPicPr/>
          <p:nvPr/>
        </p:nvPicPr>
        <p:blipFill>
          <a:blip r:embed="rId2"/>
          <a:stretch/>
        </p:blipFill>
        <p:spPr>
          <a:xfrm>
            <a:off x="5292720" y="1557360"/>
            <a:ext cx="3851280" cy="2376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i1852261-8"/>
          <p:cNvPicPr/>
          <p:nvPr/>
        </p:nvPicPr>
        <p:blipFill>
          <a:blip r:embed="rId3"/>
          <a:stretch/>
        </p:blipFill>
        <p:spPr>
          <a:xfrm>
            <a:off x="0" y="2421000"/>
            <a:ext cx="51354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Uitlop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4" descr="plant2"/>
          <p:cNvPicPr/>
          <p:nvPr/>
        </p:nvPicPr>
        <p:blipFill>
          <a:blip r:embed="rId1"/>
          <a:stretch/>
        </p:blipFill>
        <p:spPr>
          <a:xfrm>
            <a:off x="324000" y="105264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V0096th"/>
          <p:cNvPicPr/>
          <p:nvPr/>
        </p:nvPicPr>
        <p:blipFill>
          <a:blip r:embed="rId2"/>
          <a:stretch/>
        </p:blipFill>
        <p:spPr>
          <a:xfrm>
            <a:off x="5292720" y="1052640"/>
            <a:ext cx="3384720" cy="3024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aardbeien"/>
          <p:cNvPicPr/>
          <p:nvPr/>
        </p:nvPicPr>
        <p:blipFill>
          <a:blip r:embed="rId3"/>
          <a:stretch/>
        </p:blipFill>
        <p:spPr>
          <a:xfrm>
            <a:off x="2195640" y="4437000"/>
            <a:ext cx="3887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ERLIJKE C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4" descr="dierlijkceldoorsnede"/>
          <p:cNvPicPr/>
          <p:nvPr/>
        </p:nvPicPr>
        <p:blipFill>
          <a:blip r:embed="rId1"/>
          <a:stretch/>
        </p:blipFill>
        <p:spPr>
          <a:xfrm>
            <a:off x="250920" y="1125360"/>
            <a:ext cx="8713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Wortelstokk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300px-Koeh-146"/>
          <p:cNvPicPr/>
          <p:nvPr/>
        </p:nvPicPr>
        <p:blipFill>
          <a:blip r:embed="rId1"/>
          <a:stretch/>
        </p:blipFill>
        <p:spPr>
          <a:xfrm>
            <a:off x="0" y="1197000"/>
            <a:ext cx="3851280" cy="2879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gember"/>
          <p:cNvPicPr/>
          <p:nvPr/>
        </p:nvPicPr>
        <p:blipFill>
          <a:blip r:embed="rId2"/>
          <a:stretch/>
        </p:blipFill>
        <p:spPr>
          <a:xfrm>
            <a:off x="5148360" y="1197000"/>
            <a:ext cx="3671640" cy="2160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Kweekgras_170x170"/>
          <p:cNvPicPr/>
          <p:nvPr/>
        </p:nvPicPr>
        <p:blipFill>
          <a:blip r:embed="rId3"/>
          <a:stretch/>
        </p:blipFill>
        <p:spPr>
          <a:xfrm>
            <a:off x="0" y="4221000"/>
            <a:ext cx="27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lelietjevandalenplant80"/>
          <p:cNvPicPr/>
          <p:nvPr/>
        </p:nvPicPr>
        <p:blipFill>
          <a:blip r:embed="rId4"/>
          <a:stretch/>
        </p:blipFill>
        <p:spPr>
          <a:xfrm>
            <a:off x="3203640" y="3933720"/>
            <a:ext cx="2881080" cy="2664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Convallaria%20majalis-04-lelietje-van-dalen8-I1"/>
          <p:cNvPicPr/>
          <p:nvPr/>
        </p:nvPicPr>
        <p:blipFill>
          <a:blip r:embed="rId5"/>
          <a:stretch/>
        </p:blipFill>
        <p:spPr>
          <a:xfrm>
            <a:off x="6300720" y="3860640"/>
            <a:ext cx="259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ikstofbas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de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ym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ua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tos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Picture 4" descr="adn_frag"/>
          <p:cNvPicPr/>
          <p:nvPr/>
        </p:nvPicPr>
        <p:blipFill>
          <a:blip r:embed="rId5"/>
          <a:stretch/>
        </p:blipFill>
        <p:spPr>
          <a:xfrm>
            <a:off x="3492360" y="1700280"/>
            <a:ext cx="5651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DNA Replic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1" name="Picture 4" descr="figuur1"/>
          <p:cNvPicPr/>
          <p:nvPr/>
        </p:nvPicPr>
        <p:blipFill>
          <a:blip r:embed="rId1"/>
          <a:stretch/>
        </p:blipFill>
        <p:spPr>
          <a:xfrm>
            <a:off x="2000160" y="1484280"/>
            <a:ext cx="5688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91440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Eiwitsynthes: ontstaan van mRN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Picture 4" descr="mRNA1"/>
          <p:cNvPicPr/>
          <p:nvPr/>
        </p:nvPicPr>
        <p:blipFill>
          <a:blip r:embed="rId1"/>
          <a:stretch/>
        </p:blipFill>
        <p:spPr>
          <a:xfrm>
            <a:off x="0" y="1628640"/>
            <a:ext cx="4211640" cy="5229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mRNA2"/>
          <p:cNvPicPr/>
          <p:nvPr/>
        </p:nvPicPr>
        <p:blipFill>
          <a:blip r:embed="rId2"/>
          <a:stretch/>
        </p:blipFill>
        <p:spPr>
          <a:xfrm>
            <a:off x="5003640" y="1628640"/>
            <a:ext cx="4140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RNA en eiwitt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www.bioplek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ies biochem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VIDEO’S  PROKARYOTEN  EN  EUKARYOT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ijk 2 video’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Prokaryo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Eukaryo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Bestudeer de lesstof erg go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oortplantingscell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♂ 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ortplantingscel 46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♀ 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ortplantingscel 46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evruchting 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92  chromosomen  ??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plossing een VPC heeft maar de helft van het normale aantal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enmerken voortplantingsc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vat de helft van de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Géén willekeurige hel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lk chromosomenpaar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is er altijd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éé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chromosoom aanwez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enmerken Mei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DOEL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tplantingscellen mak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de helft van het aantal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lke voortplantingscel heeft een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ndere hel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lke voortplantingscel bevat dus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ndere inf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mens: 2</a:t>
            </a:r>
            <a:r>
              <a:rPr b="0" lang="nl-NL" sz="2800" spc="-1" strike="noStrike" baseline="30000">
                <a:solidFill>
                  <a:srgbClr val="ffffff"/>
                </a:solidFill>
                <a:latin typeface="Verdana"/>
              </a:rPr>
              <a:t>23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combina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-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Picture 7" descr="meiose0"/>
          <p:cNvPicPr/>
          <p:nvPr/>
        </p:nvPicPr>
        <p:blipFill>
          <a:blip r:embed="rId2"/>
          <a:stretch/>
        </p:blipFill>
        <p:spPr>
          <a:xfrm>
            <a:off x="971640" y="1197000"/>
            <a:ext cx="7416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ar zit DNA i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4" descr="429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asis geslachtelijke voortplan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spermacel en eicel smelten sa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nieuwe individu heeft een nieuwe combinatie van eigenschapp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Als de omstandigheden veranderen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grotere overlevingskans van de             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-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3" name="Picture 7" descr="meiose3"/>
          <p:cNvPicPr/>
          <p:nvPr/>
        </p:nvPicPr>
        <p:blipFill>
          <a:blip r:embed="rId2"/>
          <a:stretch/>
        </p:blipFill>
        <p:spPr>
          <a:xfrm>
            <a:off x="1187280" y="1341360"/>
            <a:ext cx="67694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www.bioplek.org</a:t>
            </a: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m bin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ov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houd theorie anim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i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ruk op de enkel pijl 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je krijgt de losse fasen te zi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: twee deling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iose 1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alvering aantal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iose 2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kt op een mit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2 chromatide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1 chromat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Meiose 1:  2N 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 N  +  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Meiose 2:    N 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 N  +  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slachtelijke voortplan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r variatie =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divers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Recombinatie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=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nieuwe combinatie van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igenschapp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Zelfbestuiving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= plant bevrucht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chzel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adeel: mindere vari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Vermijden genetische vari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Veredeling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lant alleen de organismen met de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e eigenschappen v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g dat bij mens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Ras of zuivere lij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mige eigenschappen  homozygoot 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bij onderlinge voortplanting blijven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paalde kenmerken behou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Vermijden genetische vari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loner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akomelingen met identieke info = DNA als de ouderp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ongeslachtelijke voortplan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v aardappels poten (Bintje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kzuiver of zaadvast: bij rassen en zuivere lijnen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(voor de homozygote gene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Mutat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Een verandering in het D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Wordt dus doorgegeven aan de nakome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Mutatie 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 meer vari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e mutaties negatief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sel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hankelijk van de omstandigheden: sikkelcelanem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orzaken mutat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Straling: UV , rönt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Radioactieve stoffen (stral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Chemische stoff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Viruss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otste effect van een mutati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in voortplantingscellen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158400"/>
            <a:ext cx="8229600" cy="59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8" descr="Image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Chromosomen:</a:t>
            </a:r>
            <a:br>
              <a:rPr sz="4000"/>
            </a:br>
            <a:r>
              <a:rPr b="0" lang="nl-NL" sz="2400" spc="-1" strike="noStrike">
                <a:solidFill>
                  <a:srgbClr val="ffff99"/>
                </a:solidFill>
                <a:latin typeface="Arial"/>
              </a:rPr>
              <a:t>dragers van de erfelijke informatie</a:t>
            </a:r>
            <a:br>
              <a:rPr sz="2400"/>
            </a:br>
            <a:r>
              <a:rPr b="0" lang="nl-NL" sz="2400" spc="-1" strike="noStrike">
                <a:solidFill>
                  <a:srgbClr val="ffff99"/>
                </a:solidFill>
                <a:latin typeface="Arial"/>
              </a:rPr>
              <a:t>Mens: 46 chromosomen totale lengte 1,8 meter</a:t>
            </a:r>
            <a:br>
              <a:rPr sz="2400"/>
            </a:br>
            <a:r>
              <a:rPr b="0" lang="nl-NL" sz="2400" spc="-1" strike="noStrike">
                <a:solidFill>
                  <a:srgbClr val="ffff99"/>
                </a:solidFill>
                <a:latin typeface="Arial"/>
              </a:rPr>
              <a:t>23 paren = 23 homologe chromosome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3280" y="2781360"/>
            <a:ext cx="450072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8" descr="P1020680"/>
          <p:cNvPicPr/>
          <p:nvPr/>
        </p:nvPicPr>
        <p:blipFill>
          <a:blip r:embed="rId2"/>
          <a:stretch/>
        </p:blipFill>
        <p:spPr>
          <a:xfrm>
            <a:off x="0" y="2349360"/>
            <a:ext cx="4506840" cy="4508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labo04"/>
          <p:cNvPicPr/>
          <p:nvPr/>
        </p:nvPicPr>
        <p:blipFill>
          <a:blip r:embed="rId3"/>
          <a:stretch/>
        </p:blipFill>
        <p:spPr>
          <a:xfrm>
            <a:off x="4500720" y="2349360"/>
            <a:ext cx="4643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Muta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individu waar de mutatie tot uiting kom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e mutaties recessie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utaties komen weinig vo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ot uiting bij huwelijk in de familie door</a:t>
            </a: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 inte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anker = tum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Door diverse mut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Herkent een cel de cellen in zijn omgeving ni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Gevolg de cel gaat delen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gezw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waadaardig en goedaar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Uitzaaiing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: de tumorcel laat los en zwerft door het licha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anker: verstoorde weefs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05" name="Picture 6" descr="o_info1"/>
          <p:cNvPicPr/>
          <p:nvPr/>
        </p:nvPicPr>
        <p:blipFill>
          <a:blip r:embed="rId1"/>
          <a:stretch/>
        </p:blipFill>
        <p:spPr>
          <a:xfrm>
            <a:off x="723960" y="1774800"/>
            <a:ext cx="76960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58400"/>
            <a:ext cx="8229600" cy="59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7" name="Picture 6" descr="0004484aa"/>
          <p:cNvPicPr/>
          <p:nvPr/>
        </p:nvPicPr>
        <p:blipFill>
          <a:blip r:embed="rId2"/>
          <a:stretch/>
        </p:blipFill>
        <p:spPr>
          <a:xfrm>
            <a:off x="97164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rfelijkheidsonderz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ch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ruchtwaterpun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lokken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loed uit de navelstre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loedonderzoek moe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ch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Ultrasoon gelu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oto’ embry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Geslachtsbepa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Groei vol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eeftijdsbepa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3" name="Picture 7" descr="erf"/>
          <p:cNvPicPr/>
          <p:nvPr/>
        </p:nvPicPr>
        <p:blipFill>
          <a:blip r:embed="rId7"/>
          <a:stretch/>
        </p:blipFill>
        <p:spPr>
          <a:xfrm>
            <a:off x="0" y="1773360"/>
            <a:ext cx="46432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Vruchtwaterpun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In het vruchtwater zweven cellen van het ki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ie cellen onderzoek je op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chromosoomfout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foute ge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7" name="Picture 7" descr="Vruchtwaterpunctie"/>
          <p:cNvPicPr/>
          <p:nvPr/>
        </p:nvPicPr>
        <p:blipFill>
          <a:blip r:embed="rId4"/>
          <a:stretch/>
        </p:blipFill>
        <p:spPr>
          <a:xfrm>
            <a:off x="0" y="1700280"/>
            <a:ext cx="4427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lokkentes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len van de placenta worden opgezo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Riskanter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len onderzoeken karyogram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chromosomen te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yndroom Dow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1" name="Picture 8" descr="prenat2"/>
          <p:cNvPicPr/>
          <p:nvPr/>
        </p:nvPicPr>
        <p:blipFill>
          <a:blip r:embed="rId5"/>
          <a:stretch/>
        </p:blipFill>
        <p:spPr>
          <a:xfrm>
            <a:off x="0" y="2133720"/>
            <a:ext cx="457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99"/>
                </a:solidFill>
                <a:latin typeface="Arial"/>
              </a:rPr>
              <a:t>Karyogram syndroom van Dow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4" name="Picture 7" descr="Karyogram of a boy with trisomy 21, source: http://www.bio-pro.de/en/region/ulm/magazin/01155/index.html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Prenatale diagnost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Bloed uit de navelstreng afne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fwijkingen in het bloed opspo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8" name="Picture 7" descr="Navelstrengpunctie"/>
          <p:cNvPicPr/>
          <p:nvPr/>
        </p:nvPicPr>
        <p:blipFill>
          <a:blip r:embed="rId4"/>
          <a:stretch/>
        </p:blipFill>
        <p:spPr>
          <a:xfrm>
            <a:off x="0" y="2133720"/>
            <a:ext cx="4716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oortplantingscellen:</a:t>
            </a:r>
            <a:br>
              <a:rPr sz="4400"/>
            </a:b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Bevatten de helft van het aantal chromosomen = 23</a:t>
            </a:r>
            <a:br>
              <a:rPr sz="2800"/>
            </a:b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Na de bevruchting is het aantal weer normaal = 46 </a:t>
            </a:r>
            <a:br>
              <a:rPr sz="2800"/>
            </a:b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Van </a:t>
            </a:r>
            <a:r>
              <a:rPr b="1" lang="nl-NL" sz="2800" spc="-1" strike="noStrike">
                <a:solidFill>
                  <a:srgbClr val="ffff99"/>
                </a:solidFill>
                <a:latin typeface="Arial"/>
              </a:rPr>
              <a:t>elk</a:t>
            </a: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 chromosomenpaar heb je er 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</a:rPr>
              <a:t>één van je moeder</a:t>
            </a: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 en 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</a:rPr>
              <a:t>één van je vader</a:t>
            </a: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 gekregen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5" name="Picture 7" descr="P1020683"/>
          <p:cNvPicPr/>
          <p:nvPr/>
        </p:nvPicPr>
        <p:blipFill>
          <a:blip r:embed="rId1"/>
          <a:stretch/>
        </p:blipFill>
        <p:spPr>
          <a:xfrm>
            <a:off x="0" y="3141720"/>
            <a:ext cx="4506840" cy="3716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72000" y="3068640"/>
            <a:ext cx="446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11" descr="chromosomen"/>
          <p:cNvPicPr/>
          <p:nvPr/>
        </p:nvPicPr>
        <p:blipFill>
          <a:blip r:embed="rId3"/>
          <a:stretch/>
        </p:blipFill>
        <p:spPr>
          <a:xfrm>
            <a:off x="4572000" y="3141720"/>
            <a:ext cx="4572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Biotechnolog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olyploïd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na mitose geen celde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4N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v grotere tomaten en tarwekorr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ecombinant DNA techni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NA manip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Recombinant DNA techn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NA van de mens inbouwen in een bacter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bacterie maakt dan bv insul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éél zuiverder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minder bijwerk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4" name="Picture 7" descr="web-dnarticle-man-p3"/>
          <p:cNvPicPr/>
          <p:nvPr/>
        </p:nvPicPr>
        <p:blipFill>
          <a:blip r:embed="rId5"/>
          <a:stretch/>
        </p:blipFill>
        <p:spPr>
          <a:xfrm>
            <a:off x="0" y="1413000"/>
            <a:ext cx="44276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Recombinant DNA techn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andbouwgewassen resistent maken tegen ziekten of vraat door insec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edingsmiddelen met een betere samenstel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rmonen maken bv insul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de toekomst: menselijke genen uitschakelen die erfelijke ziekten veroorzaken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Recombinant DNA techn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fusietechni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 het plaatje R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 van een geit en een schaap samen laten smelten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scheit of gaa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ybride c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0" name="Picture 6" descr="web-dnarticle-man-p2"/>
          <p:cNvPicPr/>
          <p:nvPr/>
        </p:nvPicPr>
        <p:blipFill>
          <a:blip r:embed="rId5"/>
          <a:stretch/>
        </p:blipFill>
        <p:spPr>
          <a:xfrm>
            <a:off x="0" y="2205000"/>
            <a:ext cx="450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DNA fingerprin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DNA wordt met een restrictieezym in stukken geknip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t enzym knipt bij een basecombinatie bv ATTGC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e verschillende stukken die ontstaan vormen het streepjespatro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3" name="Picture 7" descr="DNA-genetic-fingerprinting-on-fingerprint-blue-backdrop-1-AJHD(1)"/>
          <p:cNvPicPr/>
          <p:nvPr/>
        </p:nvPicPr>
        <p:blipFill>
          <a:blip r:embed="rId4"/>
          <a:stretch/>
        </p:blipFill>
        <p:spPr>
          <a:xfrm>
            <a:off x="0" y="1628640"/>
            <a:ext cx="44956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Alleen VW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el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fferentiati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cel krijgt een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ere v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mdat andere genen aktief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el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pecialisati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or die andere v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 door andere enzy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en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ere fun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defferenti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bovenste cellen van een eicel vormen de ru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nderste cellen van een eicel vormen de b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 is al celdifferentiatie opgetreden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Is dit een voortplantingscel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Verdana"/>
              </a:rPr>
              <a:t>Zygote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: bevruchte eic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Verdana"/>
              </a:rPr>
              <a:t>VPC:</a:t>
            </a:r>
            <a:r>
              <a:rPr b="0" lang="nl-NL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voortplantingsc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7" descr="1963802"/>
          <p:cNvPicPr/>
          <p:nvPr/>
        </p:nvPicPr>
        <p:blipFill>
          <a:blip r:embed="rId4"/>
          <a:stretch/>
        </p:blipFill>
        <p:spPr>
          <a:xfrm>
            <a:off x="0" y="1700280"/>
            <a:ext cx="4500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N en 2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en gewone cel: 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Verdana"/>
              </a:rPr>
              <a:t>2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alle van elk chromosomenpaar zij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ide chromosomen aanwez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Bv lever- of spiercel mens 2N = 4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en voortplantingscel: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Verdan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an elk chromosomenpaar is maa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één chromosoom aanwez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Bv zaadc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an chromosoom tot D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www.bioplek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ies biochem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7:26:59Z</dcterms:created>
  <dc:creator>ond</dc:creator>
  <dc:description/>
  <dc:language>en-US</dc:language>
  <cp:lastModifiedBy>Admin</cp:lastModifiedBy>
  <dcterms:modified xsi:type="dcterms:W3CDTF">2016-09-07T17:46:45Z</dcterms:modified>
  <cp:revision>43</cp:revision>
  <dc:subject/>
  <dc:title>Thema  DNA Havo 4  en VWO 4</dc:title>
</cp:coreProperties>
</file>