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A1C-1AB0-4841-924C-D27E66D8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4F6-B1BF-4C17-89C9-9C71BD3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E6D-5746-446F-A444-A14EF2B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275-3116-4C8D-8E3C-E45B8B9D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842-78E4-4996-89E5-FE23D06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3FC-8F3A-4686-A37F-5F92F72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507-A7A1-4BEF-A9B8-459464B4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C7B-1B96-4FCD-AFBE-BE13345E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FC3-86D5-4353-A2B2-634FBC1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3A0-D6CF-4A9F-A24F-0AB7928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C47-36E2-47CB-A346-1EBF8F6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1CC-3346-49BC-AD27-DB682A5D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792-D7A7-4A40-A8BC-62821E599BD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koppeling va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AZ aan het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LMP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TO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U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 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chemie  trans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Admin</cp:lastModifiedBy>
  <dcterms:modified xsi:type="dcterms:W3CDTF">2016-09-07T17:43:00Z</dcterms:modified>
  <cp:revision>28</cp:revision>
  <dc:subject/>
  <dc:title>6A1-B3 Eiwitsynthese (les3</dc:title>
</cp:coreProperties>
</file>