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46.png" ContentType="image/pn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7.jpeg" ContentType="image/jpeg"/>
  <Override PartName="/ppt/media/image12.jpeg" ContentType="image/jpeg"/>
  <Override PartName="/ppt/media/image54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1E0-9291-4112-9F6B-DAE7BC16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AA0-7FEB-4567-BCDE-2C18ACD6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015-6D73-4A47-BD02-56549DC4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4D6-814D-4000-86D4-1B751587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A84-D3F1-4712-B436-61D91834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38B-0080-47D3-AD16-91E67AB2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364E-284B-4CF8-872F-8CC2F23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8C28-0016-4900-B9C8-BCEFA46D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B0C-B5DD-4DB3-A690-1BA33F07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9A07-B139-4E46-9A77-B87A037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56C0-EC94-4E50-BABC-BF1CAC3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514-CB38-4CF3-922D-685CF93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FF76-FF40-40BB-BEB8-B788A17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32B-B2BA-4357-9C20-50C6D79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626-3A5C-4DDB-BFF9-5E339E9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05FB-BB51-4560-93EA-37E88904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0ABC-8389-4848-8DC8-10C26697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90B-3BE6-44AD-ADFD-A9BD3093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B8C-F052-4281-B2E8-82D0870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782-B721-4ED5-9248-2C32500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B85-9E66-4C2C-954C-FCC5C2D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A77-48A8-49D9-A3C5-C600C47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F5C-A219-496A-9C13-FD6ED87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3A7-2DD7-418A-BD82-A4C8ECB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9AF-6481-4E15-9D17-39DCC853782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B1E-E99C-4074-B2EA-22D32DC8E91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ma  DNA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vo 4  en VWO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tract t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oefenen vi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venbouw Havo/Vw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cties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terlijke eigenschappen (haren b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king cellen bijvoorbeel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m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oglobi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edeiwit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enzymen celmembr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port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membraaneiwit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ur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bestaat DNA ui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ucleot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ze bestaan ui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faat </a:t>
            </a:r>
            <a:r>
              <a:rPr b="0" lang="en-US" sz="1600" spc="-1" strike="noStrike">
                <a:solidFill>
                  <a:srgbClr val="33cc33"/>
                </a:solidFill>
                <a:latin typeface="Verdana"/>
              </a:rPr>
              <a:t>(groe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oxyribose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k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(blauw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ikstofbase </a:t>
            </a: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(4 k</a:t>
            </a:r>
            <a:r>
              <a:rPr b="0" lang="en-US" sz="1600" spc="-1" strike="noStrike">
                <a:solidFill>
                  <a:srgbClr val="66ffff"/>
                </a:solidFill>
                <a:latin typeface="Verdana"/>
              </a:rPr>
              <a:t>l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DNAstuk"/>
          <p:cNvPicPr/>
          <p:nvPr/>
        </p:nvPicPr>
        <p:blipFill>
          <a:blip r:embed="rId6"/>
          <a:stretch/>
        </p:blipFill>
        <p:spPr>
          <a:xfrm>
            <a:off x="5435640" y="1413000"/>
            <a:ext cx="24001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ELCYL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celcyclus1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en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celcyclus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</a:t>
            </a:r>
            <a:r>
              <a:rPr b="0" lang="en-US" sz="4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mitose_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itose:  kenmerke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mitose"/>
          <p:cNvPicPr/>
          <p:nvPr/>
        </p:nvPicPr>
        <p:blipFill>
          <a:blip r:embed="rId1"/>
          <a:stretch/>
        </p:blipFill>
        <p:spPr>
          <a:xfrm>
            <a:off x="468360" y="1557360"/>
            <a:ext cx="8016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enmerken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ieuwe 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dentiek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len voor groei, vervanging en hers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 jouw cellen (10</a:t>
            </a:r>
            <a:r>
              <a:rPr b="0" lang="nl-NL" sz="3200" spc="-1" strike="noStrike" baseline="30000">
                <a:solidFill>
                  <a:srgbClr val="ffffff"/>
                </a:solidFill>
                <a:latin typeface="Verdana"/>
              </a:rPr>
              <a:t>22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) hebben dezelfde informatie als de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ruchte eicel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aar je uit bent ont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kern bi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ren, planten, schimm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wel eencellig als meercell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bacteriën (géén celk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os in cytoplas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Cirkelvormig DNA = plasm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De fasen van de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8360" y="1599840"/>
            <a:ext cx="374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 + 5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ussen 2 en 5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af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na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7" descr="mitose_da_cebola"/>
          <p:cNvPicPr/>
          <p:nvPr/>
        </p:nvPicPr>
        <p:blipFill>
          <a:blip r:embed="rId6"/>
          <a:stretch/>
        </p:blipFill>
        <p:spPr>
          <a:xfrm>
            <a:off x="0" y="1773360"/>
            <a:ext cx="50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fase Anafase Meta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8" name="Picture 3" descr="profase"/>
          <p:cNvPicPr/>
          <p:nvPr/>
        </p:nvPicPr>
        <p:blipFill>
          <a:blip r:embed="rId1"/>
          <a:stretch/>
        </p:blipFill>
        <p:spPr>
          <a:xfrm>
            <a:off x="3203640" y="2421000"/>
            <a:ext cx="2448000" cy="30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terfase"/>
          <p:cNvPicPr/>
          <p:nvPr/>
        </p:nvPicPr>
        <p:blipFill>
          <a:blip r:embed="rId2"/>
          <a:stretch/>
        </p:blipFill>
        <p:spPr>
          <a:xfrm>
            <a:off x="395280" y="2421000"/>
            <a:ext cx="236556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etafase"/>
          <p:cNvPicPr/>
          <p:nvPr/>
        </p:nvPicPr>
        <p:blipFill>
          <a:blip r:embed="rId3"/>
          <a:stretch/>
        </p:blipFill>
        <p:spPr>
          <a:xfrm>
            <a:off x="6084720" y="242100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fase   Telofase   Inter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Picture 3" descr="anafase"/>
          <p:cNvPicPr/>
          <p:nvPr/>
        </p:nvPicPr>
        <p:blipFill>
          <a:blip r:embed="rId1"/>
          <a:stretch/>
        </p:blipFill>
        <p:spPr>
          <a:xfrm>
            <a:off x="395280" y="2492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elofase2"/>
          <p:cNvPicPr/>
          <p:nvPr/>
        </p:nvPicPr>
        <p:blipFill>
          <a:blip r:embed="rId2"/>
          <a:stretch/>
        </p:blipFill>
        <p:spPr>
          <a:xfrm>
            <a:off x="3348000" y="2492280"/>
            <a:ext cx="2513160" cy="31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nterfase"/>
          <p:cNvPicPr/>
          <p:nvPr/>
        </p:nvPicPr>
        <p:blipFill>
          <a:blip r:embed="rId3"/>
          <a:stretch/>
        </p:blipFill>
        <p:spPr>
          <a:xfrm>
            <a:off x="6156360" y="2637000"/>
            <a:ext cx="2303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2N en N  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ormale cel beva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PARE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at is dus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mens 46, een mug 6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getal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2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ook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gewone cel heeft 2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itose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2N  +  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- na de mitose verandert het aantal chromosomen niet         - de paren zijn dus ook nog aanwezi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cyclus (herhaling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image0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rhaling mitose en celde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mitosi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6" name="Picture 3" descr="pantoffeldiertje"/>
          <p:cNvPicPr/>
          <p:nvPr/>
        </p:nvPicPr>
        <p:blipFill>
          <a:blip r:embed="rId1"/>
          <a:stretch/>
        </p:blipFill>
        <p:spPr>
          <a:xfrm>
            <a:off x="539640" y="12682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ic135-2"/>
          <p:cNvPicPr/>
          <p:nvPr/>
        </p:nvPicPr>
        <p:blipFill>
          <a:blip r:embed="rId2"/>
          <a:stretch/>
        </p:blipFill>
        <p:spPr>
          <a:xfrm>
            <a:off x="4211640" y="1628640"/>
            <a:ext cx="4681440" cy="403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leurococcus2"/>
          <p:cNvPicPr/>
          <p:nvPr/>
        </p:nvPicPr>
        <p:blipFill>
          <a:blip r:embed="rId3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ollen en kno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Ongeslachtelijke voortplan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doorwas_aardappelen_knol_uitlopertjes"/>
          <p:cNvPicPr/>
          <p:nvPr/>
        </p:nvPicPr>
        <p:blipFill>
          <a:blip r:embed="rId1"/>
          <a:stretch/>
        </p:blipFill>
        <p:spPr>
          <a:xfrm>
            <a:off x="5435640" y="4149720"/>
            <a:ext cx="3708360" cy="237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nollen"/>
          <p:cNvPicPr/>
          <p:nvPr/>
        </p:nvPicPr>
        <p:blipFill>
          <a:blip r:embed="rId2"/>
          <a:stretch/>
        </p:blipFill>
        <p:spPr>
          <a:xfrm>
            <a:off x="5292720" y="155736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i1852261-8"/>
          <p:cNvPicPr/>
          <p:nvPr/>
        </p:nvPicPr>
        <p:blipFill>
          <a:blip r:embed="rId3"/>
          <a:stretch/>
        </p:blipFill>
        <p:spPr>
          <a:xfrm>
            <a:off x="0" y="2421000"/>
            <a:ext cx="5135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itlop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plant2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V0096th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aardbeien"/>
          <p:cNvPicPr/>
          <p:nvPr/>
        </p:nvPicPr>
        <p:blipFill>
          <a:blip r:embed="rId3"/>
          <a:stretch/>
        </p:blipFill>
        <p:spPr>
          <a:xfrm>
            <a:off x="2195640" y="4437000"/>
            <a:ext cx="38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dierlijkceldoorsnede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ortelstokk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300px-Koeh-146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gember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weekgras_170x170"/>
          <p:cNvPicPr/>
          <p:nvPr/>
        </p:nvPicPr>
        <p:blipFill>
          <a:blip r:embed="rId3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elietjevandalenplant80"/>
          <p:cNvPicPr/>
          <p:nvPr/>
        </p:nvPicPr>
        <p:blipFill>
          <a:blip r:embed="rId4"/>
          <a:stretch/>
        </p:blipFill>
        <p:spPr>
          <a:xfrm>
            <a:off x="3203640" y="3933720"/>
            <a:ext cx="28810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onvallaria%20majalis-04-lelietje-van-dalen8-I1"/>
          <p:cNvPicPr/>
          <p:nvPr/>
        </p:nvPicPr>
        <p:blipFill>
          <a:blip r:embed="rId5"/>
          <a:stretch/>
        </p:blipFill>
        <p:spPr>
          <a:xfrm>
            <a:off x="6300720" y="386064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DNA Replic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4" descr="figuur1"/>
          <p:cNvPicPr/>
          <p:nvPr/>
        </p:nvPicPr>
        <p:blipFill>
          <a:blip r:embed="rId1"/>
          <a:stretch/>
        </p:blipFill>
        <p:spPr>
          <a:xfrm>
            <a:off x="2000160" y="1484280"/>
            <a:ext cx="568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iwitsynthes: ontstaan van mR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mRNA1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mRNA2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RNA en 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VIDEO’S  PROKARYOTEN  EN  EUKARYOT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ijk 2 video’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Pro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Eu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Bestudeer de lesstof erg go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♂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♀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vruchting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92  chromosomen  ?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lossing een VPC heeft maar de helft van het normale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voortplantings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vat de helft van de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één willekeurige hel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lk chromosomenpaa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er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éé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tplantings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de helft van het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heeft een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hel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bevat dus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inf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mens: 2</a:t>
            </a:r>
            <a:r>
              <a:rPr b="0" lang="nl-NL" sz="2800" spc="-1" strike="noStrike" baseline="30000">
                <a:solidFill>
                  <a:srgbClr val="ffffff"/>
                </a:solidFill>
                <a:latin typeface="Verdana"/>
              </a:rPr>
              <a:t>2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ombina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meiose0"/>
          <p:cNvPicPr/>
          <p:nvPr/>
        </p:nvPicPr>
        <p:blipFill>
          <a:blip r:embed="rId2"/>
          <a:stretch/>
        </p:blipFill>
        <p:spPr>
          <a:xfrm>
            <a:off x="971640" y="119700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 i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429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asis 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spermacel en eicel smelten sa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nieuwe individu heeft een nieuwe combinatie van 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ls de omstandigheden veranderen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grotere overlevingskans van de             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7" descr="meiose3"/>
          <p:cNvPicPr/>
          <p:nvPr/>
        </p:nvPicPr>
        <p:blipFill>
          <a:blip r:embed="rId2"/>
          <a:stretch/>
        </p:blipFill>
        <p:spPr>
          <a:xfrm>
            <a:off x="1187280" y="1341360"/>
            <a:ext cx="6769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: twee deling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vering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2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kt op een 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 chromatide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1 chromat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1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2:    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 variatie =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ivers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ecombinati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nieuwe combinatie va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Zelfbestuiving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plant bevrucht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chz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deel: mindere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edel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lant alleen de organismen met d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e eigenschappen v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g dat bij mens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as of zuivere lij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mige eigenschappen  homozygoot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bij onderlinge voortplanting blijve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paalde kenmerken behou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lone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komelingen met identieke info = DNA als de ouderp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on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aardappels poten (Bintj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kzuiver of zaadvast: bij rassen en zuivere lijn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voor de homozygote gen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Een verandering in het D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Wordt dus doorgegeven aan de nakome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Mutatie 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 meer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negatief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sel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hankelijk van de omstandigheden: sikkelcelanem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orzaken 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Straling: UV , rönt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Radioactieve stoffen (stral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Chemische stoff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Virus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otste effect van een mutati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in voortplantingscelle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Imag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Chromosomen:</a:t>
            </a:r>
            <a:br>
              <a:rPr sz="40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dragers van de erfelijke informatie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Mens: 46 chromosomen totale lengte 1,8 meter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23 paren = 23 homologe chromosom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3280" y="2781360"/>
            <a:ext cx="4500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8" descr="P1020680"/>
          <p:cNvPicPr/>
          <p:nvPr/>
        </p:nvPicPr>
        <p:blipFill>
          <a:blip r:embed="rId2"/>
          <a:stretch/>
        </p:blipFill>
        <p:spPr>
          <a:xfrm>
            <a:off x="0" y="2349360"/>
            <a:ext cx="4506840" cy="450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labo04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individu waar de mutatie tot uiting kom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recess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utaties komen weinig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ot uiting bij huwelijk in de familie door</a:t>
            </a: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 inte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 = tum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Door diverse mut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Herkent een cel de cellen in zijn omgeving n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Gevolg de cel gaat del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gezw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adaardig en goedaar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Uitzaai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de tumorcel laat los en zwerft door het licha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: verstoorde weefs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6" descr="o_info1"/>
          <p:cNvPicPr/>
          <p:nvPr/>
        </p:nvPicPr>
        <p:blipFill>
          <a:blip r:embed="rId1"/>
          <a:stretch/>
        </p:blipFill>
        <p:spPr>
          <a:xfrm>
            <a:off x="723960" y="1774800"/>
            <a:ext cx="7696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6" descr="0004484aa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rfelijkheidsonderz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c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ruchtwaterp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lokken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 uit de navelstr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onderzoek mo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ch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ltrasoon gelu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oto’ embr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slachtsbep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roei vol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eftijdsbepa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Picture 7" descr="erf"/>
          <p:cNvPicPr/>
          <p:nvPr/>
        </p:nvPicPr>
        <p:blipFill>
          <a:blip r:embed="rId7"/>
          <a:stretch/>
        </p:blipFill>
        <p:spPr>
          <a:xfrm>
            <a:off x="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ruchtwaterpun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het vruchtwater zweven cellen van het k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ie cellen onderzoek je op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chromosoomfout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oute ge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7" descr="Vruchtwaterpunctie"/>
          <p:cNvPicPr/>
          <p:nvPr/>
        </p:nvPicPr>
        <p:blipFill>
          <a:blip r:embed="rId4"/>
          <a:stretch/>
        </p:blipFill>
        <p:spPr>
          <a:xfrm>
            <a:off x="0" y="1700280"/>
            <a:ext cx="4427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lokken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van de placenta worden opgez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Riskant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onderzoeken karyogram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hromosomen 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yndroom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8" descr="prenat2"/>
          <p:cNvPicPr/>
          <p:nvPr/>
        </p:nvPicPr>
        <p:blipFill>
          <a:blip r:embed="rId5"/>
          <a:stretch/>
        </p:blipFill>
        <p:spPr>
          <a:xfrm>
            <a:off x="0" y="21337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99"/>
                </a:solidFill>
                <a:latin typeface="Arial"/>
              </a:rPr>
              <a:t>Karyogram syndroom van Dow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Picture 7" descr="Karyogram of a boy with trisomy 21, source: http://www.bio-pro.de/en/region/ulm/magazin/01155/index.html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Prenatale diagnost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oed uit de navelstreng afne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wijkingen in het bloed opspo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7" descr="Navelstrengpunctie"/>
          <p:cNvPicPr/>
          <p:nvPr/>
        </p:nvPicPr>
        <p:blipFill>
          <a:blip r:embed="rId4"/>
          <a:stretch/>
        </p:blipFill>
        <p:spPr>
          <a:xfrm>
            <a:off x="0" y="213372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br>
              <a:rPr sz="44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Bevatten de helft van het aantal chromosomen = 23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Na de bevruchting is het aantal weer normaal = 46 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Van </a:t>
            </a:r>
            <a:r>
              <a:rPr b="1" lang="nl-NL" sz="2800" spc="-1" strike="noStrike">
                <a:solidFill>
                  <a:srgbClr val="ffff99"/>
                </a:solidFill>
                <a:latin typeface="Arial"/>
              </a:rPr>
              <a:t>elk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chromosomenpaar heb je er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moe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va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gekrege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7" descr="P1020683"/>
          <p:cNvPicPr/>
          <p:nvPr/>
        </p:nvPicPr>
        <p:blipFill>
          <a:blip r:embed="rId1"/>
          <a:stretch/>
        </p:blipFill>
        <p:spPr>
          <a:xfrm>
            <a:off x="0" y="3141720"/>
            <a:ext cx="4506840" cy="3716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0" y="3068640"/>
            <a:ext cx="446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1" descr="chromosomen"/>
          <p:cNvPicPr/>
          <p:nvPr/>
        </p:nvPicPr>
        <p:blipFill>
          <a:blip r:embed="rId3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Biotechnolo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lyploïd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na mitose geen celde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grotere tomaten en tarwekorr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ecombinant DNA techni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NA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NA van de mens inbouwen in een bacter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bacterie maakt dan bv insu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éél zuiverder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minder bijwerk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7" descr="web-dnarticle-man-p3"/>
          <p:cNvPicPr/>
          <p:nvPr/>
        </p:nvPicPr>
        <p:blipFill>
          <a:blip r:embed="rId5"/>
          <a:stretch/>
        </p:blipFill>
        <p:spPr>
          <a:xfrm>
            <a:off x="0" y="1413000"/>
            <a:ext cx="4427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andbouwgewassen resistent maken tegen ziekten of vraat door insec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edingsmiddelen met een betere samens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rmonen maken bv insu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de toekomst: menselijke genen uitschakelen die erfelijke ziekten veroorzaken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fusietechni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het plaatje 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 van een geit en een schaap samen laten smelt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scheit of ga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bride 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6" descr="web-dnarticle-man-p2"/>
          <p:cNvPicPr/>
          <p:nvPr/>
        </p:nvPicPr>
        <p:blipFill>
          <a:blip r:embed="rId5"/>
          <a:stretch/>
        </p:blipFill>
        <p:spPr>
          <a:xfrm>
            <a:off x="0" y="220500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DNA wordt met een restrictieezym in stukken geknip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t enzym knipt bij een basecombinatie bv ATTGC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e verschillende stukken die ontstaan vormen het streepjespatr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7" descr="DNA-genetic-fingerprinting-on-fingerprint-blue-backdrop-1-AJHD(1)"/>
          <p:cNvPicPr/>
          <p:nvPr/>
        </p:nvPicPr>
        <p:blipFill>
          <a:blip r:embed="rId4"/>
          <a:stretch/>
        </p:blipFill>
        <p:spPr>
          <a:xfrm>
            <a:off x="0" y="1628640"/>
            <a:ext cx="4495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lleen VW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i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cel krijgt 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dat andere genen aktief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cialis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 die 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door andere 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f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defferent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bovenste cellen van een eicel vormen de r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nderste cellen van een eicel vormen de b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 is al celdifferentiatie opgetre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Is dit een voortplantingscel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Zygote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: bevruchte ei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VPC:</a:t>
            </a:r>
            <a:r>
              <a:rPr b="0" lang="nl-NL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oortplantings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1963802"/>
          <p:cNvPicPr/>
          <p:nvPr/>
        </p:nvPicPr>
        <p:blipFill>
          <a:blip r:embed="rId4"/>
          <a:stretch/>
        </p:blipFill>
        <p:spPr>
          <a:xfrm>
            <a:off x="0" y="170028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N en 2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wone cel: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alle van elk chromosomenpaar zij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ide chromosomen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lever- of spiercel mens 2N = 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voortplantingscel: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an elk chromosomenpaar is ma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één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zaad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n chromosoom tot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7:26:59Z</dcterms:created>
  <dc:creator>ond</dc:creator>
  <dc:description/>
  <dc:language>en-US</dc:language>
  <cp:lastModifiedBy>Admin</cp:lastModifiedBy>
  <dcterms:modified xsi:type="dcterms:W3CDTF">2016-09-07T17:46:45Z</dcterms:modified>
  <cp:revision>43</cp:revision>
  <dc:subject/>
  <dc:title>Thema  DNA Havo 4  en VWO 4</dc:title>
</cp:coreProperties>
</file>