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42.png" ContentType="image/png"/>
  <Override PartName="/ppt/media/image5.jpeg" ContentType="image/jpeg"/>
  <Override PartName="/ppt/media/image50.png" ContentType="image/png"/>
  <Override PartName="/ppt/media/image6.png" ContentType="image/pn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9.jpeg" ContentType="image/jpeg"/>
  <Override PartName="/ppt/media/image43.png" ContentType="image/png"/>
  <Override PartName="/ppt/media/image45.jpeg" ContentType="image/jpeg"/>
  <Override PartName="/ppt/media/image55.png" ContentType="image/png"/>
  <Override PartName="/ppt/media/image34.jpeg" ContentType="image/jpeg"/>
  <Override PartName="/ppt/media/image46.png" ContentType="image/png"/>
  <Override PartName="/ppt/media/image44.jpeg" ContentType="image/jpeg"/>
  <Override PartName="/ppt/media/image49.png" ContentType="image/png"/>
  <Override PartName="/ppt/media/image51.png" ContentType="image/png"/>
  <Override PartName="/ppt/media/image41.png" ContentType="image/png"/>
  <Override PartName="/ppt/media/image48.jpeg" ContentType="image/jpeg"/>
  <Override PartName="/ppt/media/image53.png" ContentType="image/png"/>
  <Override PartName="/ppt/media/image37.jpeg" ContentType="image/jpeg"/>
  <Override PartName="/ppt/media/image12.jpeg" ContentType="image/jpeg"/>
  <Override PartName="/ppt/media/image54.png" ContentType="image/png"/>
  <Override PartName="/ppt/media/image32.jpeg" ContentType="image/jpeg"/>
  <Override PartName="/ppt/media/image31.jpeg" ContentType="image/jpeg"/>
  <Override PartName="/ppt/media/image30.jpeg" ContentType="image/jpeg"/>
  <Override PartName="/ppt/media/image39.jpeg" ContentType="image/jpeg"/>
  <Override PartName="/ppt/media/image8.jpeg" ContentType="image/jpeg"/>
  <Override PartName="/ppt/media/image47.png" ContentType="image/png"/>
  <Override PartName="/ppt/media/image35.jpeg" ContentType="image/jpeg"/>
  <Override PartName="/ppt/media/image10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5A4F-2107-4AE5-90D3-89C73E9A1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871D-4B8A-4900-BD18-A60A9FFD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45AC-D577-46E5-B6C4-ABE3DE33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065E-F0CB-42EE-8EAB-9A8F5984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4553-ACA5-48A9-B520-7057E7F4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5C65-2B94-43A1-9A98-DD230504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4C22-7EBF-4106-8F0A-ADAE4C2C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87B7-CA77-45E5-98D8-685E3F80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5D42-FD22-45A9-B6D6-CC8C1480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E720-EBB4-47A2-B8F9-E081100F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BD2E-00D7-4E63-B3C4-8EB315AB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E67F-E4CE-413F-B023-D8D8074E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9DB1-250B-4ADB-A288-B77139E0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811A-DBA1-457D-97C3-C31FC5D3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CAF1-CB53-470C-A209-4A343C48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7E3E-559A-4269-B19D-277A9824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9272-834F-4F8A-A80D-F96E3864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57C5-B647-4940-A612-59CDFAEF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BDC1-57B6-4A0A-A959-F7087C83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607E-256B-48D8-B935-D9B3E812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1B30-078D-4051-969F-9A12266B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C9B7-E3DC-41F8-BD58-E5328B59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65A6-6A69-474E-B9D4-B405FFB8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CDC4-63EC-4083-A94A-FBD14B40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39B3A-05F2-4257-B8F3-E106D817F11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6B2E-9A30-4B13-AB8C-04AD895C28F4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ioplek.org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ioplek.org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ioplek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bioplek.org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ioplek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ma  DNA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avo 4  en VWO 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bstract the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ra oefenen via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www.bioplek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ovenbouw Havo/Vwo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uncties DN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iterlijke eigenschappen (haren bv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rking cellen bijvoorbeeld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zy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rmon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moglobin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edeiwit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nsportenzymen celmembra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ransporteiwitt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4" descr="membraaneiwit"/>
          <p:cNvPicPr/>
          <p:nvPr/>
        </p:nvPicPr>
        <p:blipFill>
          <a:blip r:embed="rId1"/>
          <a:stretch/>
        </p:blipFill>
        <p:spPr>
          <a:xfrm>
            <a:off x="971640" y="1773360"/>
            <a:ext cx="70563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tructuureiwitt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Picture 4" descr="4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aar bestaat DNA uit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ucleoti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ze bestaan ui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sfaat </a:t>
            </a:r>
            <a:r>
              <a:rPr b="0" lang="en-US" sz="1600" spc="-1" strike="noStrike">
                <a:solidFill>
                  <a:srgbClr val="33cc33"/>
                </a:solidFill>
                <a:latin typeface="Verdana"/>
              </a:rPr>
              <a:t>(groen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soxyribose (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iker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                                  </a:t>
            </a: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(blauw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ikstofbase </a:t>
            </a:r>
            <a:r>
              <a:rPr b="0" lang="en-US" sz="1600" spc="-1" strike="noStrike">
                <a:solidFill>
                  <a:srgbClr val="99ff66"/>
                </a:solidFill>
                <a:latin typeface="Verdana"/>
              </a:rPr>
              <a:t>(4 k</a:t>
            </a:r>
            <a:r>
              <a:rPr b="0" lang="en-US" sz="1600" spc="-1" strike="noStrike">
                <a:solidFill>
                  <a:srgbClr val="66ffff"/>
                </a:solidFill>
                <a:latin typeface="Verdana"/>
              </a:rPr>
              <a:t>le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re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n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of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of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of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4" descr="DNAstuk"/>
          <p:cNvPicPr/>
          <p:nvPr/>
        </p:nvPicPr>
        <p:blipFill>
          <a:blip r:embed="rId6"/>
          <a:stretch/>
        </p:blipFill>
        <p:spPr>
          <a:xfrm>
            <a:off x="5435640" y="1413000"/>
            <a:ext cx="240012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tikstofbas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den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ym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uan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tos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4" descr="adn_frag"/>
          <p:cNvPicPr/>
          <p:nvPr/>
        </p:nvPicPr>
        <p:blipFill>
          <a:blip r:embed="rId5"/>
          <a:stretch/>
        </p:blipFill>
        <p:spPr>
          <a:xfrm>
            <a:off x="3492360" y="1700280"/>
            <a:ext cx="56516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ELCYLU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4" descr="celcyclus1"/>
          <p:cNvPicPr/>
          <p:nvPr/>
        </p:nvPicPr>
        <p:blipFill>
          <a:blip r:embed="rId1"/>
          <a:stretch/>
        </p:blipFill>
        <p:spPr>
          <a:xfrm>
            <a:off x="1908000" y="1989000"/>
            <a:ext cx="51120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MITOSE en CELDELING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4" descr="celcyclus4"/>
          <p:cNvPicPr/>
          <p:nvPr/>
        </p:nvPicPr>
        <p:blipFill>
          <a:blip r:embed="rId1"/>
          <a:stretch/>
        </p:blipFill>
        <p:spPr>
          <a:xfrm>
            <a:off x="468360" y="1989000"/>
            <a:ext cx="82072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Mitose </a:t>
            </a:r>
            <a:r>
              <a:rPr b="0" lang="en-US" sz="40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Celdeling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4" descr="mitose_b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Mitose:  kenmerken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Picture 4" descr="mitose"/>
          <p:cNvPicPr/>
          <p:nvPr/>
        </p:nvPicPr>
        <p:blipFill>
          <a:blip r:embed="rId1"/>
          <a:stretch/>
        </p:blipFill>
        <p:spPr>
          <a:xfrm>
            <a:off x="468360" y="1557360"/>
            <a:ext cx="80168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Kenmerken Mito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DOEL: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ieuwe cellen mak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t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identiek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ellen voor groei, vervanging en herst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l jouw cellen (10</a:t>
            </a:r>
            <a:r>
              <a:rPr b="0" lang="nl-NL" sz="3200" spc="-1" strike="noStrike" baseline="30000">
                <a:solidFill>
                  <a:srgbClr val="ffffff"/>
                </a:solidFill>
                <a:latin typeface="Verdana"/>
              </a:rPr>
              <a:t>22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) hebben dezelfde informatie als de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bevruchte eicel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aar je uit bent ontsta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aar zit DNA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celkern bij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eren, planten, schimme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owel eencellig als meercell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bacteriën (géén celker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Los in cytoplas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Cirkelvormig DNA = plasmi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De fasen van de mito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148360" y="1599840"/>
            <a:ext cx="374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1 + 5: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Interf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2: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Prof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Tussen 2 en 5: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Metaf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3: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naf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6: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Telof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6" name="Picture 7" descr="mitose_da_cebola"/>
          <p:cNvPicPr/>
          <p:nvPr/>
        </p:nvPicPr>
        <p:blipFill>
          <a:blip r:embed="rId6"/>
          <a:stretch/>
        </p:blipFill>
        <p:spPr>
          <a:xfrm>
            <a:off x="0" y="1773360"/>
            <a:ext cx="50767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ofase Anafase Metafa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8" name="Picture 3" descr="profase"/>
          <p:cNvPicPr/>
          <p:nvPr/>
        </p:nvPicPr>
        <p:blipFill>
          <a:blip r:embed="rId1"/>
          <a:stretch/>
        </p:blipFill>
        <p:spPr>
          <a:xfrm>
            <a:off x="3203640" y="2421000"/>
            <a:ext cx="2448000" cy="3093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interfase"/>
          <p:cNvPicPr/>
          <p:nvPr/>
        </p:nvPicPr>
        <p:blipFill>
          <a:blip r:embed="rId2"/>
          <a:stretch/>
        </p:blipFill>
        <p:spPr>
          <a:xfrm>
            <a:off x="395280" y="2421000"/>
            <a:ext cx="2365560" cy="3095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metafase"/>
          <p:cNvPicPr/>
          <p:nvPr/>
        </p:nvPicPr>
        <p:blipFill>
          <a:blip r:embed="rId3"/>
          <a:stretch/>
        </p:blipFill>
        <p:spPr>
          <a:xfrm>
            <a:off x="6084720" y="2421000"/>
            <a:ext cx="2374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nafase   Telofase   Interfa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2" name="Picture 3" descr="anafase"/>
          <p:cNvPicPr/>
          <p:nvPr/>
        </p:nvPicPr>
        <p:blipFill>
          <a:blip r:embed="rId1"/>
          <a:stretch/>
        </p:blipFill>
        <p:spPr>
          <a:xfrm>
            <a:off x="395280" y="2492280"/>
            <a:ext cx="2448000" cy="3168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elofase2"/>
          <p:cNvPicPr/>
          <p:nvPr/>
        </p:nvPicPr>
        <p:blipFill>
          <a:blip r:embed="rId2"/>
          <a:stretch/>
        </p:blipFill>
        <p:spPr>
          <a:xfrm>
            <a:off x="3348000" y="2492280"/>
            <a:ext cx="2513160" cy="3144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interfase"/>
          <p:cNvPicPr/>
          <p:nvPr/>
        </p:nvPicPr>
        <p:blipFill>
          <a:blip r:embed="rId3"/>
          <a:stretch/>
        </p:blipFill>
        <p:spPr>
          <a:xfrm>
            <a:off x="6156360" y="2637000"/>
            <a:ext cx="23032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2N en N  ??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ormale cel bevat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PAREN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at is dus altijd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EV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mens 46, een mug 6 enz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getal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2N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is ook altijd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ev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gewone cel heeft 2N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Mitose:  2N  </a:t>
            </a:r>
            <a:r>
              <a:rPr b="1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  2N  +  2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Verdana"/>
              </a:rPr>
              <a:t>- na de mitose verandert het aantal chromosomen niet         - de paren zijn dus ook nog aanwezi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www.bioplek.org</a:t>
            </a: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om binn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ovenbou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houd theorie anima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to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ruk op de enkel pijl 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je krijgt de losse fasen te zi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elcyclus (herhaling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Picture 5" descr="image002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erhaling mitose en celdel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Picture 4" descr="mitosis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ngeslachtelijke voortplant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36" name="Picture 3" descr="pantoffeldiertje"/>
          <p:cNvPicPr/>
          <p:nvPr/>
        </p:nvPicPr>
        <p:blipFill>
          <a:blip r:embed="rId1"/>
          <a:stretch/>
        </p:blipFill>
        <p:spPr>
          <a:xfrm>
            <a:off x="539640" y="1268280"/>
            <a:ext cx="3095640" cy="1800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ic135-2"/>
          <p:cNvPicPr/>
          <p:nvPr/>
        </p:nvPicPr>
        <p:blipFill>
          <a:blip r:embed="rId2"/>
          <a:stretch/>
        </p:blipFill>
        <p:spPr>
          <a:xfrm>
            <a:off x="4211640" y="1628640"/>
            <a:ext cx="4681440" cy="4038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pleurococcus2"/>
          <p:cNvPicPr/>
          <p:nvPr/>
        </p:nvPicPr>
        <p:blipFill>
          <a:blip r:embed="rId3"/>
          <a:stretch/>
        </p:blipFill>
        <p:spPr>
          <a:xfrm>
            <a:off x="0" y="3141720"/>
            <a:ext cx="40672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ollen en knoll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Ongeslachtelijke voortplant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Picture 4" descr="doorwas_aardappelen_knol_uitlopertjes"/>
          <p:cNvPicPr/>
          <p:nvPr/>
        </p:nvPicPr>
        <p:blipFill>
          <a:blip r:embed="rId1"/>
          <a:stretch/>
        </p:blipFill>
        <p:spPr>
          <a:xfrm>
            <a:off x="5435640" y="4149720"/>
            <a:ext cx="3708360" cy="2374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knollen"/>
          <p:cNvPicPr/>
          <p:nvPr/>
        </p:nvPicPr>
        <p:blipFill>
          <a:blip r:embed="rId2"/>
          <a:stretch/>
        </p:blipFill>
        <p:spPr>
          <a:xfrm>
            <a:off x="5292720" y="1557360"/>
            <a:ext cx="3851280" cy="2376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i1852261-8"/>
          <p:cNvPicPr/>
          <p:nvPr/>
        </p:nvPicPr>
        <p:blipFill>
          <a:blip r:embed="rId3"/>
          <a:stretch/>
        </p:blipFill>
        <p:spPr>
          <a:xfrm>
            <a:off x="0" y="2421000"/>
            <a:ext cx="51354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Uitlop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4" descr="plant2"/>
          <p:cNvPicPr/>
          <p:nvPr/>
        </p:nvPicPr>
        <p:blipFill>
          <a:blip r:embed="rId1"/>
          <a:stretch/>
        </p:blipFill>
        <p:spPr>
          <a:xfrm>
            <a:off x="324000" y="1052640"/>
            <a:ext cx="4176720" cy="2952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V0096th"/>
          <p:cNvPicPr/>
          <p:nvPr/>
        </p:nvPicPr>
        <p:blipFill>
          <a:blip r:embed="rId2"/>
          <a:stretch/>
        </p:blipFill>
        <p:spPr>
          <a:xfrm>
            <a:off x="5292720" y="1052640"/>
            <a:ext cx="3384720" cy="3024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aardbeien"/>
          <p:cNvPicPr/>
          <p:nvPr/>
        </p:nvPicPr>
        <p:blipFill>
          <a:blip r:embed="rId3"/>
          <a:stretch/>
        </p:blipFill>
        <p:spPr>
          <a:xfrm>
            <a:off x="2195640" y="4437000"/>
            <a:ext cx="38876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IERLIJKE CE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4" descr="dierlijkceldoorsnede"/>
          <p:cNvPicPr/>
          <p:nvPr/>
        </p:nvPicPr>
        <p:blipFill>
          <a:blip r:embed="rId1"/>
          <a:stretch/>
        </p:blipFill>
        <p:spPr>
          <a:xfrm>
            <a:off x="250920" y="1125360"/>
            <a:ext cx="87138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Wortelstokk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300px-Koeh-146"/>
          <p:cNvPicPr/>
          <p:nvPr/>
        </p:nvPicPr>
        <p:blipFill>
          <a:blip r:embed="rId1"/>
          <a:stretch/>
        </p:blipFill>
        <p:spPr>
          <a:xfrm>
            <a:off x="0" y="1197000"/>
            <a:ext cx="3851280" cy="2879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gember"/>
          <p:cNvPicPr/>
          <p:nvPr/>
        </p:nvPicPr>
        <p:blipFill>
          <a:blip r:embed="rId2"/>
          <a:stretch/>
        </p:blipFill>
        <p:spPr>
          <a:xfrm>
            <a:off x="5148360" y="1197000"/>
            <a:ext cx="3671640" cy="2160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Kweekgras_170x170"/>
          <p:cNvPicPr/>
          <p:nvPr/>
        </p:nvPicPr>
        <p:blipFill>
          <a:blip r:embed="rId3"/>
          <a:stretch/>
        </p:blipFill>
        <p:spPr>
          <a:xfrm>
            <a:off x="0" y="4221000"/>
            <a:ext cx="2700360" cy="2303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lelietjevandalenplant80"/>
          <p:cNvPicPr/>
          <p:nvPr/>
        </p:nvPicPr>
        <p:blipFill>
          <a:blip r:embed="rId4"/>
          <a:stretch/>
        </p:blipFill>
        <p:spPr>
          <a:xfrm>
            <a:off x="3203640" y="3933720"/>
            <a:ext cx="2881080" cy="2664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Convallaria%20majalis-04-lelietje-van-dalen8-I1"/>
          <p:cNvPicPr/>
          <p:nvPr/>
        </p:nvPicPr>
        <p:blipFill>
          <a:blip r:embed="rId5"/>
          <a:stretch/>
        </p:blipFill>
        <p:spPr>
          <a:xfrm>
            <a:off x="6300720" y="3860640"/>
            <a:ext cx="259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tikstofbas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den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ym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uan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tos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8" name="Picture 4" descr="adn_frag"/>
          <p:cNvPicPr/>
          <p:nvPr/>
        </p:nvPicPr>
        <p:blipFill>
          <a:blip r:embed="rId5"/>
          <a:stretch/>
        </p:blipFill>
        <p:spPr>
          <a:xfrm>
            <a:off x="3492360" y="1700280"/>
            <a:ext cx="56516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DNA Replic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1" name="Picture 4" descr="figuur1"/>
          <p:cNvPicPr/>
          <p:nvPr/>
        </p:nvPicPr>
        <p:blipFill>
          <a:blip r:embed="rId1"/>
          <a:stretch/>
        </p:blipFill>
        <p:spPr>
          <a:xfrm>
            <a:off x="2000160" y="1484280"/>
            <a:ext cx="5688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58400"/>
            <a:ext cx="91440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Eiwitsynthes: ontstaan van mRN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4" name="Picture 4" descr="mRNA1"/>
          <p:cNvPicPr/>
          <p:nvPr/>
        </p:nvPicPr>
        <p:blipFill>
          <a:blip r:embed="rId1"/>
          <a:stretch/>
        </p:blipFill>
        <p:spPr>
          <a:xfrm>
            <a:off x="0" y="1628640"/>
            <a:ext cx="4211640" cy="5229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mRNA2"/>
          <p:cNvPicPr/>
          <p:nvPr/>
        </p:nvPicPr>
        <p:blipFill>
          <a:blip r:embed="rId2"/>
          <a:stretch/>
        </p:blipFill>
        <p:spPr>
          <a:xfrm>
            <a:off x="5003640" y="1628640"/>
            <a:ext cx="41403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RNA en eiwitt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www.bioplek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ies biochem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VIDEO’S  PROKARYOTEN  EN  EUKARYOTE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kijk 2 video’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Prokaryo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Eukaryo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Bestudeer de lesstof erg go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Voortplantingscelle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♂ 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oortplantingscel 46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♀ 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oortplantingscel 46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evruchting 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92  chromosomen  ???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plossing een VPC heeft maar de helft van het normale aantal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Kenmerken voortplantingsce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vat de helft van de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Géén willekeurige helf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n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elk chromosomenpaar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is er altijd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één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chromosoom aanwez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Kenmerken Meio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DOEL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ortplantingscellen mak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t de helft van het aantal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Elke voortplantingscel heeft een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andere hel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Elke voortplantingscel bevat dus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andere inf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e mens: 2</a:t>
            </a:r>
            <a:r>
              <a:rPr b="0" lang="nl-NL" sz="2800" spc="-1" strike="noStrike" baseline="30000">
                <a:solidFill>
                  <a:srgbClr val="ffffff"/>
                </a:solidFill>
                <a:latin typeface="Verdana"/>
              </a:rPr>
              <a:t>23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combina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Meiose-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8" name="Picture 7" descr="meiose0"/>
          <p:cNvPicPr/>
          <p:nvPr/>
        </p:nvPicPr>
        <p:blipFill>
          <a:blip r:embed="rId2"/>
          <a:stretch/>
        </p:blipFill>
        <p:spPr>
          <a:xfrm>
            <a:off x="971640" y="1197000"/>
            <a:ext cx="74167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aar zit DNA in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4" descr="429"/>
          <p:cNvPicPr/>
          <p:nvPr/>
        </p:nvPicPr>
        <p:blipFill>
          <a:blip r:embed="rId1"/>
          <a:stretch/>
        </p:blipFill>
        <p:spPr>
          <a:xfrm>
            <a:off x="468360" y="1341360"/>
            <a:ext cx="8207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Meio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asis geslachtelijke voortplan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spermacel en eicel smelten sa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nieuwe individu heeft een nieuwe combinatie van eigenschapp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Als de omstandigheden veranderen </a:t>
            </a:r>
            <a:r>
              <a:rPr b="1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 grotere overlevingskans van de             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so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Meiose-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3" name="Picture 7" descr="meiose3"/>
          <p:cNvPicPr/>
          <p:nvPr/>
        </p:nvPicPr>
        <p:blipFill>
          <a:blip r:embed="rId2"/>
          <a:stretch/>
        </p:blipFill>
        <p:spPr>
          <a:xfrm>
            <a:off x="1187280" y="1341360"/>
            <a:ext cx="67694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www.bioplek.org</a:t>
            </a: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om binn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ovenbou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houd theorie anima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io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ruk op de enkel pijl 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je krijgt de losse fasen te zi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Meiose: twee deling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iose 1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alvering aantal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iose 2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ijkt op een mito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2 chromatide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1 chromat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Meiose 1:  2N  </a:t>
            </a:r>
            <a:r>
              <a:rPr b="1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  N  +  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Meiose 2:    N  </a:t>
            </a:r>
            <a:r>
              <a:rPr b="1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  N  +  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eslachtelijke voortplant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r variatie =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diversite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Recombinatie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=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nieuwe combinatie van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igenschapp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Zelfbestuiving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= plant bevrucht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ichzel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adeel: mindere vari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Vermijden genetische vari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Veredeling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lant alleen de organismen met de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oede eigenschappen vo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g dat bij mense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Ras of zuivere lijn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mige eigenschappen  homozygoot 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bij onderlinge voortplanting blijven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paalde kenmerken behou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Vermijden genetische vari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lonere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akomelingen met identieke info = DNA als de ouderpla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t ongeslachtelijke voortplan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v aardappels poten (Bintje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okzuiver of zaadvast: bij rassen en zuivere lijnen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(voor de homozygote gene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Mutati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Een verandering in het DN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Wordt dus doorgegeven aan de nakomel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Mutatie  </a:t>
            </a:r>
            <a:r>
              <a:rPr b="0" lang="nl-NL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 meer vari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ste mutaties negatief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sel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fhankelijk van de omstandigheden: sikkelcelanemi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orzaken mutati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Straling: UV , rönt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Radioactieve stoffen (stralin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Chemische stoff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Viruss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ootste effect van een mutati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in voortplantingscellen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57200" y="158400"/>
            <a:ext cx="8229600" cy="59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Picture 8" descr="Image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Chromosomen:</a:t>
            </a:r>
            <a:br>
              <a:rPr sz="4000"/>
            </a:br>
            <a:r>
              <a:rPr b="0" lang="nl-NL" sz="2400" spc="-1" strike="noStrike">
                <a:solidFill>
                  <a:srgbClr val="ffff99"/>
                </a:solidFill>
                <a:latin typeface="Arial"/>
              </a:rPr>
              <a:t>dragers van de erfelijke informatie</a:t>
            </a:r>
            <a:br>
              <a:rPr sz="2400"/>
            </a:br>
            <a:r>
              <a:rPr b="0" lang="nl-NL" sz="2400" spc="-1" strike="noStrike">
                <a:solidFill>
                  <a:srgbClr val="ffff99"/>
                </a:solidFill>
                <a:latin typeface="Arial"/>
              </a:rPr>
              <a:t>Mens: 46 chromosomen totale lengte 1,8 meter</a:t>
            </a:r>
            <a:br>
              <a:rPr sz="2400"/>
            </a:br>
            <a:r>
              <a:rPr b="0" lang="nl-NL" sz="2400" spc="-1" strike="noStrike">
                <a:solidFill>
                  <a:srgbClr val="ffff99"/>
                </a:solidFill>
                <a:latin typeface="Arial"/>
              </a:rPr>
              <a:t>23 paren = 23 homologe chromosome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3280" y="2781360"/>
            <a:ext cx="450072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8" descr="P1020680"/>
          <p:cNvPicPr/>
          <p:nvPr/>
        </p:nvPicPr>
        <p:blipFill>
          <a:blip r:embed="rId2"/>
          <a:stretch/>
        </p:blipFill>
        <p:spPr>
          <a:xfrm>
            <a:off x="0" y="2349360"/>
            <a:ext cx="4506840" cy="4508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labo04"/>
          <p:cNvPicPr/>
          <p:nvPr/>
        </p:nvPicPr>
        <p:blipFill>
          <a:blip r:embed="rId3"/>
          <a:stretch/>
        </p:blipFill>
        <p:spPr>
          <a:xfrm>
            <a:off x="4500720" y="2349360"/>
            <a:ext cx="46432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Muta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individu waar de mutatie tot uiting kom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ste mutaties recessie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utaties komen weinig vo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ot uiting bij huwelijk in de familie door</a:t>
            </a:r>
            <a:r>
              <a:rPr b="1" lang="nl-NL" sz="3200" spc="-1" strike="noStrike">
                <a:solidFill>
                  <a:srgbClr val="ff0000"/>
                </a:solidFill>
                <a:latin typeface="Verdana"/>
              </a:rPr>
              <a:t> intee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Kanker = tumo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Verdana"/>
              </a:rPr>
              <a:t>Door diverse muta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Verdana"/>
              </a:rPr>
              <a:t>Herkent een cel de cellen in zijn omgeving ni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Verdana"/>
              </a:rPr>
              <a:t>Gevolg de cel gaat delen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gezw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waadaardig en goedaard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Verdana"/>
              </a:rPr>
              <a:t>Uitzaaiing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: de tumorcel laat los en zwerft door het licha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Kanker: verstoorde weefsel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05" name="Picture 6" descr="o_info1"/>
          <p:cNvPicPr/>
          <p:nvPr/>
        </p:nvPicPr>
        <p:blipFill>
          <a:blip r:embed="rId1"/>
          <a:stretch/>
        </p:blipFill>
        <p:spPr>
          <a:xfrm>
            <a:off x="723960" y="1774800"/>
            <a:ext cx="76960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58400"/>
            <a:ext cx="8229600" cy="59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7" name="Picture 6" descr="0004484aa"/>
          <p:cNvPicPr/>
          <p:nvPr/>
        </p:nvPicPr>
        <p:blipFill>
          <a:blip r:embed="rId2"/>
          <a:stretch/>
        </p:blipFill>
        <p:spPr>
          <a:xfrm>
            <a:off x="971640" y="0"/>
            <a:ext cx="69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Erfelijkheidsonderzo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ch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ruchtwaterpun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lokkent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loed uit de navelstre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loedonderzoek moe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Ech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Ultrasoon gelui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Foto’ embry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Geslachtsbepal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Groei vol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Leeftijdsbepal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3" name="Picture 7" descr="erf"/>
          <p:cNvPicPr/>
          <p:nvPr/>
        </p:nvPicPr>
        <p:blipFill>
          <a:blip r:embed="rId7"/>
          <a:stretch/>
        </p:blipFill>
        <p:spPr>
          <a:xfrm>
            <a:off x="0" y="1773360"/>
            <a:ext cx="46432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Vruchtwaterpun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00720" y="1599840"/>
            <a:ext cx="464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In het vruchtwater zweven cellen van het ki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ie cellen onderzoek je op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chromosoomfout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foute ge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7" name="Picture 7" descr="Vruchtwaterpunctie"/>
          <p:cNvPicPr/>
          <p:nvPr/>
        </p:nvPicPr>
        <p:blipFill>
          <a:blip r:embed="rId4"/>
          <a:stretch/>
        </p:blipFill>
        <p:spPr>
          <a:xfrm>
            <a:off x="0" y="1700280"/>
            <a:ext cx="44276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Vlokkentes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Cellen van de placenta worden opgezo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Riskanter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cellen onderzoeken karyogram </a:t>
            </a:r>
            <a:r>
              <a:rPr b="0" lang="nl-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chromosomen tell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Syndroom Dow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1" name="Picture 8" descr="prenat2"/>
          <p:cNvPicPr/>
          <p:nvPr/>
        </p:nvPicPr>
        <p:blipFill>
          <a:blip r:embed="rId5"/>
          <a:stretch/>
        </p:blipFill>
        <p:spPr>
          <a:xfrm>
            <a:off x="0" y="2133720"/>
            <a:ext cx="4572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99"/>
                </a:solidFill>
                <a:latin typeface="Arial"/>
              </a:rPr>
              <a:t>Karyogram syndroom van Dow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4" name="Picture 7" descr="Karyogram of a boy with trisomy 21, source: http://www.bio-pro.de/en/region/ulm/magazin/01155/index.html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Prenatale diagnosti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Bloed uit de navelstreng afne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fwijkingen in het bloed opspo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8" name="Picture 7" descr="Navelstrengpunctie"/>
          <p:cNvPicPr/>
          <p:nvPr/>
        </p:nvPicPr>
        <p:blipFill>
          <a:blip r:embed="rId4"/>
          <a:stretch/>
        </p:blipFill>
        <p:spPr>
          <a:xfrm>
            <a:off x="0" y="2133720"/>
            <a:ext cx="4716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Voortplantingscellen:</a:t>
            </a:r>
            <a:br>
              <a:rPr sz="4400"/>
            </a:br>
            <a:r>
              <a:rPr b="0" lang="nl-NL" sz="2800" spc="-1" strike="noStrike">
                <a:solidFill>
                  <a:srgbClr val="ffff99"/>
                </a:solidFill>
                <a:latin typeface="Arial"/>
              </a:rPr>
              <a:t>Bevatten de helft van het aantal chromosomen = 23</a:t>
            </a:r>
            <a:br>
              <a:rPr sz="2800"/>
            </a:br>
            <a:r>
              <a:rPr b="0" lang="nl-NL" sz="2800" spc="-1" strike="noStrike">
                <a:solidFill>
                  <a:srgbClr val="ffff99"/>
                </a:solidFill>
                <a:latin typeface="Arial"/>
              </a:rPr>
              <a:t>Na de bevruchting is het aantal weer normaal = 46 </a:t>
            </a:r>
            <a:br>
              <a:rPr sz="2800"/>
            </a:br>
            <a:r>
              <a:rPr b="0" lang="nl-NL" sz="2800" spc="-1" strike="noStrike">
                <a:solidFill>
                  <a:srgbClr val="ffff99"/>
                </a:solidFill>
                <a:latin typeface="Arial"/>
              </a:rPr>
              <a:t>Van </a:t>
            </a:r>
            <a:r>
              <a:rPr b="1" lang="nl-NL" sz="2800" spc="-1" strike="noStrike">
                <a:solidFill>
                  <a:srgbClr val="ffff99"/>
                </a:solidFill>
                <a:latin typeface="Arial"/>
              </a:rPr>
              <a:t>elk</a:t>
            </a:r>
            <a:r>
              <a:rPr b="0" lang="nl-NL" sz="2800" spc="-1" strike="noStrike">
                <a:solidFill>
                  <a:srgbClr val="ffff99"/>
                </a:solidFill>
                <a:latin typeface="Arial"/>
              </a:rPr>
              <a:t> chromosomenpaar heb je er 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</a:rPr>
              <a:t>één van je moeder</a:t>
            </a:r>
            <a:r>
              <a:rPr b="0" lang="nl-NL" sz="2800" spc="-1" strike="noStrike">
                <a:solidFill>
                  <a:srgbClr val="ffff99"/>
                </a:solidFill>
                <a:latin typeface="Arial"/>
              </a:rPr>
              <a:t> en 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</a:rPr>
              <a:t>één van je vader</a:t>
            </a:r>
            <a:r>
              <a:rPr b="0" lang="nl-NL" sz="2800" spc="-1" strike="noStrike">
                <a:solidFill>
                  <a:srgbClr val="ffff99"/>
                </a:solidFill>
                <a:latin typeface="Arial"/>
              </a:rPr>
              <a:t> gekregen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5" name="Picture 7" descr="P1020683"/>
          <p:cNvPicPr/>
          <p:nvPr/>
        </p:nvPicPr>
        <p:blipFill>
          <a:blip r:embed="rId1"/>
          <a:stretch/>
        </p:blipFill>
        <p:spPr>
          <a:xfrm>
            <a:off x="0" y="3141720"/>
            <a:ext cx="4506840" cy="3716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4572000" y="3068640"/>
            <a:ext cx="44640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11" descr="chromosomen"/>
          <p:cNvPicPr/>
          <p:nvPr/>
        </p:nvPicPr>
        <p:blipFill>
          <a:blip r:embed="rId3"/>
          <a:stretch/>
        </p:blipFill>
        <p:spPr>
          <a:xfrm>
            <a:off x="4572000" y="3141720"/>
            <a:ext cx="4572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Biotechnolog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olyploïdi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na mitose geen celde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4N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v grotere tomaten en tarwekorre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ecombinant DNA techni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NA manipul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Recombinant DNA techni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NA van de mens inbouwen in een bacteri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e bacterie maakt dan bv insul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éél zuiverder </a:t>
            </a:r>
            <a:r>
              <a:rPr b="0" lang="nl-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minder bijwerkin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4" name="Picture 7" descr="web-dnarticle-man-p3"/>
          <p:cNvPicPr/>
          <p:nvPr/>
        </p:nvPicPr>
        <p:blipFill>
          <a:blip r:embed="rId5"/>
          <a:stretch/>
        </p:blipFill>
        <p:spPr>
          <a:xfrm>
            <a:off x="0" y="1413000"/>
            <a:ext cx="44276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Recombinant DNA techni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andbouwgewassen resistent maken tegen ziekten of vraat door insec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edingsmiddelen met een betere samenstel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rmonen maken bv insul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 de toekomst: menselijke genen uitschakelen die erfelijke ziekten veroorzaken?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Recombinant DNA techni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Celfusietechnie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n het plaatje R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Cel van een geit en een schaap samen laten smelten </a:t>
            </a:r>
            <a:r>
              <a:rPr b="0" lang="nl-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scheit of gaa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ybride c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0" name="Picture 6" descr="web-dnarticle-man-p2"/>
          <p:cNvPicPr/>
          <p:nvPr/>
        </p:nvPicPr>
        <p:blipFill>
          <a:blip r:embed="rId5"/>
          <a:stretch/>
        </p:blipFill>
        <p:spPr>
          <a:xfrm>
            <a:off x="0" y="2205000"/>
            <a:ext cx="4500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DNA fingerprint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DNA wordt met een restrictieezym in stukken geknip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t enzym knipt bij een basecombinatie bv ATTGC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e verschillende stukken die ontstaan vormen het streepjespatro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3" name="Picture 7" descr="DNA-genetic-fingerprinting-on-fingerprint-blue-backdrop-1-AJHD(1)"/>
          <p:cNvPicPr/>
          <p:nvPr/>
        </p:nvPicPr>
        <p:blipFill>
          <a:blip r:embed="rId4"/>
          <a:stretch/>
        </p:blipFill>
        <p:spPr>
          <a:xfrm>
            <a:off x="0" y="1628640"/>
            <a:ext cx="44956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Alleen VW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el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fferentiati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cel krijgt een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ere vor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mdat andere genen aktief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el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pecialisati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or die andere vor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 door andere enzy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en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ere fun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eldefferenti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bovenste cellen van een eicel vormen de ru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onderste cellen van een eicel vormen de bui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r is al celdifferentiatie opgetreden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Is dit een voortplantingscel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3876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Verdana"/>
              </a:rPr>
              <a:t>Zygote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: bevruchte eic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Verdana"/>
              </a:rPr>
              <a:t>VPC:</a:t>
            </a:r>
            <a:r>
              <a:rPr b="0" lang="nl-NL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voortplantingsc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7" descr="1963802"/>
          <p:cNvPicPr/>
          <p:nvPr/>
        </p:nvPicPr>
        <p:blipFill>
          <a:blip r:embed="rId4"/>
          <a:stretch/>
        </p:blipFill>
        <p:spPr>
          <a:xfrm>
            <a:off x="0" y="1700280"/>
            <a:ext cx="4500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N en 2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Een gewone cel: 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Verdana"/>
              </a:rPr>
              <a:t>2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alle van elk chromosomenpaar zij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ide chromosomen aanwez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Bv lever- of spiercel mens 2N = 4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Een voortplantingscel: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Verdan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an elk chromosomenpaar is maa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één chromosoom aanwez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Bv zaadc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Van chromosoom tot DN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www.bioplek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ies biochem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07:26:59Z</dcterms:created>
  <dc:creator>ond</dc:creator>
  <dc:description/>
  <dc:language>en-US</dc:language>
  <cp:lastModifiedBy>Admin</cp:lastModifiedBy>
  <dcterms:modified xsi:type="dcterms:W3CDTF">2016-09-07T17:46:45Z</dcterms:modified>
  <cp:revision>43</cp:revision>
  <dc:subject/>
  <dc:title>Thema  DNA Havo 4  en VWO 4</dc:title>
</cp:coreProperties>
</file>