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14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50.png" ContentType="image/png"/>
  <Override PartName="/ppt/media/image6.png" ContentType="image/pn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9.jpeg" ContentType="image/jpeg"/>
  <Override PartName="/ppt/media/image43.png" ContentType="image/png"/>
  <Override PartName="/ppt/media/image45.jpeg" ContentType="image/jpeg"/>
  <Override PartName="/ppt/media/image55.png" ContentType="image/png"/>
  <Override PartName="/ppt/media/image34.jpeg" ContentType="image/jpeg"/>
  <Override PartName="/ppt/media/image46.png" ContentType="image/png"/>
  <Override PartName="/ppt/media/image44.jpeg" ContentType="image/jpeg"/>
  <Override PartName="/ppt/media/image49.png" ContentType="image/png"/>
  <Override PartName="/ppt/media/image51.png" ContentType="image/png"/>
  <Override PartName="/ppt/media/image41.png" ContentType="image/png"/>
  <Override PartName="/ppt/media/image48.jpeg" ContentType="image/jpeg"/>
  <Override PartName="/ppt/media/image53.png" ContentType="image/png"/>
  <Override PartName="/ppt/media/image37.jpeg" ContentType="image/jpeg"/>
  <Override PartName="/ppt/media/image12.jpeg" ContentType="image/jpeg"/>
  <Override PartName="/ppt/media/image54.png" ContentType="image/png"/>
  <Override PartName="/ppt/media/image32.jpeg" ContentType="image/jpeg"/>
  <Override PartName="/ppt/media/image31.jpeg" ContentType="image/jpeg"/>
  <Override PartName="/ppt/media/image30.jpeg" ContentType="image/jpeg"/>
  <Override PartName="/ppt/media/image39.jpeg" ContentType="image/jpeg"/>
  <Override PartName="/ppt/media/image8.jpeg" ContentType="image/jpeg"/>
  <Override PartName="/ppt/media/image47.png" ContentType="image/png"/>
  <Override PartName="/ppt/media/image35.jpeg" ContentType="image/jpeg"/>
  <Override PartName="/ppt/media/image10.png" ContentType="image/png"/>
  <Override PartName="/ppt/media/image40.jpeg" ContentType="image/jpeg"/>
  <Override PartName="/ppt/media/image13.jpeg" ContentType="image/jpeg"/>
  <Override PartName="/ppt/media/image23.png" ContentType="image/png"/>
  <Override PartName="/ppt/media/image29.jpeg" ContentType="image/jpeg"/>
  <Override PartName="/ppt/media/image5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45CD-E8FB-4CFB-9A13-B7188EC17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A4CB-43C9-440A-A26E-1DCAF3F0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8E07-05E6-4E92-B04B-00DC0FBE5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0A7-9D42-4177-8986-9C61949AC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3DDFC-63FE-4497-A314-7D1C1DBA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A3A6-599B-44D1-A617-07B598C79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F46C1-B5E8-4D7B-B3EE-EFC4F532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3861-E3E8-4138-91CD-AB26144D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DDF9C-4CEB-49FB-A894-B9890C07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31FB4-1985-46F6-AE3A-3A3313AD4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43FB-543A-4A39-8959-5148AD5C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D76-6770-4711-8155-6F9B7E58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240D2-B07A-4209-983A-CF36AE1BE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3E3D-372D-4026-BA8C-34546455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409E1-7608-4EB2-966F-453906DA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4B762-30AB-4411-BFBD-8D4D30C29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350CC-6FED-4C47-9F94-08A680038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F767-0EA1-4B91-900C-2F0E781AD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3B9-152D-461C-809E-37B01147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A03-74D3-4500-AF6F-7F7AD736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200-5B66-457F-A9B2-63F2DF33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197A-9445-4B51-BD78-4FAD2890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6F0-71C3-4120-A778-AE8749BE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220-CFAD-4046-A6D9-E876BF61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27EE-2214-417F-92FD-919122E6E36D}" type="slidenum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B9EE-2460-436B-903E-32EAD2211FC3}" type="slidenum">
              <a:rPr b="0" lang="nl-NL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image" Target="../media/image40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lek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bioplek.org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9.png"/><Relationship Id="rId8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ioplek.org/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hema  DNA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avo 4  en VWO 4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bstract the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tra oefenen via </a:t>
            </a:r>
            <a:r>
              <a:rPr b="0" lang="en-US" sz="3200" spc="-1" strike="noStrike" u="sng">
                <a:solidFill>
                  <a:srgbClr val="ffff99"/>
                </a:solidFill>
                <a:uFillTx/>
                <a:latin typeface="Verdana"/>
                <a:hlinkClick r:id="rId1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ovenbouw Havo/Vw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Functies D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iterlijke eigenschappen (haren bv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rking cellen bijvoorbeeld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zy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rmo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emoglobin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edeiwit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nsportenzymen celmembr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Transport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Picture 4" descr="membraaneiwit"/>
          <p:cNvPicPr/>
          <p:nvPr/>
        </p:nvPicPr>
        <p:blipFill>
          <a:blip r:embed="rId1"/>
          <a:stretch/>
        </p:blipFill>
        <p:spPr>
          <a:xfrm>
            <a:off x="971640" y="1773360"/>
            <a:ext cx="705636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ructuur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4" descr="4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bestaat DNA uit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Nucleoti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ze bestaan uit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osfaat </a:t>
            </a:r>
            <a:r>
              <a:rPr b="0" lang="en-US" sz="1600" spc="-1" strike="noStrike">
                <a:solidFill>
                  <a:srgbClr val="33cc33"/>
                </a:solidFill>
                <a:latin typeface="Verdana"/>
              </a:rPr>
              <a:t>(groe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oxyribose (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iker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                                     </a:t>
            </a:r>
            <a:r>
              <a:rPr b="0" lang="en-US" sz="1600" spc="-1" strike="noStrike">
                <a:solidFill>
                  <a:srgbClr val="00b0f0"/>
                </a:solidFill>
                <a:latin typeface="Verdana"/>
              </a:rPr>
              <a:t>(blauw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ikstofbase </a:t>
            </a:r>
            <a:r>
              <a:rPr b="0" lang="en-US" sz="1600" spc="-1" strike="noStrike">
                <a:solidFill>
                  <a:srgbClr val="99ff66"/>
                </a:solidFill>
                <a:latin typeface="Verdana"/>
              </a:rPr>
              <a:t>(4 k</a:t>
            </a:r>
            <a:r>
              <a:rPr b="0" lang="en-US" sz="1600" spc="-1" strike="noStrike">
                <a:solidFill>
                  <a:srgbClr val="66ffff"/>
                </a:solidFill>
                <a:latin typeface="Verdana"/>
              </a:rPr>
              <a:t>le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u</a:t>
            </a:r>
            <a:r>
              <a:rPr b="0" lang="en-US" sz="1600" spc="-1" strike="noStrike">
                <a:solidFill>
                  <a:srgbClr val="ffff00"/>
                </a:solidFill>
                <a:latin typeface="Verdana"/>
              </a:rPr>
              <a:t>re</a:t>
            </a:r>
            <a:r>
              <a:rPr b="0" lang="en-US" sz="1600" spc="-1" strike="noStrike">
                <a:solidFill>
                  <a:srgbClr val="ff0000"/>
                </a:solidFill>
                <a:latin typeface="Verdana"/>
              </a:rPr>
              <a:t>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A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T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C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6" name="Picture 4" descr="DNAstuk"/>
          <p:cNvPicPr/>
          <p:nvPr/>
        </p:nvPicPr>
        <p:blipFill>
          <a:blip r:embed="rId6"/>
          <a:stretch/>
        </p:blipFill>
        <p:spPr>
          <a:xfrm>
            <a:off x="5435640" y="1413000"/>
            <a:ext cx="2400120" cy="47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ikstofbas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ym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ua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tos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9" name="Picture 4" descr="adn_frag"/>
          <p:cNvPicPr/>
          <p:nvPr/>
        </p:nvPicPr>
        <p:blipFill>
          <a:blip r:embed="rId5"/>
          <a:stretch/>
        </p:blipFill>
        <p:spPr>
          <a:xfrm>
            <a:off x="3492360" y="1700280"/>
            <a:ext cx="5651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ELCYLU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2" name="Picture 4" descr="celcyclus1"/>
          <p:cNvPicPr/>
          <p:nvPr/>
        </p:nvPicPr>
        <p:blipFill>
          <a:blip r:embed="rId1"/>
          <a:stretch/>
        </p:blipFill>
        <p:spPr>
          <a:xfrm>
            <a:off x="1908000" y="1989000"/>
            <a:ext cx="511200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ITOSE en CELDELIN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5" name="Picture 4" descr="celcyclus4"/>
          <p:cNvPicPr/>
          <p:nvPr/>
        </p:nvPicPr>
        <p:blipFill>
          <a:blip r:embed="rId1"/>
          <a:stretch/>
        </p:blipFill>
        <p:spPr>
          <a:xfrm>
            <a:off x="468360" y="1989000"/>
            <a:ext cx="820728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Mitose </a:t>
            </a:r>
            <a:r>
              <a:rPr b="0" lang="en-US" sz="4000" spc="-1" strike="noStrike">
                <a:solidFill>
                  <a:srgbClr val="ffff99"/>
                </a:solidFill>
                <a:latin typeface="Wingdings"/>
                <a:ea typeface="Wingdings"/>
              </a:rPr>
              <a:t>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Celdeling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8" name="Picture 4" descr="mitose_b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Mitose:  kenmerke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1" name="Picture 4" descr="mitose"/>
          <p:cNvPicPr/>
          <p:nvPr/>
        </p:nvPicPr>
        <p:blipFill>
          <a:blip r:embed="rId1"/>
          <a:stretch/>
        </p:blipFill>
        <p:spPr>
          <a:xfrm>
            <a:off x="468360" y="1557360"/>
            <a:ext cx="80168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Kenmerken Mit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OEL: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ieuwe cellen mak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identieke inform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len voor groei, vervanging en herst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l jouw cellen (10</a:t>
            </a:r>
            <a:r>
              <a:rPr b="0" lang="nl-NL" sz="3200" spc="-1" strike="noStrike" baseline="30000">
                <a:solidFill>
                  <a:srgbClr val="ffffff"/>
                </a:solidFill>
                <a:latin typeface="Verdana"/>
              </a:rPr>
              <a:t>22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) hebben dezelfde informatie als de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bevruchte eicel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waar je uit bent ontsta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zit DNA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celkern bi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eren, planten, schimm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owel eencellig als meercell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ij bacteriën (géén celker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Los in cytoplasm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Cirkelvormig DNA = plasmi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De fasen van de mit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148360" y="1599840"/>
            <a:ext cx="37447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1 + 5: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ter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2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Pro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ussen 2 en 5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Metaf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3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na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6: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Telofa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6" name="Picture 7" descr="mitose_da_cebola"/>
          <p:cNvPicPr/>
          <p:nvPr/>
        </p:nvPicPr>
        <p:blipFill>
          <a:blip r:embed="rId6"/>
          <a:stretch/>
        </p:blipFill>
        <p:spPr>
          <a:xfrm>
            <a:off x="0" y="1773360"/>
            <a:ext cx="5076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Profase Anafase Metaf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18" name="Picture 3" descr="profase"/>
          <p:cNvPicPr/>
          <p:nvPr/>
        </p:nvPicPr>
        <p:blipFill>
          <a:blip r:embed="rId1"/>
          <a:stretch/>
        </p:blipFill>
        <p:spPr>
          <a:xfrm>
            <a:off x="3203640" y="2421000"/>
            <a:ext cx="2448000" cy="30938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interfase"/>
          <p:cNvPicPr/>
          <p:nvPr/>
        </p:nvPicPr>
        <p:blipFill>
          <a:blip r:embed="rId2"/>
          <a:stretch/>
        </p:blipFill>
        <p:spPr>
          <a:xfrm>
            <a:off x="395280" y="2421000"/>
            <a:ext cx="2365560" cy="3095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metafase"/>
          <p:cNvPicPr/>
          <p:nvPr/>
        </p:nvPicPr>
        <p:blipFill>
          <a:blip r:embed="rId3"/>
          <a:stretch/>
        </p:blipFill>
        <p:spPr>
          <a:xfrm>
            <a:off x="6084720" y="2421000"/>
            <a:ext cx="23749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Anafase   Telofase   Interfa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22" name="Picture 3" descr="anafase"/>
          <p:cNvPicPr/>
          <p:nvPr/>
        </p:nvPicPr>
        <p:blipFill>
          <a:blip r:embed="rId1"/>
          <a:stretch/>
        </p:blipFill>
        <p:spPr>
          <a:xfrm>
            <a:off x="395280" y="2492280"/>
            <a:ext cx="2448000" cy="3168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telofase2"/>
          <p:cNvPicPr/>
          <p:nvPr/>
        </p:nvPicPr>
        <p:blipFill>
          <a:blip r:embed="rId2"/>
          <a:stretch/>
        </p:blipFill>
        <p:spPr>
          <a:xfrm>
            <a:off x="3348000" y="2492280"/>
            <a:ext cx="2513160" cy="3144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interfase"/>
          <p:cNvPicPr/>
          <p:nvPr/>
        </p:nvPicPr>
        <p:blipFill>
          <a:blip r:embed="rId3"/>
          <a:stretch/>
        </p:blipFill>
        <p:spPr>
          <a:xfrm>
            <a:off x="6156360" y="2637000"/>
            <a:ext cx="230328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2N en N  ??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ormale cel bevat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PARE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at is dus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mens 46, een mug 6 enz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getal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2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is ook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v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gewone cel heeft 2N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itose:  2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2N  +  2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2000" spc="-1" strike="noStrike">
                <a:solidFill>
                  <a:srgbClr val="ffffff"/>
                </a:solidFill>
                <a:latin typeface="Verdana"/>
              </a:rPr>
              <a:t>- na de mitose verandert het aantal chromosomen niet         - de paren zijn dus ook nog aanwezi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www.bioplek.org</a:t>
            </a: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m bin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ov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houd theorie anim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it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uk op de enkel pijl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je krijgt de losse fasen te zi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cyclus (herhaling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1" name="Picture 5" descr="image002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Herhaling mitose en celdel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4" name="Picture 4" descr="mitosis"/>
          <p:cNvPicPr/>
          <p:nvPr/>
        </p:nvPicPr>
        <p:blipFill>
          <a:blip r:embed="rId1"/>
          <a:stretch/>
        </p:blipFill>
        <p:spPr>
          <a:xfrm>
            <a:off x="468360" y="1628640"/>
            <a:ext cx="820728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ngeslachtelijke voortpla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36" name="Picture 3" descr="pantoffeldiertje"/>
          <p:cNvPicPr/>
          <p:nvPr/>
        </p:nvPicPr>
        <p:blipFill>
          <a:blip r:embed="rId1"/>
          <a:stretch/>
        </p:blipFill>
        <p:spPr>
          <a:xfrm>
            <a:off x="539640" y="1268280"/>
            <a:ext cx="3095640" cy="1800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ic135-2"/>
          <p:cNvPicPr/>
          <p:nvPr/>
        </p:nvPicPr>
        <p:blipFill>
          <a:blip r:embed="rId2"/>
          <a:stretch/>
        </p:blipFill>
        <p:spPr>
          <a:xfrm>
            <a:off x="4211640" y="1628640"/>
            <a:ext cx="4681440" cy="40388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pleurococcus2"/>
          <p:cNvPicPr/>
          <p:nvPr/>
        </p:nvPicPr>
        <p:blipFill>
          <a:blip r:embed="rId3"/>
          <a:stretch/>
        </p:blipFill>
        <p:spPr>
          <a:xfrm>
            <a:off x="0" y="3141720"/>
            <a:ext cx="40672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Bollen en knoll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Ongeslachtelijke voortplanting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Picture 4" descr="doorwas_aardappelen_knol_uitlopertjes"/>
          <p:cNvPicPr/>
          <p:nvPr/>
        </p:nvPicPr>
        <p:blipFill>
          <a:blip r:embed="rId1"/>
          <a:stretch/>
        </p:blipFill>
        <p:spPr>
          <a:xfrm>
            <a:off x="5435640" y="4149720"/>
            <a:ext cx="3708360" cy="2374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knollen"/>
          <p:cNvPicPr/>
          <p:nvPr/>
        </p:nvPicPr>
        <p:blipFill>
          <a:blip r:embed="rId2"/>
          <a:stretch/>
        </p:blipFill>
        <p:spPr>
          <a:xfrm>
            <a:off x="5292720" y="1557360"/>
            <a:ext cx="3851280" cy="2376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i1852261-8"/>
          <p:cNvPicPr/>
          <p:nvPr/>
        </p:nvPicPr>
        <p:blipFill>
          <a:blip r:embed="rId3"/>
          <a:stretch/>
        </p:blipFill>
        <p:spPr>
          <a:xfrm>
            <a:off x="0" y="2421000"/>
            <a:ext cx="51354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Uitloper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6" name="Picture 4" descr="plant2"/>
          <p:cNvPicPr/>
          <p:nvPr/>
        </p:nvPicPr>
        <p:blipFill>
          <a:blip r:embed="rId1"/>
          <a:stretch/>
        </p:blipFill>
        <p:spPr>
          <a:xfrm>
            <a:off x="324000" y="1052640"/>
            <a:ext cx="4176720" cy="2952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V0096th"/>
          <p:cNvPicPr/>
          <p:nvPr/>
        </p:nvPicPr>
        <p:blipFill>
          <a:blip r:embed="rId2"/>
          <a:stretch/>
        </p:blipFill>
        <p:spPr>
          <a:xfrm>
            <a:off x="5292720" y="1052640"/>
            <a:ext cx="3384720" cy="3024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aardbeien"/>
          <p:cNvPicPr/>
          <p:nvPr/>
        </p:nvPicPr>
        <p:blipFill>
          <a:blip r:embed="rId3"/>
          <a:stretch/>
        </p:blipFill>
        <p:spPr>
          <a:xfrm>
            <a:off x="2195640" y="4437000"/>
            <a:ext cx="38876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DIERLIJKE C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Picture 4" descr="dierlijkceldoorsnede"/>
          <p:cNvPicPr/>
          <p:nvPr/>
        </p:nvPicPr>
        <p:blipFill>
          <a:blip r:embed="rId1"/>
          <a:stretch/>
        </p:blipFill>
        <p:spPr>
          <a:xfrm>
            <a:off x="250920" y="1125360"/>
            <a:ext cx="87138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Wortelstokk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300px-Koeh-146"/>
          <p:cNvPicPr/>
          <p:nvPr/>
        </p:nvPicPr>
        <p:blipFill>
          <a:blip r:embed="rId1"/>
          <a:stretch/>
        </p:blipFill>
        <p:spPr>
          <a:xfrm>
            <a:off x="0" y="1197000"/>
            <a:ext cx="3851280" cy="2879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gember"/>
          <p:cNvPicPr/>
          <p:nvPr/>
        </p:nvPicPr>
        <p:blipFill>
          <a:blip r:embed="rId2"/>
          <a:stretch/>
        </p:blipFill>
        <p:spPr>
          <a:xfrm>
            <a:off x="5148360" y="1197000"/>
            <a:ext cx="3671640" cy="21607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6" descr="Kweekgras_170x170"/>
          <p:cNvPicPr/>
          <p:nvPr/>
        </p:nvPicPr>
        <p:blipFill>
          <a:blip r:embed="rId3"/>
          <a:stretch/>
        </p:blipFill>
        <p:spPr>
          <a:xfrm>
            <a:off x="0" y="4221000"/>
            <a:ext cx="27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7" descr="lelietjevandalenplant80"/>
          <p:cNvPicPr/>
          <p:nvPr/>
        </p:nvPicPr>
        <p:blipFill>
          <a:blip r:embed="rId4"/>
          <a:stretch/>
        </p:blipFill>
        <p:spPr>
          <a:xfrm>
            <a:off x="3203640" y="3933720"/>
            <a:ext cx="2881080" cy="2664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8" descr="Convallaria%20majalis-04-lelietje-van-dalen8-I1"/>
          <p:cNvPicPr/>
          <p:nvPr/>
        </p:nvPicPr>
        <p:blipFill>
          <a:blip r:embed="rId5"/>
          <a:stretch/>
        </p:blipFill>
        <p:spPr>
          <a:xfrm>
            <a:off x="6300720" y="3860640"/>
            <a:ext cx="259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Stikstofbas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de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Thym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uan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ytos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8" name="Picture 4" descr="adn_frag"/>
          <p:cNvPicPr/>
          <p:nvPr/>
        </p:nvPicPr>
        <p:blipFill>
          <a:blip r:embed="rId5"/>
          <a:stretch/>
        </p:blipFill>
        <p:spPr>
          <a:xfrm>
            <a:off x="3492360" y="1700280"/>
            <a:ext cx="5651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DNA Replic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Picture 4" descr="figuur1"/>
          <p:cNvPicPr/>
          <p:nvPr/>
        </p:nvPicPr>
        <p:blipFill>
          <a:blip r:embed="rId1"/>
          <a:stretch/>
        </p:blipFill>
        <p:spPr>
          <a:xfrm>
            <a:off x="2000160" y="1484280"/>
            <a:ext cx="5688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158400"/>
            <a:ext cx="9144000" cy="96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Eiwitsynthes: ontstaan van mRNA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4" name="Picture 4" descr="mRNA1"/>
          <p:cNvPicPr/>
          <p:nvPr/>
        </p:nvPicPr>
        <p:blipFill>
          <a:blip r:embed="rId1"/>
          <a:stretch/>
        </p:blipFill>
        <p:spPr>
          <a:xfrm>
            <a:off x="0" y="1628640"/>
            <a:ext cx="4211640" cy="5229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mRNA2"/>
          <p:cNvPicPr/>
          <p:nvPr/>
        </p:nvPicPr>
        <p:blipFill>
          <a:blip r:embed="rId2"/>
          <a:stretch/>
        </p:blipFill>
        <p:spPr>
          <a:xfrm>
            <a:off x="5003640" y="1628640"/>
            <a:ext cx="414036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RNA en eiwitt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ies biochem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VIDEO’S  PROKARYOTEN  EN  EUKARYOTE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ekijk 2 video’s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. Prokaryo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2. Eukaryo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. Bestudeer de lesstof erg go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oortplantingscellen: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♂ 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ortplantingscel 46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♀ 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oortplantingscel 46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evruchting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92  chromosomen  ??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plossing een VPC heeft maar de helft van het normale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enmerken voortplantingscel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vat de helft van de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Géén willekeurige helf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an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lk chromosomenpaar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is er altijd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éé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chromosoom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enmerken Mei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OEL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ortplantingscellen mak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de helft van het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lke voortplantingscel heeft een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ndere hel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Elke voortplantingscel bevat dus </a:t>
            </a:r>
            <a:r>
              <a:rPr b="1" lang="nl-NL" sz="2800" spc="-1" strike="noStrike">
                <a:solidFill>
                  <a:srgbClr val="ffffff"/>
                </a:solidFill>
                <a:latin typeface="Verdana"/>
              </a:rPr>
              <a:t>andere inf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mens: 2</a:t>
            </a:r>
            <a:r>
              <a:rPr b="0" lang="nl-NL" sz="2800" spc="-1" strike="noStrike" baseline="30000">
                <a:solidFill>
                  <a:srgbClr val="ffffff"/>
                </a:solidFill>
                <a:latin typeface="Verdana"/>
              </a:rPr>
              <a:t>23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combinat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-1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Picture 7" descr="meiose0"/>
          <p:cNvPicPr/>
          <p:nvPr/>
        </p:nvPicPr>
        <p:blipFill>
          <a:blip r:embed="rId2"/>
          <a:stretch/>
        </p:blipFill>
        <p:spPr>
          <a:xfrm>
            <a:off x="971640" y="1197000"/>
            <a:ext cx="7416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Waar zit DNA in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Picture 4" descr="429"/>
          <p:cNvPicPr/>
          <p:nvPr/>
        </p:nvPicPr>
        <p:blipFill>
          <a:blip r:embed="rId1"/>
          <a:stretch/>
        </p:blipFill>
        <p:spPr>
          <a:xfrm>
            <a:off x="468360" y="1341360"/>
            <a:ext cx="820728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asis geslachtelijke voortplan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spermacel en eicel smelten sa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et nieuwe individu heeft een nieuwe combinatie van eigenschapp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Als de omstandigheden veranderen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grotere overlevingskans van de             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s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-2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3" name="Picture 7" descr="meiose3"/>
          <p:cNvPicPr/>
          <p:nvPr/>
        </p:nvPicPr>
        <p:blipFill>
          <a:blip r:embed="rId2"/>
          <a:stretch/>
        </p:blipFill>
        <p:spPr>
          <a:xfrm>
            <a:off x="1187280" y="1341360"/>
            <a:ext cx="67694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 u="sng">
                <a:solidFill>
                  <a:srgbClr val="ffff99"/>
                </a:solidFill>
                <a:uFillTx/>
                <a:latin typeface="Arial"/>
                <a:hlinkClick r:id="rId1"/>
              </a:rPr>
              <a:t>www.bioplek.org</a:t>
            </a: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om binn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ovenbou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houd theorie anim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ruk op de enkel pijl 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je krijgt de losse fasen te zi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Meiose: twee delinge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 1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alvering aantal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iose 2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ijkt op een mito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2 chromatide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1 chromat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eiose 1:  2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N  +  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Meiose 2:    N  </a:t>
            </a:r>
            <a:r>
              <a:rPr b="1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  N  +  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Geslachtelijke voortpla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r variatie = </a:t>
            </a: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diversite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Recombinatie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nieuwe combinatie van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igenschapp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Zelfbestuiving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= plant bevrucht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zichzel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adeel: mindere vari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ermijden genetische var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Veredeling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lant alleen de organismen met de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oede eigenschappen voo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ag dat bij mensen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Ras of zuivere lijn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sommige eigenschappen  homozygoot 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bij onderlinge voortplanting blijven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paalde kenmerken behou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ermijden genetische var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loneren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Nakomelingen met identieke info = DNA als de ouderpl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t ongeslachtelijke voortplan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v aardappels poten (Bintj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Fokzuiver of zaadvast: bij rassen en zuivere lijnen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(voor de homozygote genen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Mutat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Een verandering in het DN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Wordt dus doorgegeven aan de nakomelin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Mutatie  </a:t>
            </a:r>
            <a:r>
              <a:rPr b="0" lang="nl-NL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 meer vari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e mutaties negatief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sele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Afhankelijk van de omstandigheden: sikkelcelanemi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Oorzaken mutati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Straling: UV , röntg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Radioactieve stoffen (stral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Chemische stoff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Viruss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rootste effect van een mutati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Verdana"/>
              </a:rPr>
              <a:t>in voortplantingscellen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457200" y="158400"/>
            <a:ext cx="822960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9" name="Picture 8" descr="Image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27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99"/>
                </a:solidFill>
                <a:latin typeface="Arial"/>
              </a:rPr>
              <a:t>Chromosomen:</a:t>
            </a:r>
            <a:br>
              <a:rPr sz="40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dragers van de erfelijke informatie</a:t>
            </a:r>
            <a:br>
              <a:rPr sz="24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Mens: 46 chromosomen totale lengte 1,8 meter</a:t>
            </a:r>
            <a:br>
              <a:rPr sz="2400"/>
            </a:br>
            <a:r>
              <a:rPr b="0" lang="nl-NL" sz="2400" spc="-1" strike="noStrike">
                <a:solidFill>
                  <a:srgbClr val="ffff99"/>
                </a:solidFill>
                <a:latin typeface="Arial"/>
              </a:rPr>
              <a:t>23 paren = 23 homologe chromosome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43280" y="2781360"/>
            <a:ext cx="45007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Picture 8" descr="P1020680"/>
          <p:cNvPicPr/>
          <p:nvPr/>
        </p:nvPicPr>
        <p:blipFill>
          <a:blip r:embed="rId2"/>
          <a:stretch/>
        </p:blipFill>
        <p:spPr>
          <a:xfrm>
            <a:off x="0" y="2349360"/>
            <a:ext cx="4506840" cy="4508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labo04"/>
          <p:cNvPicPr/>
          <p:nvPr/>
        </p:nvPicPr>
        <p:blipFill>
          <a:blip r:embed="rId3"/>
          <a:stretch/>
        </p:blipFill>
        <p:spPr>
          <a:xfrm>
            <a:off x="4500720" y="2349360"/>
            <a:ext cx="464328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Mutan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en individu waar de mutatie tot uiting kom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eeste mutaties recessie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Mutaties komen weinig voo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Tot uiting bij huwelijk in de familie door</a:t>
            </a: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 inteel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anker = tumor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Door diverse mutati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Herkent een cel de cellen in zijn omgeving ni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Gevolg de cel gaat delen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gezw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waadaardig en goedaard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0000"/>
                </a:solidFill>
                <a:latin typeface="Verdana"/>
              </a:rPr>
              <a:t>Uitzaaiing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: de tumorcel laat los en zwerft door het lichaa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Kanker: verstoorde weefsel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05" name="Picture 6" descr="o_info1"/>
          <p:cNvPicPr/>
          <p:nvPr/>
        </p:nvPicPr>
        <p:blipFill>
          <a:blip r:embed="rId1"/>
          <a:stretch/>
        </p:blipFill>
        <p:spPr>
          <a:xfrm>
            <a:off x="723960" y="1774800"/>
            <a:ext cx="7696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58400"/>
            <a:ext cx="8229600" cy="59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07" name="Picture 6" descr="0004484aa"/>
          <p:cNvPicPr/>
          <p:nvPr/>
        </p:nvPicPr>
        <p:blipFill>
          <a:blip r:embed="rId2"/>
          <a:stretch/>
        </p:blipFill>
        <p:spPr>
          <a:xfrm>
            <a:off x="971640" y="0"/>
            <a:ext cx="698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rfelijkheidsonderzo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Ech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ruchtwaterpun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lokkentes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loed uit de navelstre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loedonderzoek moed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Ech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Ultrasoon gelui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‘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oto’ embry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eslachtsbepal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Groei vol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Leeftijdsbepa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3" name="Picture 7" descr="erf"/>
          <p:cNvPicPr/>
          <p:nvPr/>
        </p:nvPicPr>
        <p:blipFill>
          <a:blip r:embed="rId7"/>
          <a:stretch/>
        </p:blipFill>
        <p:spPr>
          <a:xfrm>
            <a:off x="0" y="1773360"/>
            <a:ext cx="46432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Vruchtwaterpunc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00720" y="1599840"/>
            <a:ext cx="464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In het vruchtwater zweven cellen van het ki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ie cellen onderzoek je op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chromosoomfout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- foute ge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17" name="Picture 7" descr="Vruchtwaterpunctie"/>
          <p:cNvPicPr/>
          <p:nvPr/>
        </p:nvPicPr>
        <p:blipFill>
          <a:blip r:embed="rId4"/>
          <a:stretch/>
        </p:blipFill>
        <p:spPr>
          <a:xfrm>
            <a:off x="0" y="1700280"/>
            <a:ext cx="44276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lokkentes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len van de placenta worden opgezo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Riskanter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len onderzoeken karyogram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chromosomen tell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Syndroom Dow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1" name="Picture 8" descr="prenat2"/>
          <p:cNvPicPr/>
          <p:nvPr/>
        </p:nvPicPr>
        <p:blipFill>
          <a:blip r:embed="rId5"/>
          <a:stretch/>
        </p:blipFill>
        <p:spPr>
          <a:xfrm>
            <a:off x="0" y="2133720"/>
            <a:ext cx="4572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99"/>
                </a:solidFill>
                <a:latin typeface="Arial"/>
              </a:rPr>
              <a:t>Karyogram syndroom van Down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4" name="Picture 7" descr="Karyogram of a boy with trisomy 21, source: http://www.bio-pro.de/en/region/ulm/magazin/01155/index.html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Prenatale diagnost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Bloed uit de navelstreng afne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Afwijkingen in het bloed opspo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8" name="Picture 7" descr="Navelstrengpunctie"/>
          <p:cNvPicPr/>
          <p:nvPr/>
        </p:nvPicPr>
        <p:blipFill>
          <a:blip r:embed="rId4"/>
          <a:stretch/>
        </p:blipFill>
        <p:spPr>
          <a:xfrm>
            <a:off x="0" y="2133720"/>
            <a:ext cx="4716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Voortplantingscellen:</a:t>
            </a:r>
            <a:br>
              <a:rPr sz="44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Bevatten de helft van het aantal chromosomen = 23</a:t>
            </a:r>
            <a:br>
              <a:rPr sz="28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Na de bevruchting is het aantal weer normaal = 46 </a:t>
            </a:r>
            <a:br>
              <a:rPr sz="2800"/>
            </a:b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Van </a:t>
            </a:r>
            <a:r>
              <a:rPr b="1" lang="nl-NL" sz="2800" spc="-1" strike="noStrike">
                <a:solidFill>
                  <a:srgbClr val="ffff99"/>
                </a:solidFill>
                <a:latin typeface="Arial"/>
              </a:rPr>
              <a:t>elk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chromosomenpaar heb je er 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één van je moeder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en </a:t>
            </a:r>
            <a:r>
              <a:rPr b="1" lang="nl-NL" sz="2800" spc="-1" strike="noStrike">
                <a:solidFill>
                  <a:srgbClr val="ff3300"/>
                </a:solidFill>
                <a:latin typeface="Arial"/>
              </a:rPr>
              <a:t>één van je vader</a:t>
            </a:r>
            <a:r>
              <a:rPr b="0" lang="nl-NL" sz="2800" spc="-1" strike="noStrike">
                <a:solidFill>
                  <a:srgbClr val="ffff99"/>
                </a:solidFill>
                <a:latin typeface="Arial"/>
              </a:rPr>
              <a:t> gekregen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Picture 7" descr="P1020683"/>
          <p:cNvPicPr/>
          <p:nvPr/>
        </p:nvPicPr>
        <p:blipFill>
          <a:blip r:embed="rId1"/>
          <a:stretch/>
        </p:blipFill>
        <p:spPr>
          <a:xfrm>
            <a:off x="0" y="3141720"/>
            <a:ext cx="4506840" cy="37162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4572000" y="3068640"/>
            <a:ext cx="446400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7" name="Picture 11" descr="chromosomen"/>
          <p:cNvPicPr/>
          <p:nvPr/>
        </p:nvPicPr>
        <p:blipFill>
          <a:blip r:embed="rId3"/>
          <a:stretch/>
        </p:blipFill>
        <p:spPr>
          <a:xfrm>
            <a:off x="4572000" y="3141720"/>
            <a:ext cx="4572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Biotechnolog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Polyploïd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na mitose geen celde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4N chromoso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v grotere tomaten en tarwekorr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Recombinant DNA techni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DNA manipula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NA van de mens inbouwen in een bacter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De bacterie maakt dan bv insul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Véél zuiverder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minder bijwerk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4" name="Picture 7" descr="web-dnarticle-man-p3"/>
          <p:cNvPicPr/>
          <p:nvPr/>
        </p:nvPicPr>
        <p:blipFill>
          <a:blip r:embed="rId5"/>
          <a:stretch/>
        </p:blipFill>
        <p:spPr>
          <a:xfrm>
            <a:off x="0" y="1413000"/>
            <a:ext cx="44276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Landbouwgewassen resistent maken tegen ziekten of vraat door insec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Voedingsmiddelen met een betere samenstel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Hormonen maken bv insul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In de toekomst: menselijke genen uitschakelen die erfelijke ziekten veroorzaken?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99"/>
                </a:solidFill>
                <a:latin typeface="Arial"/>
              </a:rPr>
              <a:t>Recombinant DNA technie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fusietechnie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In het plaatje R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Cel van een geit en een schaap samen laten smelten </a:t>
            </a:r>
            <a:r>
              <a:rPr b="0" lang="nl-NL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scheit of gaa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ybride c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Picture 6" descr="web-dnarticle-man-p2"/>
          <p:cNvPicPr/>
          <p:nvPr/>
        </p:nvPicPr>
        <p:blipFill>
          <a:blip r:embed="rId5"/>
          <a:stretch/>
        </p:blipFill>
        <p:spPr>
          <a:xfrm>
            <a:off x="0" y="2205000"/>
            <a:ext cx="4500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DNA fingerprinting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t DNA wordt met een restrictieezym in stukken geknip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t enzym knipt bij een basecombinatie bv ATTGCC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ie verschillende stukken die ontstaan vormen het streepjespatro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3" name="Picture 7" descr="DNA-genetic-fingerprinting-on-fingerprint-blue-backdrop-1-AJHD(1)"/>
          <p:cNvPicPr/>
          <p:nvPr/>
        </p:nvPicPr>
        <p:blipFill>
          <a:blip r:embed="rId4"/>
          <a:stretch/>
        </p:blipFill>
        <p:spPr>
          <a:xfrm>
            <a:off x="0" y="1628640"/>
            <a:ext cx="44956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Alleen VW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differentia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cel krijgt ee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ere v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mdat andere genen aktief word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el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specialisatie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or die andere vor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n door andere enzym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en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andere funct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eldefferentiati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bovenste cellen van een eicel vormen de ru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 onderste cellen van een eicel vormen de bui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r is al celdifferentiatie opgetreden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Is dit een voortplantingscel?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3876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Verdana"/>
              </a:rPr>
              <a:t>Zygote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: bevruchte eic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Verdana"/>
              </a:rPr>
              <a:t>VPC:</a:t>
            </a:r>
            <a:r>
              <a:rPr b="0" lang="nl-NL" sz="24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Verdana"/>
              </a:rPr>
              <a:t>voortplantingsc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7" descr="1963802"/>
          <p:cNvPicPr/>
          <p:nvPr/>
        </p:nvPicPr>
        <p:blipFill>
          <a:blip r:embed="rId4"/>
          <a:stretch/>
        </p:blipFill>
        <p:spPr>
          <a:xfrm>
            <a:off x="0" y="1700280"/>
            <a:ext cx="450072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99"/>
                </a:solidFill>
                <a:latin typeface="Arial"/>
              </a:rPr>
              <a:t>N en 2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599840"/>
            <a:ext cx="8856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en gewone cel:  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Verdana"/>
              </a:rPr>
              <a:t>2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alle van elk chromosomenpaar zijn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beide chromosomen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Bv lever- of spiercel mens 2N = 46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Verdana"/>
              </a:rPr>
              <a:t>Een voortplantingscel: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nl-NL" sz="3200" spc="-1" strike="noStrike">
                <a:solidFill>
                  <a:srgbClr val="ff3300"/>
                </a:solidFill>
                <a:latin typeface="Verdana"/>
              </a:rPr>
              <a:t>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van elk chromosomenpaar is maar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één chromosoom aanwezi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- Bv zaadc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Van chromosoom tot DN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ffff99"/>
                </a:solidFill>
                <a:uFillTx/>
                <a:latin typeface="Verdana"/>
                <a:hlinkClick r:id="rId2"/>
              </a:rPr>
              <a:t>www.bioplek.or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Kies biochemi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7:26:59Z</dcterms:created>
  <dc:creator>ond</dc:creator>
  <dc:description/>
  <dc:language>en-US</dc:language>
  <cp:lastModifiedBy>Admin</cp:lastModifiedBy>
  <dcterms:modified xsi:type="dcterms:W3CDTF">2016-09-07T17:46:45Z</dcterms:modified>
  <cp:revision>43</cp:revision>
  <dc:subject/>
  <dc:title>Thema  DNA Havo 4  en VWO 4</dc:title>
</cp:coreProperties>
</file>