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CA9-8151-48F0-B8E8-E33A92AA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D2D-E658-4F62-AEFA-7AF7C19F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C52-01D3-4369-B5B3-E9E46817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42E-9FF9-41A7-8399-A33269AF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06F-3CB8-4F52-B62C-E94413CE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104-049D-422E-9850-180E9C6C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916-F303-49E3-BEC0-1A82A638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135-1A9F-4F6D-A278-40FCCB20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DF7-E01B-49E4-B8E3-6AA7A67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887-9BBC-4ED2-8318-5801896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376-A163-48B4-9BBC-F34014F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BD6-3364-4DEB-855E-6781754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2D2E-F4B9-49FF-BB76-C429271B7CF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6A1-Stofwissel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4 Eiwitsynthese (les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980640"/>
            <a:ext cx="8858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20 verschillen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maar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4 verschillende nucleotid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AUC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20 verschillende combinaties te maken wordt er met ‘woorden’ gewer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2 letter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un je 4 X 4 =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16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maken (AT, AA, AC, AG, TT, TA ….. Enz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3 letters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b je 4 X 4 X4 =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64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t zijn er teveel en dat is beter dan te wein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br>
              <a:rPr sz="4000"/>
            </a:b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De volgorde van de stikstofbasen in het mRN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ATA\FOTO'S 3 START PP'S\P100081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 en 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495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61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schillen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-RNA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Één voor elk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anticodo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 type t-RNA bindt aa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é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v A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Er zijn 61 verschillende enzymen om het goede AZ aan het goede t-RNA te koppe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:\DATA\FOTO'S 3 START PP'S\P10008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koppeling va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AZ aan het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LMPJ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TO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U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 O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en t-R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DATA\FOTO'S 3 START PP'S\P1000808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DATA\FOTO'S 3 START PP'S\P1000809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 en Ribosom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staan uit twee stuk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binden zich aan het m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vatten vele enzymen die de translatie aanstu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DATA\FOTO'S 3 START PP'S\P1000805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: de star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kleine deel van het ribosoom bindt aan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complex bindt aan de start-codon =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A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rna bindt het grote ribosoomde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:\DATA\FOTO'S 3 START PP'S\P1000766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d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tweede deel van het ribosoom bindt a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aangedra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DATA\FOTO'S 3 START PP'S\P100076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DATA\FOTO'S 3 START PP'S\P100081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 wordt door enzymen aan het eerste AZ gepl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eptidebind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schuift 3 nucleïnezuren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3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DATA\FOTO'S 3 START PP'S\P1000812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eerste t-RNA laat los van de M-RNA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het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gekopp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nz., enz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 haal je de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van het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143000"/>
            <a:ext cx="8678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Volgord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an de ‘letters’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-T-G-C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info voor één eigensch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on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oo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liggen ca 30.000 g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Gen wordt afgelez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 indien no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om maak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iwit ka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nzy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zijn dat een proces aanstuurt of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ndproduc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 zijn (bv ons ha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ei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codon wordt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ermination facto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geb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laat los v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lypeptideketen komt vr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DATA\FOTO'S 3 START PP'S\P1000813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97000"/>
            <a:ext cx="8400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aminozur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ijdens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iwit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a de translat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olypepti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afgevoerd door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Golgi-systeem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rijgt het eiwit zijn uiteindelijk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orm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eerst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methionin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vaak verwijde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DATA\FOTO'S 3 START PP'S\P100076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van het eiwit.</a:t>
            </a:r>
            <a:br>
              <a:rPr sz="44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er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Cytoplasma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Golgisysteem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Lysosoom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xtern milieu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↓    →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functioneert in de 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F:\DATA\FOTO'S 3 START PP'S\P1000814.JPG"/>
          <p:cNvPicPr/>
          <p:nvPr/>
        </p:nvPicPr>
        <p:blipFill>
          <a:blip r:embed="rId1"/>
          <a:stretch/>
        </p:blipFill>
        <p:spPr>
          <a:xfrm>
            <a:off x="971640" y="1628640"/>
            <a:ext cx="72151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lyribosomen: </a:t>
            </a:r>
            <a:br>
              <a:rPr sz="44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erdere ribosomen aan één m-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352760" cy="306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:\DATA\FOTO'S 3 START PP'S\P1000768.JPG"/>
          <p:cNvPicPr/>
          <p:nvPr/>
        </p:nvPicPr>
        <p:blipFill>
          <a:blip r:embed="rId2"/>
          <a:stretch/>
        </p:blipFill>
        <p:spPr>
          <a:xfrm>
            <a:off x="285840" y="1600200"/>
            <a:ext cx="3887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es animaties boven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-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la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cript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verschrijv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van een stukje DNA i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‘taal’ is hetzelfde: de nucleotide-cod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 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wordt 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taald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i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l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schillen tusse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 e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beva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U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.p.v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nk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korte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d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suiker is een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b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NA  A-T  EN G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uiker = desoxy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DATA\FOTO'S 3 START PP'S\P100076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                                   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naar de ribos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chemie  transscrip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616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RNA-keten groeit en het RNA-polymersase schuift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is ook een ‘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’-pla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t zijn 3 stop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NAS GEBRUI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motor = startplaat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chting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NA-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Operator = start afle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enknippen’ dubbel-strengs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rije nucleotid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-U-G-C uit kernplasma binden a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0:19:10Z</dcterms:created>
  <dc:creator>Bartje999</dc:creator>
  <dc:description/>
  <dc:language>en-US</dc:language>
  <cp:lastModifiedBy>Admin</cp:lastModifiedBy>
  <dcterms:modified xsi:type="dcterms:W3CDTF">2016-09-07T17:43:00Z</dcterms:modified>
  <cp:revision>28</cp:revision>
  <dc:subject/>
  <dc:title>6A1-B3 Eiwitsynthese (les3</dc:title>
</cp:coreProperties>
</file>