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BE55-9985-4C40-B1FD-9B0599F31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1E56-8019-4EBF-8746-61F44A5E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817F-BB2B-4D40-8F74-611722C9C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4015-6103-4E9A-9D6D-4F42CE87F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F1C9-2663-4E51-B8ED-188D3DCD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0385-0710-4972-AEA3-3F23EDED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E5B8-3A22-4D6A-9988-E2ACA3D6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D3D2-9DB7-4832-A5C0-EA4549AE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F883-0009-4EA8-B576-369196C6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E09D-AE68-4D1B-9822-7F6A48BB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AE87-1307-477D-BE99-C28B844D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77A8-3043-4592-AADE-CC8585A2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D6CD-3395-4507-8510-015891A0B3DE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ioplek.org/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ioplek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ioplek.org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6A1-Stofwisseling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4 Eiwitsynthese (les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 genetische cod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85840" y="980640"/>
            <a:ext cx="88581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r zijn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20 verschillende Aminozu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r zijn maar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4 verschillende nucleotiden</a:t>
            </a: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AUCG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 20 verschillende combinaties te maken wordt er met ‘woorden’ gewerk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t 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2 letters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kun je 4 X 4 = 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16 combinaties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maken (AT, AA, AC, AG, TT, TA ….. Enz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t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3 letters</a:t>
            </a: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b je 4 X 4 X4 =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64 combinaties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at zijn er teveel en dat is beter dan te weini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De genetische code.</a:t>
            </a:r>
            <a:br>
              <a:rPr sz="4000"/>
            </a:b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De volgorde van de stikstofbasen in het mRNA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F:\DATA\FOTO'S 3 START PP'S\P1000810.JPG"/>
          <p:cNvPicPr/>
          <p:nvPr/>
        </p:nvPicPr>
        <p:blipFill>
          <a:blip r:embed="rId1"/>
          <a:stretch/>
        </p:blipFill>
        <p:spPr>
          <a:xfrm>
            <a:off x="714240" y="1600200"/>
            <a:ext cx="771552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ranslatie  en  t-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8320" y="1600200"/>
            <a:ext cx="44956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zijn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61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verschillend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-RNA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Één voor elk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anticodon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lk type t-RNA bindt aan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één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aminozu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v AUG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methion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Calibri"/>
              </a:rPr>
              <a:t>Er zijn 61 verschillende enzymen om het goede AZ aan het goede t-RNA te koppel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F:\DATA\FOTO'S 3 START PP'S\P1000807.JPG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 koppeling van </a:t>
            </a:r>
            <a:r>
              <a:rPr b="1" lang="nl-NL" sz="4400" spc="-1" strike="noStrike">
                <a:solidFill>
                  <a:srgbClr val="ff3300"/>
                </a:solidFill>
                <a:latin typeface="Calibri"/>
              </a:rPr>
              <a:t>AZ aan het t-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ILMPJ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TOKARYO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UKARYO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IE OOK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BIOPLEK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OCHEM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ranslatie en t-RN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F:\DATA\FOTO'S 3 START PP'S\P1000808.JPG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F:\DATA\FOTO'S 3 START PP'S\P1000809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Calibri"/>
              </a:rPr>
              <a:t>Translatie en Ribosomen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ibosomen bestaan uit twee stukk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e binden zich aan het m-R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ibosomen bevatten vele enzymen die de translatie aanstur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F:\DATA\FOTO'S 3 START PP'S\P1000805.JPG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Calibri"/>
              </a:rPr>
              <a:t>Translatie: de start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7960" y="1600200"/>
            <a:ext cx="42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kleine deel van het ribosoom bindt aan Methion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t complex bindt aan de start-codon = </a:t>
            </a:r>
            <a:r>
              <a:rPr b="1" lang="nl-NL" sz="2800" spc="-1" strike="noStrike">
                <a:solidFill>
                  <a:srgbClr val="ff0000"/>
                </a:solidFill>
                <a:latin typeface="Calibri"/>
              </a:rPr>
              <a:t>AU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ierna bindt het grote ribosoomde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F:\DATA\FOTO'S 3 START PP'S\P1000766.JPG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ranslatie: de st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tweede deel van het ribosoom bindt aan het m-R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volgende AZ wordt aangedrag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F:\DATA\FOTO'S 3 START PP'S\P1000767.JPG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ranslatie: het 2</a:t>
            </a:r>
            <a:r>
              <a:rPr b="0" lang="nl-NL" sz="44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aminozuu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F:\DATA\FOTO'S 3 START PP'S\P1000811.JPG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648320" y="1600200"/>
            <a:ext cx="4138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2</a:t>
            </a:r>
            <a:r>
              <a:rPr b="0" lang="nl-NL" sz="28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aminozuur wordt door enzymen aan het eerste AZ geplak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t heet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peptidebinding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ribosoom schuift 3 nucleïnezuren o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ranslatie: het 3</a:t>
            </a:r>
            <a:r>
              <a:rPr b="0" lang="nl-NL" sz="44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aminozu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F:\DATA\FOTO'S 3 START PP'S\P1000812.JPG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eerste t-RNA laat los van de M-RNA 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én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het aminozu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volgende AZ wordt gekoppe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nz., enz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e haal je de </a:t>
            </a:r>
            <a:r>
              <a:rPr b="0" lang="nl-NL" sz="4400" spc="-1" strike="noStrike">
                <a:solidFill>
                  <a:srgbClr val="ff0000"/>
                </a:solidFill>
                <a:latin typeface="Calibri"/>
              </a:rPr>
              <a:t>INFO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van het DN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79280" y="1143000"/>
            <a:ext cx="8678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Volgorde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van de ‘letters’ 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A-T-G-C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info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Één</a:t>
            </a: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gen</a:t>
            </a: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at de info voor één eigenscha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p ons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genoom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liggen ca 30.000 gen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Gen wordt afgeleze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, indien nodi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mR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ibosoom maakt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EIW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t eiwit kan een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enzym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zijn dat een proces aanstuurt of een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eindproduc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 zijn (bv ons haa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ranslatie: het ei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ij een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STOP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-codon wordt een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termination factor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gebon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ribosoom laat los van het m-R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polypeptideketen komt vri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F:\DATA\FOTO'S 3 START PP'S\P1000813.JPG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Calibri"/>
              </a:rPr>
              <a:t>Verschillende soorten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197000"/>
            <a:ext cx="84009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ssenger-RNA  =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at de 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info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voor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en eiw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ibosomaal-RNA =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rmt de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ribosome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ransport-RNA     =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vervoert de 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aminozure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tijdens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eiwitsynth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Na de translati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polypeptide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wordt afgevoerd door het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ER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In het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Golgi-systeem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krijgt het eiwit zijn uiteindelijke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vorm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eerste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methionine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wordt vaak verwijder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F:\DATA\FOTO'S 3 START PP'S\P1000769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5480" y="27432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 weg van het eiwit.</a:t>
            </a:r>
            <a:br>
              <a:rPr sz="4400"/>
            </a:b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ern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ER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Cytoplasma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Golgisysteem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Lysosoom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Extern milieu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000000"/>
                </a:solidFill>
                <a:latin typeface="Calibri"/>
              </a:rPr>
              <a:t>↓    →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functioneert in de c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F:\DATA\FOTO'S 3 START PP'S\P1000814.JPG"/>
          <p:cNvPicPr/>
          <p:nvPr/>
        </p:nvPicPr>
        <p:blipFill>
          <a:blip r:embed="rId1"/>
          <a:stretch/>
        </p:blipFill>
        <p:spPr>
          <a:xfrm>
            <a:off x="971640" y="1628640"/>
            <a:ext cx="721512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Polyribosomen: </a:t>
            </a:r>
            <a:br>
              <a:rPr sz="44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meerdere ribosomen aan één m-R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4648320" y="2579760"/>
            <a:ext cx="4352760" cy="3063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F:\DATA\FOTO'S 3 START PP'S\P1000768.JPG"/>
          <p:cNvPicPr/>
          <p:nvPr/>
        </p:nvPicPr>
        <p:blipFill>
          <a:blip r:embed="rId2"/>
          <a:stretch/>
        </p:blipFill>
        <p:spPr>
          <a:xfrm>
            <a:off x="285840" y="1600200"/>
            <a:ext cx="388764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an </a:t>
            </a: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DNA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naar </a:t>
            </a: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NA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naar </a:t>
            </a: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eiwit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bioplek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ies animaties bovenbou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ochem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alibri"/>
              </a:rPr>
              <a:t>DNA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transcriptie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4400" spc="-1" strike="noStrike">
                <a:solidFill>
                  <a:srgbClr val="ff0000"/>
                </a:solidFill>
                <a:latin typeface="Calibri"/>
              </a:rPr>
              <a:t>m-RNA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translatie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4400" spc="-1" strike="noStrike">
                <a:solidFill>
                  <a:srgbClr val="ff0000"/>
                </a:solidFill>
                <a:latin typeface="Calibri"/>
              </a:rPr>
              <a:t>Eiw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8584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Transcriptie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overschrijve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’ van een stukje DNA in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mR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‘taal’ is hetzelfde: de nucleotide-code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( T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t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mRNA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wordt ‘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vertaald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’ in een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eiw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it heet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Transl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Verschillen tussen </a:t>
            </a:r>
            <a:r>
              <a:rPr b="1" lang="nl-NL" sz="4400" spc="-1" strike="noStrike">
                <a:solidFill>
                  <a:srgbClr val="ff3300"/>
                </a:solidFill>
                <a:latin typeface="Calibri"/>
              </a:rPr>
              <a:t>D</a:t>
            </a: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NA en </a:t>
            </a: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NA bevat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U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i.p.v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NA is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enkelstre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NA is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korter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dan D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suiker is een </a:t>
            </a:r>
            <a:r>
              <a:rPr b="1" lang="nl-NL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ib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NA  A-T  EN G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ubbelstre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uiker = desoxyribo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3300"/>
                </a:solidFill>
                <a:latin typeface="Calibri"/>
              </a:rPr>
              <a:t>Verschillende soorten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F:\DATA\FOTO'S 3 START PP'S\P1000760.JPG"/>
          <p:cNvPicPr/>
          <p:nvPr/>
        </p:nvPicPr>
        <p:blipFill>
          <a:blip r:embed="rId1"/>
          <a:stretch/>
        </p:blipFill>
        <p:spPr>
          <a:xfrm>
            <a:off x="714240" y="1600200"/>
            <a:ext cx="771552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schillende soorten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ssenger-RNA  =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info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voor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en eiw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ibosomaal-RNA =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rmt de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ribosome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ransport-RNA     =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vervoert de aminozu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                                    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naar de ribos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Calibri"/>
              </a:rPr>
              <a:t>Transcriptie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bioplek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chemie  transscrip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Calibri"/>
              </a:rPr>
              <a:t>Transcriptie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286160" y="1600200"/>
            <a:ext cx="485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RNA-keten groeit en het RNA-polymersase schuift o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is ook een ‘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stop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’-plaa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at zijn 3 stopcod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INAS GEBRUIK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romotor = startplaats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chting </a:t>
            </a:r>
            <a:r>
              <a:rPr b="1" lang="nl-NL" sz="2800" spc="-1" strike="noStrike">
                <a:solidFill>
                  <a:srgbClr val="ff0000"/>
                </a:solidFill>
                <a:latin typeface="Calibri"/>
              </a:rPr>
              <a:t>RNA-polymer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Calibri"/>
              </a:rPr>
              <a:t>Operator = start aflez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penknippen’ dubbel-strengs D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Vrije nucleotiden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A-U-G-C uit kernplasma binden aan D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5T20:19:10Z</dcterms:created>
  <dc:creator>Bartje999</dc:creator>
  <dc:description/>
  <dc:language>en-US</dc:language>
  <cp:lastModifiedBy>Admin</cp:lastModifiedBy>
  <dcterms:modified xsi:type="dcterms:W3CDTF">2016-09-07T17:43:00Z</dcterms:modified>
  <cp:revision>28</cp:revision>
  <dc:subject/>
  <dc:title>6A1-B3 Eiwitsynthese (les3</dc:title>
</cp:coreProperties>
</file>