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85C-1015-4B43-A7B8-C1652859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C38-6401-4E86-A186-A9665DFD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322-9F6F-457C-8D18-A0FF0C90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FB3-535E-4AEA-ACCF-184E3E9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3E-AD1D-4D6E-B8A9-8C88C07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285-C305-4652-B9CB-0AC7A49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5E2-44CF-40CD-82C2-EF45B0B8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CE2-1585-45BA-A4D7-628A4F6F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CF7-C88D-40ED-9BA0-845B6BCD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190-7225-47FB-84C7-AFF905D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5A4-396B-47EB-9CAC-946879E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4A2-F357-4871-9A43-DF2312A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491C-1902-4242-9E82-2DF59D100E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la.nu/artiklar/images/bilder/mal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cc"/>
                </a:solidFill>
                <a:latin typeface="Times New Roman"/>
              </a:rPr>
              <a:t>15 bes en tak-materialen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runus trilo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runus_triloba_stamm"/>
          <p:cNvPicPr/>
          <p:nvPr/>
        </p:nvPicPr>
        <p:blipFill>
          <a:blip r:embed="rId1"/>
          <a:stretch/>
        </p:blipFill>
        <p:spPr>
          <a:xfrm>
            <a:off x="1752480" y="1676520"/>
            <a:ext cx="2125800" cy="26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4559400" y="1066680"/>
          <a:ext cx="4194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9400" y="1066680"/>
                    <a:ext cx="419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and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drielob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osa rug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RosaRugosaDESK"/>
          <p:cNvPicPr/>
          <p:nvPr/>
        </p:nvPicPr>
        <p:blipFill>
          <a:blip r:embed="rId1"/>
          <a:stretch/>
        </p:blipFill>
        <p:spPr>
          <a:xfrm>
            <a:off x="507672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ilde 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Rosa%20rugosa"/>
          <p:cNvPicPr/>
          <p:nvPr/>
        </p:nvPicPr>
        <p:blipFill>
          <a:blip r:embed="rId2"/>
          <a:stretch/>
        </p:blipFill>
        <p:spPr>
          <a:xfrm>
            <a:off x="1403280" y="1125360"/>
            <a:ext cx="3425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scum al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Viscum%20album%20Laubholz-Mistel%202"/>
          <p:cNvPicPr/>
          <p:nvPr/>
        </p:nvPicPr>
        <p:blipFill>
          <a:blip r:embed="rId1"/>
          <a:stretch/>
        </p:blipFill>
        <p:spPr>
          <a:xfrm>
            <a:off x="3203640" y="429264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Viscum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viscum_album"/>
          <p:cNvPicPr/>
          <p:nvPr/>
        </p:nvPicPr>
        <p:blipFill>
          <a:blip r:embed="rId3"/>
          <a:stretch/>
        </p:blipFill>
        <p:spPr>
          <a:xfrm>
            <a:off x="468360" y="1628640"/>
            <a:ext cx="2201760" cy="352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istletoe, maretak, vogell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8" descr="19316-222-323"/>
          <p:cNvPicPr/>
          <p:nvPr/>
        </p:nvPicPr>
        <p:blipFill>
          <a:blip r:embed="rId4"/>
          <a:stretch/>
        </p:blipFill>
        <p:spPr>
          <a:xfrm>
            <a:off x="6443640" y="2565360"/>
            <a:ext cx="22543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Gaultheria_procumbens"/>
          <p:cNvPicPr/>
          <p:nvPr/>
        </p:nvPicPr>
        <p:blipFill>
          <a:blip r:embed="rId1"/>
          <a:stretch/>
        </p:blipFill>
        <p:spPr>
          <a:xfrm>
            <a:off x="2340000" y="1162080"/>
            <a:ext cx="5508720" cy="462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rgt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ederlig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l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541600" y="2674800"/>
            <a:ext cx="4062240" cy="1494000"/>
            <a:chOff x="2541600" y="2674800"/>
            <a:chExt cx="4062240" cy="1494000"/>
          </a:xfrm>
        </p:grpSpPr>
        <p:sp>
          <p:nvSpPr>
            <p:cNvPr id="70" name="Rectangle 4"/>
            <p:cNvSpPr/>
            <p:nvPr/>
          </p:nvSpPr>
          <p:spPr>
            <a:xfrm>
              <a:off x="2541600" y="2674800"/>
              <a:ext cx="4062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2541600" y="2674800"/>
              <a:ext cx="40622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9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6" descr="Malus-'Evereste'"/>
          <p:cNvPicPr/>
          <p:nvPr/>
        </p:nvPicPr>
        <p:blipFill>
          <a:blip r:embed="rId2"/>
          <a:stretch/>
        </p:blipFill>
        <p:spPr>
          <a:xfrm>
            <a:off x="2484360" y="1197000"/>
            <a:ext cx="5546880" cy="4368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honia aquif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Mahonia%20aquifolium%20-%201"/>
          <p:cNvPicPr/>
          <p:nvPr/>
        </p:nvPicPr>
        <p:blipFill>
          <a:blip r:embed="rId1"/>
          <a:stretch/>
        </p:blipFill>
        <p:spPr>
          <a:xfrm>
            <a:off x="3492360" y="1628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honia_aquifolium"/>
          <p:cNvPicPr/>
          <p:nvPr/>
        </p:nvPicPr>
        <p:blipFill>
          <a:blip r:embed="rId2"/>
          <a:stretch/>
        </p:blipFill>
        <p:spPr>
          <a:xfrm>
            <a:off x="5364000" y="4581360"/>
            <a:ext cx="2918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ahoniest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ekel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mahonia"/>
          <p:cNvPicPr/>
          <p:nvPr/>
        </p:nvPicPr>
        <p:blipFill>
          <a:blip r:embed="rId3"/>
          <a:stretch/>
        </p:blipFill>
        <p:spPr>
          <a:xfrm>
            <a:off x="539640" y="1484280"/>
            <a:ext cx="18986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rnetty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ernettya_mucronata_rosa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4727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erp, gep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0-11T09:59:31Z</dcterms:modified>
  <cp:revision>103</cp:revision>
  <dc:subject/>
  <dc:title>PowerPoint-presentatie</dc:title>
</cp:coreProperties>
</file>