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BBC-D4AB-48AE-B0D0-9ED5D6F3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55E-8A92-46EF-AC74-6F149C98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CC342E-D784-4668-8CC6-71E52453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B6069D-2BD0-4857-8B9E-9BD8F428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FFE699-F095-4C22-B33E-0CAA44EC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6BCBB7-C19D-4413-B893-96D33B13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9F1D74-3516-44A9-9D43-69E6FA40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C1E6CC-1C3C-49DE-A297-F334CBFA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5471CC-B3B3-4F8E-8BDA-4063055A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C15E8D-6590-47A4-96BD-D7F88B77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472AFC-3566-4CA3-92B7-FA625A14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AF8-97B1-4E8F-8F8B-49FB1BD4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86F-C56F-429B-98B8-F8FA7909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311A1-F81D-4333-820B-F0D97DA0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0A027-9E4D-4721-BCB0-9196EB3A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5D3AC-6CAC-4062-B268-A9A64B3E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21C66-F545-4C29-BD95-40C0DD7C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3366D-149D-423B-82C0-CB96970F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1D785-990E-42D3-AF50-1F2276EF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92FCF-D884-40E2-A0CB-F2D81522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B9D-2C97-4901-BBAF-DB2C99DB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F6440-AFC6-4795-A5D4-E17B7190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D225E-04F7-4ACE-9D1B-5193811B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CC9F0-A0F5-43D4-A9E0-87B2122E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C0A29-52C5-436B-A865-CE75896B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17BE4-5C02-449D-99E9-0D57AEE0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D6E5D-4B1C-4FFC-945E-92AFBE92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01785-2461-4244-A15A-29C743A3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B5B20-8D5B-42B4-B66A-3C878C45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A73BF-B44C-4C70-B94F-7E838D3C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AD7CF-5B1F-4923-9A50-A2EB9E77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3B03-444A-4B08-BF2D-4087EB5F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E99B8-424C-4783-B2AD-3A3FF1FB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B36A0-98E2-484B-9777-532B47B5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7F3A3-2300-4A03-B176-5445F6CC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8365C-EB21-4672-9E98-0017D8EE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648DD-CEB8-46B3-A032-BC7D9368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606B5-E9EF-4FAA-89BB-12A84F4C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9BCC-CD05-4E0A-BECD-8317F60E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AE3967-406B-44E7-8564-19D3D515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FA2724-FC52-4F2E-805B-D08DD076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5AAF92-2EA1-40FA-94D3-63B1EA10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3C5-583C-46EF-AEE1-9F8CD67C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6C7351-DA1C-4817-8938-C2194D95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F19B3A-B49A-44B4-A9AE-B665B240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09DF5F-7128-4568-AA17-3B67041D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FFD96-1BC8-4610-9EC6-48CC3929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14222E-BB74-4757-A183-08BF987B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277E22-9176-418D-B2EE-18A50E8A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3A382F-8F5F-4C9D-9D9D-A61E2503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4568E0-6AE4-4CB7-8662-D8D4188E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1B6499-99C1-4F09-9301-40775E14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1BEDB-39FA-4D92-8D99-237A7F0E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7EC-431C-4D83-BADD-941511AB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22326-571B-413F-A4E4-01633724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16FC2-ADCA-4575-989B-9F2F03C6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485BC-B024-4028-B6C3-9D92CFC6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3F6DC-AAE1-44AD-A528-D135C6D3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B63AB-41B4-4DD8-9C1E-CD2414A8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41D0D-9FEE-4147-95C2-BC4C86E8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E594E-62BD-49FE-BAB1-07783538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D3A2B-1377-4290-B03B-23EFAD7E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A4926-54F6-41BD-9065-08539345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235F0-4D45-49FA-9BB9-A0490616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798-00EB-421B-98F8-1CA2F178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EF8A1-63FF-47BE-9E9E-57E2A28C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7BAE6-FEAA-4E1C-B316-ABBD22DD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9C15D-0B2C-4C24-BD81-28BC1145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514A8-B71B-403B-A14E-772757ED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80E0C-7245-48CC-A173-DB673CE7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4DC08-F008-43AC-A8C9-D718C0F0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27929-3886-4474-BF6F-A77E7CA1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2D1B7-03A6-4CB7-BC8F-3D82ADB3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FBAC1-D065-4D2E-8EA0-1C61AEEA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9EF64-6C4E-4E1D-BDBC-6FBB65BA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5A5-82EF-45E4-BD15-A9D91EB4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9BBE1-BB5F-4735-867D-F58B402B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90D03-F805-4E53-9F26-871F9BE6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A3B8A-0EA9-4601-BCA0-C01984F8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83E2A-49B7-44AE-B647-7924473D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23702-227F-4234-9FD8-7B1199F9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A2393-92D1-4C8A-BDFD-C48433AC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79554-7D74-4714-96E5-799DA06C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B7A17-F700-4628-9046-87A0C328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187DA-85FA-4D4B-9282-D1ACD3A5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0A519-0BBA-4B85-8819-AB17A134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55EE-F15A-4717-BE06-61229484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B048D-2EAE-4F7C-8EC2-91FB7ECB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CD87B-F771-4444-80C6-6E6DF047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87AD9-7B15-4582-A339-E5BE7654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AB413-29BD-4E9F-B702-91F82FB8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14337-811D-4575-A6E9-65E17FC9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262AE0-F2C4-4667-AE58-EF418208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AB74D7-0085-4AB9-AA1F-9BF4B22E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D617D4-F572-4DEF-855B-085FEA79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2939D4-D477-4EA2-843F-B4E9EFFB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87B5D9-321C-4284-8BC3-DE2C63B7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23D-E2C1-46CE-9CCC-C18C61FD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83E1C6-8EE1-4740-B2D5-6BD18068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97C55A-FE71-42F8-AED0-43E307E4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428D9B-297E-4FB9-8C9A-2F00F998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27C8C5-F509-40D7-BC7F-82DFF729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56E1D4-F03F-48ED-82B6-4FC1A9C5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7A7868-0B36-4938-99CD-922CD069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D71EBD-7ADE-4FD4-AD97-0EE7A421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49E52D-6448-430B-925D-F375642F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33E300-AA08-4D41-B638-A7D612A6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88D022-2959-4ADE-914B-11850E08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1582-F610-43B3-AD20-A2FD6321E5E6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3796-DEEC-43E1-A0E3-D9D8222074D9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C471-FEAA-49A1-B99F-BAB22D4D3851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F059-0668-4706-92D1-62E7AECB4AAE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CAAE-8CA3-4D40-81F1-4B04190ED8DB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A3AD-2A54-40B6-B53E-77FB6F9F5A59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B934-397B-4DC4-86FA-96C67DA2C410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3BCE-7F4D-4570-B879-0FF6E23ACE0B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C1F8-7270-400B-AC63-35AEA9F7D38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http://jeroenboseu.files.wordpress.com/2009/08/eko_keurmerk_logo.jpg"/>
          <p:cNvPicPr/>
          <p:nvPr/>
        </p:nvPicPr>
        <p:blipFill>
          <a:blip r:embed="rId3"/>
          <a:stretch/>
        </p:blipFill>
        <p:spPr>
          <a:xfrm>
            <a:off x="2786040" y="3286080"/>
            <a:ext cx="3006720" cy="3286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http://www.eediete.nl/keuken/pics/groenten.jpg"/>
          <p:cNvPicPr/>
          <p:nvPr/>
        </p:nvPicPr>
        <p:blipFill>
          <a:blip r:embed="rId4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tec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6" descr="http://members.chello.nl/r.kuijt/images/nl_voedingsstoffen.jpg"/>
          <p:cNvPicPr/>
          <p:nvPr/>
        </p:nvPicPr>
        <p:blipFill>
          <a:blip r:embed="rId4"/>
          <a:stretch/>
        </p:blipFill>
        <p:spPr>
          <a:xfrm>
            <a:off x="571680" y="514368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456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6-02-18T14:16:27Z</dcterms:modified>
  <cp:revision>31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50;#Michel Walda;#48;#Veerle Veltman-Kappel;#38;#Pam Weerman-Hakvoort;#49;#Margo de Ket</vt:lpwstr>
  </property>
  <property fmtid="{D5CDD505-2E9C-101B-9397-08002B2CF9AE}" pid="3" name="_dlc_DocId">
    <vt:lpwstr>H7CVNQAUUZ3W-1444270466-2020</vt:lpwstr>
  </property>
  <property fmtid="{D5CDD505-2E9C-101B-9397-08002B2CF9AE}" pid="4" name="_dlc_DocIdItemGuid">
    <vt:lpwstr>8db63659-1b33-401e-a604-e07624fea5a5</vt:lpwstr>
  </property>
  <property fmtid="{D5CDD505-2E9C-101B-9397-08002B2CF9AE}" pid="5" name="_dlc_DocIdUrl">
    <vt:lpwstr>https://liveadminclusius.sharepoint.com/sites/castricum-vmbo-profielgroen/_layouts/15/DocIdRedir.aspx?ID=H7CVNQAUUZ3W-1444270466-2020, H7CVNQAUUZ3W-1444270466-2020</vt:lpwstr>
  </property>
  <property fmtid="{D5CDD505-2E9C-101B-9397-08002B2CF9AE}" pid="6" name="display_urn:schemas-microsoft-com:office:office#SharedWithUsers">
    <vt:lpwstr>Michel Walda;Veerle Veltman-Kappel;Pam Weerman-Hakvoort;Margo de Ket</vt:lpwstr>
  </property>
</Properties>
</file>