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3.jpeg" ContentType="image/jpeg"/>
  <Override PartName="/ppt/media/image15.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E1B5-946E-4F5A-8E7F-D9949F6FFEB8}"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853920" y="744480"/>
            <a:ext cx="4961160" cy="3722760"/>
          </a:xfrm>
          <a:prstGeom prst="rect">
            <a:avLst/>
          </a:prstGeom>
          <a:ln w="0">
            <a:noFill/>
          </a:ln>
        </p:spPr>
      </p:sp>
      <p:sp>
        <p:nvSpPr>
          <p:cNvPr id="57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2F32-F60E-45EE-A03B-39D5E18453E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853920" y="744480"/>
            <a:ext cx="4961160" cy="3722760"/>
          </a:xfrm>
          <a:prstGeom prst="rect">
            <a:avLst/>
          </a:prstGeom>
          <a:ln w="0">
            <a:noFill/>
          </a:ln>
        </p:spPr>
      </p:sp>
      <p:sp>
        <p:nvSpPr>
          <p:cNvPr id="59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53920" y="744480"/>
            <a:ext cx="4961160" cy="3722760"/>
          </a:xfrm>
          <a:prstGeom prst="rect">
            <a:avLst/>
          </a:prstGeom>
          <a:ln w="0">
            <a:noFill/>
          </a:ln>
        </p:spPr>
      </p:sp>
      <p:sp>
        <p:nvSpPr>
          <p:cNvPr id="59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38AE-4EE8-4AB4-B086-E11A3615168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853920" y="744480"/>
            <a:ext cx="4961160" cy="3722760"/>
          </a:xfrm>
          <a:prstGeom prst="rect">
            <a:avLst/>
          </a:prstGeom>
          <a:ln w="0">
            <a:noFill/>
          </a:ln>
        </p:spPr>
      </p:sp>
      <p:sp>
        <p:nvSpPr>
          <p:cNvPr id="59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82F7-18E9-4C38-933B-F52C79533DB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853920" y="744480"/>
            <a:ext cx="4961160" cy="3722760"/>
          </a:xfrm>
          <a:prstGeom prst="rect">
            <a:avLst/>
          </a:prstGeom>
          <a:ln w="0">
            <a:noFill/>
          </a:ln>
        </p:spPr>
      </p:sp>
      <p:sp>
        <p:nvSpPr>
          <p:cNvPr id="60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853920" y="744480"/>
            <a:ext cx="4961160" cy="3722760"/>
          </a:xfrm>
          <a:prstGeom prst="rect">
            <a:avLst/>
          </a:prstGeom>
          <a:ln w="0">
            <a:noFill/>
          </a:ln>
        </p:spPr>
      </p:sp>
      <p:sp>
        <p:nvSpPr>
          <p:cNvPr id="60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853920" y="744480"/>
            <a:ext cx="4961160" cy="3722760"/>
          </a:xfrm>
          <a:prstGeom prst="rect">
            <a:avLst/>
          </a:prstGeom>
          <a:ln w="0">
            <a:noFill/>
          </a:ln>
        </p:spPr>
      </p:sp>
      <p:sp>
        <p:nvSpPr>
          <p:cNvPr id="6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853920" y="744480"/>
            <a:ext cx="4961160" cy="3722760"/>
          </a:xfrm>
          <a:prstGeom prst="rect">
            <a:avLst/>
          </a:prstGeom>
          <a:ln w="0">
            <a:noFill/>
          </a:ln>
        </p:spPr>
      </p:sp>
      <p:sp>
        <p:nvSpPr>
          <p:cNvPr id="6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GDA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853920" y="744480"/>
            <a:ext cx="4961160" cy="3722760"/>
          </a:xfrm>
          <a:prstGeom prst="rect">
            <a:avLst/>
          </a:prstGeom>
          <a:ln w="0">
            <a:noFill/>
          </a:ln>
        </p:spPr>
      </p:sp>
      <p:sp>
        <p:nvSpPr>
          <p:cNvPr id="6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853920" y="744480"/>
            <a:ext cx="4961160" cy="3722760"/>
          </a:xfrm>
          <a:prstGeom prst="rect">
            <a:avLst/>
          </a:prstGeom>
          <a:ln w="0">
            <a:noFill/>
          </a:ln>
        </p:spPr>
      </p:sp>
      <p:sp>
        <p:nvSpPr>
          <p:cNvPr id="61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853920" y="744480"/>
            <a:ext cx="4961160" cy="3722760"/>
          </a:xfrm>
          <a:prstGeom prst="rect">
            <a:avLst/>
          </a:prstGeom>
          <a:ln w="0">
            <a:noFill/>
          </a:ln>
        </p:spPr>
      </p:sp>
      <p:sp>
        <p:nvSpPr>
          <p:cNvPr id="57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75B6-C2CE-40E5-82FB-4D056B596D3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853920" y="744480"/>
            <a:ext cx="4961160" cy="3722760"/>
          </a:xfrm>
          <a:prstGeom prst="rect">
            <a:avLst/>
          </a:prstGeom>
          <a:ln w="0">
            <a:noFill/>
          </a:ln>
        </p:spPr>
      </p:sp>
      <p:sp>
        <p:nvSpPr>
          <p:cNvPr id="61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6058-E7CF-4967-A298-C1541094D74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853920" y="744480"/>
            <a:ext cx="4961160" cy="3722760"/>
          </a:xfrm>
          <a:prstGeom prst="rect">
            <a:avLst/>
          </a:prstGeom>
          <a:ln w="0">
            <a:noFill/>
          </a:ln>
        </p:spPr>
      </p:sp>
      <p:sp>
        <p:nvSpPr>
          <p:cNvPr id="61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BD74-40EE-4890-A15E-093A6396EA8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853920" y="744480"/>
            <a:ext cx="4961160" cy="3722760"/>
          </a:xfrm>
          <a:prstGeom prst="rect">
            <a:avLst/>
          </a:prstGeom>
          <a:ln w="0">
            <a:noFill/>
          </a:ln>
        </p:spPr>
      </p:sp>
      <p:sp>
        <p:nvSpPr>
          <p:cNvPr id="61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270D-EDFC-443D-ABC1-FD8B0BFE230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853920" y="744480"/>
            <a:ext cx="4961160" cy="3722760"/>
          </a:xfrm>
          <a:prstGeom prst="rect">
            <a:avLst/>
          </a:prstGeom>
          <a:ln w="0">
            <a:noFill/>
          </a:ln>
        </p:spPr>
      </p:sp>
      <p:sp>
        <p:nvSpPr>
          <p:cNvPr id="62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A098-D8E8-4F29-88B7-8F3664F1458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853920" y="744480"/>
            <a:ext cx="4961160" cy="3722760"/>
          </a:xfrm>
          <a:prstGeom prst="rect">
            <a:avLst/>
          </a:prstGeom>
          <a:ln w="0">
            <a:noFill/>
          </a:ln>
        </p:spPr>
      </p:sp>
      <p:sp>
        <p:nvSpPr>
          <p:cNvPr id="62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2CAF-49B0-46D3-B155-232CB609876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853920" y="744480"/>
            <a:ext cx="4961160" cy="3722760"/>
          </a:xfrm>
          <a:prstGeom prst="rect">
            <a:avLst/>
          </a:prstGeom>
          <a:ln w="0">
            <a:noFill/>
          </a:ln>
        </p:spPr>
      </p:sp>
      <p:sp>
        <p:nvSpPr>
          <p:cNvPr id="62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3.1, 3.2 en 3.3 (dranken vergelijken)</a:t>
            </a:r>
            <a:endParaRPr b="0" lang="en-US" sz="1200" spc="-1" strike="noStrike">
              <a:solidFill>
                <a:srgbClr val="000000"/>
              </a:solidFill>
              <a:latin typeface="Calibri"/>
            </a:endParaRPr>
          </a:p>
        </p:txBody>
      </p:sp>
      <p:sp>
        <p:nvSpPr>
          <p:cNvPr id="62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E060-3453-48F5-A7D2-6A0C852194C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853920" y="744480"/>
            <a:ext cx="4961160" cy="3722760"/>
          </a:xfrm>
          <a:prstGeom prst="rect">
            <a:avLst/>
          </a:prstGeom>
          <a:ln w="0">
            <a:noFill/>
          </a:ln>
        </p:spPr>
      </p:sp>
      <p:sp>
        <p:nvSpPr>
          <p:cNvPr id="6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8CB4-E03C-482C-9CF5-D413BF81853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853920" y="744480"/>
            <a:ext cx="4961160" cy="3722760"/>
          </a:xfrm>
          <a:prstGeom prst="rect">
            <a:avLst/>
          </a:prstGeom>
          <a:ln w="0">
            <a:noFill/>
          </a:ln>
        </p:spPr>
      </p:sp>
      <p:sp>
        <p:nvSpPr>
          <p:cNvPr id="6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FB9F-FC7D-4D3C-923E-06FD44B7B30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53920" y="744480"/>
            <a:ext cx="4961160" cy="3722760"/>
          </a:xfrm>
          <a:prstGeom prst="rect">
            <a:avLst/>
          </a:prstGeom>
          <a:ln w="0">
            <a:noFill/>
          </a:ln>
        </p:spPr>
      </p:sp>
      <p:sp>
        <p:nvSpPr>
          <p:cNvPr id="63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4.1, 4.2 en 4.3 (tussendoortjes vergelijken)</a:t>
            </a:r>
            <a:endParaRPr b="0" lang="en-US" sz="1200" spc="-1" strike="noStrike">
              <a:solidFill>
                <a:srgbClr val="000000"/>
              </a:solidFill>
              <a:latin typeface="Calibri"/>
            </a:endParaRPr>
          </a:p>
        </p:txBody>
      </p:sp>
      <p:sp>
        <p:nvSpPr>
          <p:cNvPr id="63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036E-03D2-48EC-9B79-0EE086194C7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853920" y="744480"/>
            <a:ext cx="4961160" cy="3722760"/>
          </a:xfrm>
          <a:prstGeom prst="rect">
            <a:avLst/>
          </a:prstGeom>
          <a:ln w="0">
            <a:noFill/>
          </a:ln>
        </p:spPr>
      </p:sp>
      <p:sp>
        <p:nvSpPr>
          <p:cNvPr id="63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5.1, 5.2 en 5.3 (de actieve voedingsdriehoek) en werkblad 6 (mijn dranken en tussendoortj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D368-B6D3-4015-A544-9D3201736DC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853920" y="744480"/>
            <a:ext cx="4961160" cy="3722760"/>
          </a:xfrm>
          <a:prstGeom prst="rect">
            <a:avLst/>
          </a:prstGeom>
          <a:ln w="0">
            <a:noFill/>
          </a:ln>
        </p:spPr>
      </p:sp>
      <p:sp>
        <p:nvSpPr>
          <p:cNvPr id="58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9D60-D21B-450F-9D37-0465D4C0B70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853920" y="744480"/>
            <a:ext cx="4961160" cy="3722760"/>
          </a:xfrm>
          <a:prstGeom prst="rect">
            <a:avLst/>
          </a:prstGeom>
          <a:ln w="0">
            <a:noFill/>
          </a:ln>
        </p:spPr>
      </p:sp>
      <p:sp>
        <p:nvSpPr>
          <p:cNvPr id="58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853920" y="744480"/>
            <a:ext cx="4961160" cy="3722760"/>
          </a:xfrm>
          <a:prstGeom prst="rect">
            <a:avLst/>
          </a:prstGeom>
          <a:ln w="0">
            <a:noFill/>
          </a:ln>
        </p:spPr>
      </p:sp>
      <p:sp>
        <p:nvSpPr>
          <p:cNvPr id="58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1.1 en 1.2 (onderdelen van het etiket) en 2.1 en 2.2 (analyse van een verpak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53920" y="744480"/>
            <a:ext cx="4961160" cy="3722760"/>
          </a:xfrm>
          <a:prstGeom prst="rect">
            <a:avLst/>
          </a:prstGeom>
          <a:ln w="0">
            <a:noFill/>
          </a:ln>
        </p:spPr>
      </p:sp>
      <p:sp>
        <p:nvSpPr>
          <p:cNvPr id="58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853920" y="744480"/>
            <a:ext cx="4961160" cy="3722760"/>
          </a:xfrm>
          <a:prstGeom prst="rect">
            <a:avLst/>
          </a:prstGeom>
          <a:ln w="0">
            <a:noFill/>
          </a:ln>
        </p:spPr>
      </p:sp>
      <p:sp>
        <p:nvSpPr>
          <p:cNvPr id="59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C40F0-AA90-4F65-8E1B-07036AE16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B7C5A-CD89-4F6F-AA4D-3EFF956E0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14AA97-D2CC-4354-B9CE-C1932F5EEA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345BA1-18B7-465D-9538-4AF1BE88E6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9CC8ED-8AFB-4DE1-BD24-05ECCA582E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F61209-1E97-4678-BA02-5A78B597A9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F54A5C-6E42-4A2C-B863-91D5E2DE97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9B412B-9E11-4145-A97B-0B899929D4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145BBF-2DA1-4400-82E3-27F1658FE2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5EBA8C-F173-4F91-9F30-E9F809E0D9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B8CFB6-BC9A-44AD-840E-97F7669E28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E788D9C-5B20-40E2-B1B8-E4EC6CE925B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02351-A8D4-4A6E-8432-8172D0C57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4456F1-77EC-4B6B-8914-5317BCEFE3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A2EA02-E372-4B3A-918D-56E6A7F99E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F6A0E4-EFCF-41C8-B4D7-0CF80933B0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FE401F-6AE9-4F3F-A3C5-012822721C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8BE6E3-FC57-4F4E-9805-4044756EA2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6ABD06-4BC4-4238-86AA-C6820703CD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C2D477-3C7B-4435-BDD4-ADEADDF79B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21B1EF-DD3E-495D-8AF6-AED9D54B59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87F5D6-99AE-4E8F-8589-5D4D668D45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56A0990-6B01-4FA6-87CC-69ACB24D26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903FA-68E7-478F-803D-4698A160F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7E6692-F12F-4752-834B-AE1218DD80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56C437-D5B9-46EE-BDB3-18D17662A8D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6A9E0F-29CE-441C-9B64-DE3441332B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69573B-758C-4720-9BB1-DE9AC2A4FF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A6567E-45FD-41C8-AFCF-3464FDD6DA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266BD6-986C-444F-9BEB-AF9CAF5D43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3D36E8-846D-4F0E-89FA-2FA69E38AF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C2B4C7-6088-4074-AF58-D11036BA5D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E8517B-F7D9-447F-9717-170308C568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58DC25-C579-4844-B236-8D5DEAAF81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9B180-0219-4E0D-B549-B913ED5B5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E056F2-63FF-4E05-BEAA-484EC6D1A6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16A32A0-940E-40AF-9543-B8AFD352A5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950425D-2077-4E4A-9EB7-5F5C41EE17E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C9B9981-8C7E-4F85-AD50-5B6835CEDD8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584DE0-2A81-4F46-9924-AC5F502EB3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2049C2-351F-44F6-8301-EACBF16A01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10ED7E-B108-4182-9C14-050538200D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BC2B13-A5F5-4935-8FBD-3D3500CF5C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E2E513-1A5F-47C0-A6E0-FE053FC1F7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D10CA3-B037-4239-8E26-60CFCDACE7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3366A-5BD2-43D2-85BE-31F2AFFE7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EAAC07-2F5C-46D7-B96E-AE045984A1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7FBCCE-81F8-4677-8E65-338C98A68B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965285-539B-4A99-AA2D-EF3CE951D6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B155DD4-28BE-4066-928A-AF246B5880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3254628-DE61-4E1C-A10E-7D1ACDC0517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8DA82-15BD-4315-A511-F77A71651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29973-835F-4685-A0BA-B411DAF44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BFD93-D980-46E6-AF7C-9CEDF469E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CA5D4-2120-4A2D-BA2C-A8D03117C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5288B-941F-4BB7-A26A-E438B172C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404B7-4E27-4B54-87EB-015570957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52423-36D8-473B-94F0-DEB373614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126B9-6C61-4D28-93ED-ED78D2E40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8DBB7-2B2E-4F6A-B870-DC861C708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C1094-F059-4A9A-9DCB-BC909F69D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83223-014D-4224-9EFE-477195D41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86FF02-407B-43C4-861D-83D5C3A1BF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95E4F9-C59A-4744-A4F9-52C258A2C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B6A34-4C87-4523-9083-C912211E58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8A009-8AFD-4B46-BBEC-E86B91A97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5F647D-86F4-4371-98C0-88C23B3EAF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47766-F746-4FCB-8A5C-CA29B4DB3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CC5C31-1960-4B9F-8A12-C66A3FA830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6114CD-4D54-4994-87B8-6C561049B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BF604-2BCC-4FEF-8072-B17C1CDD1D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91889-8CD3-4BF0-A84A-15AB88B31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371E3C-84DD-4C2F-8A75-13ABA41BF3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C24288-FAA6-47CB-9B1D-663493BE6E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B71187-510F-45C7-804A-F2B765D1F8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E50794-81FE-497F-86F8-AB65BB736C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033831-3AE2-47B1-A107-FD4AE2AC3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C7A7BF-9C6F-41DC-98B7-4555FCD562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1FD3C-F604-453E-AAF0-537907E8F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FF2C39-94A8-488D-A18B-74A261872B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187E06-D212-4E87-A5AA-F4C46A64E1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D6956-9235-4B99-B178-6EA78516B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2BF162-5F58-4781-9A27-A6FE95F03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2947C-6B41-4929-8410-B799DBCDD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CEB1F-C44A-439C-91C0-511CEB16F6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D77C09-911E-46FD-A58D-C49B894A41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F3145B-C4A3-4B8B-9653-FE745D5BFF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F79E2E-E5BF-4FBD-88D1-597B52657A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76DC56-3306-4955-9319-63C38FFCA9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B5C72-AE0B-4E22-9F5F-C91C560AE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47A53E-6AE3-423E-BCA4-B65ACB822C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F6FC66-7132-4B2C-A71D-90A0EC5860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345502-75BB-4898-B71E-7B8C3822E0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E0433B-2E5B-431F-AD3D-AA8462BF52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DBE11E-DE2B-400D-BECC-56C108825F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814B5B-6C71-4940-895E-7D44F28B1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788269-06AD-4722-AF9A-101893DE71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E95B22-8BB1-4210-A647-41B3B4998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FA47D5-92E0-48ED-9E67-9C9A13B84A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4330AB-35C9-45DB-8132-A74A650D1D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B2304-B906-4035-B136-761C0B91C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1A8536-3446-443D-A144-E85E980E1C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A652A4-719A-4FE4-898B-FB19D47F6B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972387-16C7-41AA-B798-6F184DBD5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143802-42D1-4CE1-A993-DF07CC35EE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708E73-184D-41C5-B2E8-1415C4ACA7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BDA23F-5964-45FA-8213-561B39D055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B945E9-AFEE-4303-A114-2A7B44C4D7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2B3A3B-48D1-4D74-9C16-CB038DBFB0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4A04FD-2EC2-458A-8837-4BBC95A04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4EFAF8-FD64-4DAA-B7FF-467FD79F04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BB872-D251-40B8-BB21-6FC577CE8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53B3BD-4AE0-4DE7-B680-9C1632A88C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0B7B7C-6DCB-48CD-8DE0-3A9AA13266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476A6C-7A35-4967-A873-B178D771B0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465C20-56BC-4E18-B1C3-A1F81B5CBC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5CC847-AECF-4825-99A5-D09C737382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87B5AA-5CDC-4C6E-A86D-FA5ECF6F0C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BDB366-4D70-4AC1-AFD8-7046F7E0E4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A34BD5-75F7-447D-BFC1-FE79A2CD9E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A59614-140A-4427-AC19-383E129384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F768BE-5488-4303-B30F-4C8AF32E4E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81AD3-2333-4797-916E-CDE7D5C4D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1132C4-F034-4895-9E7F-47B633979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AC4E37-6B10-47B0-B4B3-9A3B87AC78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2D464E-63F2-4EAD-AC44-577390C972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A24F08-C1D7-40C4-9AB2-BF52B0EE86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52BB67-D96C-40D4-B9C1-85E702EC41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E35AD9-A7D6-426E-95C0-B8C1F11822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DE9DDA-CF68-4281-B7D3-7A350FF642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C1B93B-9A57-4392-9151-36FB039245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F8A069-D277-41D3-8A02-016B1588F3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239CC4-9365-4F69-A624-48716ACDDE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E54D7-1627-4EA9-A64A-CE33F3072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A5C97E-862C-409A-83CC-1E9F4E02EB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86DB51-41DA-48A8-9BF3-4604ABF743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ECD635-35B7-47B6-8956-A621F2E0E2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FBBD37-F15C-433A-B86A-8A6DFE077E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D7AAAC-C216-451B-B2EA-70DF6D27D1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374223-5A8C-48A6-9155-5B0C777E0E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C429C2-269F-4920-9866-9FFCA31881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EF5F64-0F8D-4497-BD7D-D723A762D2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C7B8A7-99F6-419E-8131-F4A7B832E5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A0C6DA-E4EA-4B1B-A5F2-E51FE55C08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D650-B11D-4595-911A-09AC80E296E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7DE7-0AE4-41EF-9206-C8566E30D9A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F79A-5BEE-456A-8DB5-6E8477C553D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8A89-36BE-4BAD-9E57-C549D06682C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04D4-9F33-4172-BA0B-77F34826466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E6A3-6389-4FBF-AB8D-34175B43B80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24CC-02BC-44EF-B72D-6D7C6B5E1A7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BE43-578A-42CA-8507-D338D75E874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5F4D-3838-4CF4-97A5-8973E39EF9C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B411-D36F-44B3-907A-EAD7EC41EC4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CDF8-9807-4F28-A625-C496EA3C48A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B60D-D56B-4007-8AB8-FCD28D651A3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Picture 2" descr=""/>
          <p:cNvPicPr/>
          <p:nvPr/>
        </p:nvPicPr>
        <p:blipFill>
          <a:blip r:embed="rId1"/>
          <a:stretch/>
        </p:blipFill>
        <p:spPr>
          <a:xfrm>
            <a:off x="2411280" y="1773360"/>
            <a:ext cx="467388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2"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3" name="Picture 2" descr=""/>
          <p:cNvPicPr/>
          <p:nvPr/>
        </p:nvPicPr>
        <p:blipFill>
          <a:blip r:embed="rId1"/>
          <a:stretch/>
        </p:blipFill>
        <p:spPr>
          <a:xfrm>
            <a:off x="4500720" y="2781360"/>
            <a:ext cx="1268280" cy="2027160"/>
          </a:xfrm>
          <a:prstGeom prst="rect">
            <a:avLst/>
          </a:prstGeom>
          <a:ln w="0">
            <a:noFill/>
          </a:ln>
        </p:spPr>
      </p:pic>
      <p:pic>
        <p:nvPicPr>
          <p:cNvPr id="554"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7"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0" name="Picture 6" descr="logo vig"/>
          <p:cNvPicPr/>
          <p:nvPr/>
        </p:nvPicPr>
        <p:blipFill>
          <a:blip r:embed="rId1"/>
          <a:stretch/>
        </p:blipFill>
        <p:spPr>
          <a:xfrm>
            <a:off x="8172360" y="5300640"/>
            <a:ext cx="863640" cy="1434960"/>
          </a:xfrm>
          <a:prstGeom prst="rect">
            <a:avLst/>
          </a:prstGeom>
          <a:ln w="0">
            <a:noFill/>
          </a:ln>
        </p:spPr>
      </p:pic>
      <p:pic>
        <p:nvPicPr>
          <p:cNvPr id="561"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69"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1"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hthoek 2"/>
          <p:cNvSpPr/>
          <p:nvPr/>
        </p:nvSpPr>
        <p:spPr>
          <a:xfrm>
            <a:off x="250920" y="404640"/>
            <a:ext cx="8497800" cy="22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Bijkomende oefening:</a:t>
            </a:r>
            <a:endParaRPr b="0" lang="en-US" sz="40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verpakkingen of producten in of bij de juiste groep van schijf van 5.</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3" name="Afbeelding 1" descr=""/>
          <p:cNvPicPr/>
          <p:nvPr/>
        </p:nvPicPr>
        <p:blipFill>
          <a:blip r:embed="rId1"/>
          <a:stretch/>
        </p:blipFill>
        <p:spPr>
          <a:xfrm>
            <a:off x="2050920" y="2060640"/>
            <a:ext cx="4276800" cy="40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ADH: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4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ADH: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50864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Lobke Spruijt</cp:lastModifiedBy>
  <cp:lastPrinted>2012-02-03T12:52:21Z</cp:lastPrinted>
  <dcterms:modified xsi:type="dcterms:W3CDTF">2016-01-07T15:37:51Z</dcterms:modified>
  <cp:revision>52</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