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6E9-7057-43C0-9158-CE3963FE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766-D4CA-446E-BEB4-1D50BE6B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B11F7A-2282-4E2E-AA70-A90B8AEC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5512B9-B64D-46FE-BC8A-0E04F8F3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EBBEFD-4BBD-4314-A119-5C6EEDE1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C21BA4-CDA6-40E1-A02B-53FE3A2D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BD4333-4733-46BB-8FF3-350DC7EB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C7E231-CE7F-4E0F-9627-411445BE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C8274C-FAF0-4593-87E1-61681E76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A45D65-A4A1-4B37-9351-2EEE45C3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59F848-9E18-49F4-BA42-CB84FEE0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29E-4291-4E67-8011-F46DF3DE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0BAB-CBC1-4D7F-B669-BDB7D6B8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AB48B-C3CE-4722-B7DC-8B22D069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81540-B591-454D-B28B-866D406E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889B8-D736-448B-9161-18B5E97B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23F6A-4080-486B-B763-9A58015E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5E271-9150-4A19-B145-C3B21E43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80046-3B2E-4A50-B128-3E3BBF21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37501-0808-4A7E-A124-A23FEEE9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1E8-FCD5-44C3-A989-7CE126AE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55280-AC43-42EA-A3AE-06D26D65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6FB36-B92B-43C6-A034-4EB1F665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57E79-6AA8-404F-978A-A70131A9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A8A4E-D8DF-46AA-90B3-058AFD38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1DED7-7A8E-4391-9BF3-D3ECF535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3F0AB-71A9-4089-A003-DE718853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5FBE-8009-4290-8BAA-251B1AD4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A363-AC5E-4B27-80D5-9DC509E3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CCBAC-9CB7-4DBD-90E6-29246FD4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37F9-1057-41DC-BF68-B420E29B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A81-60AA-483E-B3BF-15471133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B245-1122-4281-A1EB-E45E7A37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4664F-C4AB-4AD2-B015-D2417EF1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722CC-4A07-432D-AC14-2F0063F9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FDA0-A63D-45F1-96FA-24E2992E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54C72-6662-447B-8197-BC664BCE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B90AA-D065-4F65-BCC2-A419CF8C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619B-EE11-4318-AE6C-242A3A34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18E51-7BC4-4750-A15C-DF52A40F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01FB2-0B38-491F-BB42-0A544F08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04480-0938-4242-B87D-46D36EA1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9263-7B19-4F49-B1CC-7CEF536E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6DC6D0-CE30-4230-A259-63651E4C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EF81E2-2C93-4256-AFB8-A666D88D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E3C294-6E9B-42AC-AA63-8D4AF9EB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A0D7AA-D8D9-4297-A321-BAEA3444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F6F1C2-3B95-446D-843B-28EBEA97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1D6EFF-3C1B-4A4A-826B-C3C6739E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E02BDA-969A-43AB-BB37-F5798D2F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8471EB-6AD7-467B-B06A-FF04D8E1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A54139-4499-453D-9D6E-8443730D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CB481-95B4-48E9-AA80-DB3CA78D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B47-F5BD-49F2-B818-712A1555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92836-B99D-48FE-B27E-15BA282F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81010-2220-4E91-AE3C-CE289E32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628AF-AAD2-4D9C-9B70-809CE426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F7F01-4665-4BEE-BA33-334D963A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A2172-FB57-47B6-97AA-80755683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0F566-8946-49A8-8BAC-77C73712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A991B-BCFF-478A-A723-680BF6D1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7F7CC-255E-4D74-B243-0E21406B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E4CC7-7681-4F53-B9C8-CBAC798E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CC330-9FE0-485D-999C-FACA1A4A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223-D309-4EC2-8B8F-CD0F6918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A9661-D312-42AA-8A17-CABBC558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0148B-9321-49D7-8EA4-DD8E99DC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A1335-6812-4AC7-A072-D160D04D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526EA-4B13-4972-817B-853BBDBE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6CBEC-8137-42A5-8EB9-B395F586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65E6B-F693-4D6A-AD38-57683D90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12520-F792-44EA-841B-42C1DF23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AAD84-1DA4-4932-8A5F-48DB4E91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D6AB1-F5E9-4E26-B2C8-B5A9D345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BA614-8E9E-4A37-870C-6FB78F2F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F78-2B63-4363-9ADC-E33B87CE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4155E-AF9E-491F-915B-2C94433F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EDFF6-E179-47BD-B5BC-5B950C65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694A0-CDB6-4152-B8AE-AA8C8245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D4C53-FD54-4E24-A989-83AB14FA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9CEF4-831E-4826-A478-685B67E7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36A53-493F-4A58-84D4-5AF70308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DF21A-3845-4995-9F63-872F01A7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24828-1F6D-4C00-B9A7-0E386567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7838D-5CDA-4135-963A-B72091FC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7A3C5-B9A7-4EF2-A7E6-E2F46232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8AC-365B-4FBE-89D9-AB9DD882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C9EAE-C246-4017-BB56-B5CC717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83832-E57E-4292-BEF6-D54C1ACE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C78C0-D31C-4AB8-84C0-9EB4EE08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4671D-6699-44AD-9F6F-AFA6080E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CE260-A862-45D9-8E50-263A283B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AE9942-1EBC-41A7-A6E4-9318B0D4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574A8F-ED5E-43CF-A508-6BE60844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1C301B-239B-4407-B4E1-5E650EC6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77734D-657D-4B83-AFCE-8B7BEEDB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73E9DC-9C3C-4AAF-8960-7AA456D7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E80-6DC5-4F8E-9921-A2DBBDCD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D56617-D43D-40E7-8F77-D9EA2DDC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50C64D-2911-4FE6-A94B-6D751759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EBE040-3F18-418C-9BE8-54ACA3A2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46B07B-AF45-46AE-8281-E9A87D77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6B23EB-5BA5-4F18-B80F-737F3A39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0D94E5-AE6B-4202-B829-EF91B04F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019B24-E852-4598-8485-94316AEE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016A25-83ED-48A1-BE30-67724454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0705E7-0B32-4818-85B7-150D531F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A27C4C-6CF5-4F44-B1CF-79A6B14C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F68F-286E-4387-B5ED-732DD5D8349E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2BBF-05EA-4C9E-8029-77CB2B77AD7E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A1AF-81F1-45F9-B7AD-E5A4B116BA6E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4047-2D91-49F1-8DB1-174FF83BB15F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E85B-DFEB-4B83-8ADF-3EA318BCB187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AB16-7EAF-4F64-ACF5-B95D745AC79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61B8-17B3-4AE9-A73B-1982427D8A1E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1B0E-25E1-4E53-9D7F-D5406F18D9BF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261C-47EC-496D-926A-3D9B3499D685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http://jeroenboseu.files.wordpress.com/2009/08/eko_keurmerk_logo.jpg"/>
          <p:cNvPicPr/>
          <p:nvPr/>
        </p:nvPicPr>
        <p:blipFill>
          <a:blip r:embed="rId3"/>
          <a:stretch/>
        </p:blipFill>
        <p:spPr>
          <a:xfrm>
            <a:off x="2786040" y="3286080"/>
            <a:ext cx="3006720" cy="3286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ww.eediete.nl/keuken/pics/groenten.jpg"/>
          <p:cNvPicPr/>
          <p:nvPr/>
        </p:nvPicPr>
        <p:blipFill>
          <a:blip r:embed="rId4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te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6" descr="http://members.chello.nl/r.kuijt/images/nl_voedingsstoffen.jpg"/>
          <p:cNvPicPr/>
          <p:nvPr/>
        </p:nvPicPr>
        <p:blipFill>
          <a:blip r:embed="rId4"/>
          <a:stretch/>
        </p:blipFill>
        <p:spPr>
          <a:xfrm>
            <a:off x="571680" y="514368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456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6-02-18T14:16:27Z</dcterms:modified>
  <cp:revision>31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50;#Michel Walda;#48;#Veerle Veltman-Kappel;#38;#Pam Weerman-Hakvoort;#49;#Margo de Ket</vt:lpwstr>
  </property>
  <property fmtid="{D5CDD505-2E9C-101B-9397-08002B2CF9AE}" pid="3" name="_dlc_DocId">
    <vt:lpwstr>H7CVNQAUUZ3W-1444270466-2020</vt:lpwstr>
  </property>
  <property fmtid="{D5CDD505-2E9C-101B-9397-08002B2CF9AE}" pid="4" name="_dlc_DocIdItemGuid">
    <vt:lpwstr>8db63659-1b33-401e-a604-e07624fea5a5</vt:lpwstr>
  </property>
  <property fmtid="{D5CDD505-2E9C-101B-9397-08002B2CF9AE}" pid="5" name="_dlc_DocIdUrl">
    <vt:lpwstr>https://liveadminclusius.sharepoint.com/sites/castricum-vmbo-profielgroen/_layouts/15/DocIdRedir.aspx?ID=H7CVNQAUUZ3W-1444270466-2020, H7CVNQAUUZ3W-1444270466-2020</vt:lpwstr>
  </property>
  <property fmtid="{D5CDD505-2E9C-101B-9397-08002B2CF9AE}" pid="6" name="display_urn:schemas-microsoft-com:office:office#SharedWithUsers">
    <vt:lpwstr>Michel Walda;Veerle Veltman-Kappel;Pam Weerman-Hakvoort;Margo de Ket</vt:lpwstr>
  </property>
</Properties>
</file>