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44E-4445-40EB-A8B7-B545398C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33C-0D0C-40CA-AA7F-70E57047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604CF3-1B39-4DB8-A43D-150976E9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414AC1-1BC5-4312-8816-089C38ED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8718FF-33C4-429E-B94B-8FEAA032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113FFC-2EA4-4399-9BD0-9F627C1C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AE94AB-D7B8-4F98-9B20-0E6D8E13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64B2B8-AFFB-4DE2-ACC4-65D39880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7ECA77-DD2C-4687-88DA-CC828906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F57AE3-5849-4439-B14B-48EB907F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AD4A64-464A-47E0-9BDA-C60B2443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4003-8462-4971-A749-E8FD3D1A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3415-66A7-4C7B-8BE1-609FF322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78F56-1428-4AAD-9EEA-D6D43A8A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1DD47-E78F-484F-A118-A914E141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C6CB4-D006-4B8A-A6F6-27B26D95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8AC33-EA3A-426E-9F90-8F092A9C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092D0-A873-4A46-9ECA-D09E8E26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1D33B-6BFC-493D-BD1A-6A06C5A3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2C9CF-15A4-4172-8162-50C91FCE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5EC-8CB0-4F3A-B947-88357734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AB856-50E9-4EC3-8837-42DF0137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1D1B3-EA31-4883-8973-FC22A708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B642F-8DDE-48C7-8E77-8B0A41DD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66404-BD40-4373-8459-D8D435C6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5CCB3-F697-459F-A271-985B36D9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0318E-98F8-4A24-8D2F-1DF63483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38BAE-C88A-4717-8269-9547BD75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2F7A9-FF5E-4A64-A278-25FF71A7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D1659-9209-434E-8AAA-15AD48DE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D6417-8887-4FDC-9866-AFB12CD2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FA0-2041-432A-8CBB-DE566B39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4FABC-277C-4316-B425-03F3ECE8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DCA4B-0798-4FB7-9192-53257D1F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FF780-EF40-4E5B-ABE9-823F3126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16C85-8803-422B-8B9A-2384D738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6D55B-5701-4D51-82EF-F16FEEFF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E6E5-88D3-4EFC-8235-82932FD2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90587-DE5A-4FB7-B494-5A2ACFA9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38166-CEAB-497D-8A74-EABE1EDA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A8D02-520F-4910-8E33-88033AE1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451D29-C89E-42DB-9603-9278C73B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AC4-2A33-44F6-8A22-659B4460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252FD5-F410-49B3-8E99-DEB400D2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3D5EC-E5CA-444D-AEFE-139C3302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F59113-743D-4AAA-9B34-4CB783F1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E2BE2-2C19-42E1-9BEB-6D955D71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A6F84-B727-4E00-993B-0CDEA5B0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2EE39A-4CEF-4547-B098-A91707E8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975501-9755-4F5E-9FB9-284582B5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4050E-6026-491C-9F34-2A73FF4A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3EC4DA-AC10-414B-BE4B-7645E40A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10FC1-2C3C-4F53-B14C-01CFAC60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2723-AB9E-47EA-A016-71212A8E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ECD81-1E98-4AB7-9C1E-C620EDBA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3D35F-4A8C-44EC-B010-7D4197D6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6F0F2-FA11-4DF9-958B-47E99FE6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73874-7229-4419-B79F-A2148A01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7931B-B9B3-44F3-A1A6-CB655B03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BBD9E-6E64-4022-A65F-2CB0FE69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05ECF-6FC4-4285-992F-F176154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0D491-0C5E-4710-AFD5-FE0B5497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11976-991B-4B91-832D-D0E6B272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DEEDE-4EDD-4B84-BC3F-EABACBFC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424-1C2D-459C-860E-4B8E08BB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0BB81-9B5F-460A-BCF9-01573B03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B0E0F-A241-4977-B7DD-1531EFC4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DBB5E-1576-4927-BDCE-338A9083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37571-6BB3-486D-93D6-58BF05EB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636CF-853A-4A66-92D5-228BEF83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507DA-C2FF-4178-8ACA-2592C6A9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8DD79-5DE3-478A-B88F-1A2C0050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F9685-9437-40F6-8161-B8A293B8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338B9-BCFC-4CC5-8E79-3BE84773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78E24-95CC-49E3-9EDE-3219406D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54D-DAB3-4308-9D4E-EE43987C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2BC62-422A-4871-85EB-0E1442E0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9AE3D-5D91-4B30-805C-685E4F36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3DF73-E989-4D14-BEF8-A10EA2EC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26042-2F6F-42B9-9B22-06AE8796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0DFEE-B46A-489D-B0E9-8CF45201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3DF42-CE84-4CDF-8B20-7401D34E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82A1E-65CE-409D-B44B-4B6C25C2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2F4BA-E6FE-48BC-85A0-F2026A71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0C47B-8C1B-43F0-AC20-EB450E9C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992E0-2C7D-4D0C-83F2-62618915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3A1-BA56-4DB9-825C-F4FFFC0F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78208-B795-46C8-AE75-CD1AB173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610DE-DC1C-4558-908B-D7DEB0BC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586F2-4148-4436-8B85-DDF81F0A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F303A-53F6-43D4-AA01-47C4C8C4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B0B8B-DAD6-4DAC-BB4D-8C10C3F4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36B584-82CB-44E3-8575-7A8CE623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026574-5F7F-406E-AEFA-6EA25644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233702-5798-4A21-9FA5-094AF66B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D12342-9A9D-4BB9-9E46-99A23D10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91182E-078C-47FA-9699-CAD72FEE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962-FDCE-4923-9C9D-FEE98CB7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CDE69C-4261-469D-B2BD-DC1BA4E3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81640D-F40F-4F0C-A57E-28759553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6D0027-21D8-4E4E-981A-C1EF9918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4B4357-ECF2-42B1-866B-7A9DBEAE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6C6090-2BAF-4A40-8D54-BC104D4E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BC07CA-4454-4A1E-B194-54734FF1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53F46B-984F-4102-8B92-1C8E50C8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313F4E-716E-4030-B906-7DD1F1F2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9BC091-4CD7-4A8D-B91B-C77830C0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6D7984-9F9D-40B6-825D-ED72B6EB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B0CE-BBFB-4338-953A-EF0C396D1232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F46E-80BC-4096-828C-EB8FAC1866BB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C2CA-90A1-45DB-AE2F-344F48C9FF1E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B363-4ED1-492C-AD4A-8A9023679C43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365A-82E4-4616-B930-4C5E8F936998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F386-9E95-49B5-8DE1-8AB941DF126E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E43D-C7DC-4822-9445-2B4D8EA9E08E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EB56-F8D1-4250-B5AB-966C765364C9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EA80-84AA-43B9-BACC-D3FAAFA68CEA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http://jeroenboseu.files.wordpress.com/2009/08/eko_keurmerk_logo.jpg"/>
          <p:cNvPicPr/>
          <p:nvPr/>
        </p:nvPicPr>
        <p:blipFill>
          <a:blip r:embed="rId3"/>
          <a:stretch/>
        </p:blipFill>
        <p:spPr>
          <a:xfrm>
            <a:off x="2786040" y="3286080"/>
            <a:ext cx="3006720" cy="3286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ww.eediete.nl/keuken/pics/groenten.jpg"/>
          <p:cNvPicPr/>
          <p:nvPr/>
        </p:nvPicPr>
        <p:blipFill>
          <a:blip r:embed="rId4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te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6" descr="http://members.chello.nl/r.kuijt/images/nl_voedingsstoffen.jpg"/>
          <p:cNvPicPr/>
          <p:nvPr/>
        </p:nvPicPr>
        <p:blipFill>
          <a:blip r:embed="rId4"/>
          <a:stretch/>
        </p:blipFill>
        <p:spPr>
          <a:xfrm>
            <a:off x="571680" y="514368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456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6-02-18T14:16:27Z</dcterms:modified>
  <cp:revision>31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50;#Michel Walda;#48;#Veerle Veltman-Kappel;#38;#Pam Weerman-Hakvoort;#49;#Margo de Ket</vt:lpwstr>
  </property>
  <property fmtid="{D5CDD505-2E9C-101B-9397-08002B2CF9AE}" pid="3" name="_dlc_DocId">
    <vt:lpwstr>H7CVNQAUUZ3W-1444270466-2020</vt:lpwstr>
  </property>
  <property fmtid="{D5CDD505-2E9C-101B-9397-08002B2CF9AE}" pid="4" name="_dlc_DocIdItemGuid">
    <vt:lpwstr>8db63659-1b33-401e-a604-e07624fea5a5</vt:lpwstr>
  </property>
  <property fmtid="{D5CDD505-2E9C-101B-9397-08002B2CF9AE}" pid="5" name="_dlc_DocIdUrl">
    <vt:lpwstr>https://liveadminclusius.sharepoint.com/sites/castricum-vmbo-profielgroen/_layouts/15/DocIdRedir.aspx?ID=H7CVNQAUUZ3W-1444270466-2020, H7CVNQAUUZ3W-1444270466-2020</vt:lpwstr>
  </property>
  <property fmtid="{D5CDD505-2E9C-101B-9397-08002B2CF9AE}" pid="6" name="display_urn:schemas-microsoft-com:office:office#SharedWithUsers">
    <vt:lpwstr>Michel Walda;Veerle Veltman-Kappel;Pam Weerman-Hakvoort;Margo de Ket</vt:lpwstr>
  </property>
</Properties>
</file>