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2.jpeg" ContentType="image/jpeg"/>
  <Override PartName="/ppt/media/image13.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3.jpeg" ContentType="image/jpeg"/>
  <Override PartName="/ppt/media/image15.png" ContentType="image/pn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C4F4-3A4F-4F26-8579-4F6149B3BBF9}"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853920" y="744480"/>
            <a:ext cx="4961160" cy="3722760"/>
          </a:xfrm>
          <a:prstGeom prst="rect">
            <a:avLst/>
          </a:prstGeom>
          <a:ln w="0">
            <a:noFill/>
          </a:ln>
        </p:spPr>
      </p:sp>
      <p:sp>
        <p:nvSpPr>
          <p:cNvPr id="57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4BE4-39F5-4E79-99BD-5F3F51300A5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853920" y="744480"/>
            <a:ext cx="4961160" cy="3722760"/>
          </a:xfrm>
          <a:prstGeom prst="rect">
            <a:avLst/>
          </a:prstGeom>
          <a:ln w="0">
            <a:noFill/>
          </a:ln>
        </p:spPr>
      </p:sp>
      <p:sp>
        <p:nvSpPr>
          <p:cNvPr id="59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853920" y="744480"/>
            <a:ext cx="4961160" cy="3722760"/>
          </a:xfrm>
          <a:prstGeom prst="rect">
            <a:avLst/>
          </a:prstGeom>
          <a:ln w="0">
            <a:noFill/>
          </a:ln>
        </p:spPr>
      </p:sp>
      <p:sp>
        <p:nvSpPr>
          <p:cNvPr id="59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922D-DD63-4172-84E2-232B6D7A369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853920" y="744480"/>
            <a:ext cx="4961160" cy="3722760"/>
          </a:xfrm>
          <a:prstGeom prst="rect">
            <a:avLst/>
          </a:prstGeom>
          <a:ln w="0">
            <a:noFill/>
          </a:ln>
        </p:spPr>
      </p:sp>
      <p:sp>
        <p:nvSpPr>
          <p:cNvPr id="59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2C84-8D75-4871-B039-7428AF22376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853920" y="744480"/>
            <a:ext cx="4961160" cy="3722760"/>
          </a:xfrm>
          <a:prstGeom prst="rect">
            <a:avLst/>
          </a:prstGeom>
          <a:ln w="0">
            <a:noFill/>
          </a:ln>
        </p:spPr>
      </p:sp>
      <p:sp>
        <p:nvSpPr>
          <p:cNvPr id="60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853920" y="744480"/>
            <a:ext cx="4961160" cy="3722760"/>
          </a:xfrm>
          <a:prstGeom prst="rect">
            <a:avLst/>
          </a:prstGeom>
          <a:ln w="0">
            <a:noFill/>
          </a:ln>
        </p:spPr>
      </p:sp>
      <p:sp>
        <p:nvSpPr>
          <p:cNvPr id="60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853920" y="744480"/>
            <a:ext cx="4961160" cy="3722760"/>
          </a:xfrm>
          <a:prstGeom prst="rect">
            <a:avLst/>
          </a:prstGeom>
          <a:ln w="0">
            <a:noFill/>
          </a:ln>
        </p:spPr>
      </p:sp>
      <p:sp>
        <p:nvSpPr>
          <p:cNvPr id="6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853920" y="744480"/>
            <a:ext cx="4961160" cy="3722760"/>
          </a:xfrm>
          <a:prstGeom prst="rect">
            <a:avLst/>
          </a:prstGeom>
          <a:ln w="0">
            <a:noFill/>
          </a:ln>
        </p:spPr>
      </p:sp>
      <p:sp>
        <p:nvSpPr>
          <p:cNvPr id="6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GDA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853920" y="744480"/>
            <a:ext cx="4961160" cy="3722760"/>
          </a:xfrm>
          <a:prstGeom prst="rect">
            <a:avLst/>
          </a:prstGeom>
          <a:ln w="0">
            <a:noFill/>
          </a:ln>
        </p:spPr>
      </p:sp>
      <p:sp>
        <p:nvSpPr>
          <p:cNvPr id="6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853920" y="744480"/>
            <a:ext cx="4961160" cy="3722760"/>
          </a:xfrm>
          <a:prstGeom prst="rect">
            <a:avLst/>
          </a:prstGeom>
          <a:ln w="0">
            <a:noFill/>
          </a:ln>
        </p:spPr>
      </p:sp>
      <p:sp>
        <p:nvSpPr>
          <p:cNvPr id="61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853920" y="744480"/>
            <a:ext cx="4961160" cy="3722760"/>
          </a:xfrm>
          <a:prstGeom prst="rect">
            <a:avLst/>
          </a:prstGeom>
          <a:ln w="0">
            <a:noFill/>
          </a:ln>
        </p:spPr>
      </p:sp>
      <p:sp>
        <p:nvSpPr>
          <p:cNvPr id="57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A9E4-11F6-4FC5-AB74-E859E1B4778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853920" y="744480"/>
            <a:ext cx="4961160" cy="3722760"/>
          </a:xfrm>
          <a:prstGeom prst="rect">
            <a:avLst/>
          </a:prstGeom>
          <a:ln w="0">
            <a:noFill/>
          </a:ln>
        </p:spPr>
      </p:sp>
      <p:sp>
        <p:nvSpPr>
          <p:cNvPr id="61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B89F-F7D3-4D9E-AA7D-98603624680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853920" y="744480"/>
            <a:ext cx="4961160" cy="3722760"/>
          </a:xfrm>
          <a:prstGeom prst="rect">
            <a:avLst/>
          </a:prstGeom>
          <a:ln w="0">
            <a:noFill/>
          </a:ln>
        </p:spPr>
      </p:sp>
      <p:sp>
        <p:nvSpPr>
          <p:cNvPr id="61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1853-0F1E-408E-A246-C93E94514C2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853920" y="744480"/>
            <a:ext cx="4961160" cy="3722760"/>
          </a:xfrm>
          <a:prstGeom prst="rect">
            <a:avLst/>
          </a:prstGeom>
          <a:ln w="0">
            <a:noFill/>
          </a:ln>
        </p:spPr>
      </p:sp>
      <p:sp>
        <p:nvSpPr>
          <p:cNvPr id="61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06A4-47DD-4DF6-B729-BDB90DC9347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853920" y="744480"/>
            <a:ext cx="4961160" cy="3722760"/>
          </a:xfrm>
          <a:prstGeom prst="rect">
            <a:avLst/>
          </a:prstGeom>
          <a:ln w="0">
            <a:noFill/>
          </a:ln>
        </p:spPr>
      </p:sp>
      <p:sp>
        <p:nvSpPr>
          <p:cNvPr id="62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357B-081A-4579-BB85-08659B8A29C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853920" y="744480"/>
            <a:ext cx="4961160" cy="3722760"/>
          </a:xfrm>
          <a:prstGeom prst="rect">
            <a:avLst/>
          </a:prstGeom>
          <a:ln w="0">
            <a:noFill/>
          </a:ln>
        </p:spPr>
      </p:sp>
      <p:sp>
        <p:nvSpPr>
          <p:cNvPr id="62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7A5B-D43D-4542-909F-4FB5A8A2923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853920" y="744480"/>
            <a:ext cx="4961160" cy="3722760"/>
          </a:xfrm>
          <a:prstGeom prst="rect">
            <a:avLst/>
          </a:prstGeom>
          <a:ln w="0">
            <a:noFill/>
          </a:ln>
        </p:spPr>
      </p:sp>
      <p:sp>
        <p:nvSpPr>
          <p:cNvPr id="62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3.1, 3.2 en 3.3 (dranken vergelijken)</a:t>
            </a:r>
            <a:endParaRPr b="0" lang="en-US" sz="1200" spc="-1" strike="noStrike">
              <a:solidFill>
                <a:srgbClr val="000000"/>
              </a:solidFill>
              <a:latin typeface="Calibri"/>
            </a:endParaRPr>
          </a:p>
        </p:txBody>
      </p:sp>
      <p:sp>
        <p:nvSpPr>
          <p:cNvPr id="62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61B0-84B7-42A0-9C0A-D724FA0992D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853920" y="744480"/>
            <a:ext cx="4961160" cy="3722760"/>
          </a:xfrm>
          <a:prstGeom prst="rect">
            <a:avLst/>
          </a:prstGeom>
          <a:ln w="0">
            <a:noFill/>
          </a:ln>
        </p:spPr>
      </p:sp>
      <p:sp>
        <p:nvSpPr>
          <p:cNvPr id="63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38D4-AF5E-447A-9129-CF3951567D2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853920" y="744480"/>
            <a:ext cx="4961160" cy="3722760"/>
          </a:xfrm>
          <a:prstGeom prst="rect">
            <a:avLst/>
          </a:prstGeom>
          <a:ln w="0">
            <a:noFill/>
          </a:ln>
        </p:spPr>
      </p:sp>
      <p:sp>
        <p:nvSpPr>
          <p:cNvPr id="6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642A-0002-41B3-9489-A56128679B6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853920" y="744480"/>
            <a:ext cx="4961160" cy="3722760"/>
          </a:xfrm>
          <a:prstGeom prst="rect">
            <a:avLst/>
          </a:prstGeom>
          <a:ln w="0">
            <a:noFill/>
          </a:ln>
        </p:spPr>
      </p:sp>
      <p:sp>
        <p:nvSpPr>
          <p:cNvPr id="63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4.1, 4.2 en 4.3 (tussendoortjes vergelijken)</a:t>
            </a:r>
            <a:endParaRPr b="0" lang="en-US" sz="1200" spc="-1" strike="noStrike">
              <a:solidFill>
                <a:srgbClr val="000000"/>
              </a:solidFill>
              <a:latin typeface="Calibri"/>
            </a:endParaRPr>
          </a:p>
        </p:txBody>
      </p:sp>
      <p:sp>
        <p:nvSpPr>
          <p:cNvPr id="63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6842-9CDE-4AC3-B739-A208A313CFA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853920" y="744480"/>
            <a:ext cx="4961160" cy="3722760"/>
          </a:xfrm>
          <a:prstGeom prst="rect">
            <a:avLst/>
          </a:prstGeom>
          <a:ln w="0">
            <a:noFill/>
          </a:ln>
        </p:spPr>
      </p:sp>
      <p:sp>
        <p:nvSpPr>
          <p:cNvPr id="63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5.1, 5.2 en 5.3 (de actieve voedingsdriehoek) en werkblad 6 (mijn dranken en tussendoortj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8FF7-A1C9-4765-A1EE-62A908126E7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853920" y="744480"/>
            <a:ext cx="4961160" cy="3722760"/>
          </a:xfrm>
          <a:prstGeom prst="rect">
            <a:avLst/>
          </a:prstGeom>
          <a:ln w="0">
            <a:noFill/>
          </a:ln>
        </p:spPr>
      </p:sp>
      <p:sp>
        <p:nvSpPr>
          <p:cNvPr id="58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FEC1-1BF9-4141-B760-158AC06B9DC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853920" y="744480"/>
            <a:ext cx="4961160" cy="3722760"/>
          </a:xfrm>
          <a:prstGeom prst="rect">
            <a:avLst/>
          </a:prstGeom>
          <a:ln w="0">
            <a:noFill/>
          </a:ln>
        </p:spPr>
      </p:sp>
      <p:sp>
        <p:nvSpPr>
          <p:cNvPr id="58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853920" y="744480"/>
            <a:ext cx="4961160" cy="3722760"/>
          </a:xfrm>
          <a:prstGeom prst="rect">
            <a:avLst/>
          </a:prstGeom>
          <a:ln w="0">
            <a:noFill/>
          </a:ln>
        </p:spPr>
      </p:sp>
      <p:sp>
        <p:nvSpPr>
          <p:cNvPr id="58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1.1 en 1.2 (onderdelen van het etiket) en 2.1 en 2.2 (analyse van een verpak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853920" y="744480"/>
            <a:ext cx="4961160" cy="3722760"/>
          </a:xfrm>
          <a:prstGeom prst="rect">
            <a:avLst/>
          </a:prstGeom>
          <a:ln w="0">
            <a:noFill/>
          </a:ln>
        </p:spPr>
      </p:sp>
      <p:sp>
        <p:nvSpPr>
          <p:cNvPr id="58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853920" y="744480"/>
            <a:ext cx="4961160" cy="3722760"/>
          </a:xfrm>
          <a:prstGeom prst="rect">
            <a:avLst/>
          </a:prstGeom>
          <a:ln w="0">
            <a:noFill/>
          </a:ln>
        </p:spPr>
      </p:sp>
      <p:sp>
        <p:nvSpPr>
          <p:cNvPr id="59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64D10-AAB3-4AC5-8AD2-898356826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B02D0-9B3D-4DC0-8ED7-80A3CEFBE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CD985D-BC0B-48EB-A9F4-C579F98772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8E7778-525B-4C7F-9644-CD1FBA9577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408C19-9CDA-48EC-9B0C-B469093E13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B371CB-5C50-49C3-A5CD-5337D18278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5EEE12-D2BA-491E-ABDA-6A2465E22D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6F277E-2E18-43B8-8C31-F4734105FA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B0E8FA-56E9-4B0B-884E-E9BA9B765B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AE9003-843E-41F7-8636-A0873C2942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0DF932-889B-4C48-BB1D-EFE854E3CD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A4784B-45F6-4782-A424-1D33CDEB8CC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6DC14-D741-478A-8832-F7AC89D22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3773B4-DA55-44DD-BF93-02E371B2E9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E2B4EE-AC0D-437C-802D-952981C8A3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AB72DA-6858-4198-B587-13EA10224B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8D3158-3DF6-488C-8A0E-5F4323F58A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1AE086-B444-4B6D-99F0-A74CF44115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EEDDB5-CF1B-4EB7-ABF7-A6504BEE3A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F3B37B-336E-46F3-B2BF-05815CA5CF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8E1B9C-7647-4DAB-8A30-96CF465868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85D116-155E-4B26-BAE7-CE16F32CFE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A5D171C-87C7-4FF5-AA5F-67DA2AB6FD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23CCC-9A23-49C5-BAAD-1EDED38AD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EDE668-2565-49B2-9B96-E4CE82EA26D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FEFAFFF-1510-4E96-AC2E-24131A44D6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D1B013-1EE6-4ED0-ABFD-B6640380D3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8AA50D-D44F-4592-98C0-7C26EE82AD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809BFD-F2AE-449C-99A1-34A940C0F9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6DC56B-AF4A-43DB-A31B-89EFC013B6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73EAA5-8DFF-4F89-8F7B-FC9679869E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EACE4C-BCF2-4EBA-8FB4-4D2950F2D5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809E3D-BF4F-437D-BAFE-55AB121461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5CD8D8-24B9-4609-B795-FEF6C6B0CD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1FA9D-A862-4AED-A7EB-EE8D365D2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FF4D62-FC28-450C-A724-F93A9B9ECE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62F13AD-6B35-494C-ACDC-D9B77248809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530405-9839-450E-B610-EDAF9DC194A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036A802-3AC7-4332-AB2A-BCA10C90A1E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3C0C31-DCC2-4E99-9EB2-A1133D9A6B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8426CC-E1A2-4A6E-A8D4-3664E9AA04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BB9523-9408-4D0A-BCFA-BAE47E8B4A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AA8E00-B555-4932-9639-D69DCFE289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7BD525-1AB1-44F6-90D2-558E6B40FB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0D1A7C-B93A-4B31-B568-B44734C18D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13378-8EC5-4494-831A-3B97814C2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8D0CBD-42D9-480A-8583-371A3A1CB7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C9AA1C-348A-47DD-9F86-31F99A7D9D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5FCE80-6E7B-46FF-B466-8C2D677812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9EA3EEB-6DF8-45BA-AAD1-CB2942B5C00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C008613-D071-46AD-90D7-7638C45A6AD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43513-3FF2-4026-AD46-9F1A7C7C0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B1080-2A86-40E1-80A2-786AAB4D8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70A1D-57F9-4C71-8151-0B3D2871C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A27F1-07F7-4D49-BB02-C166F0F11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FBDD4-5737-4303-B2CD-41FA4C722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44A3A-791E-451A-8EB5-3D6654ABA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F27BB-E6F6-4F30-97F4-197B63518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83AD5-EFA2-43A6-83DB-9E54FADC0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EFE2E-A1A1-4772-9264-3F209F17D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6E7F4-F2AD-4765-B32A-2AD545804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8C06A-1FFE-4801-944E-724D4EBF1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EFADDA-E689-4132-857F-3994387BB8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B633D-0A7B-4DCC-8E68-D2FA9C545F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BBC5D4-CBDF-450B-839F-5738DB51D0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FDB1B3-3FB2-4D55-AFE7-E20503D233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2A1200-DB22-4035-8E7B-0BF0CE8EC6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71FF2-7D37-4B60-A596-BA7E7DA47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F5F0E3-2F90-4058-AD7C-1D019AB6FC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DBBE78-151F-4969-A97E-6610AC1F62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A8493F-9830-46F1-9101-014674AD87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821359-169D-4B92-A236-147B9B8E0D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13B36F-5FA3-4D92-854E-B6F7491249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E5F5D7-8B52-4429-8A35-D7ECE18139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311F52-C6C6-4929-8836-210F12903D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414E56-C462-41C7-846E-8B1A2CEFD7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3BA5CB-D77F-4B12-99D7-55DD578A0B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B3EDB1-2FAA-4156-8ED8-6E27929D2A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1287F-16EC-4F9F-82F1-84782C1B1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87E43A-08D6-4AD5-A70B-3E9A5398B6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4805FD-7A6F-4A59-9093-8F6E6A3FE2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3055E2-539B-4494-A715-234AD77BC3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0E6FE-0A3B-433D-8090-7B62E28C3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374550-0D80-42FB-97B9-445ACA0A95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E0D4A7-BE14-41AB-8F7F-9FF9B0C037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C638E4-3021-4FB6-BE5A-2FFF2662A2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B2D680-FC62-47E6-96AD-C0247734EB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63167C-87C3-4F33-8071-DFC9A90D58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49577A-F5B4-4237-9F50-74A0A0F0FC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10AAD-6550-4827-9D21-0E4894C92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75E3B4-5EE4-413E-A5CB-752A1F01FD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6908ED-D65C-498B-A08E-013028C785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71C795-2B52-4AB3-92E0-C548AF3D3C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15AF2B-136B-4148-92B5-47F81B6A30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09AAD1-633B-4F43-A3C8-C924A94563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672981-194F-4349-AC77-14B3C16803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30DF5F-5CD9-44B2-963D-E04FE4C710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E7871E-D704-4A43-9AA6-F889CA7E74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D16F2B-EC91-407D-9104-7D80A285B3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FFF320-F558-4E70-84E5-5126AB0BA8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13B80-0018-4D59-8661-298750B47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FC2A99-B91D-40E9-9EA6-383F71582B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8248CD-BF3B-4DC5-AB40-3A04483BB0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D26B0B-7B9A-420F-91B4-7FA912D687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30D99D-0FE6-4F75-BC7B-315AA82C4A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428592-611F-4651-91A1-A97C3BF192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C0F393-A5FF-441A-930B-5D26188A48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9FC258-D22E-4B24-94FA-79971155CA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9F7A97-5B4E-4177-A023-E9D6C874DE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1A85C1-7102-49BF-9E17-1204E0ADB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21B44C-731B-4577-A8E5-D53816ACB9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B1BFF-DD9B-4CD2-B7EF-7B131D3A0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29F137-EDC0-4E21-AE35-95E3A61229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C58F98-274D-49B2-9E59-7BAF3B0E01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F81A69-0C41-4353-AB40-06BC2567A5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E7F7F0-78FD-43A5-85B3-56DF403D67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F4A0F6-ACFF-4546-BE9D-6BB690DFBB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1B297A-0685-4005-B9E4-C265F3215C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24885D-A1DE-41A5-9FE6-4801E23B28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DA3B93-F4D2-4954-B3F7-4656CBE62D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7CD15E-D66C-4FA7-8808-8A72DA94A6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E2A2F8-2A38-4A9E-B918-F7B5EBB9A1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141E0-5E57-4111-835D-C85FD5896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10DFAA-D812-4472-9D70-E36E13CF41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E26BC3-76B2-4C56-8D07-544D316012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E21997-081C-4BAC-B23B-B39920D0BE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FCC399-1A35-41CA-AAFC-BAC3241043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F7D3A9-D25F-431E-B57F-866A70513B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5F9AB3-0C41-4ADA-A94B-F5C4CC4A95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A07D53-CBCC-4015-8A0F-3E8712840E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CC24B5-DC4B-42ED-A09A-79864F73F2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B98CAE-D1BB-47B5-AC92-4085C78A5E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330319-1EE1-4742-B0D0-3104900BCC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F25FC-54EB-4AB3-8272-77F2BE8ED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344929-2EB4-40F2-9378-4378768144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32C6D7-D7E6-4BAA-8479-A7F1E10710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FC3C78-F959-433A-BDBE-F7CEAE2E49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D67EED-6B0D-4956-B3D7-3F5D1D7DE4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8DA1A9-F2A7-481A-9922-4BB1B28A9D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23A8D4-118A-4F5E-8AAC-0476914560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D089EB-B8EB-48DE-8D44-05942C092F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921019-3E21-43D8-80F9-C3C7572DAE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5C7623-991F-4D43-9B41-D8688152E1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521D15-BE4D-4F05-AAAB-F5444B2B9FB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F42F-874B-4FC6-9487-8A1CBDF6109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EA44-1AFE-4196-B0AA-05FF9AE7F4C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A988-83DE-4766-9646-DD535426B20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BD21-4E08-4CD1-A3DE-03269343656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8600-77ED-4B4A-8C41-D73A1E8453F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9B17-6E5F-440F-92A4-36ADCD17694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5789-F016-4CC8-9332-FA4C35766E1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806F-5166-4CC9-BB29-E417B5702F1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4552-1B39-45AC-BC2F-65C203D8891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90CB-6F43-48AB-97F8-19B90CBDF5E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9008-4332-400C-A91C-5DC560E5467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E3F4-69F2-495F-98F2-E62D0BCD433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Picture 2" descr=""/>
          <p:cNvPicPr/>
          <p:nvPr/>
        </p:nvPicPr>
        <p:blipFill>
          <a:blip r:embed="rId1"/>
          <a:stretch/>
        </p:blipFill>
        <p:spPr>
          <a:xfrm>
            <a:off x="2411280" y="1773360"/>
            <a:ext cx="4673880" cy="345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2"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3" name="Picture 2" descr=""/>
          <p:cNvPicPr/>
          <p:nvPr/>
        </p:nvPicPr>
        <p:blipFill>
          <a:blip r:embed="rId1"/>
          <a:stretch/>
        </p:blipFill>
        <p:spPr>
          <a:xfrm>
            <a:off x="4500720" y="2781360"/>
            <a:ext cx="1268280" cy="2027160"/>
          </a:xfrm>
          <a:prstGeom prst="rect">
            <a:avLst/>
          </a:prstGeom>
          <a:ln w="0">
            <a:noFill/>
          </a:ln>
        </p:spPr>
      </p:pic>
      <p:pic>
        <p:nvPicPr>
          <p:cNvPr id="554"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7"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0" name="Picture 6" descr="logo vig"/>
          <p:cNvPicPr/>
          <p:nvPr/>
        </p:nvPicPr>
        <p:blipFill>
          <a:blip r:embed="rId1"/>
          <a:stretch/>
        </p:blipFill>
        <p:spPr>
          <a:xfrm>
            <a:off x="8172360" y="5300640"/>
            <a:ext cx="863640" cy="1434960"/>
          </a:xfrm>
          <a:prstGeom prst="rect">
            <a:avLst/>
          </a:prstGeom>
          <a:ln w="0">
            <a:noFill/>
          </a:ln>
        </p:spPr>
      </p:pic>
      <p:pic>
        <p:nvPicPr>
          <p:cNvPr id="561"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69"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1"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hthoek 2"/>
          <p:cNvSpPr/>
          <p:nvPr/>
        </p:nvSpPr>
        <p:spPr>
          <a:xfrm>
            <a:off x="250920" y="404640"/>
            <a:ext cx="8497800" cy="226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Bijkomende oefening:</a:t>
            </a:r>
            <a:endParaRPr b="0" lang="en-US" sz="40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verpakkingen of producten in of bij de juiste groep van schijf van 5.</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3" name="Afbeelding 1" descr=""/>
          <p:cNvPicPr/>
          <p:nvPr/>
        </p:nvPicPr>
        <p:blipFill>
          <a:blip r:embed="rId1"/>
          <a:stretch/>
        </p:blipFill>
        <p:spPr>
          <a:xfrm>
            <a:off x="2050920" y="2060640"/>
            <a:ext cx="4276800" cy="40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ADH: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4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ADH: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50864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Lobke Spruijt</cp:lastModifiedBy>
  <cp:lastPrinted>2012-02-03T12:52:21Z</cp:lastPrinted>
  <dcterms:modified xsi:type="dcterms:W3CDTF">2016-01-07T15:37:51Z</dcterms:modified>
  <cp:revision>52</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