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2.jpeg" ContentType="image/jpeg"/>
  <Override PartName="/ppt/media/image13.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3.jpeg" ContentType="image/jpeg"/>
  <Override PartName="/ppt/media/image15.png" ContentType="image/png"/>
  <Override PartName="/ppt/media/image6.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2CAC-4C30-4528-968E-8114D57DCE9C}"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853920" y="744480"/>
            <a:ext cx="4961160" cy="3722760"/>
          </a:xfrm>
          <a:prstGeom prst="rect">
            <a:avLst/>
          </a:prstGeom>
          <a:ln w="0">
            <a:noFill/>
          </a:ln>
        </p:spPr>
      </p:sp>
      <p:sp>
        <p:nvSpPr>
          <p:cNvPr id="57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D94FC-74DA-49BE-A53A-1E69323AC2D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853920" y="744480"/>
            <a:ext cx="4961160" cy="3722760"/>
          </a:xfrm>
          <a:prstGeom prst="rect">
            <a:avLst/>
          </a:prstGeom>
          <a:ln w="0">
            <a:noFill/>
          </a:ln>
        </p:spPr>
      </p:sp>
      <p:sp>
        <p:nvSpPr>
          <p:cNvPr id="59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853920" y="744480"/>
            <a:ext cx="4961160" cy="3722760"/>
          </a:xfrm>
          <a:prstGeom prst="rect">
            <a:avLst/>
          </a:prstGeom>
          <a:ln w="0">
            <a:noFill/>
          </a:ln>
        </p:spPr>
      </p:sp>
      <p:sp>
        <p:nvSpPr>
          <p:cNvPr id="59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D268F-9730-4E54-9E6A-5EA5EB0D6D5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853920" y="744480"/>
            <a:ext cx="4961160" cy="3722760"/>
          </a:xfrm>
          <a:prstGeom prst="rect">
            <a:avLst/>
          </a:prstGeom>
          <a:ln w="0">
            <a:noFill/>
          </a:ln>
        </p:spPr>
      </p:sp>
      <p:sp>
        <p:nvSpPr>
          <p:cNvPr id="59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CBA43-0E93-4E12-B637-1B7474C712D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853920" y="744480"/>
            <a:ext cx="4961160" cy="3722760"/>
          </a:xfrm>
          <a:prstGeom prst="rect">
            <a:avLst/>
          </a:prstGeom>
          <a:ln w="0">
            <a:noFill/>
          </a:ln>
        </p:spPr>
      </p:sp>
      <p:sp>
        <p:nvSpPr>
          <p:cNvPr id="60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853920" y="744480"/>
            <a:ext cx="4961160" cy="3722760"/>
          </a:xfrm>
          <a:prstGeom prst="rect">
            <a:avLst/>
          </a:prstGeom>
          <a:ln w="0">
            <a:noFill/>
          </a:ln>
        </p:spPr>
      </p:sp>
      <p:sp>
        <p:nvSpPr>
          <p:cNvPr id="602"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853920" y="744480"/>
            <a:ext cx="4961160" cy="3722760"/>
          </a:xfrm>
          <a:prstGeom prst="rect">
            <a:avLst/>
          </a:prstGeom>
          <a:ln w="0">
            <a:noFill/>
          </a:ln>
        </p:spPr>
      </p:sp>
      <p:sp>
        <p:nvSpPr>
          <p:cNvPr id="60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853920" y="744480"/>
            <a:ext cx="4961160" cy="3722760"/>
          </a:xfrm>
          <a:prstGeom prst="rect">
            <a:avLst/>
          </a:prstGeom>
          <a:ln w="0">
            <a:noFill/>
          </a:ln>
        </p:spPr>
      </p:sp>
      <p:sp>
        <p:nvSpPr>
          <p:cNvPr id="60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GDA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853920" y="744480"/>
            <a:ext cx="4961160" cy="3722760"/>
          </a:xfrm>
          <a:prstGeom prst="rect">
            <a:avLst/>
          </a:prstGeom>
          <a:ln w="0">
            <a:noFill/>
          </a:ln>
        </p:spPr>
      </p:sp>
      <p:sp>
        <p:nvSpPr>
          <p:cNvPr id="60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853920" y="744480"/>
            <a:ext cx="4961160" cy="3722760"/>
          </a:xfrm>
          <a:prstGeom prst="rect">
            <a:avLst/>
          </a:prstGeom>
          <a:ln w="0">
            <a:noFill/>
          </a:ln>
        </p:spPr>
      </p:sp>
      <p:sp>
        <p:nvSpPr>
          <p:cNvPr id="61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853920" y="744480"/>
            <a:ext cx="4961160" cy="3722760"/>
          </a:xfrm>
          <a:prstGeom prst="rect">
            <a:avLst/>
          </a:prstGeom>
          <a:ln w="0">
            <a:noFill/>
          </a:ln>
        </p:spPr>
      </p:sp>
      <p:sp>
        <p:nvSpPr>
          <p:cNvPr id="57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D3573-8531-44BB-873F-2EBDC84FBF6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853920" y="744480"/>
            <a:ext cx="4961160" cy="3722760"/>
          </a:xfrm>
          <a:prstGeom prst="rect">
            <a:avLst/>
          </a:prstGeom>
          <a:ln w="0">
            <a:noFill/>
          </a:ln>
        </p:spPr>
      </p:sp>
      <p:sp>
        <p:nvSpPr>
          <p:cNvPr id="61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91A9-1342-4E22-99FF-0071188F687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853920" y="744480"/>
            <a:ext cx="4961160" cy="3722760"/>
          </a:xfrm>
          <a:prstGeom prst="rect">
            <a:avLst/>
          </a:prstGeom>
          <a:ln w="0">
            <a:noFill/>
          </a:ln>
        </p:spPr>
      </p:sp>
      <p:sp>
        <p:nvSpPr>
          <p:cNvPr id="61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CF022-C6E3-489A-9524-669DA5C4D60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853920" y="744480"/>
            <a:ext cx="4961160" cy="3722760"/>
          </a:xfrm>
          <a:prstGeom prst="rect">
            <a:avLst/>
          </a:prstGeom>
          <a:ln w="0">
            <a:noFill/>
          </a:ln>
        </p:spPr>
      </p:sp>
      <p:sp>
        <p:nvSpPr>
          <p:cNvPr id="61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9"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9BC4F-D6B2-41E9-9F29-8019B1C836A5}"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853920" y="744480"/>
            <a:ext cx="4961160" cy="3722760"/>
          </a:xfrm>
          <a:prstGeom prst="rect">
            <a:avLst/>
          </a:prstGeom>
          <a:ln w="0">
            <a:noFill/>
          </a:ln>
        </p:spPr>
      </p:sp>
      <p:sp>
        <p:nvSpPr>
          <p:cNvPr id="62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3093A-C55A-40A0-9725-E2C14C50045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853920" y="744480"/>
            <a:ext cx="4961160" cy="3722760"/>
          </a:xfrm>
          <a:prstGeom prst="rect">
            <a:avLst/>
          </a:prstGeom>
          <a:ln w="0">
            <a:noFill/>
          </a:ln>
        </p:spPr>
      </p:sp>
      <p:sp>
        <p:nvSpPr>
          <p:cNvPr id="62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7F327-3E60-455D-8BEB-13EF282F0E2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853920" y="744480"/>
            <a:ext cx="4961160" cy="3722760"/>
          </a:xfrm>
          <a:prstGeom prst="rect">
            <a:avLst/>
          </a:prstGeom>
          <a:ln w="0">
            <a:noFill/>
          </a:ln>
        </p:spPr>
      </p:sp>
      <p:sp>
        <p:nvSpPr>
          <p:cNvPr id="62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3.1, 3.2 en 3.3 (dranken vergelijken)</a:t>
            </a:r>
            <a:endParaRPr b="0" lang="en-US" sz="1200" spc="-1" strike="noStrike">
              <a:solidFill>
                <a:srgbClr val="000000"/>
              </a:solidFill>
              <a:latin typeface="Calibri"/>
            </a:endParaRPr>
          </a:p>
        </p:txBody>
      </p:sp>
      <p:sp>
        <p:nvSpPr>
          <p:cNvPr id="62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5E505-F904-470D-A638-62C5AFCA4B6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853920" y="744480"/>
            <a:ext cx="4961160" cy="3722760"/>
          </a:xfrm>
          <a:prstGeom prst="rect">
            <a:avLst/>
          </a:prstGeom>
          <a:ln w="0">
            <a:noFill/>
          </a:ln>
        </p:spPr>
      </p:sp>
      <p:sp>
        <p:nvSpPr>
          <p:cNvPr id="63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7A65B-DA5C-4DB2-96E6-FBAA15A8DDD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853920" y="744480"/>
            <a:ext cx="4961160" cy="3722760"/>
          </a:xfrm>
          <a:prstGeom prst="rect">
            <a:avLst/>
          </a:prstGeom>
          <a:ln w="0">
            <a:noFill/>
          </a:ln>
        </p:spPr>
      </p:sp>
      <p:sp>
        <p:nvSpPr>
          <p:cNvPr id="63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3E0E4-673D-46AF-911F-3BF76AC96F6D}"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853920" y="744480"/>
            <a:ext cx="4961160" cy="3722760"/>
          </a:xfrm>
          <a:prstGeom prst="rect">
            <a:avLst/>
          </a:prstGeom>
          <a:ln w="0">
            <a:noFill/>
          </a:ln>
        </p:spPr>
      </p:sp>
      <p:sp>
        <p:nvSpPr>
          <p:cNvPr id="63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4.1, 4.2 en 4.3 (tussendoortjes vergelijken)</a:t>
            </a:r>
            <a:endParaRPr b="0" lang="en-US" sz="1200" spc="-1" strike="noStrike">
              <a:solidFill>
                <a:srgbClr val="000000"/>
              </a:solidFill>
              <a:latin typeface="Calibri"/>
            </a:endParaRPr>
          </a:p>
        </p:txBody>
      </p:sp>
      <p:sp>
        <p:nvSpPr>
          <p:cNvPr id="63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00507-8D00-4F1C-9CFB-4245DCF2047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853920" y="744480"/>
            <a:ext cx="4961160" cy="3722760"/>
          </a:xfrm>
          <a:prstGeom prst="rect">
            <a:avLst/>
          </a:prstGeom>
          <a:ln w="0">
            <a:noFill/>
          </a:ln>
        </p:spPr>
      </p:sp>
      <p:sp>
        <p:nvSpPr>
          <p:cNvPr id="63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5.1, 5.2 en 5.3 (de actieve voedingsdriehoek) en werkblad 6 (mijn dranken en tussendoortj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2114C-AC2A-45E8-BFF5-4A6FFB3CAA2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853920" y="744480"/>
            <a:ext cx="4961160" cy="3722760"/>
          </a:xfrm>
          <a:prstGeom prst="rect">
            <a:avLst/>
          </a:prstGeom>
          <a:ln w="0">
            <a:noFill/>
          </a:ln>
        </p:spPr>
      </p:sp>
      <p:sp>
        <p:nvSpPr>
          <p:cNvPr id="58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BB4D-C1AB-4782-AB4E-832EBC77B59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853920" y="744480"/>
            <a:ext cx="4961160" cy="3722760"/>
          </a:xfrm>
          <a:prstGeom prst="rect">
            <a:avLst/>
          </a:prstGeom>
          <a:ln w="0">
            <a:noFill/>
          </a:ln>
        </p:spPr>
      </p:sp>
      <p:sp>
        <p:nvSpPr>
          <p:cNvPr id="58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853920" y="744480"/>
            <a:ext cx="4961160" cy="3722760"/>
          </a:xfrm>
          <a:prstGeom prst="rect">
            <a:avLst/>
          </a:prstGeom>
          <a:ln w="0">
            <a:noFill/>
          </a:ln>
        </p:spPr>
      </p:sp>
      <p:sp>
        <p:nvSpPr>
          <p:cNvPr id="58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Calibri"/>
              </a:rPr>
              <a:t>Zie ook werkbladen 1.1 en 1.2 (onderdelen van het etiket) en 2.1 en 2.2 (analyse van een verpak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853920" y="744480"/>
            <a:ext cx="4961160" cy="3722760"/>
          </a:xfrm>
          <a:prstGeom prst="rect">
            <a:avLst/>
          </a:prstGeom>
          <a:ln w="0">
            <a:noFill/>
          </a:ln>
        </p:spPr>
      </p:sp>
      <p:sp>
        <p:nvSpPr>
          <p:cNvPr id="588"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853920" y="744480"/>
            <a:ext cx="4961160" cy="3722760"/>
          </a:xfrm>
          <a:prstGeom prst="rect">
            <a:avLst/>
          </a:prstGeom>
          <a:ln w="0">
            <a:noFill/>
          </a:ln>
        </p:spPr>
      </p:sp>
      <p:sp>
        <p:nvSpPr>
          <p:cNvPr id="590"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EB39D-889F-49AB-B718-FC1B9E508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1B564-66CF-4605-8378-2D860E233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46FD73-40A8-4962-A49C-86ABD4B1083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275528-4F37-4EBE-A42E-9A790331B0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5305887-579D-4152-9ECB-4060C07147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6B9A7D-54C4-499A-9667-CDDADE1BFD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E89230-7690-46B9-89B7-DF5755F654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F5802D-2ADA-4CB4-B660-D4763E120E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96D70B-2D25-4591-8CF6-1F29174C09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27800C-43FA-4585-B068-BA447C6C59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BF3E9FA-100A-414E-9CB5-3C82A8BE5E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5D719DE-55B9-4CC3-9D48-5825639175B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2DDCA-8018-47D5-A6F4-EADCBD0F6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5003A9-1AE3-4312-B1B8-687B84A18D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1E84861-074A-42B0-BC12-60325ED9C6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73CCA8-20EC-4582-B316-CC9DB40D4E7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C11B49F-734B-468E-9B29-86A34B667F4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FB8FC7-6D8F-478F-847C-DE1BA0FE27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285A45D-3CD2-4A8D-8EF5-0A92AD8D9F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183FC6-28A0-42CF-BF97-FE4DC6C406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8F62E4-2D8D-448B-92FA-BED936508E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820AB7-0F5E-4EE3-AC77-E3E82906E44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C1BDEA1-A9D3-4837-A2C5-7881EEC423A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50EC7F-7CC0-4023-80EF-310151C76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03D6F8C-4CC4-4A45-B7A9-15BF35DF3CE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2C9E6AC-AC08-4227-B0B9-21C964C5C92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0348F1-4AAC-4FE1-B040-F3205F7E7A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515161-6327-496B-88BA-387AADFD4D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20672B-F737-4958-81C1-CB19DB2F6EE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4F31F1-D347-48BE-BC16-C60956B9D22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F681C5-CA7C-4B0B-87EB-8F02D97E1F5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A82ECE-804B-4CF6-8CE0-3D1CD331A75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2E0FFE-485F-4194-B758-22E528C7571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903E5A-76DD-4E7D-9D4F-6374F1A296E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48B594-1EEC-441B-9059-F0B410FFC8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66BAB8-E657-478C-97B6-C88252E0D44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019CBB5-78AF-47A9-849D-77F3AFE89A4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56B87EB-AA83-46EF-8EA7-810DE7A59D7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45A3CF-6103-4171-88AA-D2027A45FD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4831AB-D2F8-48A9-A372-4E8B314754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FC8C215-D9FF-4B8C-9321-46B7631A48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AD6223-88C5-48C7-BEFE-05DD8569E5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0421F1-405D-47B5-921E-0D7AFD7E76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88BE48-F47E-4C91-8837-A2CBAB3AEE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366AAC-13A5-477F-8ECA-1D99ED9D64B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095BD-A0DD-4CE5-9085-1737D1132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E22AA95-D57D-4501-9009-13E0E97A6B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3767FF-0200-4D90-AF4B-69B5C23977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FF23CA-316C-45DC-A578-0C9F16FEC2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D99C847-3D5F-425E-B513-DD7768AB671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2DAC7CD-32DD-4FB4-8D1D-DFB0AD8FE5B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2AA39-3E86-40F4-A547-ED596DBDF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6D78A-9730-4DAA-89A1-582774491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D92A0-F9F5-4086-93EE-44FA02DCA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FFF6F-A09B-4F96-A29E-D2A102E33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7AC8E-1CA0-4391-8480-655440C41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E7E5D-51F5-4BB9-AE01-F87616462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089D7-6A5F-4268-8A86-16BC9FA46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2A26F-BA15-4622-91E7-094FE1D84F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B2E4A-0902-4317-AB56-743F9AE25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31FBFD-1E1A-4596-B493-B1D757F0AE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1371E8-D413-405C-AB69-3F206F856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03A3E5-DAE7-4C36-B015-D9431A9859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0CDBE6-CC02-4366-8229-BED16ACAD2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A772CE-D525-43BC-8965-B9507E9E3F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5A4B48-49CF-4F3E-947E-5361257B8D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2F61EE-5DAD-4F1E-88F5-F5785E0527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44A77-1EB1-48A2-A152-35B374F32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4366E5-6C19-4CA0-818C-A5D812C302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F0B18-9A53-4539-A621-03D99C149D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A8D049-F73F-4543-B8D0-49CC47DBEA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F9FE32-2BE9-4EA4-AF3C-8084F8F749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1DE2C1-D3C2-4BF5-8019-DEDD6A6D7C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F22876-1665-451B-80A5-5BE865A56D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664AED-3918-4BC4-8B8D-8042029087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765187-42FD-458C-8EC4-EAA7C2DBC9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567A2D-4345-4193-AEB9-6D8C9F78D3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354D69-41D9-46E2-A299-068CF78013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60D8F-A8AD-4C6C-B9D3-55BC75F84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911E84-483E-4B06-91AD-F3107F0ACC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DF6284-EA40-4AB3-A14A-6033B2C954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C434C6-FED9-44F6-8D0A-BC9DF016A4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DDBA61-77E3-472C-8188-7F087E7D80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D21B04-7668-4858-A61F-0A9E24800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C7A368-0ECF-4455-B3D7-BCD8DA99C7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3E7695-6635-4B54-953E-6C6619AC14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7F15BB-58AE-4497-8BE7-0C458AD597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5FE694-3B82-4FEF-BEA2-4FF6DD997E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E6D350-1840-42F7-9B0C-54DD471154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D2C58-9372-42E1-9C05-6ADDAC206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068BDF-1D9F-4AC1-BDF7-FFA732D7D8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182600-977F-44D3-A9F8-AD4F4C700D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58EC99-4047-425A-8FEB-FA665108D4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239DA5-3C72-4F89-971D-F0B17913B8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32B230-7A8C-474D-9205-AF71D2EA68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AF7F92-2357-4353-B338-D70A9CF502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B55DDB-FC4E-4EEF-9A6C-B60FFB3FE5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FB184D-FAA7-4370-941E-2A3DAB184C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B191BB-320B-47CC-8F6A-30E14ABC39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05B063-8958-4541-BD85-617C718EF2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BD542-C3E0-4C31-82DA-2A5AFFBFB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3572E7-6E9A-407F-B834-D6C0D26B4E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CAA349-E3C5-438F-9018-395E6BAA77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22F5A0-D9B5-483C-9974-2DAAA49654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B0B568-A53E-4FD0-9E07-7D1B873146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5746C5-E1C8-443F-8F25-6CB3C81544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602DF9-2614-4D91-A0AF-9B2521FC67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16EEBE-34C8-476F-AED6-6ADBDFF322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68D4F6-66E8-49B3-91E5-443166A9A9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C3729F-3D5F-49AA-BB09-083556DD68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36DAD5-2CD9-43BA-9750-175A4C7038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AE281-6728-4ECE-8784-8E1DAFAD5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2D6C78-8C1B-48F6-9E90-720CBBC4D7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87EB94-70A5-430D-807C-6C51B47F37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4123E6-5923-4AFE-8042-DACF4BF64B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8D7A073-F408-44FC-9B65-BCE2032727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73BC2FE-61FE-4D0A-93FD-DE95045A4D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164C7D-679D-42AB-B02D-E918402000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81709D-5BDB-4D9D-B842-94B35AE69D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36AE59-A318-4BAA-A1C3-CED5F62317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93BEB3-F5C0-43CE-B267-CB4B9E3365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049EA5-62A3-4CA5-8ED3-806E6BFC10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14F0E0-BB0A-4676-B208-773483E55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22B68C-7353-4B51-A1E7-8BAA39C638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1FAF7E-8184-4CB4-8F6F-18C7955F73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199A91-F821-4FD6-8CC8-EBF885563F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FDC61EB-7C21-437A-8C4F-8B0041ADEA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00BDA1-1C25-4FD9-AAFB-E3E047C91B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075252-BF8E-49AF-BAF3-17AB0A350C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05F199-7B34-4C7F-85B4-D045C4183F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48150C-8F45-4105-9980-A12897C724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DB12F2-16D5-4834-8478-5B838EDA1D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C9435D-4FA5-4014-B124-4672D9633A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C8AA0-87FF-41F9-AAED-EF2721090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670496-4598-42F3-AB85-6DB09DAAAA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8E0335-F1F1-4083-9372-04C8756F15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75093B-18A1-499A-9CB9-4E5B1DB731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3E93D3-D905-41D4-943D-013CCBF245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4F39D9-CB76-4D68-B2EA-1D2B08EC8A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6E128B-4557-4C60-B25D-6752956C45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BAC59B-D78E-44BA-A6FD-F15B6DBC6D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C8B2AE-7550-4CD2-9FC8-38118A0FB9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9C1F44-564E-4FF3-B173-946226B8C8B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946155-AEB7-4098-8E49-A2DED37F91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CBC2-E431-41B2-9347-2EF516E055DE}"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64F3-B2F3-4E79-813A-0A1D38750AA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114E-336D-4058-B442-2EEDED1CCBC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7263-BA2B-4AD3-AF85-A612F531E7A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66F5-16F7-4B32-A368-D8212615577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B898D-1650-443E-AD3C-D14AD60BB3F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C6F5-73B3-4D83-8ECC-5B3E83FD52F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85D16-E459-4E50-A4D6-7D44196F0B5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AB2B-7C4D-45CC-8154-57A949F8F46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AB122-8D78-4CA5-ADAE-22192169D94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774C1-A64D-4E4A-B5AB-F41D2E3ADBE0}"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0D0BA-1EFA-4E11-ACF9-2D0BB36A8CB8}"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Picture 2" descr=""/>
          <p:cNvPicPr/>
          <p:nvPr/>
        </p:nvPicPr>
        <p:blipFill>
          <a:blip r:embed="rId1"/>
          <a:stretch/>
        </p:blipFill>
        <p:spPr>
          <a:xfrm>
            <a:off x="2411280" y="1773360"/>
            <a:ext cx="4673880" cy="345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6"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2"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3" name="Picture 2" descr=""/>
          <p:cNvPicPr/>
          <p:nvPr/>
        </p:nvPicPr>
        <p:blipFill>
          <a:blip r:embed="rId1"/>
          <a:stretch/>
        </p:blipFill>
        <p:spPr>
          <a:xfrm>
            <a:off x="4500720" y="2781360"/>
            <a:ext cx="1268280" cy="2027160"/>
          </a:xfrm>
          <a:prstGeom prst="rect">
            <a:avLst/>
          </a:prstGeom>
          <a:ln w="0">
            <a:noFill/>
          </a:ln>
        </p:spPr>
      </p:pic>
      <p:pic>
        <p:nvPicPr>
          <p:cNvPr id="554"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7"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0" name="Picture 6" descr="logo vig"/>
          <p:cNvPicPr/>
          <p:nvPr/>
        </p:nvPicPr>
        <p:blipFill>
          <a:blip r:embed="rId1"/>
          <a:stretch/>
        </p:blipFill>
        <p:spPr>
          <a:xfrm>
            <a:off x="8172360" y="5300640"/>
            <a:ext cx="863640" cy="1434960"/>
          </a:xfrm>
          <a:prstGeom prst="rect">
            <a:avLst/>
          </a:prstGeom>
          <a:ln w="0">
            <a:noFill/>
          </a:ln>
        </p:spPr>
      </p:pic>
      <p:pic>
        <p:nvPicPr>
          <p:cNvPr id="561"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69"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1"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hthoek 2"/>
          <p:cNvSpPr/>
          <p:nvPr/>
        </p:nvSpPr>
        <p:spPr>
          <a:xfrm>
            <a:off x="250920" y="404640"/>
            <a:ext cx="8497800" cy="226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Bijkomende oefening:</a:t>
            </a:r>
            <a:endParaRPr b="0" lang="en-US" sz="40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verpakkingen of producten in of bij de juiste groep van schijf van 5.</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3" name="Afbeelding 1" descr=""/>
          <p:cNvPicPr/>
          <p:nvPr/>
        </p:nvPicPr>
        <p:blipFill>
          <a:blip r:embed="rId1"/>
          <a:stretch/>
        </p:blipFill>
        <p:spPr>
          <a:xfrm>
            <a:off x="2050920" y="2060640"/>
            <a:ext cx="4276800" cy="4029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95280" y="40464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ADH: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4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ADH: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83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50864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Lobke Spruijt</cp:lastModifiedBy>
  <cp:lastPrinted>2012-02-03T12:52:21Z</cp:lastPrinted>
  <dcterms:modified xsi:type="dcterms:W3CDTF">2016-01-07T15:37:51Z</dcterms:modified>
  <cp:revision>52</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