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3.jpeg" ContentType="image/jpeg"/>
  <Override PartName="/ppt/media/image15.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0378-FEF6-4EE8-AF4D-3F1491C6AA50}"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853920" y="744480"/>
            <a:ext cx="4961160" cy="3722760"/>
          </a:xfrm>
          <a:prstGeom prst="rect">
            <a:avLst/>
          </a:prstGeom>
          <a:ln w="0">
            <a:noFill/>
          </a:ln>
        </p:spPr>
      </p:sp>
      <p:sp>
        <p:nvSpPr>
          <p:cNvPr id="57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F8EB-FAD6-4068-BB9E-B42E02B5165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853920" y="744480"/>
            <a:ext cx="4961160" cy="3722760"/>
          </a:xfrm>
          <a:prstGeom prst="rect">
            <a:avLst/>
          </a:prstGeom>
          <a:ln w="0">
            <a:noFill/>
          </a:ln>
        </p:spPr>
      </p:sp>
      <p:sp>
        <p:nvSpPr>
          <p:cNvPr id="59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53920" y="744480"/>
            <a:ext cx="4961160" cy="3722760"/>
          </a:xfrm>
          <a:prstGeom prst="rect">
            <a:avLst/>
          </a:prstGeom>
          <a:ln w="0">
            <a:noFill/>
          </a:ln>
        </p:spPr>
      </p:sp>
      <p:sp>
        <p:nvSpPr>
          <p:cNvPr id="59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A02C-FB34-4E3B-9673-EB62557CF50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853920" y="744480"/>
            <a:ext cx="4961160" cy="3722760"/>
          </a:xfrm>
          <a:prstGeom prst="rect">
            <a:avLst/>
          </a:prstGeom>
          <a:ln w="0">
            <a:noFill/>
          </a:ln>
        </p:spPr>
      </p:sp>
      <p:sp>
        <p:nvSpPr>
          <p:cNvPr id="59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20A4-2E5B-4F12-B48E-3051926D2C0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853920" y="744480"/>
            <a:ext cx="4961160" cy="3722760"/>
          </a:xfrm>
          <a:prstGeom prst="rect">
            <a:avLst/>
          </a:prstGeom>
          <a:ln w="0">
            <a:noFill/>
          </a:ln>
        </p:spPr>
      </p:sp>
      <p:sp>
        <p:nvSpPr>
          <p:cNvPr id="60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853920" y="744480"/>
            <a:ext cx="4961160" cy="3722760"/>
          </a:xfrm>
          <a:prstGeom prst="rect">
            <a:avLst/>
          </a:prstGeom>
          <a:ln w="0">
            <a:noFill/>
          </a:ln>
        </p:spPr>
      </p:sp>
      <p:sp>
        <p:nvSpPr>
          <p:cNvPr id="60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853920" y="744480"/>
            <a:ext cx="4961160" cy="3722760"/>
          </a:xfrm>
          <a:prstGeom prst="rect">
            <a:avLst/>
          </a:prstGeom>
          <a:ln w="0">
            <a:noFill/>
          </a:ln>
        </p:spPr>
      </p:sp>
      <p:sp>
        <p:nvSpPr>
          <p:cNvPr id="6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853920" y="744480"/>
            <a:ext cx="4961160" cy="3722760"/>
          </a:xfrm>
          <a:prstGeom prst="rect">
            <a:avLst/>
          </a:prstGeom>
          <a:ln w="0">
            <a:noFill/>
          </a:ln>
        </p:spPr>
      </p:sp>
      <p:sp>
        <p:nvSpPr>
          <p:cNvPr id="6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GDA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853920" y="744480"/>
            <a:ext cx="4961160" cy="3722760"/>
          </a:xfrm>
          <a:prstGeom prst="rect">
            <a:avLst/>
          </a:prstGeom>
          <a:ln w="0">
            <a:noFill/>
          </a:ln>
        </p:spPr>
      </p:sp>
      <p:sp>
        <p:nvSpPr>
          <p:cNvPr id="6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853920" y="744480"/>
            <a:ext cx="4961160" cy="3722760"/>
          </a:xfrm>
          <a:prstGeom prst="rect">
            <a:avLst/>
          </a:prstGeom>
          <a:ln w="0">
            <a:noFill/>
          </a:ln>
        </p:spPr>
      </p:sp>
      <p:sp>
        <p:nvSpPr>
          <p:cNvPr id="61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853920" y="744480"/>
            <a:ext cx="4961160" cy="3722760"/>
          </a:xfrm>
          <a:prstGeom prst="rect">
            <a:avLst/>
          </a:prstGeom>
          <a:ln w="0">
            <a:noFill/>
          </a:ln>
        </p:spPr>
      </p:sp>
      <p:sp>
        <p:nvSpPr>
          <p:cNvPr id="57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A011-9F51-40B0-9032-34466C53F80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853920" y="744480"/>
            <a:ext cx="4961160" cy="3722760"/>
          </a:xfrm>
          <a:prstGeom prst="rect">
            <a:avLst/>
          </a:prstGeom>
          <a:ln w="0">
            <a:noFill/>
          </a:ln>
        </p:spPr>
      </p:sp>
      <p:sp>
        <p:nvSpPr>
          <p:cNvPr id="61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8BD6-E696-4F55-8F2F-DC8E3D4A129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853920" y="744480"/>
            <a:ext cx="4961160" cy="3722760"/>
          </a:xfrm>
          <a:prstGeom prst="rect">
            <a:avLst/>
          </a:prstGeom>
          <a:ln w="0">
            <a:noFill/>
          </a:ln>
        </p:spPr>
      </p:sp>
      <p:sp>
        <p:nvSpPr>
          <p:cNvPr id="61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013C-51BD-4368-8283-C3A0B93E03C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853920" y="744480"/>
            <a:ext cx="4961160" cy="3722760"/>
          </a:xfrm>
          <a:prstGeom prst="rect">
            <a:avLst/>
          </a:prstGeom>
          <a:ln w="0">
            <a:noFill/>
          </a:ln>
        </p:spPr>
      </p:sp>
      <p:sp>
        <p:nvSpPr>
          <p:cNvPr id="61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B53B-1857-491F-88C6-864C292FFFA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853920" y="744480"/>
            <a:ext cx="4961160" cy="3722760"/>
          </a:xfrm>
          <a:prstGeom prst="rect">
            <a:avLst/>
          </a:prstGeom>
          <a:ln w="0">
            <a:noFill/>
          </a:ln>
        </p:spPr>
      </p:sp>
      <p:sp>
        <p:nvSpPr>
          <p:cNvPr id="6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3B68-7C79-4A6F-AC10-608636C735E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853920" y="744480"/>
            <a:ext cx="4961160" cy="3722760"/>
          </a:xfrm>
          <a:prstGeom prst="rect">
            <a:avLst/>
          </a:prstGeom>
          <a:ln w="0">
            <a:noFill/>
          </a:ln>
        </p:spPr>
      </p:sp>
      <p:sp>
        <p:nvSpPr>
          <p:cNvPr id="62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6479-49ED-4B64-8CC3-CEE9CEA7B89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853920" y="744480"/>
            <a:ext cx="4961160" cy="3722760"/>
          </a:xfrm>
          <a:prstGeom prst="rect">
            <a:avLst/>
          </a:prstGeom>
          <a:ln w="0">
            <a:noFill/>
          </a:ln>
        </p:spPr>
      </p:sp>
      <p:sp>
        <p:nvSpPr>
          <p:cNvPr id="62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3.1, 3.2 en 3.3 (dranken vergelijken)</a:t>
            </a:r>
            <a:endParaRPr b="0" lang="en-US" sz="1200" spc="-1" strike="noStrike">
              <a:solidFill>
                <a:srgbClr val="000000"/>
              </a:solidFill>
              <a:latin typeface="Calibri"/>
            </a:endParaRPr>
          </a:p>
        </p:txBody>
      </p:sp>
      <p:sp>
        <p:nvSpPr>
          <p:cNvPr id="62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7C42-8FDA-4BFA-8399-6F36F228490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853920" y="744480"/>
            <a:ext cx="4961160" cy="3722760"/>
          </a:xfrm>
          <a:prstGeom prst="rect">
            <a:avLst/>
          </a:prstGeom>
          <a:ln w="0">
            <a:noFill/>
          </a:ln>
        </p:spPr>
      </p:sp>
      <p:sp>
        <p:nvSpPr>
          <p:cNvPr id="6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1C63-4376-4E0E-B57A-7FF1CDF3E35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853920" y="744480"/>
            <a:ext cx="4961160" cy="3722760"/>
          </a:xfrm>
          <a:prstGeom prst="rect">
            <a:avLst/>
          </a:prstGeom>
          <a:ln w="0">
            <a:noFill/>
          </a:ln>
        </p:spPr>
      </p:sp>
      <p:sp>
        <p:nvSpPr>
          <p:cNvPr id="6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ADFA-D69B-4F38-9261-CAF9AF4FF81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53920" y="744480"/>
            <a:ext cx="4961160" cy="3722760"/>
          </a:xfrm>
          <a:prstGeom prst="rect">
            <a:avLst/>
          </a:prstGeom>
          <a:ln w="0">
            <a:noFill/>
          </a:ln>
        </p:spPr>
      </p:sp>
      <p:sp>
        <p:nvSpPr>
          <p:cNvPr id="63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4.1, 4.2 en 4.3 (tussendoortjes vergelijken)</a:t>
            </a:r>
            <a:endParaRPr b="0" lang="en-US" sz="1200" spc="-1" strike="noStrike">
              <a:solidFill>
                <a:srgbClr val="000000"/>
              </a:solidFill>
              <a:latin typeface="Calibri"/>
            </a:endParaRPr>
          </a:p>
        </p:txBody>
      </p:sp>
      <p:sp>
        <p:nvSpPr>
          <p:cNvPr id="63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9622-0589-4675-BBD8-58F7456E18F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853920" y="744480"/>
            <a:ext cx="4961160" cy="3722760"/>
          </a:xfrm>
          <a:prstGeom prst="rect">
            <a:avLst/>
          </a:prstGeom>
          <a:ln w="0">
            <a:noFill/>
          </a:ln>
        </p:spPr>
      </p:sp>
      <p:sp>
        <p:nvSpPr>
          <p:cNvPr id="63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5.1, 5.2 en 5.3 (de actieve voedingsdriehoek) en werkblad 6 (mijn dranken en tussendoortj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783E-9BB9-4CFA-99AD-2B0FA0F932F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853920" y="744480"/>
            <a:ext cx="4961160" cy="3722760"/>
          </a:xfrm>
          <a:prstGeom prst="rect">
            <a:avLst/>
          </a:prstGeom>
          <a:ln w="0">
            <a:noFill/>
          </a:ln>
        </p:spPr>
      </p:sp>
      <p:sp>
        <p:nvSpPr>
          <p:cNvPr id="58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49BD-579B-46FD-BB58-8C721388878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853920" y="744480"/>
            <a:ext cx="4961160" cy="3722760"/>
          </a:xfrm>
          <a:prstGeom prst="rect">
            <a:avLst/>
          </a:prstGeom>
          <a:ln w="0">
            <a:noFill/>
          </a:ln>
        </p:spPr>
      </p:sp>
      <p:sp>
        <p:nvSpPr>
          <p:cNvPr id="58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853920" y="744480"/>
            <a:ext cx="4961160" cy="3722760"/>
          </a:xfrm>
          <a:prstGeom prst="rect">
            <a:avLst/>
          </a:prstGeom>
          <a:ln w="0">
            <a:noFill/>
          </a:ln>
        </p:spPr>
      </p:sp>
      <p:sp>
        <p:nvSpPr>
          <p:cNvPr id="58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1.1 en 1.2 (onderdelen van het etiket) en 2.1 en 2.2 (analyse van een verpak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53920" y="744480"/>
            <a:ext cx="4961160" cy="3722760"/>
          </a:xfrm>
          <a:prstGeom prst="rect">
            <a:avLst/>
          </a:prstGeom>
          <a:ln w="0">
            <a:noFill/>
          </a:ln>
        </p:spPr>
      </p:sp>
      <p:sp>
        <p:nvSpPr>
          <p:cNvPr id="58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853920" y="744480"/>
            <a:ext cx="4961160" cy="3722760"/>
          </a:xfrm>
          <a:prstGeom prst="rect">
            <a:avLst/>
          </a:prstGeom>
          <a:ln w="0">
            <a:noFill/>
          </a:ln>
        </p:spPr>
      </p:sp>
      <p:sp>
        <p:nvSpPr>
          <p:cNvPr id="59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FA4B8-8865-4B53-84F6-F48D9AA82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7E95A-7BD2-45AA-A89C-4C0CFE61D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56F103-9D4C-4AC0-9D24-1F6E10ACDB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EE7CFF-D1C4-4C07-B0D7-257F3AC60D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27F00E-A0DB-4167-B00F-29141DB690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DEC0AB-B470-428F-A704-CA149F44A7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4817B-5BB9-4EC3-9B83-5CB7FFC071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496E63-7C7E-4697-B8EF-FD486CB020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7EE84C-D1E2-4614-A759-E402E2EED8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321B95-A766-4BC9-B544-4AC78B1040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BC98FD-05FC-422A-8ED9-7EABDB30B1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085833-8E4B-404A-AAFF-46DF89A70D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B8B60-8CB1-4883-8FFA-414671327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188446-1255-4B0E-9C9F-827846DCC9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9CDBD5-3E72-4E6A-A893-B795B564EC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C40F15-492F-4484-84E8-EE9999F6E7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574F62-3ACA-4A93-A76F-CC2C3F846A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358AB5-9350-44AD-A867-2A0043DAEA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A72030-56D2-4433-835C-75F259B8D9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58A299-F450-4885-8443-ABC9083223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C54BB4-50B6-4F9F-AA05-43752A6D56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B46FDF-838D-4DCF-9EB4-A047C0B306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1FD13B-D2EA-4041-AB5E-11E31B67B0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F2D6E-47F1-4740-8479-BB3F68AD9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11B3F4-4817-4B5C-8B0F-3848A44CA2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AA5E61-EB6B-4996-82CA-54CD9A81F8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8BC637-D193-48EF-90AE-B94CD391EA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9FC976-5415-444F-A57D-67EB8F476A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077A69-3505-40C8-BA51-E552FD2EB8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DDA251-F32E-4831-8F92-F9D811AEAB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833F4D-2531-4A44-8CC3-8235CBAAE9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1574A7-0ED7-4B5C-90C2-8B0988F457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54AFB0-A7CB-4A77-92C8-4CA21C25DA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7CB1FE-A4A7-4017-B1B7-9452F851EF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13835-8817-47BC-A03E-6ACABE9D2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DFEFD2-13B5-41CD-86BB-91F70179E9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E3D07E-6B54-44BC-8496-FCB3AAB2BC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2E2EF5-2940-4792-8549-22C4786C47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60585C-2E77-4891-907D-D674847937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5BC1BF-DB4F-4047-98F7-7FE6D3CA26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46BE8B-24EE-492F-B384-EB94B233AA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EBC15C-7A2B-496D-A58C-F7EEE78395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512A25-E7C3-409D-BA3D-4CBCAB9509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2C9511-2F8A-4928-989A-D8011B763F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E401E4-80C0-406A-B3A5-67B6F0E8E8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268E8-01B4-4F0D-AFDE-AFE7A65E2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310CEF-6D5C-475A-AEAA-98738E421F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5976ED-9FE8-43DC-80CE-CE3630286C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D77EA4-8A72-4243-9143-BF060FD769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0485AE-783A-49DC-A6FD-E720D8D390C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EFD75A2-6EAD-4F57-BDA6-EF970A04CC4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C7DD8-6B63-4B2F-876A-B7E3464FD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4AD56-CEC1-4512-9CF6-2D28EA718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DC92C-050D-4641-98E9-BEF642916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90C99-C803-4465-B4B6-331FC6D8C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78F73-294F-4570-8832-9A8523F30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0D225-6C1A-4BC5-A53E-C15898E6E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897C4-BC08-49C7-AF71-2B79A959D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2E225-5F75-4461-B011-9CABB2C93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0C68D-66E8-4E3C-BB05-F2C8CCE2D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338C1-904C-4F7E-ACAE-547852A84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F5395-B562-4E35-BA4A-F9B780BE6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DDD8CC-7E42-4236-A83E-9A7DB6006F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B90892-3BD6-46ED-B1F3-3352356D97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BA2557-54FB-435B-A8E4-3789FBC021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13416-00CB-40B9-AB02-EAAB739085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7B76FF-9FC6-45D2-8F84-BC20D43A2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8E346-87F9-43E4-B533-213A6E7BD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B88DC-BBF6-46B3-AE6A-DB187614F7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49A46-CD58-4B5F-AB36-FB4999A7A6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50D32-78ED-49D6-8055-45B37B149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F760A-E3A3-4AEA-BEC9-32F21ABA6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9281DD-B3AE-4592-A405-2332868AD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2692D2-2505-4804-B885-C2D27BEE95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FE4FFB-A914-4EB1-8E3D-73D9C4D903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54746E-CBC3-4D29-88B6-C9C336AFB0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CB5678-6221-4C46-ACB0-BCC548B30E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69EF8E-60D2-4D99-9D77-20708D5ED4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4A341-8EAE-403A-9F56-85570A8A4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544FEE-D50E-4CDF-AC70-CCCB30895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217D5F-A910-429C-821F-178C5CAAD3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E5CACC-5484-472C-BC17-FA1CB51FEA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3F591-DF27-4721-952E-A84AE8B2A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BE2C0-DF41-465C-9E8C-5983B0A46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A8F89-357D-4FD3-B0D1-09BD3DA84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AEB28-88B0-46C2-AB75-874527483B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3063E5-DB4E-4E85-B7FF-AFF1854875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52F927-92BD-4783-A3B9-6E8F0763F5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83C3A5-706D-405C-B497-A209822DDC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DB3B1-DFD9-463D-B47E-11F9C3120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A2A975-056B-4F02-B490-6D8C0B6A18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CA9B4E-4209-41EF-98DE-BB7B00563B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B9C6D4-CE2B-453F-8BC1-D950FC8737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93AAA3-BD33-4DCF-9DF2-352C189D9E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BAD030-ABC9-4D6E-BA0C-BD2769945D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9A848B-98B8-449D-9C88-DE3D495ED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445E6A-7C45-49D5-ADDF-49A28EE9A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6A413-17BC-4C53-9725-D1EB32D13A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F9DC9B-47A6-4C9C-964C-11EBF5844E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2CC152-3CC4-49B7-9025-EA91E9627F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CBE32-3057-4712-8734-ADA751B10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7EEB59-8A58-4827-BA0D-754D0C246D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8A925A-755C-466C-BAF9-CC7E446D58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C22935-67A2-455E-853D-ACC12AB06E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C022FD-1C5E-44EA-9F20-C181BEAD2A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471201-50E3-4F75-8B4C-3DEA205511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9E5CC9-CEED-43FF-A958-ED2865D31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1290ED-6BDB-4E71-AA99-DBE861596F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124FBD-532A-4A8D-B88E-501EC1C28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9DA996-44A6-444F-BE7D-81E26E850D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45E17B-BAB2-4D83-89BC-EFC0BDDFB7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2E13F-0D88-4660-A956-84B8675B6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40C63E-2561-44A0-BC65-6614E18978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17243A-BAD7-4A75-BE73-A2D5FED415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7C6258-A429-442F-9EE4-56702FAC0F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48669A-6C05-4439-8481-22FFC23A46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F263A-7DAB-442C-B964-5577FD4962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FFC3B4-7996-4E57-BBEE-BBED5529CB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5238A8-0CE0-4A12-95F5-B074C4B46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540456-E1E4-4182-BCEC-B90BB8D1FD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444D6F-C789-41F2-959D-A79F9222F2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73D62-ED74-4A74-93E5-7E84A0C015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DD734-AB79-43D1-A1DF-4D7DAC3B4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178CA-D018-498C-8068-B46C4E842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4C8859-E986-4E13-953E-1EB164B18A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44310D-15DF-44A7-BF51-8838B298A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867D46-56A9-40A7-9B10-4BB0A5F737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4BF5D5-ABEA-4CBA-9E22-7373E6DDC0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C27E29-AA64-4FF3-8547-32BDDB06FD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9DF60B-028C-404A-853F-79AC2EF87B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AD4B9D-F75C-4F04-A396-DAE034EA3D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247C50-9523-42E3-B68E-059B9DAAF7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F67DAF-F9D2-4479-8064-59E9057AC5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85D1-369F-4B07-85CE-B159A66BA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825A14-61FB-4344-AF06-0E265A9307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7002D8-AD06-4303-91CD-58854A171A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23557D-17CC-4E18-B3C5-CFE56F2A38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6A9666-70C7-487B-B9F3-92B9003180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E7803E-3E4F-402A-9A80-70EC78B337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129554-2B5B-4E54-93A7-03ECD88130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7CE8AD-6326-4B37-BA2A-188EB80F7E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EA4256-B510-4656-BE32-EE637135A8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88D94A-96DD-4F51-ABC7-C021163E23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3AF56A-5243-4412-B46B-8C9A7796144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A370-8081-426E-8F95-CB368E11D95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496E-25D1-4CD8-AC7C-3C80B5B74EE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3425-D49B-464B-B543-D85B5F1103C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B7C4-9275-46C6-A179-4D55799D390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0AB9-5D11-448D-AD55-01B35F33717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E1AA-E14B-44E2-8B10-9A48F61EC72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704F-809F-4C70-B507-E2C8F9C7027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D176-0191-4F49-B0A7-89CFA9EFE91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DA01-1FCF-4B0E-AA6E-E79CB3095FC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762A-DD0B-4E4F-A811-9824AAB1A63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3549-D04C-4A19-BF7D-F3156C32993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E6A3-AE9D-42A5-A0D0-20AD98A9F83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Picture 2" descr=""/>
          <p:cNvPicPr/>
          <p:nvPr/>
        </p:nvPicPr>
        <p:blipFill>
          <a:blip r:embed="rId1"/>
          <a:stretch/>
        </p:blipFill>
        <p:spPr>
          <a:xfrm>
            <a:off x="2411280" y="1773360"/>
            <a:ext cx="467388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3" name="Picture 2" descr=""/>
          <p:cNvPicPr/>
          <p:nvPr/>
        </p:nvPicPr>
        <p:blipFill>
          <a:blip r:embed="rId1"/>
          <a:stretch/>
        </p:blipFill>
        <p:spPr>
          <a:xfrm>
            <a:off x="4500720" y="2781360"/>
            <a:ext cx="1268280" cy="2027160"/>
          </a:xfrm>
          <a:prstGeom prst="rect">
            <a:avLst/>
          </a:prstGeom>
          <a:ln w="0">
            <a:noFill/>
          </a:ln>
        </p:spPr>
      </p:pic>
      <p:pic>
        <p:nvPicPr>
          <p:cNvPr id="554"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7"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0" name="Picture 6" descr="logo vig"/>
          <p:cNvPicPr/>
          <p:nvPr/>
        </p:nvPicPr>
        <p:blipFill>
          <a:blip r:embed="rId1"/>
          <a:stretch/>
        </p:blipFill>
        <p:spPr>
          <a:xfrm>
            <a:off x="8172360" y="5300640"/>
            <a:ext cx="863640" cy="1434960"/>
          </a:xfrm>
          <a:prstGeom prst="rect">
            <a:avLst/>
          </a:prstGeom>
          <a:ln w="0">
            <a:noFill/>
          </a:ln>
        </p:spPr>
      </p:pic>
      <p:pic>
        <p:nvPicPr>
          <p:cNvPr id="561"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69"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1"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hthoek 2"/>
          <p:cNvSpPr/>
          <p:nvPr/>
        </p:nvSpPr>
        <p:spPr>
          <a:xfrm>
            <a:off x="250920" y="404640"/>
            <a:ext cx="8497800" cy="22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Bijkomende oefening:</a:t>
            </a:r>
            <a:endParaRPr b="0" lang="en-US" sz="40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verpakkingen of producten in of bij de juiste groep van schijf van 5.</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3" name="Afbeelding 1" descr=""/>
          <p:cNvPicPr/>
          <p:nvPr/>
        </p:nvPicPr>
        <p:blipFill>
          <a:blip r:embed="rId1"/>
          <a:stretch/>
        </p:blipFill>
        <p:spPr>
          <a:xfrm>
            <a:off x="2050920" y="2060640"/>
            <a:ext cx="4276800" cy="40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4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50864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Lobke Spruijt</cp:lastModifiedBy>
  <cp:lastPrinted>2012-02-03T12:52:21Z</cp:lastPrinted>
  <dcterms:modified xsi:type="dcterms:W3CDTF">2016-01-07T15:37:51Z</dcterms:modified>
  <cp:revision>52</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