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37.jpeg" ContentType="image/jpeg"/>
  <Override PartName="/ppt/media/image20.png" ContentType="image/png"/>
  <Override PartName="/ppt/media/image36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A18-9F38-4659-8BA4-F6DE329B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B43-0EC1-4D4D-88BD-8FC2ACFF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1FCEB0-DA7B-483B-8CAD-0450058A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AC6881-88A6-4651-830B-303E92AD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9B33AC-1F72-467E-90EC-E3A5652E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2039FF-2B27-4006-92E9-2D6621D3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F84667-E05C-4F9F-A51F-8C51BA4C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5824EC-E2A1-44D2-9CCD-2C81AF6B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E04DEF-9D1F-4847-A129-E0F0896F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80183A-C9EB-4F63-8B8B-A50B9E46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461DD3-2947-41DA-999E-1418C284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FEF6-7636-4B12-879A-BEA25AF3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465-B711-4B9A-B4CA-D264BB1E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2BFE8-65D6-459D-BBDC-369EA7AE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3727A-316F-4759-9A7D-958ABA4C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15DDA-5E3F-404F-8731-FFA54678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9E196-1F42-4ADE-B5C9-6692F5BB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EB29F-A9F0-4E6E-9741-AC043A0C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0651D-A695-404E-947D-EB1A54EC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60624-C82A-49FA-A468-B0614F37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CB9-C0B3-4777-9FD1-21090596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FD8A0-D730-4622-88B4-321FE256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34962-C930-499F-BF71-CF9D617C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FF2D9-913C-48DB-8DD7-E58C8866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A7489-15D8-4753-82C2-B830147C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C25CB-C857-437E-8959-69C019B7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85789-0B82-4578-9020-669FBEB3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32914-AC1A-4ADB-BE6E-03FF1B0B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A4290-49BF-470F-BF77-29123BC8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96C52-2C99-4581-AE51-DA558E8F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ACFAE-9EBB-4047-8059-812C8AFD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D44-D5E3-4703-8621-F5E65A43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8117C-21E5-4909-B9B8-1DC4F422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45746-C3BD-42A2-83F7-FE3E87C0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EDB54-14AA-4A90-91F8-E143B55F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5A01D-72F4-4565-B9E7-6914295D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55FE8-B59D-459B-9208-F1280EE3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9D882-05C3-49A9-B8B1-5058066D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90F1-70C9-49BF-B7BD-E9E00E5D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85970B-B251-4328-B20B-59AF0A7D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224F11-4184-4048-BC97-EBC1BF1D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D6ADA-885C-48B1-9A84-5D9EC6B5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7C90-F612-4A4F-8BFE-1E7896E7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6AE211-A797-4931-8C68-AA8E4D5D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BADC41-C46E-4EB1-9A78-51F45ADE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0911A0-8510-4939-A29C-A046C88D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0F1212-8FA7-4675-AF1B-86B6C8D5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1591F3-5220-4960-8BF9-BF97CE07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B04025-A057-410C-8EDA-915704AF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B07107-2E67-4E15-ABAE-DD025E44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030929-A3EE-4B8D-9EAC-4115B413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D6D1F2-F7B2-4923-85E8-F8947C3E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8778A-DAAA-4E35-A56B-3BC55385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E57F-6540-44F6-9614-D18516B6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F9D8A-6845-43AE-BC2F-E2C3C9C2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B4AF6-BF18-4B80-89F7-45E4D70A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DA5A8-CDAD-436A-8460-6027E278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E2950-4258-43B7-B85A-E3794ACC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E9288-EB4C-4B68-A2B4-02B1F072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1DD20-95C2-43A2-BB3C-451B1C62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5FB76-16D8-4F70-A181-1B359515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E1F49-CC41-4518-BBF2-1E18E749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366D0-5D13-4429-8FBF-317EA214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B0BA5-88C0-42B2-81DB-7C9A0E09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490-ECDE-4565-932A-BF5F3833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9741F-E3B2-4F31-903E-1ACF9C4B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1425E-C06E-4C6E-AC3A-3B42637C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0F8F5-8A8A-42CC-BEB0-4EE344EF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0EAA9-E6A9-4F96-BAE9-662D9324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86206-2739-49A3-A33E-A4E9A44A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B577F-6DB4-4DEA-8C13-4C593771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EE7BB-CF5A-4F68-942E-A36DEB3C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A6203-06B6-4FE9-8C0C-1C3BC8F6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8B2C7-18F5-4567-911F-3FC0A047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61FFD-E7ED-4AF0-88C6-D6E68689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669-F1FA-4928-80AB-337F1924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B4C56-C9B0-4242-B439-F10DF936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BE41A-8937-41C8-B695-A5DD134F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E5DCD-5645-46C9-9763-5AE81452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68DC9-D5D4-40EE-8210-C63E1696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4564F-508C-4869-839B-1FF9DD88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D746C-4ED7-4A7E-AEF8-CD0372E5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4AD97-B6E7-439C-B32D-76557CAC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BFF46-CE03-48A8-92CF-BDB55C7A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E8674-68C3-419E-947D-3A7F08B1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DCC81-523A-4679-AB97-CEF6B9C4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D3A8-4CB5-4D36-8E65-4D2DE4F1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85AFD-6FBE-4BB6-B110-C05F4DEA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9D000-B891-4433-B6B3-912E0C1C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2C63B-1A35-4015-A261-A780C51B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0DB69-106C-401F-BCE5-87A2FC7C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CCD58-D5C9-4EA6-8420-BD262249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5D30EC-76FE-4E2B-95CB-8165CAF7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A09F47-194D-4201-A45F-FD35ACA5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661803-2314-4DFD-B15E-5BBAAE14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4974D0-EF29-4600-B321-8F9EAFD4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A4AEC5-1537-43D6-9910-FAD5D19B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5997-1AE2-448F-B445-BBED8F74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9EBB28-17FE-43F0-87E5-2D600E0B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0EFF9A-3636-4632-9565-EE9268F8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3D48F4-9CBF-4122-8D15-5BE783AA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4142CD-00AA-4F19-BD23-214A1506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9A514A-A8CF-4E3D-B0F4-AB84157C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DB083A-358E-4914-9C01-AC4522AB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E7BA2C-0F4A-4CE1-88CB-457BAAAF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D6561B-FC8F-420A-B05A-52B2ACF8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3FB89E-E875-4505-9CBE-9E9B509C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B6DB99-2192-4F3B-A6FF-9D4B705D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5823-7926-49D5-AF0C-E3555C6EA6E1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B753-32B6-4141-A6E6-3497AC523398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3EBE-F512-4944-B639-7A1B60401BFA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06DD-650C-45EE-BECD-600F835BDBF7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B3FD-012B-43DF-B299-B1CD7B6E08A3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7E8A-2A77-47DE-9D9A-9A48157BB640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539A-3880-49D2-83B6-4E2DCD127FC5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7B2B-C6FF-4856-9054-6518C7851805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DF65-81A5-489F-9376-BFB39E318BFC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http://jeroenboseu.files.wordpress.com/2009/08/eko_keurmerk_logo.jpg"/>
          <p:cNvPicPr/>
          <p:nvPr/>
        </p:nvPicPr>
        <p:blipFill>
          <a:blip r:embed="rId3"/>
          <a:stretch/>
        </p:blipFill>
        <p:spPr>
          <a:xfrm>
            <a:off x="2786040" y="3286080"/>
            <a:ext cx="3006720" cy="3286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http://www.eediete.nl/keuken/pics/groenten.jpg"/>
          <p:cNvPicPr/>
          <p:nvPr/>
        </p:nvPicPr>
        <p:blipFill>
          <a:blip r:embed="rId4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tec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6" descr="http://members.chello.nl/r.kuijt/images/nl_voedingsstoffen.jpg"/>
          <p:cNvPicPr/>
          <p:nvPr/>
        </p:nvPicPr>
        <p:blipFill>
          <a:blip r:embed="rId4"/>
          <a:stretch/>
        </p:blipFill>
        <p:spPr>
          <a:xfrm>
            <a:off x="571680" y="514368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456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6-02-18T14:16:27Z</dcterms:modified>
  <cp:revision>31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50;#Michel Walda;#48;#Veerle Veltman-Kappel;#38;#Pam Weerman-Hakvoort;#49;#Margo de Ket</vt:lpwstr>
  </property>
  <property fmtid="{D5CDD505-2E9C-101B-9397-08002B2CF9AE}" pid="3" name="_dlc_DocId">
    <vt:lpwstr>H7CVNQAUUZ3W-1444270466-2020</vt:lpwstr>
  </property>
  <property fmtid="{D5CDD505-2E9C-101B-9397-08002B2CF9AE}" pid="4" name="_dlc_DocIdItemGuid">
    <vt:lpwstr>8db63659-1b33-401e-a604-e07624fea5a5</vt:lpwstr>
  </property>
  <property fmtid="{D5CDD505-2E9C-101B-9397-08002B2CF9AE}" pid="5" name="_dlc_DocIdUrl">
    <vt:lpwstr>https://liveadminclusius.sharepoint.com/sites/castricum-vmbo-profielgroen/_layouts/15/DocIdRedir.aspx?ID=H7CVNQAUUZ3W-1444270466-2020, H7CVNQAUUZ3W-1444270466-2020</vt:lpwstr>
  </property>
  <property fmtid="{D5CDD505-2E9C-101B-9397-08002B2CF9AE}" pid="6" name="display_urn:schemas-microsoft-com:office:office#SharedWithUsers">
    <vt:lpwstr>Michel Walda;Veerle Veltman-Kappel;Pam Weerman-Hakvoort;Margo de Ket</vt:lpwstr>
  </property>
</Properties>
</file>