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37.jpeg" ContentType="image/jpeg"/>
  <Override PartName="/ppt/media/image20.png" ContentType="image/png"/>
  <Override PartName="/ppt/media/image36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029B-A3C7-4757-A3CD-B31793364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7243-E884-423A-91E5-E6DE39C3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934511-A9EF-437F-8306-0EB86094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BF82A6-6B6D-49AC-AB19-5EEF50CD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173D6C-4994-473D-95F8-DEF70DA5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121A25-B7BE-42F8-B149-05C05C62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C7A5F6-C5F9-4A9D-833B-00E93EFC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21B63F-76DE-4272-BBE9-A402EC21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5AB1BF-9028-461F-AC16-08230257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E0E73C-642D-4D73-8239-019A84395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F59806-9DA8-40BF-9F2E-7B06680C4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53C9-9CE0-43DA-BFAD-004E19D15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1431-43B8-4FBC-96D6-4D285266B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2AFE3-8112-49FB-BC5A-90C738B7B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63A03-82D0-4DED-BDBA-AC2B0809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F1FC9-7930-4FB1-BE79-B5147E8C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F746F-B958-497E-9695-42CE2884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19898-5EDF-45C7-9B17-E7FB4999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43B1C-ECBD-4238-861D-F8E310D5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389C9-41D4-4227-8D37-E820CFB8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9592-071D-4216-A989-FDCA8103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D35A5-D1DD-48A5-B9EB-77B4FCE3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FBC0C-D776-4A74-BCD5-3A5CE228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D917E-F624-4C76-87CF-361808D4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B56F9-F97F-4A4D-AEF3-0115F7292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8EF4C-8933-4E30-BCB4-FC1ABCCD3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31D93-871C-4EA5-9522-B2CBE3FBB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89BDD-85E2-421A-B7D3-DF1FA8C5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EB77E-DF37-43E7-A0B0-889F35C0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757BC-FBCD-4B7A-A6BE-94F55C32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F5004-C0EA-411A-B1A3-6D58E8A3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FDC2-60F1-4550-8ACB-0942C5A1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60DBB-187F-4E81-B5FE-8CA61878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D6E37-6221-4B05-AAF8-3AC5D1B1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07C6C-A5EE-4952-8D3E-46D38732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6CAB6-94A7-48D7-87C0-E03A2DFF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9F2E3-8542-4B04-8D9E-CB5ABC5F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5E03B-ADC8-4093-9AED-0A029198D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1943F-4E7A-41EB-8361-DA369E1D6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97699B-9E45-4A05-BD83-40924023C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7EAFB7-8042-4C8C-9780-72FE8882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42C128-2130-46EE-A515-94739726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3DB8-5A84-4BFB-9FA0-B720FC66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C08320-08BB-41BD-897F-F63BABF0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5B6A45-CAD0-4721-AA83-BB4774A1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011C53-8189-49C0-9D54-7249A372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878F75-A8D0-4ECE-BE07-CAAB9A10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D2EB3D-924B-4E3C-99A3-0BD60BD5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3A8485-AA45-4A50-8DD2-E6DD3E57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11A855-2378-4555-82D4-C210DC6A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B7CEDA-BD7A-4099-B5A4-CB0C9F412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55102A-E5BA-45F4-8869-5FD1F38D1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367FB-6A16-4976-A5F2-B089AA190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A317-B801-45DB-98FC-7D9127D0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A0AA5-423F-4153-AB20-BEDD9673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E1A6C-243A-430C-875F-6D615492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FEB1C-23E4-4715-9F4F-6567EAA3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21AB3-6A55-4975-8973-DD809AE8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E6067-3139-4F7F-9D0C-6F52F60E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6AC10-1E45-4028-A0BE-07836F1F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EF0D7-1646-41E7-9FFF-DE2C5101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D3C20-FAFA-4A8D-84EA-990FEE9D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BB7D7-6028-460B-8733-A9693EE1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556FD-CB9E-48D8-B3A8-15D11F44A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0724-6E73-4AE6-93B0-9E6D7A63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977FF-845B-4051-A99B-6695F10FB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F8319-AD83-40D9-AB54-5018B4B3D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491A8-B75D-4004-A2B5-B5CF10B9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DE647-9879-4CBF-8EA9-ADE1D06A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CB3C1-AA6E-4E90-ACB3-9914D8D0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98038-50A6-438B-8F33-C7C83F1B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8B4D7-D69F-4EA0-847F-BF19D49D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45E0E-4C97-4659-9950-3D31C6D4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ADB7B-E918-49A1-A372-0DECC5BA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40589-CCB9-4BCA-B59E-B5EAFA0F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655C-5AAD-4ACC-B14F-400F1B8D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D2B7F-B2B7-4F8A-A654-A330C4EC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B7F5B-D864-4AD3-B84C-E80997211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2E5C8-EB00-463B-97C3-0EEF4ECCA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021A9-C053-42BE-AD8B-99CC96D78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FAE6C-089A-43AC-AC5B-C957DE7C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EBC39-584E-4317-83F1-BFCA779A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04674-3D9E-4F4D-9EF6-304C4412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6C288-C990-4174-86A2-D410F25B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F8871-D660-4D14-B0EC-FF1F69C3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9B019-C0D0-4043-89D3-44C8BAA8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CA19-2DCC-4372-A77B-FC01C031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CD5D0-CC13-4105-9DC0-703C592B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637EF-0F45-445D-BA04-E6DD2CD6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2B32E-CFB9-492F-9498-3DB5F340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F89B8-49E5-4E5E-A746-5A70FE89E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C41AC-129A-4EBA-B97A-2994972E8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804453-E3E7-45DE-A7A4-875A696CB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9A90CF-175D-4A4C-B99D-507C6407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A9D0DC-8E3A-4C38-A02A-8CD2C4B3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815010-87DB-4AF4-A4FA-459B86C7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6D5CF2-329F-439B-80CC-D3F8A1F6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901F-5A0E-4537-A754-2EDEE2F6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535C1D-837D-4447-9A15-F524EB02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D2DE49-58F5-4DE9-8CC5-D64699D2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676EA5-A26E-428E-80E2-97801CA4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61EF80-EB12-4CB2-A821-7581F578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1EF254-277F-4333-8FFC-21E53420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C10962-7A20-4AE4-B5FC-0AC0262F0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4B36A9-E53F-4B07-821B-592C3423E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4576BF-A5B7-4514-9D65-986151121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00A9DE-6ADE-4F8B-91FA-6F82811F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A54556-3D7D-4B45-BAD0-1B601F16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1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AB63-8346-440C-9EF1-F1FCEFD1EB76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nd diagonale hoek rechthoek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Rond diagonale hoek rechthoek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B362-4FC9-4E5D-A862-F88F865DE6A4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89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0D23-F8BE-4143-ADE9-62BCE7439B65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hoek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1F4A-2C1F-43F6-B2DA-58648B6A3897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176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C1A9-48C9-424E-9375-3CE781F4B5F5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221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hthoek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hthoek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F693-CB48-409F-8B69-D75F1D88735E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267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2F11-3645-4994-9038-15A8600E5544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hthoek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C881-E340-4F8C-8B4D-C8E37D3C2FDB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18ED-2091-4CAF-BAD6-6E6CE6EAD42A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el 1" descr=""/>
          <p:cNvPicPr/>
          <p:nvPr/>
        </p:nvPicPr>
        <p:blipFill>
          <a:blip r:embed="rId1"/>
          <a:stretch/>
        </p:blipFill>
        <p:spPr>
          <a:xfrm>
            <a:off x="360360" y="573120"/>
            <a:ext cx="8229600" cy="1000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http://www.schoolbieb.nl/uploadedImages/images/Kenmerk/1911.jpg"/>
          <p:cNvPicPr/>
          <p:nvPr/>
        </p:nvPicPr>
        <p:blipFill>
          <a:blip r:embed="rId2"/>
          <a:stretch/>
        </p:blipFill>
        <p:spPr>
          <a:xfrm rot="20206800">
            <a:off x="5862600" y="2378160"/>
            <a:ext cx="2252880" cy="33894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4" descr="http://jeroenboseu.files.wordpress.com/2009/08/eko_keurmerk_logo.jpg"/>
          <p:cNvPicPr/>
          <p:nvPr/>
        </p:nvPicPr>
        <p:blipFill>
          <a:blip r:embed="rId3"/>
          <a:stretch/>
        </p:blipFill>
        <p:spPr>
          <a:xfrm>
            <a:off x="2786040" y="3286080"/>
            <a:ext cx="3006720" cy="32860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http://www.eediete.nl/keuken/pics/groenten.jpg"/>
          <p:cNvPicPr/>
          <p:nvPr/>
        </p:nvPicPr>
        <p:blipFill>
          <a:blip r:embed="rId4"/>
          <a:stretch/>
        </p:blipFill>
        <p:spPr>
          <a:xfrm rot="677400">
            <a:off x="426600" y="3129120"/>
            <a:ext cx="2352600" cy="3136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el 1" descr=""/>
          <p:cNvPicPr/>
          <p:nvPr/>
        </p:nvPicPr>
        <p:blipFill>
          <a:blip r:embed="rId1"/>
          <a:stretch/>
        </p:blipFill>
        <p:spPr>
          <a:xfrm>
            <a:off x="285840" y="360360"/>
            <a:ext cx="8229600" cy="7621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42884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kunstmest, alleen natuurlijke mest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0" name="Picture 2" descr="http://www.agripress.be/_STUDIOEMMA_UPLOADS/foto/artikel/1-gele_mosterd_agripress.jpg"/>
          <p:cNvPicPr/>
          <p:nvPr/>
        </p:nvPicPr>
        <p:blipFill>
          <a:blip r:embed="rId2"/>
          <a:stretch/>
        </p:blipFill>
        <p:spPr>
          <a:xfrm>
            <a:off x="6357960" y="4286160"/>
            <a:ext cx="1517760" cy="1876680"/>
          </a:xfrm>
          <a:prstGeom prst="rect">
            <a:avLst/>
          </a:prstGeom>
          <a:ln w="0">
            <a:noFill/>
          </a:ln>
        </p:spPr>
      </p:pic>
      <p:sp>
        <p:nvSpPr>
          <p:cNvPr id="401" name="Tekstvak 4"/>
          <p:cNvSpPr/>
          <p:nvPr/>
        </p:nvSpPr>
        <p:spPr>
          <a:xfrm>
            <a:off x="5786280" y="6143760"/>
            <a:ext cx="27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f een groenbeme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Picture 4" descr="http://www.nlnatuur.nl/Album/2-Flora/Bloemen%20en%20Planten/slides/Rode%20klaver.jpg"/>
          <p:cNvPicPr/>
          <p:nvPr/>
        </p:nvPicPr>
        <p:blipFill>
          <a:blip r:embed="rId3"/>
          <a:stretch/>
        </p:blipFill>
        <p:spPr>
          <a:xfrm>
            <a:off x="357120" y="4429080"/>
            <a:ext cx="2633760" cy="1714680"/>
          </a:xfrm>
          <a:prstGeom prst="rect">
            <a:avLst/>
          </a:prstGeom>
          <a:ln w="0">
            <a:noFill/>
          </a:ln>
        </p:spPr>
      </p:pic>
      <p:sp>
        <p:nvSpPr>
          <p:cNvPr id="403" name="Tekstvak 6"/>
          <p:cNvSpPr/>
          <p:nvPr/>
        </p:nvSpPr>
        <p:spPr>
          <a:xfrm>
            <a:off x="285840" y="614376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Vlinderbloemigen gebruiken voor stikst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6" descr="http://www.waterlandendijken.nl/images/content/foto%207%20ruige%20mest%20%5B1024x768%5D.JPG"/>
          <p:cNvPicPr/>
          <p:nvPr/>
        </p:nvPicPr>
        <p:blipFill>
          <a:blip r:embed="rId4"/>
          <a:stretch/>
        </p:blipFill>
        <p:spPr>
          <a:xfrm>
            <a:off x="357120" y="2071800"/>
            <a:ext cx="2428920" cy="1820880"/>
          </a:xfrm>
          <a:prstGeom prst="rect">
            <a:avLst/>
          </a:prstGeom>
          <a:ln w="0">
            <a:noFill/>
          </a:ln>
        </p:spPr>
      </p:pic>
      <p:sp>
        <p:nvSpPr>
          <p:cNvPr id="405" name="Tekstvak 8"/>
          <p:cNvSpPr/>
          <p:nvPr/>
        </p:nvSpPr>
        <p:spPr>
          <a:xfrm>
            <a:off x="357120" y="392904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Ruige strorijke m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8" descr="http://www.kraanbedrijfvanassem.nl/images/p002_1_00.png"/>
          <p:cNvPicPr/>
          <p:nvPr/>
        </p:nvPicPr>
        <p:blipFill>
          <a:blip r:embed="rId5"/>
          <a:stretch/>
        </p:blipFill>
        <p:spPr>
          <a:xfrm>
            <a:off x="3786120" y="2071800"/>
            <a:ext cx="2660760" cy="2000160"/>
          </a:xfrm>
          <a:prstGeom prst="rect">
            <a:avLst/>
          </a:prstGeom>
          <a:ln w="0">
            <a:noFill/>
          </a:ln>
        </p:spPr>
      </p:pic>
      <p:sp>
        <p:nvSpPr>
          <p:cNvPr id="407" name="Tekstvak 10"/>
          <p:cNvSpPr/>
          <p:nvPr/>
        </p:nvSpPr>
        <p:spPr>
          <a:xfrm>
            <a:off x="6643800" y="264312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comp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el 1" descr=""/>
          <p:cNvPicPr/>
          <p:nvPr/>
        </p:nvPicPr>
        <p:blipFill>
          <a:blip r:embed="rId1"/>
          <a:stretch/>
        </p:blipFill>
        <p:spPr>
          <a:xfrm>
            <a:off x="0" y="554040"/>
            <a:ext cx="8717040" cy="11224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0" name="Picture 2" descr="het schoffelen"/>
          <p:cNvPicPr/>
          <p:nvPr/>
        </p:nvPicPr>
        <p:blipFill>
          <a:blip r:embed="rId2"/>
          <a:stretch/>
        </p:blipFill>
        <p:spPr>
          <a:xfrm>
            <a:off x="714240" y="1714680"/>
            <a:ext cx="2190960" cy="1645920"/>
          </a:xfrm>
          <a:prstGeom prst="rect">
            <a:avLst/>
          </a:prstGeom>
          <a:ln w="0">
            <a:noFill/>
          </a:ln>
        </p:spPr>
      </p:pic>
      <p:sp>
        <p:nvSpPr>
          <p:cNvPr id="411" name="Tekstvak 4"/>
          <p:cNvSpPr/>
          <p:nvPr/>
        </p:nvSpPr>
        <p:spPr>
          <a:xfrm>
            <a:off x="642960" y="35002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nkruid schoff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4" descr="onkruidbrander"/>
          <p:cNvPicPr/>
          <p:nvPr/>
        </p:nvPicPr>
        <p:blipFill>
          <a:blip r:embed="rId3"/>
          <a:stretch/>
        </p:blipFill>
        <p:spPr>
          <a:xfrm>
            <a:off x="3571920" y="1714680"/>
            <a:ext cx="2262240" cy="1698480"/>
          </a:xfrm>
          <a:prstGeom prst="rect">
            <a:avLst/>
          </a:prstGeom>
          <a:ln w="0">
            <a:noFill/>
          </a:ln>
        </p:spPr>
      </p:pic>
      <p:sp>
        <p:nvSpPr>
          <p:cNvPr id="413" name="Tekstvak 6"/>
          <p:cNvSpPr/>
          <p:nvPr/>
        </p:nvSpPr>
        <p:spPr>
          <a:xfrm>
            <a:off x="3643200" y="3571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nkruid bran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6" descr="aanaarden"/>
          <p:cNvPicPr/>
          <p:nvPr/>
        </p:nvPicPr>
        <p:blipFill>
          <a:blip r:embed="rId4"/>
          <a:stretch/>
        </p:blipFill>
        <p:spPr>
          <a:xfrm>
            <a:off x="6357960" y="1714680"/>
            <a:ext cx="2282760" cy="1714320"/>
          </a:xfrm>
          <a:prstGeom prst="rect">
            <a:avLst/>
          </a:prstGeom>
          <a:ln w="0">
            <a:noFill/>
          </a:ln>
        </p:spPr>
      </p:pic>
      <p:sp>
        <p:nvSpPr>
          <p:cNvPr id="415" name="Tekstvak 8"/>
          <p:cNvSpPr/>
          <p:nvPr/>
        </p:nvSpPr>
        <p:spPr>
          <a:xfrm>
            <a:off x="6500880" y="357192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Aanaar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8" descr="http://www.koppert.nl/uploads/RTEmagicC_c22b2a56a4.jpg.jpg"/>
          <p:cNvPicPr/>
          <p:nvPr/>
        </p:nvPicPr>
        <p:blipFill>
          <a:blip r:embed="rId5"/>
          <a:stretch/>
        </p:blipFill>
        <p:spPr>
          <a:xfrm>
            <a:off x="1000080" y="4357800"/>
            <a:ext cx="1214640" cy="1228680"/>
          </a:xfrm>
          <a:prstGeom prst="rect">
            <a:avLst/>
          </a:prstGeom>
          <a:ln w="0">
            <a:noFill/>
          </a:ln>
        </p:spPr>
      </p:pic>
      <p:sp>
        <p:nvSpPr>
          <p:cNvPr id="417" name="Tekstvak 10"/>
          <p:cNvSpPr/>
          <p:nvPr/>
        </p:nvSpPr>
        <p:spPr>
          <a:xfrm>
            <a:off x="714240" y="592920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Lieveheersbeestje tegen bladlu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10" descr="http://www.koppert.nl/uploads/RTEmagicC_c360a1d610.jpg.jpg"/>
          <p:cNvPicPr/>
          <p:nvPr/>
        </p:nvPicPr>
        <p:blipFill>
          <a:blip r:embed="rId6"/>
          <a:stretch/>
        </p:blipFill>
        <p:spPr>
          <a:xfrm>
            <a:off x="5143680" y="4357800"/>
            <a:ext cx="1442880" cy="1143000"/>
          </a:xfrm>
          <a:prstGeom prst="rect">
            <a:avLst/>
          </a:prstGeom>
          <a:ln w="0">
            <a:noFill/>
          </a:ln>
        </p:spPr>
      </p:pic>
      <p:sp>
        <p:nvSpPr>
          <p:cNvPr id="419" name="Tekstvak 12"/>
          <p:cNvSpPr/>
          <p:nvPr/>
        </p:nvSpPr>
        <p:spPr>
          <a:xfrm>
            <a:off x="5286240" y="585792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roofmij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12" descr="http://www.koppert.nl/uploads/RTEmagicC_6609ea817a.jpg.jpg"/>
          <p:cNvPicPr/>
          <p:nvPr/>
        </p:nvPicPr>
        <p:blipFill>
          <a:blip r:embed="rId7"/>
          <a:stretch/>
        </p:blipFill>
        <p:spPr>
          <a:xfrm>
            <a:off x="6858000" y="4357800"/>
            <a:ext cx="1882800" cy="1162080"/>
          </a:xfrm>
          <a:prstGeom prst="rect">
            <a:avLst/>
          </a:prstGeom>
          <a:ln w="0">
            <a:noFill/>
          </a:ln>
        </p:spPr>
      </p:pic>
      <p:sp>
        <p:nvSpPr>
          <p:cNvPr id="421" name="Tekstvak 14"/>
          <p:cNvSpPr/>
          <p:nvPr/>
        </p:nvSpPr>
        <p:spPr>
          <a:xfrm>
            <a:off x="7000920" y="58579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sluip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el 1" descr=""/>
          <p:cNvPicPr/>
          <p:nvPr/>
        </p:nvPicPr>
        <p:blipFill>
          <a:blip r:embed="rId1"/>
          <a:stretch/>
        </p:blipFill>
        <p:spPr>
          <a:xfrm>
            <a:off x="1646280" y="500040"/>
            <a:ext cx="5754600" cy="7556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ingrepen aan de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4" name="Picture 2" descr="http://www.demeter-bd.nl/Images/KoeMetHorens.jpg"/>
          <p:cNvPicPr/>
          <p:nvPr/>
        </p:nvPicPr>
        <p:blipFill>
          <a:blip r:embed="rId2"/>
          <a:stretch/>
        </p:blipFill>
        <p:spPr>
          <a:xfrm>
            <a:off x="1000080" y="3000240"/>
            <a:ext cx="1500120" cy="1500480"/>
          </a:xfrm>
          <a:prstGeom prst="rect">
            <a:avLst/>
          </a:prstGeom>
          <a:ln w="0">
            <a:noFill/>
          </a:ln>
        </p:spPr>
      </p:pic>
      <p:sp>
        <p:nvSpPr>
          <p:cNvPr id="425" name="Tekstvak 4"/>
          <p:cNvSpPr/>
          <p:nvPr/>
        </p:nvSpPr>
        <p:spPr>
          <a:xfrm>
            <a:off x="500040" y="485784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Koeien niet onthoor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Picture 4" descr="http://www.willemwever.nl/gxnc/ZyxhvtpHoB.jpeg"/>
          <p:cNvPicPr/>
          <p:nvPr/>
        </p:nvPicPr>
        <p:blipFill>
          <a:blip r:embed="rId3"/>
          <a:stretch/>
        </p:blipFill>
        <p:spPr>
          <a:xfrm>
            <a:off x="3357720" y="3143160"/>
            <a:ext cx="2143080" cy="1428840"/>
          </a:xfrm>
          <a:prstGeom prst="rect">
            <a:avLst/>
          </a:prstGeom>
          <a:ln w="0">
            <a:noFill/>
          </a:ln>
        </p:spPr>
      </p:pic>
      <p:sp>
        <p:nvSpPr>
          <p:cNvPr id="427" name="Tekstvak 6"/>
          <p:cNvSpPr/>
          <p:nvPr/>
        </p:nvSpPr>
        <p:spPr>
          <a:xfrm>
            <a:off x="3214800" y="48578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staarten coupe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8" descr="CSC_1825.jpg image by bretonniaholland"/>
          <p:cNvPicPr/>
          <p:nvPr/>
        </p:nvPicPr>
        <p:blipFill>
          <a:blip r:embed="rId4"/>
          <a:stretch/>
        </p:blipFill>
        <p:spPr>
          <a:xfrm>
            <a:off x="6357960" y="321480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429" name="Tekstvak 9"/>
          <p:cNvSpPr/>
          <p:nvPr/>
        </p:nvSpPr>
        <p:spPr>
          <a:xfrm>
            <a:off x="6286680" y="4857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snavels kapp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el 1" descr=""/>
          <p:cNvPicPr/>
          <p:nvPr/>
        </p:nvPicPr>
        <p:blipFill>
          <a:blip r:embed="rId1"/>
          <a:stretch/>
        </p:blipFill>
        <p:spPr>
          <a:xfrm>
            <a:off x="1427040" y="360360"/>
            <a:ext cx="6070680" cy="8287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Zo hoog mogelijk welzijn voor de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2" name="Picture 2" descr="http://web.methodus.nl/~vangin/uploads/varken.jpg_50.jpg"/>
          <p:cNvPicPr/>
          <p:nvPr/>
        </p:nvPicPr>
        <p:blipFill>
          <a:blip r:embed="rId2"/>
          <a:stretch/>
        </p:blipFill>
        <p:spPr>
          <a:xfrm>
            <a:off x="642960" y="2857680"/>
            <a:ext cx="2214720" cy="1444320"/>
          </a:xfrm>
          <a:prstGeom prst="rect">
            <a:avLst/>
          </a:prstGeom>
          <a:ln w="0">
            <a:noFill/>
          </a:ln>
        </p:spPr>
      </p:pic>
      <p:sp>
        <p:nvSpPr>
          <p:cNvPr id="433" name="Tekstvak 4"/>
          <p:cNvSpPr/>
          <p:nvPr/>
        </p:nvSpPr>
        <p:spPr>
          <a:xfrm>
            <a:off x="571680" y="44290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Buiten scharr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4" descr="http://www.ziezo.biz/media/default.aspx/emma/org/10339433/kippen.jpg"/>
          <p:cNvPicPr/>
          <p:nvPr/>
        </p:nvPicPr>
        <p:blipFill>
          <a:blip r:embed="rId3"/>
          <a:stretch/>
        </p:blipFill>
        <p:spPr>
          <a:xfrm>
            <a:off x="3571920" y="2786040"/>
            <a:ext cx="2100240" cy="1500120"/>
          </a:xfrm>
          <a:prstGeom prst="rect">
            <a:avLst/>
          </a:prstGeom>
          <a:ln w="0">
            <a:noFill/>
          </a:ln>
        </p:spPr>
      </p:pic>
      <p:sp>
        <p:nvSpPr>
          <p:cNvPr id="435" name="Tekstvak 6"/>
          <p:cNvSpPr/>
          <p:nvPr/>
        </p:nvSpPr>
        <p:spPr>
          <a:xfrm>
            <a:off x="5715000" y="300024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ok in de stal meer ruimte, daglicht, verse lucht en stroois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Picture 6" descr="http://www.obio.nl/obiofotos/albums/2009-09-19Septemberneisimmer/CRW_3916.jpg"/>
          <p:cNvPicPr/>
          <p:nvPr/>
        </p:nvPicPr>
        <p:blipFill>
          <a:blip r:embed="rId4"/>
          <a:stretch/>
        </p:blipFill>
        <p:spPr>
          <a:xfrm>
            <a:off x="5929200" y="4857840"/>
            <a:ext cx="2475000" cy="1643040"/>
          </a:xfrm>
          <a:prstGeom prst="rect">
            <a:avLst/>
          </a:prstGeom>
          <a:ln w="0">
            <a:noFill/>
          </a:ln>
        </p:spPr>
      </p:pic>
      <p:sp>
        <p:nvSpPr>
          <p:cNvPr id="437" name="Tekstvak 8"/>
          <p:cNvSpPr/>
          <p:nvPr/>
        </p:nvSpPr>
        <p:spPr>
          <a:xfrm>
            <a:off x="3786120" y="507204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Koeien verplich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‘</a:t>
            </a: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s zomers in de we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Titel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" descr="mijn hooilandje - my hay meadow by AnneTanne."/>
          <p:cNvPicPr/>
          <p:nvPr/>
        </p:nvPicPr>
        <p:blipFill>
          <a:blip r:embed="rId2"/>
          <a:stretch/>
        </p:blipFill>
        <p:spPr>
          <a:xfrm>
            <a:off x="785880" y="1714680"/>
            <a:ext cx="2044800" cy="1357200"/>
          </a:xfrm>
          <a:prstGeom prst="rect">
            <a:avLst/>
          </a:prstGeom>
          <a:ln w="0">
            <a:noFill/>
          </a:ln>
        </p:spPr>
      </p:pic>
      <p:sp>
        <p:nvSpPr>
          <p:cNvPr id="440" name="Tekstvak 4"/>
          <p:cNvSpPr/>
          <p:nvPr/>
        </p:nvSpPr>
        <p:spPr>
          <a:xfrm>
            <a:off x="642960" y="328608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Veel kruiden in gras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Picture 4" descr="http://www.borsele.nl/upload/bd2dc07a-d787-4c0b-ac17-95c039e6d452_vlinders.jpg"/>
          <p:cNvPicPr/>
          <p:nvPr/>
        </p:nvPicPr>
        <p:blipFill>
          <a:blip r:embed="rId3"/>
          <a:stretch/>
        </p:blipFill>
        <p:spPr>
          <a:xfrm>
            <a:off x="4357800" y="1643040"/>
            <a:ext cx="1838160" cy="13748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Jufferresize.jpg image by demona000"/>
          <p:cNvPicPr/>
          <p:nvPr/>
        </p:nvPicPr>
        <p:blipFill>
          <a:blip r:embed="rId4"/>
          <a:stretch/>
        </p:blipFill>
        <p:spPr>
          <a:xfrm>
            <a:off x="6643800" y="1571760"/>
            <a:ext cx="1199880" cy="1546200"/>
          </a:xfrm>
          <a:prstGeom prst="rect">
            <a:avLst/>
          </a:prstGeom>
          <a:ln w="0">
            <a:noFill/>
          </a:ln>
        </p:spPr>
      </p:pic>
      <p:sp>
        <p:nvSpPr>
          <p:cNvPr id="443" name="Tekstvak 8"/>
          <p:cNvSpPr/>
          <p:nvPr/>
        </p:nvSpPr>
        <p:spPr>
          <a:xfrm>
            <a:off x="4286160" y="32860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Daardoor meer vlinders en insec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10" descr="http://www.tgsoftware.nl/software/tijger32/catalog/bio_bod.jpg"/>
          <p:cNvPicPr/>
          <p:nvPr/>
        </p:nvPicPr>
        <p:blipFill>
          <a:blip r:embed="rId5"/>
          <a:stretch/>
        </p:blipFill>
        <p:spPr>
          <a:xfrm>
            <a:off x="714240" y="3929040"/>
            <a:ext cx="2810160" cy="1930320"/>
          </a:xfrm>
          <a:prstGeom prst="rect">
            <a:avLst/>
          </a:prstGeom>
          <a:ln w="0">
            <a:noFill/>
          </a:ln>
        </p:spPr>
      </p:pic>
      <p:sp>
        <p:nvSpPr>
          <p:cNvPr id="445" name="Tekstvak 10"/>
          <p:cNvSpPr/>
          <p:nvPr/>
        </p:nvSpPr>
        <p:spPr>
          <a:xfrm>
            <a:off x="642960" y="6143760"/>
            <a:ext cx="38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zonde bodem met veel diertj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12" descr="http://provincie.overijssel.nl/contents/pages/2376/hotspot_weidevogels.jpg"/>
          <p:cNvPicPr/>
          <p:nvPr/>
        </p:nvPicPr>
        <p:blipFill>
          <a:blip r:embed="rId6"/>
          <a:stretch/>
        </p:blipFill>
        <p:spPr>
          <a:xfrm>
            <a:off x="5715000" y="3929040"/>
            <a:ext cx="2313000" cy="2028960"/>
          </a:xfrm>
          <a:prstGeom prst="rect">
            <a:avLst/>
          </a:prstGeom>
          <a:ln w="0">
            <a:noFill/>
          </a:ln>
        </p:spPr>
      </p:pic>
      <p:sp>
        <p:nvSpPr>
          <p:cNvPr id="447" name="Tekstvak 12"/>
          <p:cNvSpPr/>
          <p:nvPr/>
        </p:nvSpPr>
        <p:spPr>
          <a:xfrm>
            <a:off x="5572080" y="607212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oed voor weidevog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el 1" descr=""/>
          <p:cNvPicPr/>
          <p:nvPr/>
        </p:nvPicPr>
        <p:blipFill>
          <a:blip r:embed="rId1"/>
          <a:stretch/>
        </p:blipFill>
        <p:spPr>
          <a:xfrm>
            <a:off x="2646360" y="360360"/>
            <a:ext cx="3894120" cy="7794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Beperkte anti-biotica bij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Sterke rassen gebruik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gentech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Ruime vruchtwisseling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Strenge controle door Ska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Titel 1" descr=""/>
          <p:cNvPicPr/>
          <p:nvPr/>
        </p:nvPicPr>
        <p:blipFill>
          <a:blip r:embed="rId1"/>
          <a:stretch/>
        </p:blipFill>
        <p:spPr>
          <a:xfrm>
            <a:off x="1073160" y="328680"/>
            <a:ext cx="7473960" cy="11714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http://www.admb.be/evap/evap.lees_blob?p_file=F31372/BIOCIDE.JPG"/>
          <p:cNvPicPr/>
          <p:nvPr/>
        </p:nvPicPr>
        <p:blipFill>
          <a:blip r:embed="rId2"/>
          <a:stretch/>
        </p:blipFill>
        <p:spPr>
          <a:xfrm>
            <a:off x="571680" y="1643040"/>
            <a:ext cx="1703160" cy="1428840"/>
          </a:xfrm>
          <a:prstGeom prst="rect">
            <a:avLst/>
          </a:prstGeom>
          <a:ln w="0">
            <a:noFill/>
          </a:ln>
        </p:spPr>
      </p:pic>
      <p:sp>
        <p:nvSpPr>
          <p:cNvPr id="452" name="Tekstvak 4"/>
          <p:cNvSpPr/>
          <p:nvPr/>
        </p:nvSpPr>
        <p:spPr>
          <a:xfrm>
            <a:off x="2786040" y="214308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resten van gif in je voe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Picture 4" descr="http://images.volkskrant.com/hartziel/uploads/users/legacy/wortelen1211378848.jpg"/>
          <p:cNvPicPr/>
          <p:nvPr/>
        </p:nvPicPr>
        <p:blipFill>
          <a:blip r:embed="rId3"/>
          <a:stretch/>
        </p:blipFill>
        <p:spPr>
          <a:xfrm>
            <a:off x="571680" y="3286080"/>
            <a:ext cx="1231560" cy="1643040"/>
          </a:xfrm>
          <a:prstGeom prst="rect">
            <a:avLst/>
          </a:prstGeom>
          <a:ln w="0">
            <a:noFill/>
          </a:ln>
        </p:spPr>
      </p:pic>
      <p:sp>
        <p:nvSpPr>
          <p:cNvPr id="454" name="Tekstvak 6"/>
          <p:cNvSpPr/>
          <p:nvPr/>
        </p:nvSpPr>
        <p:spPr>
          <a:xfrm>
            <a:off x="2214720" y="357192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Producten zijn vaak smaakvoller omdat ze langzaam gegroeid en gerijpt zij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Picture 6" descr="http://members.chello.nl/r.kuijt/images/nl_voedingsstoffen.jpg"/>
          <p:cNvPicPr/>
          <p:nvPr/>
        </p:nvPicPr>
        <p:blipFill>
          <a:blip r:embed="rId4"/>
          <a:stretch/>
        </p:blipFill>
        <p:spPr>
          <a:xfrm>
            <a:off x="571680" y="5143680"/>
            <a:ext cx="1428480" cy="1428480"/>
          </a:xfrm>
          <a:prstGeom prst="rect">
            <a:avLst/>
          </a:prstGeom>
          <a:ln w="0">
            <a:noFill/>
          </a:ln>
        </p:spPr>
      </p:pic>
      <p:sp>
        <p:nvSpPr>
          <p:cNvPr id="456" name="Tekstvak 8"/>
          <p:cNvSpPr/>
          <p:nvPr/>
        </p:nvSpPr>
        <p:spPr>
          <a:xfrm>
            <a:off x="2357280" y="5286240"/>
            <a:ext cx="61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Meer bijzondere voedingsstoffen zoals Omega-3 vetzuren, anti-oxidanten en vitamine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21:26:55Z</dcterms:created>
  <dc:creator>wouter keppel</dc:creator>
  <dc:description/>
  <dc:language>en-US</dc:language>
  <cp:lastModifiedBy>Mecheline Lips-Maas</cp:lastModifiedBy>
  <dcterms:modified xsi:type="dcterms:W3CDTF">2016-02-18T14:16:27Z</dcterms:modified>
  <cp:revision>31</cp:revision>
  <dc:subject/>
  <dc:title>BIOLOGISCHE VOED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aredWithUsers">
    <vt:lpwstr>50;#Michel Walda;#48;#Veerle Veltman-Kappel;#38;#Pam Weerman-Hakvoort;#49;#Margo de Ket</vt:lpwstr>
  </property>
  <property fmtid="{D5CDD505-2E9C-101B-9397-08002B2CF9AE}" pid="3" name="_dlc_DocId">
    <vt:lpwstr>H7CVNQAUUZ3W-1444270466-2020</vt:lpwstr>
  </property>
  <property fmtid="{D5CDD505-2E9C-101B-9397-08002B2CF9AE}" pid="4" name="_dlc_DocIdItemGuid">
    <vt:lpwstr>8db63659-1b33-401e-a604-e07624fea5a5</vt:lpwstr>
  </property>
  <property fmtid="{D5CDD505-2E9C-101B-9397-08002B2CF9AE}" pid="5" name="_dlc_DocIdUrl">
    <vt:lpwstr>https://liveadminclusius.sharepoint.com/sites/castricum-vmbo-profielgroen/_layouts/15/DocIdRedir.aspx?ID=H7CVNQAUUZ3W-1444270466-2020, H7CVNQAUUZ3W-1444270466-2020</vt:lpwstr>
  </property>
  <property fmtid="{D5CDD505-2E9C-101B-9397-08002B2CF9AE}" pid="6" name="display_urn:schemas-microsoft-com:office:office#SharedWithUsers">
    <vt:lpwstr>Michel Walda;Veerle Veltman-Kappel;Pam Weerman-Hakvoort;Margo de Ket</vt:lpwstr>
  </property>
</Properties>
</file>