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43EC-622C-4E98-B33D-C4A82C80FD5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901A-82E6-41BE-85D6-B69050B0F3B2}"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25B0-2128-4BA8-8A59-CEC29B028E98}"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48BE-A39E-4299-989E-C1F482E4DE38}"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7BAA-D3D6-4896-BC19-28EEC177E7D9}"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2DE2-D5AD-4E7F-9D77-C9524634D88B}"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7-02-06T23:29:25Z</dcterms:modified>
  <cp:revision>162</cp:revision>
  <dc:subject/>
  <dc:title>Werken met machines met sensoren</dc:title>
</cp:coreProperties>
</file>