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6C4-0F47-4AF3-B787-B36D578E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851-DFA9-4412-912E-F9FC2FB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114-4B6B-4366-B790-C60726B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922-6032-4D0E-90D6-3AF59EAC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0F6-C39A-4A63-93BC-9EBB78C0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D6AD-0677-4DB7-8469-36C318E3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4133-FAE8-4758-8795-9B9C37B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3046-94B1-494B-A2C2-C6570A4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83FD-6119-4904-9479-C074CC6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6DD-DFDD-43A4-B489-87307017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477B-528F-48DB-8BDB-359900C3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F0F-5486-4259-A7C9-CE9808B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4450-5BAB-4696-9CBC-4B035F4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651B-99F4-42A4-9C16-14E5A24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CED-9D50-4A7D-A06C-5DFC2D0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45D6-10EE-4D6D-B71D-A8C00AE5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FF37-28C4-4E83-BD9B-3C66F0BE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FF5-900E-49EA-B23F-DAEA81BA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140-4410-487C-B429-9E74D2DB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D66-C974-498B-9573-3FC44B87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E72-B9C8-4DE5-A745-90777284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363-8707-4210-9FF2-CCDB04B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517-DA45-4D6F-88F8-CF3F93C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833-4BAA-41F9-9E27-FD5313E3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F9DA-7BEE-4566-B868-FE68D407D32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4D7-39ED-4C1B-9CD2-FEB28ED6760B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ERVOOR …………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6666"/>
                </a:solidFill>
                <a:latin typeface="Arial"/>
              </a:rPr>
              <a:t>ERN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AANGET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Documents and Settings\jibi\Bureau\avant-après\1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2492280"/>
            <a:ext cx="2994120" cy="390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2492280"/>
            <a:ext cx="3671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AANGEVRE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GESCHIMME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EDEUK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EST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RO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VUI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ZU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ZWART GEBLAKE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……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AN MATERIAAL </a:t>
            </a:r>
            <a:br>
              <a:rPr sz="3200"/>
            </a:b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NAAR PRODUC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2" descr="C:\Documents and Settings\jibi\Bureau\avant-après\2.jpg"/>
          <p:cNvPicPr/>
          <p:nvPr/>
        </p:nvPicPr>
        <p:blipFill>
          <a:blip r:embed="rId1"/>
          <a:stretch/>
        </p:blipFill>
        <p:spPr>
          <a:xfrm>
            <a:off x="4572000" y="620640"/>
            <a:ext cx="4208400" cy="552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26920" y="2708280"/>
            <a:ext cx="316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BASISPRODU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GRONDS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REDIËN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ATERIA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OEGER en 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C:\Documents and Settings\jibi\Bureau\avant-après\21.jpg"/>
          <p:cNvPicPr/>
          <p:nvPr/>
        </p:nvPicPr>
        <p:blipFill>
          <a:blip r:embed="rId1"/>
          <a:stretch/>
        </p:blipFill>
        <p:spPr>
          <a:xfrm>
            <a:off x="1187280" y="2421000"/>
            <a:ext cx="6409080" cy="38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5940360" y="981000"/>
            <a:ext cx="2664000" cy="28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APPARA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KLE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PERSON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WERK / BEROE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WON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VERVO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AN OUD NAAR NIEU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2" descr="C:\Documents and Settings\jibi\Bureau\avant-après\18.jpg"/>
          <p:cNvPicPr/>
          <p:nvPr/>
        </p:nvPicPr>
        <p:blipFill>
          <a:blip r:embed="rId1"/>
          <a:stretch/>
        </p:blipFill>
        <p:spPr>
          <a:xfrm>
            <a:off x="1403280" y="2492280"/>
            <a:ext cx="5184720" cy="388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6732720" y="2852640"/>
            <a:ext cx="223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OPLAPP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HERSTELL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OPPIMP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UITDEUK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BOUW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9:03:13Z</dcterms:created>
  <dc:creator>tvavezaath</dc:creator>
  <dc:description/>
  <dc:language>en-US</dc:language>
  <cp:lastModifiedBy>Theo van Avezaath</cp:lastModifiedBy>
  <dcterms:modified xsi:type="dcterms:W3CDTF">2014-04-15T07:00:54Z</dcterms:modified>
  <cp:revision>7</cp:revision>
  <dc:subject/>
  <dc:title>ERVOOR …………….</dc:title>
</cp:coreProperties>
</file>