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EE44-750E-4493-BE84-6E672F103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048E-3030-4517-8627-97C81510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2F0B-94A9-444A-98E1-E15C71DB2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4384-BD9C-443B-980D-182125096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7A69-3A05-4CB6-86EB-F9874A60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332D-1661-43EA-BE4D-8536713C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C529-F405-4C24-9429-7AEC7096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2888-0D44-40E9-A84E-EE3CC1E7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27A9-E384-487F-9719-8B72167E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0A15-F436-452B-BCA7-BF5C462F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961F-388D-4F95-8070-C0888397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9FB2-EE10-45AE-B072-1461F562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002f2f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DC77-13A6-493E-8772-C6EAB2B1DA7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66ff33"/>
                </a:solidFill>
                <a:latin typeface="Arial"/>
              </a:rPr>
              <a:t>TEKENEN RASTER</a:t>
            </a:r>
            <a:br>
              <a:rPr sz="4400"/>
            </a:br>
            <a:r>
              <a:rPr b="1" lang="nl-NL" sz="4400" spc="-1" strike="noStrike">
                <a:solidFill>
                  <a:srgbClr val="66ff33"/>
                </a:solidFill>
                <a:latin typeface="Arial"/>
              </a:rPr>
              <a:t>voor opdracht PORTR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385740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4788000" y="1268280"/>
            <a:ext cx="403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STAP 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-Gum de lijnen,</a:t>
            </a:r>
            <a:br>
              <a:rPr sz="3200"/>
            </a:b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buiten de </a:t>
            </a:r>
            <a:br>
              <a:rPr sz="3200"/>
            </a:b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rechthoek met</a:t>
            </a:r>
            <a:br>
              <a:rPr sz="3200"/>
            </a:b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hokjes, we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3836880" cy="568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4788000" y="1268280"/>
            <a:ext cx="403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STAP 9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-Nummer zow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horizontaal é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verticaal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hokj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3779640" cy="59641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4788000" y="1268280"/>
            <a:ext cx="4032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Je ruitjespatr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is klaar v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de basisv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Daarna kun je</a:t>
            </a:r>
            <a:br>
              <a:rPr sz="3200"/>
            </a:b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het portret g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teken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Succe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3779640" cy="59641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4500720" y="476280"/>
            <a:ext cx="41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3779640" cy="5964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4716360" y="476280"/>
            <a:ext cx="367056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4716360" y="1197000"/>
            <a:ext cx="40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66ff33"/>
                </a:solidFill>
                <a:latin typeface="Arial"/>
              </a:rPr>
              <a:t>TEKENEN VAN RASTE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66ff33"/>
                </a:solidFill>
                <a:latin typeface="Arial"/>
              </a:rPr>
              <a:t>-Bestaat uit 5 hokjes horizontaal</a:t>
            </a:r>
            <a:br>
              <a:rPr sz="1800"/>
            </a:br>
            <a:r>
              <a:rPr b="1" lang="nl-NL" sz="1800" spc="-1" strike="noStrike">
                <a:solidFill>
                  <a:srgbClr val="66ff33"/>
                </a:solidFill>
                <a:latin typeface="Arial"/>
              </a:rPr>
              <a:t> en 7 hokjes vertica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66ff33"/>
                </a:solidFill>
                <a:latin typeface="Arial"/>
              </a:rPr>
              <a:t>-hulpmiddel voor indeling hoo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4859280" y="4292640"/>
            <a:ext cx="40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66ff33"/>
                </a:solidFill>
                <a:latin typeface="Arial"/>
              </a:rPr>
              <a:t>WAT HEB JE NODIG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66ff33"/>
                </a:solidFill>
                <a:latin typeface="Arial"/>
              </a:rPr>
              <a:t>-Tekenpapier  32,5 x 50 cm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66ff33"/>
                </a:solidFill>
                <a:latin typeface="Arial"/>
              </a:rPr>
              <a:t>-liniaal 40 cm. of lan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66ff33"/>
                </a:solidFill>
                <a:latin typeface="Arial"/>
              </a:rPr>
              <a:t>-potlood HB of 2B met scherpe</a:t>
            </a:r>
            <a:br>
              <a:rPr sz="1800"/>
            </a:br>
            <a:r>
              <a:rPr b="1" lang="nl-NL" sz="1800" spc="-1" strike="noStrike">
                <a:solidFill>
                  <a:srgbClr val="66ff33"/>
                </a:solidFill>
                <a:latin typeface="Arial"/>
              </a:rPr>
              <a:t> pu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66ff33"/>
                </a:solidFill>
                <a:latin typeface="Arial"/>
              </a:rPr>
              <a:t>-g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572000" y="981000"/>
            <a:ext cx="4032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STAP 1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-Teken linksbo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én linkso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3,5 cm. 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-Teken dun een </a:t>
            </a:r>
            <a:br>
              <a:rPr sz="3200"/>
            </a:b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potloodlijn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geheel boven t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onderaan het bl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3914640" cy="5832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7093080" y="476280"/>
            <a:ext cx="1090440" cy="177624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3585960" cy="54007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4572000" y="836640"/>
            <a:ext cx="4032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STAP 2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-Teken aan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bovenzijde zowel</a:t>
            </a:r>
            <a:br>
              <a:rPr sz="3200"/>
            </a:b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 links én rec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7 cm. af.</a:t>
            </a:r>
            <a:br>
              <a:rPr sz="3200"/>
            </a:b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-teken dan over de</a:t>
            </a:r>
            <a:br>
              <a:rPr sz="3200"/>
            </a:b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gehele breedte d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de horizontale lij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692360" y="692280"/>
            <a:ext cx="5715000" cy="3409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755640" y="4653000"/>
            <a:ext cx="7848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STA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-Teken vanaf het kruispunt van de 2</a:t>
            </a:r>
            <a:br>
              <a:rPr sz="3200"/>
            </a:b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 lijn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5 x 5 cm. af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4076640" cy="5715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4716360" y="1052640"/>
            <a:ext cx="403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STAP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-Teken ook </a:t>
            </a:r>
            <a:br>
              <a:rPr sz="3200"/>
            </a:b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onderaan</a:t>
            </a:r>
            <a:br>
              <a:rPr sz="3200"/>
            </a:b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5 x 5 cm. a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3914640" cy="5715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4716360" y="1052640"/>
            <a:ext cx="403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STAP 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-Teken dun de</a:t>
            </a:r>
            <a:br>
              <a:rPr sz="3200"/>
            </a:b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5 verticale lijnen</a:t>
            </a:r>
            <a:br>
              <a:rPr sz="3200"/>
            </a:b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tot onder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3873240" cy="62643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4716360" y="1052640"/>
            <a:ext cx="4032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STAP 6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-Teken nu zowel</a:t>
            </a:r>
            <a:br>
              <a:rPr sz="3200"/>
            </a:b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links en rec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vanaf de boven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horizontale l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7 x 5 cm a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389592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4716360" y="1052640"/>
            <a:ext cx="403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STAP 7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-Teken nu dun</a:t>
            </a:r>
            <a:br>
              <a:rPr sz="3200"/>
            </a:b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de 7 horizontale</a:t>
            </a:r>
            <a:br>
              <a:rPr sz="3200"/>
            </a:b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lijn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2T18:46:31Z</dcterms:created>
  <dc:creator>tvavezaath</dc:creator>
  <dc:description/>
  <dc:language>en-US</dc:language>
  <cp:lastModifiedBy>Theo van Avezaath</cp:lastModifiedBy>
  <dcterms:modified xsi:type="dcterms:W3CDTF">2015-02-03T06:55:42Z</dcterms:modified>
  <cp:revision>16</cp:revision>
  <dc:subject/>
  <dc:title>TEKENEN RASTER voor opdracht PORTRET</dc:title>
</cp:coreProperties>
</file>