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655-3073-4153-B01F-140BCC12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132-B675-489C-8E2F-D5A3478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BE-EB1D-48FA-ABFE-16294B78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909-11FA-43B4-BBC0-C7C522DF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F50-99DF-4D7C-B93C-9665246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D48-7AD2-4064-85A3-2C66A95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0FF-0206-476D-8E28-CDAAFCA0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431-5526-4FA8-88C1-916AE74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E06-E3F9-4841-A785-9AF6F6A6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50C-82B9-4E57-A947-5B65B5A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8F9-28BC-4685-9DD8-E0DAAC4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FEB-FB23-419C-98E5-25A7BC70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9AF-9A73-4355-8C34-38CA983027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OPD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OMETRISCHE V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143080" cy="2143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29528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28600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32000" y="476280"/>
            <a:ext cx="2705400" cy="2467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164360" y="549360"/>
            <a:ext cx="1117800" cy="2089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13" descr=""/>
          <p:cNvPicPr/>
          <p:nvPr/>
        </p:nvPicPr>
        <p:blipFill>
          <a:blip r:embed="rId6"/>
          <a:srcRect l="0" t="0" r="19958" b="0"/>
          <a:stretch/>
        </p:blipFill>
        <p:spPr>
          <a:xfrm>
            <a:off x="3851280" y="3141720"/>
            <a:ext cx="4968720" cy="340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D door/met eigen schaduw / met slagschad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3200" y="549360"/>
            <a:ext cx="43718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4" descr=""/>
          <p:cNvPicPr/>
          <p:nvPr/>
        </p:nvPicPr>
        <p:blipFill>
          <a:blip r:embed="rId2"/>
          <a:stretch/>
        </p:blipFill>
        <p:spPr>
          <a:xfrm>
            <a:off x="676440" y="2708280"/>
            <a:ext cx="7200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692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BASISVORMEN IN VOO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obbelsteen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6" descr="hoedkegelvorm"/>
          <p:cNvPicPr/>
          <p:nvPr/>
        </p:nvPicPr>
        <p:blipFill>
          <a:blip r:embed="rId2"/>
          <a:stretch/>
        </p:blipFill>
        <p:spPr>
          <a:xfrm>
            <a:off x="900000" y="4221000"/>
            <a:ext cx="17398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7" descr="taspiramide"/>
          <p:cNvPicPr/>
          <p:nvPr/>
        </p:nvPicPr>
        <p:blipFill>
          <a:blip r:embed="rId3"/>
          <a:stretch/>
        </p:blipFill>
        <p:spPr>
          <a:xfrm>
            <a:off x="5435640" y="3141720"/>
            <a:ext cx="3044880" cy="304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Picture 8" descr="prisma2"/>
          <p:cNvPicPr/>
          <p:nvPr/>
        </p:nvPicPr>
        <p:blipFill>
          <a:blip r:embed="rId4"/>
          <a:stretch/>
        </p:blipFill>
        <p:spPr>
          <a:xfrm>
            <a:off x="2843280" y="2637000"/>
            <a:ext cx="2266920" cy="2590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likje"/>
          <p:cNvPicPr/>
          <p:nvPr/>
        </p:nvPicPr>
        <p:blipFill>
          <a:blip r:embed="rId1"/>
          <a:stretch/>
        </p:blipFill>
        <p:spPr>
          <a:xfrm>
            <a:off x="468360" y="476280"/>
            <a:ext cx="3384360" cy="1816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8" name="Picture 5" descr="DURACELL"/>
          <p:cNvPicPr/>
          <p:nvPr/>
        </p:nvPicPr>
        <p:blipFill>
          <a:blip r:embed="rId2"/>
          <a:stretch/>
        </p:blipFill>
        <p:spPr>
          <a:xfrm>
            <a:off x="6877080" y="1628640"/>
            <a:ext cx="1536840" cy="459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9" name="Picture 6" descr="bouwpiramide"/>
          <p:cNvPicPr/>
          <p:nvPr/>
        </p:nvPicPr>
        <p:blipFill>
          <a:blip r:embed="rId3"/>
          <a:stretch/>
        </p:blipFill>
        <p:spPr>
          <a:xfrm>
            <a:off x="3924360" y="3141720"/>
            <a:ext cx="3933720" cy="2192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Picture 7" descr="kerstbal"/>
          <p:cNvPicPr/>
          <p:nvPr/>
        </p:nvPicPr>
        <p:blipFill>
          <a:blip r:embed="rId4"/>
          <a:stretch/>
        </p:blipFill>
        <p:spPr>
          <a:xfrm>
            <a:off x="4500720" y="1413000"/>
            <a:ext cx="1866600" cy="220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1" name="Picture 8" descr="kaarskegel"/>
          <p:cNvPicPr/>
          <p:nvPr/>
        </p:nvPicPr>
        <p:blipFill>
          <a:blip r:embed="rId5"/>
          <a:stretch/>
        </p:blipFill>
        <p:spPr>
          <a:xfrm>
            <a:off x="468360" y="2492280"/>
            <a:ext cx="200016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eschuit"/>
          <p:cNvPicPr/>
          <p:nvPr/>
        </p:nvPicPr>
        <p:blipFill>
          <a:blip r:embed="rId1"/>
          <a:stretch/>
        </p:blipFill>
        <p:spPr>
          <a:xfrm>
            <a:off x="684360" y="907920"/>
            <a:ext cx="2232000" cy="223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3708360" y="1268280"/>
            <a:ext cx="49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-Zoek minstens 4 afbeeldingen v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voorwerpen met als basis een an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ruimtelijke geometrische v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51280" y="3429000"/>
            <a:ext cx="49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-Schrijf de naam van de geometris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vorm erb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3169800">
            <a:off x="1074960" y="3292200"/>
            <a:ext cx="458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4369400">
            <a:off x="1408680" y="4145760"/>
            <a:ext cx="2881440" cy="936360"/>
          </a:xfrm>
          <a:prstGeom prst="rightArrow">
            <a:avLst>
              <a:gd name="adj1" fmla="val 50000"/>
              <a:gd name="adj2" fmla="val 769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 rot="3553800">
            <a:off x="1620720" y="45774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I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42:26Z</dcterms:created>
  <dc:creator>laptop</dc:creator>
  <dc:description/>
  <dc:language>en-US</dc:language>
  <cp:lastModifiedBy>tvavezaath</cp:lastModifiedBy>
  <dcterms:modified xsi:type="dcterms:W3CDTF">2015-04-12T13:32:14Z</dcterms:modified>
  <cp:revision>10</cp:revision>
  <dc:subject/>
  <dc:title>HUISWERKOPDRACHT</dc:title>
</cp:coreProperties>
</file>