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5A3-F220-4F74-BF08-E8A18D09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32A-EFC8-4619-8814-6F8DDB2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F89-A980-4F48-A899-973DB53E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CCA-8050-4B34-B279-98FD07FD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FC20-0F45-4AEA-9252-16D53D3D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8151-AFC4-403F-AF91-4D50D345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5BFC-B443-461D-8B96-59269096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355D-9E46-451D-9378-7DEBCF2C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4CA7-6167-41ED-9617-394C61D2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58BB-6F78-4BC5-9047-A0BF571D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41A6-5B48-46B0-9578-6B299BEE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2B2-F9B1-4C9F-B5FE-420B485B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B679-9630-415E-B681-B2A19F27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30C8-F3A7-47C8-9A51-BAE9C1F1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64B4-40F1-41F6-B2B5-2D17B28D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6916-25D0-44BE-82DD-209AB8B2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64BA-DBE5-4F7D-86D7-9DBCB7DD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9F7-BB33-4ECB-B414-2911B501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1F5-5368-4F89-8FAE-CFFC30C9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AE7-9BEE-4532-93F9-3E73DB67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FB2-5B27-4F55-A058-9EDBA1A2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50A-DC3F-4CF6-BC23-B89E1D7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DE9-706B-4053-999C-8173C362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19E-3558-4077-B9C6-7A4FD7FA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F5E5-C8E1-48F8-845F-05873C8CED0D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2864-A3D8-4647-8C61-7B998053AE13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ERVOOR …………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6666"/>
                </a:solidFill>
                <a:latin typeface="Arial"/>
              </a:rPr>
              <a:t>ERNA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AANGET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2" descr="C:\Documents and Settings\jibi\Bureau\avant-après\1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63640" y="2492280"/>
            <a:ext cx="2994120" cy="390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5148360" y="2492280"/>
            <a:ext cx="3671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AANGEVRET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GESCHIMMEL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INGEDEUK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INGESTO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VERRO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VERVUIL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ZU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ZWART GEBLAKE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ENZ……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AN MATERIAAL </a:t>
            </a:r>
            <a:br>
              <a:rPr sz="3200"/>
            </a:b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NAAR PRODUC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2" descr="C:\Documents and Settings\jibi\Bureau\avant-après\2.jpg"/>
          <p:cNvPicPr/>
          <p:nvPr/>
        </p:nvPicPr>
        <p:blipFill>
          <a:blip r:embed="rId1"/>
          <a:stretch/>
        </p:blipFill>
        <p:spPr>
          <a:xfrm>
            <a:off x="4572000" y="620640"/>
            <a:ext cx="4208400" cy="5521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826920" y="2708280"/>
            <a:ext cx="316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BASISPRODU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GRONDSTO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INGREDIËNT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ATERIA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OEGER en 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2" descr="C:\Documents and Settings\jibi\Bureau\avant-après\21.jpg"/>
          <p:cNvPicPr/>
          <p:nvPr/>
        </p:nvPicPr>
        <p:blipFill>
          <a:blip r:embed="rId1"/>
          <a:stretch/>
        </p:blipFill>
        <p:spPr>
          <a:xfrm>
            <a:off x="1187280" y="2421000"/>
            <a:ext cx="6409080" cy="383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5" name="Text Box 6"/>
          <p:cNvSpPr/>
          <p:nvPr/>
        </p:nvSpPr>
        <p:spPr>
          <a:xfrm>
            <a:off x="5940360" y="981000"/>
            <a:ext cx="2664000" cy="28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APPARAT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KLE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PERSON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WERK / BEROE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WON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VERVO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EN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AN OUD NAAR NIEU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2" descr="C:\Documents and Settings\jibi\Bureau\avant-après\18.jpg"/>
          <p:cNvPicPr/>
          <p:nvPr/>
        </p:nvPicPr>
        <p:blipFill>
          <a:blip r:embed="rId1"/>
          <a:stretch/>
        </p:blipFill>
        <p:spPr>
          <a:xfrm>
            <a:off x="1403280" y="2492280"/>
            <a:ext cx="5184720" cy="388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8" name="Text Box 6"/>
          <p:cNvSpPr/>
          <p:nvPr/>
        </p:nvSpPr>
        <p:spPr>
          <a:xfrm>
            <a:off x="6732720" y="2852640"/>
            <a:ext cx="2232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OPLAPP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HERSTELL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OPPIMP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UITDEUK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VERBOUW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9:03:13Z</dcterms:created>
  <dc:creator>tvavezaath</dc:creator>
  <dc:description/>
  <dc:language>en-US</dc:language>
  <cp:lastModifiedBy>Theo van Avezaath</cp:lastModifiedBy>
  <dcterms:modified xsi:type="dcterms:W3CDTF">2014-04-15T07:00:54Z</dcterms:modified>
  <cp:revision>7</cp:revision>
  <dc:subject/>
  <dc:title>ERVOOR …………….</dc:title>
</cp:coreProperties>
</file>