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CF5-EAE6-48D5-8997-274F3197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2A1-6169-42D4-8C59-FC7CE71E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7B1-2425-4ADB-B66E-1411480F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76B-CE97-4010-A252-271AEE27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267-8F7D-4A56-9EB1-E000A933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66B-97C3-414A-BCA7-EBA8A71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F0F-3715-4A9C-88E4-CE14630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AFD-3D01-415D-97B2-09A68BC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52C-DCE2-4B93-810E-2EEDC6A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AF7-44A6-4AAC-8DA2-88CCEAC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F48-CE63-4C95-86D6-C70671E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8C8-ED40-429C-8C6D-1A0294CC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BBC-A529-40E5-9CC0-3A29BC50AA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TEKENEN RASTER</a:t>
            </a:r>
            <a:br>
              <a:rPr sz="4400"/>
            </a:b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voor opdracht PORT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574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Gum de lijnen,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buiten de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rechthoek met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okjes,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36880" cy="568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Nummer zo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al 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erticaa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kj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788000" y="1268280"/>
            <a:ext cx="403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Je ruitjespat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is klaar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basis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aarna kun j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et portret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tek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ucc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500720" y="4762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716360" y="476280"/>
            <a:ext cx="36705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716360" y="1197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TEKENEN VAN RAST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Bestaat uit 5 hokjes horizontaal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en 7 hokjes vertica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hulpmiddel voor indeling 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859280" y="429264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WAT HEB JE NODI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Tekenpapier  32,5 x 50 cm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liniaal 40 cm. of lan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potlood HB of 2B met scherpe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p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g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0" y="981000"/>
            <a:ext cx="403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1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linksb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én links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3,5 cm.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een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potloodlij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geheel boven 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onderaan het b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14640" cy="583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090440" cy="17762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5859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0" y="836640"/>
            <a:ext cx="40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aa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bovenzijde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nks é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cm. af.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an over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gehele breedte d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horizontale l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55640" y="465300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vanaf het kruispunt van de 2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j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5 x 5 cm. af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0766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ook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onderaa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x 5 cm.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1464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verticale lijne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tot onde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7324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716360" y="1052640"/>
            <a:ext cx="403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nks e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anaf de boven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le l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x 5 cm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8959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du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de 7 horizontal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j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46:31Z</dcterms:created>
  <dc:creator>tvavezaath</dc:creator>
  <dc:description/>
  <dc:language>en-US</dc:language>
  <cp:lastModifiedBy>Theo van Avezaath</cp:lastModifiedBy>
  <dcterms:modified xsi:type="dcterms:W3CDTF">2015-02-03T06:55:42Z</dcterms:modified>
  <cp:revision>16</cp:revision>
  <dc:subject/>
  <dc:title>TEKENEN RASTER voor opdracht PORTRET</dc:title>
</cp:coreProperties>
</file>