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964-930B-41BA-8E47-10A44410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B29-1BD7-4DAF-8599-DD47661F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466-76C0-4F48-A267-04FE58E2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E66-3FC5-49ED-A3E7-56CE7903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678-4EC3-4AF3-AA36-09FFA693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F58-BAC7-4B3E-A9BD-BE8A39AF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80E-8B32-45C9-9A15-977D0F21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08D-B8E6-4DE9-BBC2-9B1917F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B30-FD4D-4E3A-9377-B7BB868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8BC-9EE5-463C-BD2B-34711D4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336-2A4A-4458-920C-EA10AB15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304-FDFB-42B9-8841-1D0E07D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50000">
              <a:srgbClr val="002f2f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7316-5F61-42BD-8221-1801E53AF0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TEKENEN RASTER</a:t>
            </a:r>
            <a:br>
              <a:rPr sz="4400"/>
            </a:br>
            <a:r>
              <a:rPr b="1" lang="nl-NL" sz="4400" spc="-1" strike="noStrike">
                <a:solidFill>
                  <a:srgbClr val="66ff33"/>
                </a:solidFill>
                <a:latin typeface="Arial"/>
              </a:rPr>
              <a:t>voor opdracht PORT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5740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Gum de lijnen,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buiten de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rechthoek met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okjes,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836880" cy="568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788000" y="1268280"/>
            <a:ext cx="40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9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Nummer zo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al 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erticaal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kj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788000" y="1268280"/>
            <a:ext cx="403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Je ruitjespat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is klaar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basis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aarna kun j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het portret 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tek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ucc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4500720" y="4762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779640" cy="5964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716360" y="476280"/>
            <a:ext cx="36705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716360" y="119700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TEKENEN VAN RAST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Bestaat uit 5 hokjes horizontaal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en 7 hokjes vertica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hulpmiddel voor indeling 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859280" y="429264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WAT HEB JE NODIG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Tekenpapier  32,5 x 50 cm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liniaal 40 cm. of lan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potlood HB of 2B met scherpe</a:t>
            </a:r>
            <a:br>
              <a:rPr sz="1800"/>
            </a:b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 p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ff33"/>
                </a:solidFill>
                <a:latin typeface="Arial"/>
              </a:rPr>
              <a:t>-g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0" y="981000"/>
            <a:ext cx="403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1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linksb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én links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3,5 cm.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een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potloodlij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geheel boven 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onderaan het b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14640" cy="583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090440" cy="17762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585960" cy="540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0" y="836640"/>
            <a:ext cx="4032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2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aa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bovenzijde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nks é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cm. af.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an over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gehele breedte d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de horizontale l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55640" y="465300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vanaf het kruispunt van de 2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lijn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5 x 5 cm. af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07664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ook 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onderaa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x 5 cm.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91464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dun d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5 verticale lijne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tot onde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387324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716360" y="1052640"/>
            <a:ext cx="403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zowel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nks en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vanaf de boven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horizontale l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7 x 5 cm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8959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16360" y="1052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STAP 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-Teken nu dun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de 7 horizontale</a:t>
            </a:r>
            <a:br>
              <a:rPr sz="3200"/>
            </a:br>
            <a:r>
              <a:rPr b="1" lang="nl-NL" sz="3200" spc="-1" strike="noStrike">
                <a:solidFill>
                  <a:srgbClr val="66ff33"/>
                </a:solidFill>
                <a:latin typeface="Arial"/>
              </a:rPr>
              <a:t> lij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8:46:31Z</dcterms:created>
  <dc:creator>tvavezaath</dc:creator>
  <dc:description/>
  <dc:language>en-US</dc:language>
  <cp:lastModifiedBy>Theo van Avezaath</cp:lastModifiedBy>
  <dcterms:modified xsi:type="dcterms:W3CDTF">2015-02-03T06:55:42Z</dcterms:modified>
  <cp:revision>16</cp:revision>
  <dc:subject/>
  <dc:title>TEKENEN RASTER voor opdracht PORTRET</dc:title>
</cp:coreProperties>
</file>