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F03-45CA-4F12-B570-32F3E6DB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F54E-29C3-4662-8F99-B766891E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36B-FC56-41D6-A356-92BDAD8E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5E68-7E1F-4C9C-A3A2-A8861D74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4D1F-FA3B-4452-84BA-9B021D6B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A7FE-7226-4B99-A8C1-7ABBE8EC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9595-B596-4AB5-BE26-DFDBAAAF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E8A2-253E-48F9-9C54-C67DD991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B178-28BC-4D7C-8FC5-868C91B4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2103-CB4E-4ECA-B5CF-22E48353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BCCE-0641-4102-BAD8-4C4C6AB9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47E-A975-4D13-BB27-2B3A2422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7F3B-5FC3-41D3-86C6-491C2E14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11F1-C9B2-4B73-AA9B-FC65DCA8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9A2A-6A54-4613-AAF1-C72E2716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36DF-283A-48E3-8522-48CC485D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8F19-B2F6-4B50-9BB3-F1F5A477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31E-A78F-4143-A671-CC2E97C9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7C3-B0F6-45AE-AE2E-8B5E42D2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4B7-D86B-4C6D-BC42-36976F2B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B4B-42E6-437A-81A7-A504E643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2F0-7563-4952-AF1B-8F15F644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C95-087D-4F7B-9DC2-089D1F2D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6D1-E338-444F-8671-AAA49D33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45FD-AD44-4DCD-8307-E7A8E8693626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D1B5-B024-4EFD-9398-4051F403CE0E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ERVOOR …………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6666"/>
                </a:solidFill>
                <a:latin typeface="Arial"/>
              </a:rPr>
              <a:t>ERNA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AANGET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2" descr="C:\Documents and Settings\jibi\Bureau\avant-après\11.jpg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63640" y="2492280"/>
            <a:ext cx="2994120" cy="390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5148360" y="2492280"/>
            <a:ext cx="36716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AANGEVRET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GESCHIMMEL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INGEDEUK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INGESTOR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O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VERRO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VERVUIL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ZUU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ZWART GEBLAKER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ENZ……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AN MATERIAAL </a:t>
            </a:r>
            <a:br>
              <a:rPr sz="3200"/>
            </a:b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NAAR PRODUC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2" descr="C:\Documents and Settings\jibi\Bureau\avant-après\2.jpg"/>
          <p:cNvPicPr/>
          <p:nvPr/>
        </p:nvPicPr>
        <p:blipFill>
          <a:blip r:embed="rId1"/>
          <a:stretch/>
        </p:blipFill>
        <p:spPr>
          <a:xfrm>
            <a:off x="4572000" y="620640"/>
            <a:ext cx="4208400" cy="55213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826920" y="2708280"/>
            <a:ext cx="316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BASISPRODU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GRONDSTO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INGREDIËNT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ATERIA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OEGER en N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2" descr="C:\Documents and Settings\jibi\Bureau\avant-après\21.jpg"/>
          <p:cNvPicPr/>
          <p:nvPr/>
        </p:nvPicPr>
        <p:blipFill>
          <a:blip r:embed="rId1"/>
          <a:stretch/>
        </p:blipFill>
        <p:spPr>
          <a:xfrm>
            <a:off x="1187280" y="2421000"/>
            <a:ext cx="6409080" cy="383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5" name="Text Box 6"/>
          <p:cNvSpPr/>
          <p:nvPr/>
        </p:nvSpPr>
        <p:spPr>
          <a:xfrm>
            <a:off x="5940360" y="981000"/>
            <a:ext cx="2664000" cy="28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APPARAT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KLED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PERSON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WERK / BEROE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WON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VERVO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-ENZ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AN OUD NAAR NIEU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Picture 2" descr="C:\Documents and Settings\jibi\Bureau\avant-après\18.jpg"/>
          <p:cNvPicPr/>
          <p:nvPr/>
        </p:nvPicPr>
        <p:blipFill>
          <a:blip r:embed="rId1"/>
          <a:stretch/>
        </p:blipFill>
        <p:spPr>
          <a:xfrm>
            <a:off x="1403280" y="2492280"/>
            <a:ext cx="5184720" cy="3889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8" name="Text Box 6"/>
          <p:cNvSpPr/>
          <p:nvPr/>
        </p:nvSpPr>
        <p:spPr>
          <a:xfrm>
            <a:off x="6732720" y="2852640"/>
            <a:ext cx="2232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OPLAPP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HERSTELL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OPPIMP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UITDEUK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VERBOUW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9:03:13Z</dcterms:created>
  <dc:creator>tvavezaath</dc:creator>
  <dc:description/>
  <dc:language>en-US</dc:language>
  <cp:lastModifiedBy>Theo van Avezaath</cp:lastModifiedBy>
  <dcterms:modified xsi:type="dcterms:W3CDTF">2014-04-15T07:00:54Z</dcterms:modified>
  <cp:revision>7</cp:revision>
  <dc:subject/>
  <dc:title>ERVOOR …………….</dc:title>
</cp:coreProperties>
</file>