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EC43-C7D0-4776-A074-748577041B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D184-8066-4500-B909-1BDAE67B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73C2-0152-4AEE-A510-2259BAA8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0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844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0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844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2633-379B-4A6D-AC14-7ED03BB190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6AF5-58F0-4FD4-B3C1-696FFBE1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172C-2213-482E-9CC5-85FEC075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A064-0583-4F32-B629-FD7EE5B2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6659-2596-406F-813D-56C15DF6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761832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E04A-3B96-4B0F-A773-E6D68D73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B923-69A8-4B6D-9132-36DA1D7B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7F0A-6C51-4983-AC14-FEC0C15A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F9AE-A4D0-4759-938A-054D800B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440" y="5668560"/>
            <a:ext cx="506520" cy="35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1869F8-CA0F-420F-A4C7-24AD9E41A9AF}" type="slidenum">
              <a: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7587360" y="4002480"/>
            <a:ext cx="236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588160" y="3047760"/>
            <a:ext cx="24368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9/22/15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hyperlink" Target="http://www.youtube.com/watch?v=2NKQHWSJj0w" TargetMode="External"/><Relationship Id="rId4" Type="http://schemas.openxmlformats.org/officeDocument/2006/relationships/hyperlink" Target="http://www.youtube.com/watch?v=2NKQHWSJj0w" TargetMode="External"/><Relationship Id="rId5" Type="http://schemas.openxmlformats.org/officeDocument/2006/relationships/hyperlink" Target="http://www.youtube.com/watch?v=2NKQHWSJj0w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285732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2560" y="28940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Welzijn H1</a:t>
            </a:r>
            <a:endParaRPr b="0" lang="en-US" sz="6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333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Natuurlijke</a:t>
            </a: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behoeft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0330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natuurlijke behoeften van paarden van nu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el beweg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or doorbloeding va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benen en hoeven en een goed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ijsvertering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ak kleine beetjes 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e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het rantso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act met soortgeno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unnen uiten va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kuddegedra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2430720" cy="364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oer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341360"/>
            <a:ext cx="79581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 belangrijk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standdeel in rantso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en paard heeft speeksel nodig om voer te verter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ij maakt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leen speeksel aan als hij kauwt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 het eten van ruwvoer gaat een paard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extra kauwen en maakt hij meer speeksel aa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er speeksel zorgt voor een betere vertering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er daarom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eerst ruwvoer en dan pas </a:t>
            </a:r>
            <a:br>
              <a:rPr sz="2200"/>
            </a:b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krachtvoer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46640" y="4221000"/>
            <a:ext cx="2722680" cy="192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46640" y="260280"/>
            <a:ext cx="2641680" cy="176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lucht- en kuddegedrag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97000"/>
            <a:ext cx="753768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d rekening met het kuddegedrag en vluchtgedrag van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rent eerst weg en kijkt daarna wat er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iter/menner moet de leidersrol overnem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iet straffen als een paard schrikt m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rtrouwen gev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aten wennen aan nieuw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ngen samen met een and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4067280" cy="2408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524664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Times New Roman"/>
              </a:rPr>
              <a:t>Link: tot en met 1:16</a:t>
            </a:r>
            <a:br>
              <a:rPr sz="2000"/>
            </a:br>
            <a:br>
              <a:rPr sz="2000"/>
            </a:b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youtube.com/watch?v=2NKQHWSJj0w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512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Waarnem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25360"/>
            <a:ext cx="7753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hoor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meer dan mensen, hij kan zijn oren verschillende kanten op beweg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astzintui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an het paard is zeer goed ontwikkel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gebruikt d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u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ij interactie tussen andere paard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en kunne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ev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, niet elk paard vindt hetzelfde lekker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4581360"/>
            <a:ext cx="2952720" cy="19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55520"/>
            <a:ext cx="79185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Zichtveld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25360"/>
            <a:ext cx="7537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ordat de ogen aan de zijkant van het hoofd zitten kan het paard dingen vaak maar met één oog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moet het hoofd kunnen draaien om alles goed te kunnen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7929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individueel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kruiswoordpuzzel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leg daarna in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tweetall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antwoorden die je nog niet weet.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je kruiswoordpuzzel compleet door met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medestudent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ideeën uit te wisselen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valuati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Reflectie:</a:t>
            </a: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al JOUW belangrijke geleerde punten van de les op de gele post-it en plak deze op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333360"/>
            <a:ext cx="792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ogramma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Oriëntatiefase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Evaluatiefas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riëntatiefas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Brainstorm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a in tweetallen nadenken over de natuurlijke behoeften van het paar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52387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1592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Evolutie 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981000"/>
            <a:ext cx="799308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Oerpaard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(Eohippus) leefde 55-50 miljoen jaar geleden in het Tropische Oerwoud en was ongeveer 25-45 cm groot.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chuilen i.p.v.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e oerwoud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steppes en graslan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Eohippus moest zich aanpassen (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esohipp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35 miljoen jaar geleden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Nam toe in groott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oderne paard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Equus) 3,5 miljoen j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ele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Gedomesticeerd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Hoogbenig en ééntenig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40560" y="4437000"/>
            <a:ext cx="31384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Oorsprong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981000"/>
            <a:ext cx="77533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 Oerwoud werd steppe. Dit betekende dat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ard en langdurig moest kunnen lop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stant warme spieren en een goede doorbloeding nodig had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inu in beweging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rote longen ontwikkelde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hele dag kleine beetjes ko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Kortom: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m toe in hoogte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luchtdier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l tenen nam af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95680" y="2708280"/>
            <a:ext cx="46418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9960" y="549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29240" y="2214720"/>
            <a:ext cx="2000520" cy="152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29240" y="4143240"/>
            <a:ext cx="200052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571680" y="37148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abier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lgisch Trekpaard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labella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680" y="5643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jord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Fries   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fling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00040" y="2214720"/>
            <a:ext cx="233352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357720" y="4164120"/>
            <a:ext cx="228600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00040" y="4143240"/>
            <a:ext cx="235764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357720" y="2197080"/>
            <a:ext cx="2286000" cy="15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344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3959280"/>
            <a:ext cx="207180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57960" y="170028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357960" y="409716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"/>
          <p:cNvSpPr/>
          <p:nvPr/>
        </p:nvSpPr>
        <p:spPr>
          <a:xfrm>
            <a:off x="571680" y="3386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KWPN-er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ippizaner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Tink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240" y="5643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tland pony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New Forest pony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Welsh pony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71680" y="3933720"/>
            <a:ext cx="2214360" cy="15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92200" y="1700280"/>
            <a:ext cx="2071800" cy="16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379680" y="1700280"/>
            <a:ext cx="206388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Commitee Brambell (1965) meet welzijn van paarden aan 5 vrijhed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Overleg samen met je buurman of buurvrouw welke vrijheden dit kunnen zij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De brainstorm opdracht zou je hier voor kunnen gebruik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6480"/>
            <a:ext cx="76201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5 Vrijhed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7620120" cy="47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. vrij van honger dorst en onjuiste vo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.vrij van fysiek en mentaal lij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3. vrij van pijn, verwondingen en ziekt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4.vrij van angst en chronische st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5. vrij om natuurlijk gedrag te verto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ZE OP!! KOMEN TERUG OP DE TOETS!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1T15:20:01Z</dcterms:modified>
  <cp:revision>694</cp:revision>
  <dc:subject/>
  <dc:title>PowerPoint-presentatie</dc:title>
</cp:coreProperties>
</file>