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CF103-EB31-4599-900C-19271756C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45C87-D0AA-441D-9032-96A96B45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2292F-7792-4934-9E6C-D8C4A92EB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77275-F7A0-4E61-9079-9C5E73C24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B123A-4C4E-469A-8F3D-28B418A7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B3A24-84AE-44D4-B890-66A5E882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50B90-5E1F-4EEA-995A-85FE26AB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67C85-C33A-4BB0-9301-F6BF2E86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BE929-4FEB-4D95-BFAF-7C2AD6B6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6BDE1-97F2-4FEC-9EEE-5F8B653B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C02EA-C667-4708-9F4B-61BD76C5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EB9AA-2FDC-45CF-A33F-EEE29C78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82FA-BD4E-4C52-87FB-ACB6934143F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4390-5F7E-4E31-95E7-134AFCBDED39}" type="datetime"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itel 1"/>
          <p:cNvSpPr/>
          <p:nvPr/>
        </p:nvSpPr>
        <p:spPr>
          <a:xfrm>
            <a:off x="679320" y="3203640"/>
            <a:ext cx="754380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b20"/>
                </a:solidFill>
                <a:latin typeface="Cambria"/>
              </a:rPr>
              <a:t>Omgang en </a:t>
            </a:r>
            <a:br>
              <a:rPr sz="4800"/>
            </a:br>
            <a:r>
              <a:rPr b="0" lang="en-US" sz="4800" spc="-1" strike="noStrike">
                <a:solidFill>
                  <a:srgbClr val="2f2b20"/>
                </a:solidFill>
                <a:latin typeface="Cambria"/>
              </a:rPr>
              <a:t>verzorging H4</a:t>
            </a:r>
            <a:endParaRPr b="0" lang="en-US" sz="48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5076720" y="549360"/>
            <a:ext cx="28576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jdelijke aanduiding voor inhoud 2"/>
          <p:cNvSpPr/>
          <p:nvPr/>
        </p:nvSpPr>
        <p:spPr>
          <a:xfrm>
            <a:off x="500040" y="1268280"/>
            <a:ext cx="792468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oeven uitkrabben hoe doe je dat: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a naast het been staan me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je gezicht richting de staart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lijd met je hand langs de binnenkant van het been en leun iets met je </a:t>
            </a: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gewicht tegen het paard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et paard verplaatst zijn gewicht en jij kunt het been oppakken. 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il de hoef aan he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kogelgewricht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op.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Krab de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straalgroeven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uit, in </a:t>
            </a: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één richting naar de punt van de straal. 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Zet het been weer rustig neer als de hoef schoon is. 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Hoeven uitkrabb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68000" y="1197000"/>
            <a:ext cx="795636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tap het paard goed ui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ets na het rijden om zweet en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uil te verwijdere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pons natte zweetplekken met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en vochtige spons af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erwijder met een zweetmes overtollig water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979640" y="4005360"/>
            <a:ext cx="3005280" cy="2062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Verzorging na het rij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1" name="Picture 6" descr="http://img207.imageshack.us/img207/8531/vervanging311kopie.png"/>
          <p:cNvPicPr/>
          <p:nvPr/>
        </p:nvPicPr>
        <p:blipFill>
          <a:blip r:embed="rId2"/>
          <a:stretch/>
        </p:blipFill>
        <p:spPr>
          <a:xfrm rot="895200">
            <a:off x="6156000" y="765000"/>
            <a:ext cx="2641680" cy="25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94920" y="1052640"/>
            <a:ext cx="768204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Peesbeschermers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: Beschermen tegen aantikken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an de achterhoef tegen het voorbeen.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Kogelbeschermer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: Beschermen de binnenzijde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an de kogel van het achterbeen. Worden vooral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ebruikt bij springen en eventing.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Springschoenen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: Beschermen de kroonranden en de hoefballen. Ze beschermen ook de voorste kootholten tegen het aantikken van het achterbeen. Ook het aftrappen van ijzers wordt tegengegaan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220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Beenbescherm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5" name="Picture 6" descr="http://oudcdn.agradi.nl/media/products/pics_135/7/f/4030599.jpg"/>
          <p:cNvPicPr/>
          <p:nvPr/>
        </p:nvPicPr>
        <p:blipFill>
          <a:blip r:embed="rId2"/>
          <a:stretch/>
        </p:blipFill>
        <p:spPr>
          <a:xfrm>
            <a:off x="7667640" y="242100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http://www.hippocare.nl/images/classic_springglocke.jpg"/>
          <p:cNvPicPr/>
          <p:nvPr/>
        </p:nvPicPr>
        <p:blipFill>
          <a:blip r:embed="rId3"/>
          <a:stretch/>
        </p:blipFill>
        <p:spPr>
          <a:xfrm>
            <a:off x="7229520" y="4614840"/>
            <a:ext cx="190800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68360" y="1196640"/>
            <a:ext cx="760896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Bandages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Worden veel gebruikt bij dressuur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ieden weinig steu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Kunnen ervoor zorgen da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de pezen oververhit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ake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Kunnen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ernstige blessures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eroorzaken als ze niet goed zijn aangebracht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Mogen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niet te los en niet te strak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zitten en de stof mag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niet gerimpeld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zijn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5867280" y="333360"/>
            <a:ext cx="2208240" cy="197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Beenbescherm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9246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2f2b20"/>
                </a:solidFill>
                <a:latin typeface="Cambria"/>
              </a:rPr>
              <a:t>Lesopbouw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Oriëntatiefase</a:t>
            </a:r>
            <a:br>
              <a:rPr sz="2400"/>
            </a:b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Theori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Aan de sla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Theori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Aan de slag</a:t>
            </a:r>
            <a:br>
              <a:rPr sz="2400"/>
            </a:b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Evaluatiefas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Picture 2" descr="http://paardenliefhebber.info/sub/downloads/paarden_plaatjes/Paarden%20-%20Paard%20in%20weide.jpg"/>
          <p:cNvPicPr/>
          <p:nvPr/>
        </p:nvPicPr>
        <p:blipFill>
          <a:blip r:embed="rId1"/>
          <a:stretch/>
        </p:blipFill>
        <p:spPr>
          <a:xfrm>
            <a:off x="4140360" y="2205000"/>
            <a:ext cx="453060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92468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Benaderen van een paard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3640" y="1125000"/>
            <a:ext cx="806436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et benaderen van een paard moet met zorg gebeure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Laat het paard horen dat je er ben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Maak rustig kennis met het paard en laat hem aan je hand ruike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f2b20"/>
                </a:solidFill>
                <a:latin typeface="Calibri"/>
              </a:rPr>
              <a:t>Maak rustige bewegingen</a:t>
            </a: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Benader het paard nooit van achteren!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f2b20"/>
                </a:solidFill>
                <a:latin typeface="Calibri"/>
              </a:rPr>
              <a:t>Te voorzichtig</a:t>
            </a: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, dan denkt het paard dat je</a:t>
            </a:r>
            <a:br>
              <a:rPr sz="2400"/>
            </a:b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geen leider ben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f2b20"/>
                </a:solidFill>
                <a:latin typeface="Calibri"/>
              </a:rPr>
              <a:t>Te ruw</a:t>
            </a: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, dan schrikt het paard van je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5" descr="G:\Communicatie\Relatiegroepen\Interne relatiegroepen\Opleidingen\(Van) paarden houden\Paard en Welzijn\Beeldmateriaal\KNHS_PP\080416524_ABFweb.jpg"/>
          <p:cNvPicPr/>
          <p:nvPr/>
        </p:nvPicPr>
        <p:blipFill>
          <a:blip r:embed="rId1"/>
          <a:stretch/>
        </p:blipFill>
        <p:spPr>
          <a:xfrm>
            <a:off x="6037200" y="4005360"/>
            <a:ext cx="2909880" cy="2168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68000" y="1197000"/>
            <a:ext cx="777564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Zorg dat het halster niet gedraaid is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evestig het touw alvast aan de onderkant van het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alster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a links van het paard staa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eem het halster in beide handen en schuif het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oorzichtig over de neus en schuif dan het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ekgedeelte achter de ore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Leg de manen en de maantop weer op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un plek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luit de kaakgesp, LET OP dat het klipje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aar buiten is gedraaid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2" name="Picture 5" descr="G:\Communicatie\Relatiegroepen\Interne relatiegroepen\Opleidingen\(Van) paarden houden\Paard en Welzijn\Beeldmateriaal\KNHS_PP\090611156_ABFweb.jpg"/>
          <p:cNvPicPr/>
          <p:nvPr/>
        </p:nvPicPr>
        <p:blipFill>
          <a:blip r:embed="rId1"/>
          <a:stretch/>
        </p:blipFill>
        <p:spPr>
          <a:xfrm>
            <a:off x="7399440" y="0"/>
            <a:ext cx="1744560" cy="2619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9246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Omdoen van een halster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4" name="Picture 6" descr="http://www.kooleruitersport.nl/img/product/337839/0/0/br-leren-halster.jpg"/>
          <p:cNvPicPr/>
          <p:nvPr/>
        </p:nvPicPr>
        <p:blipFill>
          <a:blip r:embed="rId2"/>
          <a:stretch/>
        </p:blipFill>
        <p:spPr>
          <a:xfrm>
            <a:off x="6004080" y="3859200"/>
            <a:ext cx="316368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8000" y="1628640"/>
            <a:ext cx="79614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evestig het touw aan het halster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oud het touw op ongeveer 30 centimeter vanaf de sluiting vast.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Loop links naast het paard ter hoogte van de hals, net voor de schouder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Draai het paard met zijn hoofd </a:t>
            </a:r>
            <a:br>
              <a:rPr sz="2400"/>
            </a:b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naar de uitgang voor je hem in </a:t>
            </a:r>
            <a:br>
              <a:rPr sz="2400"/>
            </a:b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de weide of paddock loslaat. </a:t>
            </a:r>
            <a:br>
              <a:rPr sz="2400"/>
            </a:b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5148360" y="3913200"/>
            <a:ext cx="357660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912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Paard naar de wei/paddock breng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Aan de hand leiden en vastzett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5280" y="980640"/>
            <a:ext cx="802944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Aan de hand leide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et paard moet op jouw lichaamstaal letten,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ls jij stopt moet hij ook stoppen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lijf zelf rustig en ontspanne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Vastzette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ebruik halster en halstertouw, geen hoofdstel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Zet het paard bij voorkeur aan twee zijden vas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ebruik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de veiligheidsknoop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n een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paniekhaak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7032600" y="3611520"/>
            <a:ext cx="1838520" cy="251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1" name="Picture 6" descr="G:\Communicatie\Relatiegroepen\Interne relatiegroepen\Opleidingen\(Van) paarden houden\Paard en Welzijn\Beeldmateriaal\KNHS_PP\090611153_ABFweb.jpg"/>
          <p:cNvPicPr/>
          <p:nvPr/>
        </p:nvPicPr>
        <p:blipFill>
          <a:blip r:embed="rId2"/>
          <a:stretch/>
        </p:blipFill>
        <p:spPr>
          <a:xfrm rot="929400">
            <a:off x="6575400" y="1385640"/>
            <a:ext cx="2146320" cy="1430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68000" y="1197000"/>
            <a:ext cx="795636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gelmatig poetsen is belangrijk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Je leg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contact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met je paard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et is goed voor de vach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et is een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controlemoment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voor wondjes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oede reiniging voorkomt schuren van bijvoorbeeld het zadel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et bevorder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de bloedsomloop en huidactiviteit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Afbeelding 3" descr="Verzorging.jpg"/>
          <p:cNvPicPr/>
          <p:nvPr/>
        </p:nvPicPr>
        <p:blipFill>
          <a:blip r:embed="rId1"/>
          <a:stretch/>
        </p:blipFill>
        <p:spPr>
          <a:xfrm>
            <a:off x="6643800" y="549360"/>
            <a:ext cx="2286000" cy="1695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Poets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5" name="Picture 6" descr="http://www.alkmaarseruitersportspeciaalzaak.nl/osc/images/rubber%20rosborstel.jpg"/>
          <p:cNvPicPr/>
          <p:nvPr/>
        </p:nvPicPr>
        <p:blipFill>
          <a:blip r:embed="rId2"/>
          <a:stretch/>
        </p:blipFill>
        <p:spPr>
          <a:xfrm>
            <a:off x="468360" y="4149720"/>
            <a:ext cx="2512800" cy="2513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http://albatros-schoonhoven.nl/Shop/images/36300001.gif"/>
          <p:cNvPicPr/>
          <p:nvPr/>
        </p:nvPicPr>
        <p:blipFill>
          <a:blip r:embed="rId3"/>
          <a:stretch/>
        </p:blipFill>
        <p:spPr>
          <a:xfrm>
            <a:off x="3203640" y="4776840"/>
            <a:ext cx="2695680" cy="125712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10"/>
          <p:cNvSpPr/>
          <p:nvPr/>
        </p:nvSpPr>
        <p:spPr>
          <a:xfrm>
            <a:off x="155520" y="-411120"/>
            <a:ext cx="8571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68" name="Picture 12" descr="http://oudcdn.agradi.nl/media/products/pics_310/4/4/4045031.jpg"/>
          <p:cNvPicPr/>
          <p:nvPr/>
        </p:nvPicPr>
        <p:blipFill>
          <a:blip r:embed="rId4"/>
          <a:stretch/>
        </p:blipFill>
        <p:spPr>
          <a:xfrm>
            <a:off x="6084720" y="4121280"/>
            <a:ext cx="254160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68000" y="1052280"/>
            <a:ext cx="7956360" cy="51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ebruik een hoevenkrabber, een rubberen rosborstel, een harde en een zachte borstel en een manenkam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ets in een vaste volgorde: krab eerst de hoeven uit, poets dan het paard met de rosborstel en de zachte borstel. Borstel de manen met de harde borstel of gebruik de manenkam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ets niet in de stal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ets paarden die voornamelijk buiten verblijven niet te vaak en niet te grondig zodat de talglaag in de vacht behouden blijft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Poets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1" name="Picture 5" descr="http://www.horseshopinternational.nl/media/catalog/category/Hoevenkrabber_soft_hand.jpg"/>
          <p:cNvPicPr/>
          <p:nvPr/>
        </p:nvPicPr>
        <p:blipFill>
          <a:blip r:embed="rId1"/>
          <a:stretch/>
        </p:blipFill>
        <p:spPr>
          <a:xfrm>
            <a:off x="6175440" y="4738680"/>
            <a:ext cx="1990800" cy="1990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http://static.ruitersport.com/media/catalog/product/cache/15/image/600x600/9df78eab33525d08d6e5fb8d27136e95/m/a/manenkam_bo701.jpg"/>
          <p:cNvPicPr/>
          <p:nvPr/>
        </p:nvPicPr>
        <p:blipFill>
          <a:blip r:embed="rId2"/>
          <a:stretch/>
        </p:blipFill>
        <p:spPr>
          <a:xfrm>
            <a:off x="3492360" y="4643280"/>
            <a:ext cx="21812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68000" y="1197000"/>
            <a:ext cx="795636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Krab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voor en na het rijden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 hoeven uit o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uil te verwijdere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oud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een vaste volgorde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an, dit is prettiger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oor het paard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Uitkrabben van de hoeven is belangrijk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oor de werking van het hoefmechanisme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n controle op steentjes of scherpe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oorwerpen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 hygien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6554880" y="2708280"/>
            <a:ext cx="2089080" cy="2997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Hoeven uitkrabb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09:47:40Z</dcterms:created>
  <dc:creator>KNHS KNHS</dc:creator>
  <dc:description/>
  <dc:language>en-US</dc:language>
  <cp:lastModifiedBy>Mayke Rulof</cp:lastModifiedBy>
  <dcterms:modified xsi:type="dcterms:W3CDTF">2012-11-26T13:56:09Z</dcterms:modified>
  <cp:revision>682</cp:revision>
  <dc:subject/>
  <dc:title>PowerPoint-presentatie</dc:title>
</cp:coreProperties>
</file>