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219320"/>
            <a:ext cx="9144000" cy="121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2438280"/>
            <a:ext cx="9144000" cy="4419720"/>
          </a:xfrm>
          <a:prstGeom prst="rect">
            <a:avLst/>
          </a:prstGeom>
          <a:solidFill>
            <a:srgbClr val="d1e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3"/>
          <a:stretch/>
        </p:blipFill>
        <p:spPr>
          <a:xfrm>
            <a:off x="-14400" y="1219320"/>
            <a:ext cx="917748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600" y="328608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ijdelijke aanduiding voor inhoud 2"/>
          <p:cNvSpPr/>
          <p:nvPr/>
        </p:nvSpPr>
        <p:spPr>
          <a:xfrm>
            <a:off x="500040" y="2286000"/>
            <a:ext cx="7924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even uitkrabben hoe doe je d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 naast het been staan met je gezicht richting de sta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ijd met je hand langs de binnenkant van het been en leun iets met je gewicht tegen het paar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verplaatst zijn gewicht en jij kunt het been oppakk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 de hoef aan het kogelgewricht 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ab de straalgroeven uit, in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één richting naar de punt van de stra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et het been weer rustig neer als de hoef schoon 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33160" y="2286000"/>
            <a:ext cx="79246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ontwikkelt een wintervacht als het daglich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eemt en de temperatuur daal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r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ordel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 Minder transpirati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del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 Vatbaarder voor kou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 Deken(s) is (zijn) noodzakelij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5" descr="G:\Communicatie\Relatiegroepen\Interne relatiegroepen\Opleidingen\(Van) paarden houden\Paard en Welzijn\Beeldmateriaal\KNHS_PP\040615795_ABFweb.jpg"/>
          <p:cNvPicPr/>
          <p:nvPr/>
        </p:nvPicPr>
        <p:blipFill>
          <a:blip r:embed="rId1"/>
          <a:stretch/>
        </p:blipFill>
        <p:spPr>
          <a:xfrm>
            <a:off x="5929200" y="3214800"/>
            <a:ext cx="2927520" cy="192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533160" y="2285640"/>
            <a:ext cx="818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ke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moneutrale zone van een ongeschoren paard ligt tussen de -5 en 15 °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choren paarden hebben eerder een deken nodig dan ongeschoren paard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 zijn verschillende dekens, met verschillende eigenschappen. (zomer-, winter- regen- vliegendekens etc.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enbeschermin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sbeschermers: Beschermen tegen aantikk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 de achterhoef tegen het voorbe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gelbeschermers: Beschermen de binnenzij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 de kogel van het achterbeen. Worden voo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bruikt bij springen en event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ingschoenen: Beschermen de kroonranden en de hoefballen. Ze beschermen ook de voorste kootholten tegen het aantikken van het achterbeen. Ook het aftrappen van ijzers wordt tegengegaa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7358040" y="1785960"/>
            <a:ext cx="1476360" cy="220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enbeschermin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dag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den veel gebruikt bij dressuu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eden weinig steu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nnen ervoor zorgen dat de pezen oververhit rak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nnen ernstige blessures veroorzaken als ze niet goed zijn aangebrach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gen niet te los en niet te strak zitten en de stof mag niet gerimpeld zij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6786720" y="1928880"/>
            <a:ext cx="199044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9968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bi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en dik bit is zachter voor de mond dan een dun b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kel of dubbel gebroken bitten zijn vriendelijk voor de mond omdat het beter past bij de vorm van de mon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en passend bit heeft aan de zijkanten van de mond een halve centimeter ov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lk bit je ook kie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en bit is zo scherp als de hand die de teugel vasthoud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Afbeelding 4" descr="Bit te groot en klein.jpg"/>
          <p:cNvPicPr/>
          <p:nvPr/>
        </p:nvPicPr>
        <p:blipFill>
          <a:blip r:embed="rId1"/>
          <a:stretch/>
        </p:blipFill>
        <p:spPr>
          <a:xfrm>
            <a:off x="1571760" y="5214960"/>
            <a:ext cx="2476440" cy="139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857840" y="5214960"/>
            <a:ext cx="207144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hoofdst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pstu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ri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lri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kstu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sri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ug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3929040" y="2286000"/>
            <a:ext cx="2586240" cy="3833640"/>
          </a:xfrm>
          <a:prstGeom prst="rect">
            <a:avLst/>
          </a:prstGeom>
          <a:ln w="0">
            <a:noFill/>
          </a:ln>
        </p:spPr>
      </p:pic>
      <p:sp>
        <p:nvSpPr>
          <p:cNvPr id="507" name="Ovaal 4"/>
          <p:cNvSpPr/>
          <p:nvPr/>
        </p:nvSpPr>
        <p:spPr>
          <a:xfrm>
            <a:off x="4500720" y="321480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al 9"/>
          <p:cNvSpPr/>
          <p:nvPr/>
        </p:nvSpPr>
        <p:spPr>
          <a:xfrm>
            <a:off x="5429160" y="371484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al 10"/>
          <p:cNvSpPr/>
          <p:nvPr/>
        </p:nvSpPr>
        <p:spPr>
          <a:xfrm>
            <a:off x="4357800" y="435780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al 8"/>
          <p:cNvSpPr/>
          <p:nvPr/>
        </p:nvSpPr>
        <p:spPr>
          <a:xfrm>
            <a:off x="5143680" y="292896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al 12"/>
          <p:cNvSpPr/>
          <p:nvPr/>
        </p:nvSpPr>
        <p:spPr>
          <a:xfrm>
            <a:off x="5072040" y="492912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al 13"/>
          <p:cNvSpPr/>
          <p:nvPr/>
        </p:nvSpPr>
        <p:spPr>
          <a:xfrm>
            <a:off x="5857920" y="4643280"/>
            <a:ext cx="357120" cy="357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kstvak 6"/>
          <p:cNvSpPr/>
          <p:nvPr/>
        </p:nvSpPr>
        <p:spPr>
          <a:xfrm>
            <a:off x="5143680" y="292896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kstvak 15"/>
          <p:cNvSpPr/>
          <p:nvPr/>
        </p:nvSpPr>
        <p:spPr>
          <a:xfrm>
            <a:off x="4500720" y="321480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kstvak 16"/>
          <p:cNvSpPr/>
          <p:nvPr/>
        </p:nvSpPr>
        <p:spPr>
          <a:xfrm>
            <a:off x="5429160" y="37148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kstvak 17"/>
          <p:cNvSpPr/>
          <p:nvPr/>
        </p:nvSpPr>
        <p:spPr>
          <a:xfrm>
            <a:off x="4357800" y="435780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al 20"/>
          <p:cNvSpPr/>
          <p:nvPr/>
        </p:nvSpPr>
        <p:spPr>
          <a:xfrm>
            <a:off x="5072040" y="407196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kstvak 21"/>
          <p:cNvSpPr/>
          <p:nvPr/>
        </p:nvSpPr>
        <p:spPr>
          <a:xfrm>
            <a:off x="5072040" y="407196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kstvak 22"/>
          <p:cNvSpPr/>
          <p:nvPr/>
        </p:nvSpPr>
        <p:spPr>
          <a:xfrm>
            <a:off x="5072040" y="492912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kstvak 23"/>
          <p:cNvSpPr/>
          <p:nvPr/>
        </p:nvSpPr>
        <p:spPr>
          <a:xfrm>
            <a:off x="5857920" y="46432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533160" y="2285640"/>
            <a:ext cx="8467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zadel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 zijn verschillende typen zadels die voor verschillende doeleinden worden gebruik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en aantal voorbeelden: Dressuur-, spring-, veelzijdigheids- en westernzadel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en slecht passend zad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Kan drukplekken veroorzak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Kan het paard beperken in zijn beweg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Kan rijtechnische problemen veroorzak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Kan ook bij de ruiter blessures veroorzak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285480" y="2356920"/>
            <a:ext cx="8643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essuurzadel   veelzijdigheidszadel      springzadel       westernzad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Afbeelding 3" descr="dressuurzadel.jpg"/>
          <p:cNvPicPr/>
          <p:nvPr/>
        </p:nvPicPr>
        <p:blipFill>
          <a:blip r:embed="rId1"/>
          <a:stretch/>
        </p:blipFill>
        <p:spPr>
          <a:xfrm>
            <a:off x="571680" y="2928960"/>
            <a:ext cx="1633320" cy="18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6" name="Afbeelding 6" descr="springzadel 2.jpg"/>
          <p:cNvPicPr/>
          <p:nvPr/>
        </p:nvPicPr>
        <p:blipFill>
          <a:blip r:embed="rId2"/>
          <a:stretch/>
        </p:blipFill>
        <p:spPr>
          <a:xfrm>
            <a:off x="4929120" y="2928960"/>
            <a:ext cx="1743120" cy="18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7" name="Afbeelding 7" descr="veelzijdigheid.jpg"/>
          <p:cNvPicPr/>
          <p:nvPr/>
        </p:nvPicPr>
        <p:blipFill>
          <a:blip r:embed="rId3"/>
          <a:stretch/>
        </p:blipFill>
        <p:spPr>
          <a:xfrm>
            <a:off x="2714760" y="2928960"/>
            <a:ext cx="1670040" cy="18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8" name="Afbeelding 8" descr="western.jpg"/>
          <p:cNvPicPr/>
          <p:nvPr/>
        </p:nvPicPr>
        <p:blipFill>
          <a:blip r:embed="rId4"/>
          <a:stretch/>
        </p:blipFill>
        <p:spPr>
          <a:xfrm>
            <a:off x="7215120" y="2928960"/>
            <a:ext cx="1306440" cy="18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533520" y="2285640"/>
            <a:ext cx="8324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zadelen, het zad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org dat de stijgbeugels opgestoken zijn 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singel over het zadel lig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g het zadel vanaf de linkerkant van het paard ter hoogte van de schoft op de rug en schuif het met de haargroei mee naar achter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org dat het sjabrak recht en niet te strak op de schoft lig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p naar de andere kant en haal de singel naar bened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ak de singel aan de linkerkant voorzichtig vas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org dat de singel een handbreedte achter het voorbeen ligt en niet gedraaid i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5" descr="G:\Communicatie\Relatiegroepen\Interne relatiegroepen\Opleidingen\(Van) paarden houden\Paard en Welzijn\Beeldmateriaal\KNHS_PP\090720538_ABFweb.jpg"/>
          <p:cNvPicPr/>
          <p:nvPr/>
        </p:nvPicPr>
        <p:blipFill>
          <a:blip r:embed="rId1"/>
          <a:stretch/>
        </p:blipFill>
        <p:spPr>
          <a:xfrm>
            <a:off x="6929280" y="1785960"/>
            <a:ext cx="1841760" cy="151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00040" y="2285640"/>
            <a:ext cx="846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benaderen van een paard moet met zorg gebeur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at het paard horen dat je er b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ak rustig kennis met het paard en laat hem aan je hand ruik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ak rustige beweging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ader het paard nooit van achteren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 voorzichtig, dan denkt het paard dat j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en leider b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 ruw, dan schrikt het paard van j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4" name="Picture 5" descr="G:\Communicatie\Relatiegroepen\Interne relatiegroepen\Opleidingen\(Van) paarden houden\Paard en Welzijn\Beeldmateriaal\KNHS_PP\080416524_ABFweb.jpg"/>
          <p:cNvPicPr/>
          <p:nvPr/>
        </p:nvPicPr>
        <p:blipFill>
          <a:blip r:embed="rId1"/>
          <a:stretch/>
        </p:blipFill>
        <p:spPr>
          <a:xfrm>
            <a:off x="6500880" y="3571920"/>
            <a:ext cx="2428920" cy="18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533520" y="2285640"/>
            <a:ext cx="8324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zadelen, het hoofdst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g de teugels over de hals, neem het hoofdstel in je rechterhand en leg het bit in je linkerhan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g je rechterarm om het hoofd van het paard en breng je rechterarm omhoog tot het bit tegen de lipp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 het paard lig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w zachtjes het bit in de mond zodra het paar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mond open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uif het kopstuk over de oren en zorg ervo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 de maantop en de manen vrij ligg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uit de keelriem, neusriem en sperrie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7429680" y="3714840"/>
            <a:ext cx="1428480" cy="21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533160" y="2285640"/>
            <a:ext cx="8467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derhoud zadel en hoofdst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elmatig onderhoud verhoogt comfort en veilighei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ak zadel en hoofdstel schoon met zadelzeep. Wrijf ze daarna in met blanke wa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eer het tuig regelmatig op scheurtj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 beschadiging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at het zadel minimaal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één keer per jaa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troleren door een zadelmak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erg het tuig op in een stof- en vorstvrije 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oed geventileerde ruim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7215120" y="3571920"/>
            <a:ext cx="1498680" cy="22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71680" y="2214360"/>
            <a:ext cx="82152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iletter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 het paard er extra mooi uit te laten bij een wedstrijd of show zien kun je hem toiletter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welzijn van het paard staat voorop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heeft zijn tastharen nodig, knip deze dus nooit helemaal af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haren in de oren beschermen het oor tegen binnendringend vuil, scheer de oren niet uit, knip alleen bij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afscheren van haren in de kootholten kan tot problemen leid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haren boven aan de staartwortel beschermen h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ard tegen weer en win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71320" y="2214360"/>
            <a:ext cx="79246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iletter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d rekening met de raskenmerken van het paar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tollig haar uit de oren knipp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kjes knippen (niet bij alle rassen), maar houd rekening met waterafvoerfuncti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art tot minimaal boven de kogel afknipp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en trekken, stukje achter de oren knipp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2" name="Picture 6" descr=""/>
          <p:cNvPicPr/>
          <p:nvPr/>
        </p:nvPicPr>
        <p:blipFill>
          <a:blip r:embed="rId1"/>
          <a:stretch/>
        </p:blipFill>
        <p:spPr>
          <a:xfrm>
            <a:off x="2357280" y="5000760"/>
            <a:ext cx="235764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3" name="Picture 6" descr="G:\Communicatie\Relatiegroepen\Interne relatiegroepen\Opleidingen\(Van) paarden houden\Paard en Welzijn\Beeldmateriaal\KNHS_PP\090720532_ABFweb.jpg"/>
          <p:cNvPicPr/>
          <p:nvPr/>
        </p:nvPicPr>
        <p:blipFill>
          <a:blip r:embed="rId2"/>
          <a:stretch/>
        </p:blipFill>
        <p:spPr>
          <a:xfrm>
            <a:off x="4929120" y="5000760"/>
            <a:ext cx="1076400" cy="161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71320" y="2214360"/>
            <a:ext cx="83581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ke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 zijn verschillende soorten dekens met verschillen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omerdek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endek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terdek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liegendek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dek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weet- en uitrijdek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5715000" y="3286080"/>
            <a:ext cx="2905200" cy="211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71320" y="2214360"/>
            <a:ext cx="8429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anschaf dek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op een deken van sterke kwaliteit. Hoe hoger de D-waarde, hoe sterker de dek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sluitingen moeten veilig zijn. Koorden en singels met elastiek verhogen het comfort van de dek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psplitten verhogen het draagcomfor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en katoenen deken ligt beter dan één van wol of flee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es een dikte van de deken die past bij de temperatuu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warmte van een deken wordt bepaald door de vulling. Hoe meer gram vulling, hoe warmer de dek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99680" y="2285640"/>
            <a:ext cx="832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omdoen van een halste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org dat het halster niet gedraaid i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vestig het touw alvast aan de onderkant van het halst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 links van het paard sta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m het halster in beide handen en schuif h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orzichtig over de neus en schuif dan h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kgedeelte achter de or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g de manen en de maantop weer op hun ple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uit de kaakges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5" descr="G:\Communicatie\Relatiegroepen\Interne relatiegroepen\Opleidingen\(Van) paarden houden\Paard en Welzijn\Beeldmateriaal\KNHS_PP\090611156_ABFweb.jpg"/>
          <p:cNvPicPr/>
          <p:nvPr/>
        </p:nvPicPr>
        <p:blipFill>
          <a:blip r:embed="rId1"/>
          <a:stretch/>
        </p:blipFill>
        <p:spPr>
          <a:xfrm>
            <a:off x="7429680" y="3643200"/>
            <a:ext cx="1361880" cy="204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504720" y="2286000"/>
            <a:ext cx="79250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naar de wei of paddock breng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vestig het touw aan het halst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d het touw op ongeveer 30 centimeter vanaf de sluiting vas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p links naast het paard ter hoogte van de hals, net voor de schoud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ai het paard met zijn hoof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ar de uitgang voor je hem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weide of paddock loslaa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5429160" y="4286160"/>
            <a:ext cx="237960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99680" y="2286000"/>
            <a:ext cx="79246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an de hand leid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moet op jouw lichaamstaal letten, 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ij stopt moet hij ook stopp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ijf zelf rustig en ontspann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stzett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bruik halster en halstertouw, geen hoofdste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et het paard bij voorkeur aan twee zijden va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bruik de veiligheidsknoop en een paniekhaa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7500960" y="3714840"/>
            <a:ext cx="1357200" cy="18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4" name="Picture 6" descr="G:\Communicatie\Relatiegroepen\Interne relatiegroepen\Opleidingen\(Van) paarden houden\Paard en Welzijn\Beeldmateriaal\KNHS_PP\090611153_ABFweb.jpg"/>
          <p:cNvPicPr/>
          <p:nvPr/>
        </p:nvPicPr>
        <p:blipFill>
          <a:blip r:embed="rId2"/>
          <a:stretch/>
        </p:blipFill>
        <p:spPr>
          <a:xfrm>
            <a:off x="7478640" y="2571840"/>
            <a:ext cx="1379520" cy="91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9968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elmatig poetsen is belangrij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 legt contact met je paar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is goed voor de vach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is een controlemoment voor wondj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de reiniging voorkomt schuren va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jvoorbeeld het zade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bevordert de bloedsomloop en huidactivite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6" name="Afbeelding 3" descr="Verzorging.jpg"/>
          <p:cNvPicPr/>
          <p:nvPr/>
        </p:nvPicPr>
        <p:blipFill>
          <a:blip r:embed="rId1"/>
          <a:stretch/>
        </p:blipFill>
        <p:spPr>
          <a:xfrm>
            <a:off x="6643800" y="2714760"/>
            <a:ext cx="2286000" cy="169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7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9968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ets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bruik een hoevenkrabber, een rubberen rosborstel, een harde en een zachte borstel en een manenka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ets in een vaste volgorde: krab eerst de hoeven uit, poets dan het paard met de rosborstel en de zachte borstel. Borstel de manen met de harde borstel of gebruik de manenka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ets niet in de st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ets paarden die voornamelijk buiten verblijven niet te vaak en niet te grondig zodat de talglaag in de vacht behouden blijf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9968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zorging na het rijd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p het paard goed u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ets na het rijden om zweet en vuil te verwijder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ons natte zweetplekken met een vochtige spons af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wijder met een zweetmes overtollig wat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3000240" y="4286160"/>
            <a:ext cx="30052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9968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even uitkrabb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ab voor en na het rijden de hoeven uit o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uil te verwijder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d een vaste volgorde aan, dit is prettig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or het paar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itkrabben van de hoeven is belangrij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or de werking van het hoefmechanism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 controle op steentjes of scherpe voorwerpen en hygie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7000920" y="2143080"/>
            <a:ext cx="1838160" cy="263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5" name="Titel 1"/>
          <p:cNvSpPr/>
          <p:nvPr/>
        </p:nvSpPr>
        <p:spPr>
          <a:xfrm>
            <a:off x="533520" y="1714680"/>
            <a:ext cx="792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mgang en verzorg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fortgensi</cp:lastModifiedBy>
  <dcterms:modified xsi:type="dcterms:W3CDTF">2009-11-13T14:39:50Z</dcterms:modified>
  <cp:revision>675</cp:revision>
  <dc:subject/>
  <dc:title>PowerPoint-presentatie</dc:title>
</cp:coreProperties>
</file>