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6194-94BC-410A-99B2-03C80ADA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8E5E-DE24-447B-8A62-3467D4C9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89E1-1846-4510-BF44-B9B173E4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3255-71E2-4FC7-801A-2E874A2E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F865-DAD9-41C4-AEDE-5D2E1E41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B5B2-76FB-488C-B098-C610090A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E36E-F232-403F-9BDA-F1E486AD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B223-21C1-4CBB-AE17-3C2D2C7F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4079-1379-49FB-8966-DBC59B5C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EBC2-1F41-4408-87BF-5AA43847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3B4E-D6F7-40E7-9304-003583B9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5D9B-441B-4B33-ACAD-BAC31C9E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D46F-C2D4-46CF-BD29-100F8A25E22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A9E1-6045-4FE4-99B1-4DF9F6E5E9AF}" type="datetime"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el 1"/>
          <p:cNvSpPr/>
          <p:nvPr/>
        </p:nvSpPr>
        <p:spPr>
          <a:xfrm>
            <a:off x="679320" y="32036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Omgang en </a:t>
            </a:r>
            <a:br>
              <a:rPr sz="4800"/>
            </a:b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verzorging H4</a:t>
            </a:r>
            <a:endParaRPr b="0" lang="en-US" sz="48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inhoud 2"/>
          <p:cNvSpPr/>
          <p:nvPr/>
        </p:nvSpPr>
        <p:spPr>
          <a:xfrm>
            <a:off x="500040" y="1268280"/>
            <a:ext cx="79246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even uitkrabben hoe doe je dat: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naast het been staan m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je gezicht richting de staar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lijd met je hand langs de binnenkant van het been en leun iets met je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gewicht tegen het paard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verplaatst zijn gewicht en jij kunt het been oppakken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il de hoef aan h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gewrich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op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d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raalgroev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uit, in 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één richting naar de punt van de straal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t het been weer rustig neer als de hoef schoon is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ap het paard goed ui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a het rijden om zweet en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ons natte zweetplekken m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en vochtige spons af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wijder met een zweetmes overtollig wa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79640" y="4005360"/>
            <a:ext cx="300528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Verzorging na het r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1" name="Picture 6" descr="http://img207.imageshack.us/img207/8531/vervanging311kopie.png"/>
          <p:cNvPicPr/>
          <p:nvPr/>
        </p:nvPicPr>
        <p:blipFill>
          <a:blip r:embed="rId2"/>
          <a:stretch/>
        </p:blipFill>
        <p:spPr>
          <a:xfrm rot="895200">
            <a:off x="6156000" y="765000"/>
            <a:ext cx="26416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4920" y="1052640"/>
            <a:ext cx="768204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eesbeschermer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tegen aantikken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achterhoef tegen het voorbeen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beschermer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: Beschermen de binnenzijd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kogel van het achterbeen. Worden vooral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t bij springen en eventing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pringschoen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de kroonranden en de hoefballen. Ze beschermen ook de voorste kootholten tegen het aantikken van het achterbeen. Ook het aftrappen van ijzers wordt tegengegaa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220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5" name="Picture 6" descr="http://oudcdn.agradi.nl/media/products/pics_135/7/f/4030599.jpg"/>
          <p:cNvPicPr/>
          <p:nvPr/>
        </p:nvPicPr>
        <p:blipFill>
          <a:blip r:embed="rId2"/>
          <a:stretch/>
        </p:blipFill>
        <p:spPr>
          <a:xfrm>
            <a:off x="7667640" y="24210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www.hippocare.nl/images/classic_springglocke.jpg"/>
          <p:cNvPicPr/>
          <p:nvPr/>
        </p:nvPicPr>
        <p:blipFill>
          <a:blip r:embed="rId3"/>
          <a:stretch/>
        </p:blipFill>
        <p:spPr>
          <a:xfrm>
            <a:off x="7229520" y="4614840"/>
            <a:ext cx="1908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196640"/>
            <a:ext cx="7608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Bandag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den veel gebruikt bij dressuu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ieden weinig steu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ervoor zorgen da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pezen oververhi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rnstige blessure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oorzaken als ze niet goed zijn aangebrach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og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te los en niet te strak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tten en de stof ma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gerimpeld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j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2082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24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Lesopbou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riëntatiefas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valuatiefa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2" descr="http://paardenliefhebber.info/sub/downloads/paarden_plaatjes/Paarden%20-%20Paard%20in%20weide.jpg"/>
          <p:cNvPicPr/>
          <p:nvPr/>
        </p:nvPicPr>
        <p:blipFill>
          <a:blip r:embed="rId1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naderen van een paar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000"/>
            <a:ext cx="806436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t benaderen van een paard moet met zorg gebeur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aat het paard horen dat je 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k rustig kennis met het paard en laat hem aan je hand rui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f2b20"/>
                </a:solidFill>
                <a:latin typeface="Calibri"/>
              </a:rPr>
              <a:t>Maak rustige bewegingen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nader het paard nooit van achteren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voorzichtig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denkt het paard dat j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n leid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ruw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schrikt het paard van j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G:\Communicatie\Relatiegroepen\Interne relatiegroepen\Opleidingen\(Van) paarden houden\Paard en Welzijn\Beeldmateriaal\KNHS_PP\080416524_ABFweb.jpg"/>
          <p:cNvPicPr/>
          <p:nvPr/>
        </p:nvPicPr>
        <p:blipFill>
          <a:blip r:embed="rId1"/>
          <a:stretch/>
        </p:blipFill>
        <p:spPr>
          <a:xfrm>
            <a:off x="6037200" y="4005360"/>
            <a:ext cx="2909880" cy="216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" y="1197000"/>
            <a:ext cx="777564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org dat het halster niet gedraaid i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lvast aan de onderkant van h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s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links van het paard staa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em het halster in beide handen en schuif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zichtig over de neus en schuif dan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kgedeelte achter de o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eg de manen en de maantop weer op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un plek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luit de kaakgesp, LET OP dat het klipje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aar buiten is gedraaid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5" descr="G:\Communicatie\Relatiegroepen\Interne relatiegroepen\Opleidingen\(Van) paarden houden\Paard en Welzijn\Beeldmateriaal\KNHS_PP\090611156_ABFweb.jpg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924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Omdoen van een halst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4" name="Picture 6" descr="http://www.kooleruitersport.nl/img/product/337839/0/0/br-leren-halster.jpg"/>
          <p:cNvPicPr/>
          <p:nvPr/>
        </p:nvPicPr>
        <p:blipFill>
          <a:blip r:embed="rId2"/>
          <a:stretch/>
        </p:blipFill>
        <p:spPr>
          <a:xfrm>
            <a:off x="6004080" y="3859200"/>
            <a:ext cx="3163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1628640"/>
            <a:ext cx="7961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an het halster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het touw op ongeveer 30 centimeter vanaf de sluiting vast.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op links naast het paard ter hoogte van de hals, net voor de schoud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raai het paard met zijn hoofd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naar de uitgang voor je hem in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e weide of paddock loslaat.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148360" y="3913200"/>
            <a:ext cx="357660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91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aard naar de wei/paddock bre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Aan de hand leiden en vastze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980640"/>
            <a:ext cx="80294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an de hand leid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moet op jouw lichaamstaal letten,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s jij stopt moet hij ook stoppe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lijf zelf rustig en ontspann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astzett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halster en halstertouw, geen hoofdst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et het paard bij voorkeur aan twee zijden vas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veiligheidsknoop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aniekhaak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032600" y="3611520"/>
            <a:ext cx="183852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G:\Communicatie\Relatiegroepen\Interne relatiegroepen\Opleidingen\(Van) paarden houden\Paard en Welzijn\Beeldmateriaal\KNHS_PP\090611153_ABFweb.jpg"/>
          <p:cNvPicPr/>
          <p:nvPr/>
        </p:nvPicPr>
        <p:blipFill>
          <a:blip r:embed="rId2"/>
          <a:stretch/>
        </p:blipFill>
        <p:spPr>
          <a:xfrm rot="929400">
            <a:off x="6575400" y="1385640"/>
            <a:ext cx="2146320" cy="143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gelmatig poetsen is belangrij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Je leg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met je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goed voor de vach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rolemom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voor wondje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oede reiniging voorkomt schuren van bijvoorbeeld het zad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bevorder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bloedsomloop en huidactivite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Afbeelding 3" descr="Verzorging.jpg"/>
          <p:cNvPicPr/>
          <p:nvPr/>
        </p:nvPicPr>
        <p:blipFill>
          <a:blip r:embed="rId1"/>
          <a:stretch/>
        </p:blipFill>
        <p:spPr>
          <a:xfrm>
            <a:off x="6643800" y="549360"/>
            <a:ext cx="2286000" cy="169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5" name="Picture 6" descr="http://www.alkmaarseruitersportspeciaalzaak.nl/osc/images/rubber%20rosborstel.jpg"/>
          <p:cNvPicPr/>
          <p:nvPr/>
        </p:nvPicPr>
        <p:blipFill>
          <a:blip r:embed="rId2"/>
          <a:stretch/>
        </p:blipFill>
        <p:spPr>
          <a:xfrm>
            <a:off x="468360" y="414972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albatros-schoonhoven.nl/Shop/images/36300001.gif"/>
          <p:cNvPicPr/>
          <p:nvPr/>
        </p:nvPicPr>
        <p:blipFill>
          <a:blip r:embed="rId3"/>
          <a:stretch/>
        </p:blipFill>
        <p:spPr>
          <a:xfrm>
            <a:off x="3203640" y="4776840"/>
            <a:ext cx="2695680" cy="12571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0"/>
          <p:cNvSpPr/>
          <p:nvPr/>
        </p:nvSpPr>
        <p:spPr>
          <a:xfrm>
            <a:off x="15552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8" name="Picture 12" descr="http://oudcdn.agradi.nl/media/products/pics_310/4/4/4045031.jpg"/>
          <p:cNvPicPr/>
          <p:nvPr/>
        </p:nvPicPr>
        <p:blipFill>
          <a:blip r:embed="rId4"/>
          <a:stretch/>
        </p:blipFill>
        <p:spPr>
          <a:xfrm>
            <a:off x="6084720" y="412128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1052280"/>
            <a:ext cx="795636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een hoevenkrabber, een rubberen rosborstel, een harde en een zachte borstel en een manenkam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in een vaste volgorde: krab eerst de hoeven uit, poets dan het paard met de rosborstel en de zachte borstel. Borstel de manen met de harde borstel of gebruik de manenkam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iet in de sta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paarden die voornamelijk buiten verblijven niet te vaak en niet te grondig zodat de talglaag in de vacht behouden blijf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1" name="Picture 5" descr="http://www.horseshopinternational.nl/media/catalog/category/Hoevenkrabber_soft_hand.jpg"/>
          <p:cNvPicPr/>
          <p:nvPr/>
        </p:nvPicPr>
        <p:blipFill>
          <a:blip r:embed="rId1"/>
          <a:stretch/>
        </p:blipFill>
        <p:spPr>
          <a:xfrm>
            <a:off x="6175440" y="473868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static.ruitersport.com/media/catalog/product/cache/15/image/600x600/9df78eab33525d08d6e5fb8d27136e95/m/a/manenkam_bo701.jpg"/>
          <p:cNvPicPr/>
          <p:nvPr/>
        </p:nvPicPr>
        <p:blipFill>
          <a:blip r:embed="rId2"/>
          <a:stretch/>
        </p:blipFill>
        <p:spPr>
          <a:xfrm>
            <a:off x="3492360" y="4643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oor en na het rijden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 hoeven uit o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en vaste volgorde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an, dit is prettiger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het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itkrabben van de hoeven is belangrijk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de werking van het hoefmechanism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controle op steentjes of scherp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werpe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 hygie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554880" y="2708280"/>
            <a:ext cx="2089080" cy="299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6T13:56:09Z</dcterms:modified>
  <cp:revision>682</cp:revision>
  <dc:subject/>
  <dc:title>PowerPoint-presentatie</dc:title>
</cp:coreProperties>
</file>