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0B67-B846-43BA-B724-CB47250F5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2824-3D0A-4344-B37E-7D72AB4D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46B6-B846-43C2-A990-DEF1DD7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59984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106520"/>
            <a:ext cx="24526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FD50-4370-4AB3-83F7-B7B985B07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9667-F8BB-4932-B7A4-5E86C4D5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8870-2E5F-46C4-BC11-AF633526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ECE8-A1BF-4DF5-AC6E-F32033C6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D3AFE-2F8A-4938-AC5E-3956BAB8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761832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B5A0-2D7E-41E5-8429-7EA73877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695F-A8D0-4A7B-9957-D9A3A9C1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10652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BB4E-24FF-4A3D-8D1F-5F19AA62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599840"/>
            <a:ext cx="37177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6520"/>
            <a:ext cx="7618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80E4-95DA-4DF9-B3F7-2DED75ED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761832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76183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440" y="5668560"/>
            <a:ext cx="506520" cy="353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E17764-81F6-4A0A-867A-35115D1F9965}" type="slidenum">
              <a:rPr b="0" lang="en-US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7587360" y="4002480"/>
            <a:ext cx="236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8588160" y="3047760"/>
            <a:ext cx="24368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9/22/15</a:t>
            </a:r>
            <a:endParaRPr b="0" lang="en-US" sz="1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2NKQHWSJj0w" TargetMode="External"/><Relationship Id="rId4" Type="http://schemas.openxmlformats.org/officeDocument/2006/relationships/hyperlink" Target="http://www.youtube.com/watch?v=2NKQHWSJj0w" TargetMode="External"/><Relationship Id="rId5" Type="http://schemas.openxmlformats.org/officeDocument/2006/relationships/hyperlink" Target="http://www.youtube.com/watch?v=2NKQHWSJj0w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35640" y="765000"/>
            <a:ext cx="28573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2560" y="2894040"/>
            <a:ext cx="75438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Welzijn H1</a:t>
            </a:r>
            <a:endParaRPr b="0" lang="en-US" sz="6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333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Natuurlijke</a:t>
            </a: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 </a:t>
            </a: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behoeft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03304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natuurlijke behoeften van paarden van nu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Veel beweging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or doorbloeding va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benen en hoeven en een goed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pijsvertering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ak kleine beetjes 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e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in het rantso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act met soortgeno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unnen uiten va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kuddegedra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2430720" cy="364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oer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341360"/>
            <a:ext cx="7958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uwvoer belangrijk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standdeel in rantso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en paard heeft speeksel nodig om voer te verter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ij maakt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leen speeksel aan als hij kauwt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 het eten van ruwvoer gaat een paard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extra kauwen en maakt hij meer speeksel aa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er speeksel zorgt voor een betere vertering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oer daarom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eerst ruwvoer en dan pas </a:t>
            </a:r>
            <a:br>
              <a:rPr sz="2200"/>
            </a:b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    krachtvoer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46640" y="4221000"/>
            <a:ext cx="2722680" cy="192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46640" y="260280"/>
            <a:ext cx="2641680" cy="176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032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Vlucht- en kuddegedrag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197000"/>
            <a:ext cx="753768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d rekening met het kuddegedrag en vluchtgedrag van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rent eerst weg en kijkt daarna wat er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uiter/menner moet de leidersrol overnem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iet straffen als een paard schrikt m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ertrouwen gev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aten wennen aan nieuw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ngen samen met een and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67280" cy="2408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246640"/>
            <a:ext cx="46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Times New Roman"/>
              </a:rPr>
              <a:t>Link: tot en met 1:16</a:t>
            </a:r>
            <a:br>
              <a:rPr sz="2000"/>
            </a:br>
            <a:br>
              <a:rPr sz="2000"/>
            </a:b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://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youtube.com/watch?v=2NKQHWSJj0w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512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Waarnem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25360"/>
            <a:ext cx="7753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hoort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meer dan mensen, hij kan zijn oren verschillende kanten op beweg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tastzintui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an het paard is zeer goed ontwikkel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gebruikt de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reuk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ij interactie tussen andere paard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arden kunne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proev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, niet elk paard vindt hetzelfde lekker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4581360"/>
            <a:ext cx="2952720" cy="19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55520"/>
            <a:ext cx="79185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100" spc="-1" strike="noStrike">
                <a:solidFill>
                  <a:srgbClr val="2f2b20"/>
                </a:solidFill>
                <a:latin typeface="Cambria"/>
              </a:rPr>
              <a:t>Zichtveld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25360"/>
            <a:ext cx="7537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ordat de ogen aan de zijkant van het hoofd zitten kan het paard dingen vaak maar met één oog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t paard moet het hoofd kunnen draaien om alles goed te kunnen zi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7929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individueel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kruiswoordpuzzel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leg daarna in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tweetall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de antwoorden die je nog niet weet.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k je kruiswoordpuzzel compleet door met </a:t>
            </a: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medestudenten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ideeën uit te wisselen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valuati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Reflectie:</a:t>
            </a: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al JOUW belangrijke geleerde punten van de les op de gele post-it en plak deze op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11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333360"/>
            <a:ext cx="792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ogramma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Oriëntatiefase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Theori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Aan de slag</a:t>
            </a:r>
            <a:br>
              <a:rPr sz="2200"/>
            </a:b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675e47"/>
                </a:solidFill>
                <a:latin typeface="Calibri"/>
              </a:rPr>
              <a:t>Evaluatiefase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4530600" cy="30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riëntatiefase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Brainstormen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a in tweetallen nadenken over de natuurlijke behoeften van het paard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637000"/>
            <a:ext cx="52387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11592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Evolutie 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981000"/>
            <a:ext cx="7993080" cy="63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Oerpaar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(Eohippus) leefde 55-50 miljoen jaar geleden in het Tropische Oerwoud en was ongeveer 25-45 cm groot.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chuilen i.p.v.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e oerwoud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steppes en graslan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Eohippus moest zich aanpassen (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esohippu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35 miljoen jaar geleden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Nam toe in grootte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Moderne paard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Equus) 3,5 miljoen jaar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leden.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Gedomesticeerd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* Hoogbenig en ééntenig vluchtdier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 marL="3412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40560" y="4437000"/>
            <a:ext cx="31384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2f2b20"/>
                </a:solidFill>
                <a:latin typeface="Cambria"/>
              </a:rPr>
              <a:t>Oorsprong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981000"/>
            <a:ext cx="77533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ropisch Oerwoud werd steppe. Dit betekende dat het paard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ard en langdurig moest kunnen lopen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stant warme spieren en een goede doorbloeding nodig had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vluch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ntinu in beweging was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rote longen ontwikkelde.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 hele dag kleine beetjes kon </a:t>
            </a:r>
            <a:br>
              <a:rPr sz="2200"/>
            </a:b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t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Kortom: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m toe in hoogte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luchtdier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l tenen nam af</a:t>
            </a:r>
            <a:br>
              <a:rPr sz="2200"/>
            </a:b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2708280"/>
            <a:ext cx="46418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9960" y="549360"/>
            <a:ext cx="7925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000520" cy="152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9240" y="4143240"/>
            <a:ext cx="200052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571680" y="371484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rabier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lgisch Trekpaard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alabella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" y="5643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jord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Fries        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fling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040" y="2214720"/>
            <a:ext cx="233352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357720" y="4164120"/>
            <a:ext cx="228600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040" y="4143240"/>
            <a:ext cx="2357640" cy="156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3357720" y="2197080"/>
            <a:ext cx="2286000" cy="15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3440" y="189000"/>
            <a:ext cx="7924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100" spc="-1" strike="noStrike">
                <a:solidFill>
                  <a:srgbClr val="2f2b20"/>
                </a:solidFill>
                <a:latin typeface="Cambria"/>
              </a:rPr>
              <a:t>Rassen</a:t>
            </a:r>
            <a:endParaRPr b="0" lang="en-US" sz="41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959280"/>
            <a:ext cx="2071800" cy="15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357960" y="170028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357960" y="4097160"/>
            <a:ext cx="2000160" cy="152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571680" y="33861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KWPN-er 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Lippizaner      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   Tinker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4240" y="5643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etland pony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New Forest pony         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Welsh pony</a:t>
            </a:r>
            <a:endParaRPr b="0" lang="en-US" sz="2000" spc="-1" strike="noStrike">
              <a:solidFill>
                <a:srgbClr val="2f2b2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71680" y="3933720"/>
            <a:ext cx="2214360" cy="1521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592200" y="1700280"/>
            <a:ext cx="2071800" cy="16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379680" y="1700280"/>
            <a:ext cx="206388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dracht</a:t>
            </a:r>
            <a:endParaRPr b="0" lang="en-US" sz="46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7620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Commitee Brambell (1965) meet welzijn van paarden aan 5 vrijheden: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Overleg samen met je buurman of buurvrouw welke vrijheden dit kunnen zij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r>
              <a:rPr b="1" lang="nl-NL" sz="2200" spc="-1" strike="noStrike">
                <a:solidFill>
                  <a:srgbClr val="2f2b20"/>
                </a:solidFill>
                <a:latin typeface="Calibri"/>
              </a:rPr>
              <a:t>De brainstorm opdracht zou je hier voor kunnen gebruiken.</a:t>
            </a: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4360"/>
                <a:tab algn="l" pos="1598760"/>
                <a:tab algn="l" pos="2513160"/>
                <a:tab algn="l" pos="3427560"/>
                <a:tab algn="l" pos="4341960"/>
                <a:tab algn="l" pos="5256360"/>
                <a:tab algn="l" pos="6170760"/>
                <a:tab algn="l" pos="7085160"/>
                <a:tab algn="l" pos="7999560"/>
                <a:tab algn="l" pos="8913960"/>
                <a:tab algn="l" pos="982836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6480"/>
            <a:ext cx="76201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5 Vrijhed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44120"/>
            <a:ext cx="7620120" cy="47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. vrij van honger dorst en onjuiste vo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.vrij van fysiek en mentaal lij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3. vrij van pijn, verwondingen en ziekt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4.vrij van angst en chronische 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5. vrij om natuurlijk gedrag te verto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144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RIJF ZE OP!! KOMEN TERUG OP DE TOETS!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9:47:40Z</dcterms:created>
  <dc:creator>KNHS KNHS</dc:creator>
  <dc:description/>
  <dc:language>en-US</dc:language>
  <cp:lastModifiedBy>Mayke Rulof</cp:lastModifiedBy>
  <dcterms:modified xsi:type="dcterms:W3CDTF">2012-11-21T15:20:01Z</dcterms:modified>
  <cp:revision>694</cp:revision>
  <dc:subject/>
  <dc:title>PowerPoint-presentatie</dc:title>
</cp:coreProperties>
</file>