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983C1-5D1C-4785-8DC6-04C6913C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C7A3-2D8C-43EE-AF9A-05845C9E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9E51-3727-45F5-8827-C6AD3D35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ED9D-289E-4492-BF12-D4A00C09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83A3-F68F-42F1-8CF3-E31A43C8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8F67E-86DD-4806-89FE-B100DA11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A1F7-C2D1-420B-9E91-34335426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80D7-A73C-43A3-A646-7425C7B4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0D5C-3ECC-4A1B-A2B9-D4F9064C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F0FD-C420-4FA2-9CFC-BD4A4B6A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5766-13BF-4D2E-A006-BBD062AD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C037-3591-454E-A542-E1ACB239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0C55-ECF7-4723-A652-EE00660F86B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0850-530F-40E9-950F-28BCA82C5F34}" type="datetime">
              <a:rPr b="0" lang="en-US" sz="1200" spc="-1" strike="noStrike">
                <a:solidFill>
                  <a:srgbClr val="dfdcb7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el 1"/>
          <p:cNvSpPr/>
          <p:nvPr/>
        </p:nvSpPr>
        <p:spPr>
          <a:xfrm>
            <a:off x="679320" y="3203640"/>
            <a:ext cx="7543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b20"/>
                </a:solidFill>
                <a:latin typeface="Cambria"/>
              </a:rPr>
              <a:t>Omgang en </a:t>
            </a:r>
            <a:br>
              <a:rPr sz="4800"/>
            </a:br>
            <a:r>
              <a:rPr b="0" lang="en-US" sz="4800" spc="-1" strike="noStrike">
                <a:solidFill>
                  <a:srgbClr val="2f2b20"/>
                </a:solidFill>
                <a:latin typeface="Cambria"/>
              </a:rPr>
              <a:t>verzorging H4</a:t>
            </a:r>
            <a:endParaRPr b="0" lang="en-US" sz="48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2857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jdelijke aanduiding voor inhoud 2"/>
          <p:cNvSpPr/>
          <p:nvPr/>
        </p:nvSpPr>
        <p:spPr>
          <a:xfrm>
            <a:off x="500040" y="1268280"/>
            <a:ext cx="792468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even uitkrabben hoe doe je dat: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a naast het been staan me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je gezicht richting de staar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lijd met je hand langs de binnenkant van het been en leun iets met je </a:t>
            </a: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gewicht tegen het paard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paard verplaatst zijn gewicht en jij kunt het been oppakken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il de hoef aan he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kogelgewrich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op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rab de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traalgroeven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uit, in 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één richting naar de punt van de straal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f2b20"/>
              </a:buClr>
              <a:buSzPct val="13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et het been weer rustig neer als de hoef schoon is. </a:t>
            </a:r>
            <a:endParaRPr b="0" lang="en-US" sz="24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Hoeven uitkrabb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ap het paard goed ui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na het rijden om zweet en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uil te verwijde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ons natte zweetplekken met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en vochtige spons af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erwijder met een zweetmes overtollig wat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979640" y="4005360"/>
            <a:ext cx="3005280" cy="206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Verzorging na het rij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1" name="Picture 6" descr="http://img207.imageshack.us/img207/8531/vervanging311kopie.png"/>
          <p:cNvPicPr/>
          <p:nvPr/>
        </p:nvPicPr>
        <p:blipFill>
          <a:blip r:embed="rId2"/>
          <a:stretch/>
        </p:blipFill>
        <p:spPr>
          <a:xfrm rot="895200">
            <a:off x="6156000" y="765000"/>
            <a:ext cx="264168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94920" y="1052640"/>
            <a:ext cx="768204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Peesbeschermers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: Beschermen tegen aantikken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an de achterhoef tegen het voorbeen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Kogelbeschermer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: Beschermen de binnenzijd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an de kogel van het achterbeen. Worden vooral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t bij springen en eventing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pringschoenen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: Beschermen de kroonranden en de hoefballen. Ze beschermen ook de voorste kootholten tegen het aantikken van het achterbeen. Ook het aftrappen van ijzers wordt tegengegaa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220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enbescherm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5" name="Picture 6" descr="http://oudcdn.agradi.nl/media/products/pics_135/7/f/4030599.jpg"/>
          <p:cNvPicPr/>
          <p:nvPr/>
        </p:nvPicPr>
        <p:blipFill>
          <a:blip r:embed="rId2"/>
          <a:stretch/>
        </p:blipFill>
        <p:spPr>
          <a:xfrm>
            <a:off x="7667640" y="242100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www.hippocare.nl/images/classic_springglocke.jpg"/>
          <p:cNvPicPr/>
          <p:nvPr/>
        </p:nvPicPr>
        <p:blipFill>
          <a:blip r:embed="rId3"/>
          <a:stretch/>
        </p:blipFill>
        <p:spPr>
          <a:xfrm>
            <a:off x="7229520" y="4614840"/>
            <a:ext cx="19080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1196640"/>
            <a:ext cx="760896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Bandages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orden veel gebruikt bij dressuu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ieden weinig steu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unnen ervoor zorgen da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pezen oververhit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k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unn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ernstige blessures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eroorzaken als ze niet goed zijn aangebracht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og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niet te los en niet te strak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itten en de stof mag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niet gerimpeld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ij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5867280" y="333360"/>
            <a:ext cx="2208240" cy="19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enbescherm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9246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2f2b20"/>
                </a:solidFill>
                <a:latin typeface="Cambria"/>
              </a:rPr>
              <a:t>Lesopbouw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riëntatiefase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heor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an de sla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heor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an de slag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Evaluatiefa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2" descr="http://paardenliefhebber.info/sub/downloads/paarden_plaatjes/Paarden%20-%20Paard%20in%20weide.jpg"/>
          <p:cNvPicPr/>
          <p:nvPr/>
        </p:nvPicPr>
        <p:blipFill>
          <a:blip r:embed="rId1"/>
          <a:stretch/>
        </p:blipFill>
        <p:spPr>
          <a:xfrm>
            <a:off x="4140360" y="2205000"/>
            <a:ext cx="45306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9246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Benaderen van een paar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3640" y="1125000"/>
            <a:ext cx="806436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et benaderen van een paard moet met zorg gebeur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Laat het paard horen dat je er ben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aak rustig kennis met het paard en laat hem aan je hand ruik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f2b20"/>
                </a:solidFill>
                <a:latin typeface="Calibri"/>
              </a:rPr>
              <a:t>Maak rustige bewegingen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nader het paard nooit van achteren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f2b20"/>
                </a:solidFill>
                <a:latin typeface="Calibri"/>
              </a:rPr>
              <a:t>Te voorzichtig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, dan denkt het paard dat je</a:t>
            </a:r>
            <a:br>
              <a:rPr sz="2400"/>
            </a:b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en leider ben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f2b20"/>
                </a:solidFill>
                <a:latin typeface="Calibri"/>
              </a:rPr>
              <a:t>Te ruw</a:t>
            </a: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, dan schrikt het paard van j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5" descr="G:\Communicatie\Relatiegroepen\Interne relatiegroepen\Opleidingen\(Van) paarden houden\Paard en Welzijn\Beeldmateriaal\KNHS_PP\080416524_ABFweb.jpg"/>
          <p:cNvPicPr/>
          <p:nvPr/>
        </p:nvPicPr>
        <p:blipFill>
          <a:blip r:embed="rId1"/>
          <a:stretch/>
        </p:blipFill>
        <p:spPr>
          <a:xfrm>
            <a:off x="6037200" y="4005360"/>
            <a:ext cx="2909880" cy="216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000" y="1197000"/>
            <a:ext cx="777564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org dat het halster niet gedraaid i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evestig het touw alvast aan de onderkant van het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st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a links van het paard staa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eem het halster in beide handen en schuif het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zichtig over de neus en schuif dan het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ekgedeelte achter de o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eg de manen en de maantop weer op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un plek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luit de kaakgesp, LET OP dat het klipje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aar buiten is gedraaid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2" name="Picture 5" descr="G:\Communicatie\Relatiegroepen\Interne relatiegroepen\Opleidingen\(Van) paarden houden\Paard en Welzijn\Beeldmateriaal\KNHS_PP\090611156_ABFweb.jpg"/>
          <p:cNvPicPr/>
          <p:nvPr/>
        </p:nvPicPr>
        <p:blipFill>
          <a:blip r:embed="rId1"/>
          <a:stretch/>
        </p:blipFill>
        <p:spPr>
          <a:xfrm>
            <a:off x="7399440" y="0"/>
            <a:ext cx="1744560" cy="26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9246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Omdoen van een halster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4" name="Picture 6" descr="http://www.kooleruitersport.nl/img/product/337839/0/0/br-leren-halster.jpg"/>
          <p:cNvPicPr/>
          <p:nvPr/>
        </p:nvPicPr>
        <p:blipFill>
          <a:blip r:embed="rId2"/>
          <a:stretch/>
        </p:blipFill>
        <p:spPr>
          <a:xfrm>
            <a:off x="6004080" y="3859200"/>
            <a:ext cx="31636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000" y="1628640"/>
            <a:ext cx="7961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evestig het touw aan het halster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ud het touw op ongeveer 30 centimeter vanaf de sluiting vast.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oop links naast het paard ter hoogte van de hals, net voor de schoud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Draai het paard met zijn hoofd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naar de uitgang voor je hem in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de weide of paddock loslaat. </a:t>
            </a:r>
            <a:br>
              <a:rPr sz="2400"/>
            </a:br>
            <a:r>
              <a:rPr b="0" i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148360" y="3913200"/>
            <a:ext cx="357660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912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aard naar de wei/paddock bre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Aan de hand leiden en vastzet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980640"/>
            <a:ext cx="802944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Aan de hand leid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paard moet op jouw lichaamstaal letten,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s jij stopt moet hij ook stoppen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lijf zelf rustig en ontspann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Vastzett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halster en halstertouw, geen hoofdste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Zet het paard bij voorkeur aan twee zijden vas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veiligheidsknoop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 e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paniekhaak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7032600" y="3611520"/>
            <a:ext cx="183852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Picture 6" descr="G:\Communicatie\Relatiegroepen\Interne relatiegroepen\Opleidingen\(Van) paarden houden\Paard en Welzijn\Beeldmateriaal\KNHS_PP\090611153_ABFweb.jpg"/>
          <p:cNvPicPr/>
          <p:nvPr/>
        </p:nvPicPr>
        <p:blipFill>
          <a:blip r:embed="rId2"/>
          <a:stretch/>
        </p:blipFill>
        <p:spPr>
          <a:xfrm rot="929400">
            <a:off x="6575400" y="1385640"/>
            <a:ext cx="2146320" cy="143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gelmatig poetsen is belangrijk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Je leg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tac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met je paard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is goed voor de vach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is een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ontrolemomen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voor wondje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oede reiniging voorkomt schuren van bijvoorbeeld het zade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et bevordert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e bloedsomloop en huidactiviteit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Afbeelding 3" descr="Verzorging.jpg"/>
          <p:cNvPicPr/>
          <p:nvPr/>
        </p:nvPicPr>
        <p:blipFill>
          <a:blip r:embed="rId1"/>
          <a:stretch/>
        </p:blipFill>
        <p:spPr>
          <a:xfrm>
            <a:off x="6643800" y="549360"/>
            <a:ext cx="2286000" cy="169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oet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5" name="Picture 6" descr="http://www.alkmaarseruitersportspeciaalzaak.nl/osc/images/rubber%20rosborstel.jpg"/>
          <p:cNvPicPr/>
          <p:nvPr/>
        </p:nvPicPr>
        <p:blipFill>
          <a:blip r:embed="rId2"/>
          <a:stretch/>
        </p:blipFill>
        <p:spPr>
          <a:xfrm>
            <a:off x="468360" y="4149720"/>
            <a:ext cx="2512800" cy="2513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albatros-schoonhoven.nl/Shop/images/36300001.gif"/>
          <p:cNvPicPr/>
          <p:nvPr/>
        </p:nvPicPr>
        <p:blipFill>
          <a:blip r:embed="rId3"/>
          <a:stretch/>
        </p:blipFill>
        <p:spPr>
          <a:xfrm>
            <a:off x="3203640" y="4776840"/>
            <a:ext cx="2695680" cy="12571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10"/>
          <p:cNvSpPr/>
          <p:nvPr/>
        </p:nvSpPr>
        <p:spPr>
          <a:xfrm>
            <a:off x="155520" y="-411120"/>
            <a:ext cx="857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8" name="Picture 12" descr="http://oudcdn.agradi.nl/media/products/pics_310/4/4/4045031.jpg"/>
          <p:cNvPicPr/>
          <p:nvPr/>
        </p:nvPicPr>
        <p:blipFill>
          <a:blip r:embed="rId4"/>
          <a:stretch/>
        </p:blipFill>
        <p:spPr>
          <a:xfrm>
            <a:off x="6084720" y="4121280"/>
            <a:ext cx="25416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8000" y="1052280"/>
            <a:ext cx="795636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bruik een hoevenkrabber, een rubberen rosborstel, een harde en een zachte borstel en een manenkam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in een vaste volgorde: krab eerst de hoeven uit, poets dan het paard met de rosborstel en de zachte borstel. Borstel de manen met de harde borstel of gebruik de manenkam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niet in de stal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ets paarden die voornamelijk buiten verblijven niet te vaak en niet te grondig zodat de talglaag in de vacht behouden blijft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Poet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1" name="Picture 5" descr="http://www.horseshopinternational.nl/media/catalog/category/Hoevenkrabber_soft_hand.jpg"/>
          <p:cNvPicPr/>
          <p:nvPr/>
        </p:nvPicPr>
        <p:blipFill>
          <a:blip r:embed="rId1"/>
          <a:stretch/>
        </p:blipFill>
        <p:spPr>
          <a:xfrm>
            <a:off x="6175440" y="473868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http://static.ruitersport.com/media/catalog/product/cache/15/image/600x600/9df78eab33525d08d6e5fb8d27136e95/m/a/manenkam_bo701.jpg"/>
          <p:cNvPicPr/>
          <p:nvPr/>
        </p:nvPicPr>
        <p:blipFill>
          <a:blip r:embed="rId2"/>
          <a:stretch/>
        </p:blipFill>
        <p:spPr>
          <a:xfrm>
            <a:off x="3492360" y="4643280"/>
            <a:ext cx="21812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8000" y="1197000"/>
            <a:ext cx="795636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Krab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voor en na het rijden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 hoeven uit o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uil te verwijder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oud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een vaste volgorde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an, dit is prettiger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 het paard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itkrabben van de hoeven is belangrijk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 de werking van het hoefmechanism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 controle op steentjes of scherpe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oorwerpen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 hygien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554880" y="2708280"/>
            <a:ext cx="2089080" cy="299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643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f2b20"/>
                </a:solidFill>
                <a:latin typeface="Cambria"/>
              </a:rPr>
              <a:t>Hoeven uitkrabb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9:47:40Z</dcterms:created>
  <dc:creator>KNHS KNHS</dc:creator>
  <dc:description/>
  <dc:language>en-US</dc:language>
  <cp:lastModifiedBy>Mayke Rulof</cp:lastModifiedBy>
  <dcterms:modified xsi:type="dcterms:W3CDTF">2012-11-26T13:56:09Z</dcterms:modified>
  <cp:revision>682</cp:revision>
  <dc:subject/>
  <dc:title>PowerPoint-presentatie</dc:title>
</cp:coreProperties>
</file>