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3160" y="431568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93960" y="22856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331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93960" y="43156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1264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92480" y="22856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316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1264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892480" y="43156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219320"/>
            <a:ext cx="9144000" cy="121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2438280"/>
            <a:ext cx="9144000" cy="4419720"/>
          </a:xfrm>
          <a:prstGeom prst="rect">
            <a:avLst/>
          </a:prstGeom>
          <a:solidFill>
            <a:srgbClr val="d1e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3"/>
          <a:stretch/>
        </p:blipFill>
        <p:spPr>
          <a:xfrm>
            <a:off x="-14400" y="1219320"/>
            <a:ext cx="917748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600" y="3500280"/>
            <a:ext cx="7924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elzijn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2840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wvoer belangrijk bestanddeel in rantso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en paard heeft speeksel nodig om voer te verter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j maakt alleen speeksel aan als hij kauw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or het eten van ruwvoer gaat een paar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extra kauwen en maakt hij meer speeksel a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er speeksel zorgt voor een betere verteri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er daarom eerst ruwvoer en dan pa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krachtvo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Afbeelding 5" descr="brokken.jpg"/>
          <p:cNvPicPr/>
          <p:nvPr/>
        </p:nvPicPr>
        <p:blipFill>
          <a:blip r:embed="rId1"/>
          <a:stretch/>
        </p:blipFill>
        <p:spPr>
          <a:xfrm>
            <a:off x="7072200" y="4429080"/>
            <a:ext cx="1716120" cy="121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1" name="Picture 6" descr="G:\Communicatie\Relatiegroepen\Interne relatiegroepen\Opleidingen\(Van) paarden houden\Paard en Welzijn\Beeldmateriaal\KNHS_PP\070101634_ABFweb.jpg"/>
          <p:cNvPicPr/>
          <p:nvPr/>
        </p:nvPicPr>
        <p:blipFill>
          <a:blip r:embed="rId2"/>
          <a:stretch/>
        </p:blipFill>
        <p:spPr>
          <a:xfrm>
            <a:off x="7072200" y="3071880"/>
            <a:ext cx="1693800" cy="112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5572080" y="4143240"/>
            <a:ext cx="284328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4" name="Picture 3" descr=""/>
          <p:cNvPicPr/>
          <p:nvPr/>
        </p:nvPicPr>
        <p:blipFill>
          <a:blip r:embed="rId2"/>
          <a:stretch/>
        </p:blipFill>
        <p:spPr>
          <a:xfrm>
            <a:off x="642960" y="2286000"/>
            <a:ext cx="268272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5" name="Picture 4" descr=""/>
          <p:cNvPicPr/>
          <p:nvPr/>
        </p:nvPicPr>
        <p:blipFill>
          <a:blip r:embed="rId3"/>
          <a:stretch/>
        </p:blipFill>
        <p:spPr>
          <a:xfrm>
            <a:off x="6929280" y="2252520"/>
            <a:ext cx="1462320" cy="18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6" name="Picture 5" descr=""/>
          <p:cNvPicPr/>
          <p:nvPr/>
        </p:nvPicPr>
        <p:blipFill>
          <a:blip r:embed="rId4"/>
          <a:stretch/>
        </p:blipFill>
        <p:spPr>
          <a:xfrm>
            <a:off x="3429000" y="4143240"/>
            <a:ext cx="2054160" cy="18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7" name="Picture 10" descr="G:\Communicatie\Relatiegroepen\Interne relatiegroepen\Opleidingen\(Van) paarden houden\Paard en Welzijn\Beeldmateriaal\KNHS_PP\070726661_ABFweb.jpg"/>
          <p:cNvPicPr/>
          <p:nvPr/>
        </p:nvPicPr>
        <p:blipFill>
          <a:blip r:embed="rId5"/>
          <a:stretch/>
        </p:blipFill>
        <p:spPr>
          <a:xfrm>
            <a:off x="3786120" y="2214720"/>
            <a:ext cx="2786040" cy="185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8" name="Picture 11" descr="G:\Communicatie\Relatiegroepen\Interne relatiegroepen\Opleidingen\(Van) paarden houden\Paard en Welzijn\Beeldmateriaal\KNHS_PP\070628008_ABFweb.jpg"/>
          <p:cNvPicPr/>
          <p:nvPr/>
        </p:nvPicPr>
        <p:blipFill>
          <a:blip r:embed="rId6"/>
          <a:stretch/>
        </p:blipFill>
        <p:spPr>
          <a:xfrm>
            <a:off x="642960" y="4143240"/>
            <a:ext cx="2714760" cy="180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0" name="Tijdelijke aanduiding voor inhoud 6" descr="Exterieur 2.jpg"/>
          <p:cNvPicPr/>
          <p:nvPr/>
        </p:nvPicPr>
        <p:blipFill>
          <a:blip r:embed="rId1"/>
          <a:stretch/>
        </p:blipFill>
        <p:spPr>
          <a:xfrm>
            <a:off x="1500120" y="2357280"/>
            <a:ext cx="6072120" cy="439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2" name="Tijdelijke aanduiding voor inhoud 4" descr="4-skelet.jpg"/>
          <p:cNvPicPr/>
          <p:nvPr/>
        </p:nvPicPr>
        <p:blipFill>
          <a:blip r:embed="rId1"/>
          <a:stretch/>
        </p:blipFill>
        <p:spPr>
          <a:xfrm>
            <a:off x="1428840" y="2286000"/>
            <a:ext cx="6286320" cy="444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4" name="Tijdelijke aanduiding voor inhoud 4" descr="spieren.jpg"/>
          <p:cNvPicPr/>
          <p:nvPr/>
        </p:nvPicPr>
        <p:blipFill>
          <a:blip r:embed="rId1"/>
          <a:stretch/>
        </p:blipFill>
        <p:spPr>
          <a:xfrm>
            <a:off x="2214720" y="2286000"/>
            <a:ext cx="4545000" cy="44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voe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elijkbaar met onze middelvinger, de botten komen overeen met de vingerkootj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iepe buigpees loopt ove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straalbeen als een koord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ver een katrol. Dit gedeelte i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hoefkatro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lijmbeurs zorgt voor e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epele werking van 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efkatrol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7" name="Afbeelding 4" descr="onderbeen.jpg"/>
          <p:cNvPicPr/>
          <p:nvPr/>
        </p:nvPicPr>
        <p:blipFill>
          <a:blip r:embed="rId1"/>
          <a:stretch/>
        </p:blipFill>
        <p:spPr>
          <a:xfrm>
            <a:off x="6858000" y="3143160"/>
            <a:ext cx="100008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8" name="Afbeelding 5" descr="vinger.jpg"/>
          <p:cNvPicPr/>
          <p:nvPr/>
        </p:nvPicPr>
        <p:blipFill>
          <a:blip r:embed="rId2"/>
          <a:stretch/>
        </p:blipFill>
        <p:spPr>
          <a:xfrm>
            <a:off x="5234040" y="3143160"/>
            <a:ext cx="140976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aag- darmstelsel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1" name="Picture 4" descr="D:\Deel 1 pg 09-46 map\Links\6-1.1 rechts + gebit.jpg"/>
          <p:cNvPicPr/>
          <p:nvPr/>
        </p:nvPicPr>
        <p:blipFill>
          <a:blip r:embed="rId1"/>
          <a:stretch/>
        </p:blipFill>
        <p:spPr>
          <a:xfrm>
            <a:off x="928800" y="3000240"/>
            <a:ext cx="3340080" cy="290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2" name="Picture 5" descr="D:\Deel 1 pg 09-46 map\Links\6-2.1 links + gebit.jpg"/>
          <p:cNvPicPr/>
          <p:nvPr/>
        </p:nvPicPr>
        <p:blipFill>
          <a:blip r:embed="rId2"/>
          <a:stretch/>
        </p:blipFill>
        <p:spPr>
          <a:xfrm>
            <a:off x="4572000" y="3000240"/>
            <a:ext cx="336708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p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tempi benen afzonderlijk v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kaar optille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f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tempi benen diagona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rzetten met zweefmoment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lop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tempi lateraal-tripedaal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agonaal-latera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4" name="Afbeelding 4" descr="Stap.jpg"/>
          <p:cNvPicPr/>
          <p:nvPr/>
        </p:nvPicPr>
        <p:blipFill>
          <a:blip r:embed="rId1"/>
          <a:stretch/>
        </p:blipFill>
        <p:spPr>
          <a:xfrm>
            <a:off x="5429160" y="2500200"/>
            <a:ext cx="3027600" cy="60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5" name="Afbeelding 5" descr="Draf.jpg"/>
          <p:cNvPicPr/>
          <p:nvPr/>
        </p:nvPicPr>
        <p:blipFill>
          <a:blip r:embed="rId2"/>
          <a:stretch/>
        </p:blipFill>
        <p:spPr>
          <a:xfrm>
            <a:off x="5429160" y="3929040"/>
            <a:ext cx="2998800" cy="65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6" name="Afbeelding 6" descr="Galop.jpg"/>
          <p:cNvPicPr/>
          <p:nvPr/>
        </p:nvPicPr>
        <p:blipFill>
          <a:blip r:embed="rId3"/>
          <a:stretch/>
        </p:blipFill>
        <p:spPr>
          <a:xfrm>
            <a:off x="5429160" y="5357880"/>
            <a:ext cx="2979720" cy="6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Picture 7" descr=""/>
          <p:cNvPicPr/>
          <p:nvPr/>
        </p:nvPicPr>
        <p:blipFill>
          <a:blip r:embed="rId1"/>
          <a:stretch/>
        </p:blipFill>
        <p:spPr>
          <a:xfrm>
            <a:off x="6429240" y="2214720"/>
            <a:ext cx="2000520" cy="152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0" name="Picture 10" descr=""/>
          <p:cNvPicPr/>
          <p:nvPr/>
        </p:nvPicPr>
        <p:blipFill>
          <a:blip r:embed="rId2"/>
          <a:stretch/>
        </p:blipFill>
        <p:spPr>
          <a:xfrm>
            <a:off x="6429240" y="4143240"/>
            <a:ext cx="200052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1" name="Tekstvak 11"/>
          <p:cNvSpPr/>
          <p:nvPr/>
        </p:nvSpPr>
        <p:spPr>
          <a:xfrm>
            <a:off x="571680" y="37148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abier             Belgisch Trekpaard             Falab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kstvak 12"/>
          <p:cNvSpPr/>
          <p:nvPr/>
        </p:nvSpPr>
        <p:spPr>
          <a:xfrm>
            <a:off x="571680" y="5643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jord                         Fries                         Hafl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1" descr="G:\Communicatie\Relatiegroepen\Interne relatiegroepen\Opleidingen\(Van) paarden houden\Paard en Welzijn\Beeldmateriaal\KNHS_PP\050309319_ABFweb.jpg"/>
          <p:cNvPicPr/>
          <p:nvPr/>
        </p:nvPicPr>
        <p:blipFill>
          <a:blip r:embed="rId3"/>
          <a:stretch/>
        </p:blipFill>
        <p:spPr>
          <a:xfrm>
            <a:off x="500040" y="2214720"/>
            <a:ext cx="233352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4" name="Picture 12" descr="G:\Communicatie\Relatiegroepen\Interne relatiegroepen\Opleidingen\(Van) paarden houden\Paard en Welzijn\Beeldmateriaal\KNHS_PP\070626841_ABFweb.jpg"/>
          <p:cNvPicPr/>
          <p:nvPr/>
        </p:nvPicPr>
        <p:blipFill>
          <a:blip r:embed="rId4"/>
          <a:stretch/>
        </p:blipFill>
        <p:spPr>
          <a:xfrm>
            <a:off x="3357720" y="4164120"/>
            <a:ext cx="228600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5" name="Picture 13" descr="G:\Communicatie\Relatiegroepen\Interne relatiegroepen\Opleidingen\(Van) paarden houden\Paard en Welzijn\Beeldmateriaal\KNHS_PP\020502233_ABFweb.jpg"/>
          <p:cNvPicPr/>
          <p:nvPr/>
        </p:nvPicPr>
        <p:blipFill>
          <a:blip r:embed="rId5"/>
          <a:stretch/>
        </p:blipFill>
        <p:spPr>
          <a:xfrm>
            <a:off x="500040" y="4143240"/>
            <a:ext cx="235764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6" name="Picture 14" descr="G:\Communicatie\Relatiegroepen\Interne relatiegroepen\Opleidingen\(Van) paarden houden\Paard en Welzijn\Beeldmateriaal\KNHS_PP\020502142_ABFweb.jpg"/>
          <p:cNvPicPr/>
          <p:nvPr/>
        </p:nvPicPr>
        <p:blipFill>
          <a:blip r:embed="rId6"/>
          <a:stretch/>
        </p:blipFill>
        <p:spPr>
          <a:xfrm>
            <a:off x="3357720" y="2197080"/>
            <a:ext cx="2286000" cy="15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 Verdieping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429000" y="4143240"/>
            <a:ext cx="207180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9" name="Picture 6" descr=""/>
          <p:cNvPicPr/>
          <p:nvPr/>
        </p:nvPicPr>
        <p:blipFill>
          <a:blip r:embed="rId2"/>
          <a:stretch/>
        </p:blipFill>
        <p:spPr>
          <a:xfrm>
            <a:off x="6357960" y="228600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0" name="Picture 7" descr=""/>
          <p:cNvPicPr/>
          <p:nvPr/>
        </p:nvPicPr>
        <p:blipFill>
          <a:blip r:embed="rId3"/>
          <a:stretch/>
        </p:blipFill>
        <p:spPr>
          <a:xfrm>
            <a:off x="6357960" y="414324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1" name="Tekstvak 16"/>
          <p:cNvSpPr/>
          <p:nvPr/>
        </p:nvSpPr>
        <p:spPr>
          <a:xfrm>
            <a:off x="571680" y="37861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WPN-er                  Lippizaner                      Tin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kstvak 17"/>
          <p:cNvSpPr/>
          <p:nvPr/>
        </p:nvSpPr>
        <p:spPr>
          <a:xfrm>
            <a:off x="714240" y="5643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etland pony         New Forest pony             Welsh p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11" descr="G:\Communicatie\Relatiegroepen\Interne relatiegroepen\Opleidingen\(Van) paarden houden\Paard en Welzijn\Beeldmateriaal\KNHS_PP\050616065_ABFweb.jpg"/>
          <p:cNvPicPr/>
          <p:nvPr/>
        </p:nvPicPr>
        <p:blipFill>
          <a:blip r:embed="rId4"/>
          <a:stretch/>
        </p:blipFill>
        <p:spPr>
          <a:xfrm>
            <a:off x="571680" y="4143240"/>
            <a:ext cx="2214360" cy="15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4" name="Picture 12" descr="G:\Communicatie\Relatiegroepen\Interne relatiegroepen\Opleidingen\(Van) paarden houden\Paard en Welzijn\Beeldmateriaal\KNHS_PP\070726587_ABFweb.jpg"/>
          <p:cNvPicPr/>
          <p:nvPr/>
        </p:nvPicPr>
        <p:blipFill>
          <a:blip r:embed="rId5"/>
          <a:stretch/>
        </p:blipFill>
        <p:spPr>
          <a:xfrm>
            <a:off x="642960" y="2211480"/>
            <a:ext cx="2071800" cy="16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5" name="Picture 13" descr="G:\Communicatie\Relatiegroepen\Interne relatiegroepen\Opleidingen\(Van) paarden houden\Paard en Welzijn\Beeldmateriaal\KNHS_PP\030605834_ABFweb.jpg"/>
          <p:cNvPicPr/>
          <p:nvPr/>
        </p:nvPicPr>
        <p:blipFill>
          <a:blip r:embed="rId6"/>
          <a:stretch/>
        </p:blipFill>
        <p:spPr>
          <a:xfrm>
            <a:off x="3436920" y="2286000"/>
            <a:ext cx="206388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33520" y="2285640"/>
            <a:ext cx="8324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opisch Oerwoud werd steppe. Dit betekende dat het paard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 en langdurig moest kunnen lop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ant warme spieren en een goede doorbloeding nodig h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 in beweging w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te longen ontwikkeld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hele dag kleine beetjes k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Afbeelding 3" descr="080909426 klein.jpg"/>
          <p:cNvPicPr/>
          <p:nvPr/>
        </p:nvPicPr>
        <p:blipFill>
          <a:blip r:embed="rId1"/>
          <a:stretch/>
        </p:blipFill>
        <p:spPr>
          <a:xfrm>
            <a:off x="5429160" y="4071960"/>
            <a:ext cx="2643120" cy="176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533160" y="2285640"/>
            <a:ext cx="8039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natuurlijke behoeften van paarden van n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el beweging voor doorbloeding v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benen en hoeven en een goe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ijsverteri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ak kleine beetjes et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el ruwvoer in het rantso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ct met soortgenot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nnen uiten van kuddegedra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7" name="Picture 5" descr="G:\Communicatie\Relatiegroepen\Interne relatiegroepen\Opleidingen\(Van) paarden houden\Paard en Welzijn\Beeldmateriaal\KNHS_PP\081104421_ABFweb.jpg"/>
          <p:cNvPicPr/>
          <p:nvPr/>
        </p:nvPicPr>
        <p:blipFill>
          <a:blip r:embed="rId1"/>
          <a:stretch/>
        </p:blipFill>
        <p:spPr>
          <a:xfrm>
            <a:off x="6858000" y="2714760"/>
            <a:ext cx="1800360" cy="270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d rekening met het kuddegedrag en vluchtgedrag van het paard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paard rent eerst weg en kijkt daarna wat er w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ter/menner moet de leidersrol overnem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et straffen als een paard schrikt maa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trouwen gev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n wennen aan nieuwe dingen same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 een ander paar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0" name="Picture 5" descr="G:\Communicatie\Relatiegroepen\Interne relatiegroepen\Opleidingen\(Van) paarden houden\Paard en Welzijn\Beeldmateriaal\KNHS_PP\060113738_ABFweb.jpg"/>
          <p:cNvPicPr/>
          <p:nvPr/>
        </p:nvPicPr>
        <p:blipFill>
          <a:blip r:embed="rId1"/>
          <a:stretch/>
        </p:blipFill>
        <p:spPr>
          <a:xfrm>
            <a:off x="6500880" y="3929040"/>
            <a:ext cx="2338200" cy="15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718920" y="2214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chaamstaal van paard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arden communiceren met de staart, oren, gezichtsuitdrukkingen en lichaamshoudi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w lichaamstaal beïnvloedt het gedrag van het paar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3" name="Picture 6" descr="G:\Communicatie\Relatiegroepen\Interne relatiegroepen\Opleidingen\(Van) paarden houden\Paard en Welzijn\Beeldmateriaal\KNHS_PP\070726661_ABFweb.jpg"/>
          <p:cNvPicPr/>
          <p:nvPr/>
        </p:nvPicPr>
        <p:blipFill>
          <a:blip r:embed="rId1"/>
          <a:stretch/>
        </p:blipFill>
        <p:spPr>
          <a:xfrm>
            <a:off x="1590840" y="4286160"/>
            <a:ext cx="2695320" cy="17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4" name="Picture 7" descr="G:\Communicatie\Relatiegroepen\Interne relatiegroepen\Opleidingen\(Van) paarden houden\Paard en Welzijn\Beeldmateriaal\KNHS_PP\070628008_ABFweb.jpg"/>
          <p:cNvPicPr/>
          <p:nvPr/>
        </p:nvPicPr>
        <p:blipFill>
          <a:blip r:embed="rId2"/>
          <a:stretch/>
        </p:blipFill>
        <p:spPr>
          <a:xfrm>
            <a:off x="4662360" y="4286160"/>
            <a:ext cx="2695680" cy="17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arnem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ordat de ogen aan de zijkant van het hoofd zitten kan het paard dingen vaak maar met één oog zi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paard moet het hoofd kunnen draaien om alles goed te kunnen zi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paard hoort meer dan mensen, hij kan zijn oren verschillende kanten op beweg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tastzintuig van het paard is zeer goed ontwikkel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paard gebruikt de reuk bij interactie tussen andere paard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arden kunnen proeven, niet elk paard vindt hetzelfde lekke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53316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schil in geslach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143000" y="3000240"/>
          <a:ext cx="5000760" cy="2662200"/>
        </p:xfrm>
        <a:graphic>
          <a:graphicData uri="http://schemas.openxmlformats.org/drawingml/2006/table">
            <a:tbl>
              <a:tblPr/>
              <a:tblGrid>
                <a:gridCol w="1785960"/>
                <a:gridCol w="1643040"/>
                <a:gridCol w="157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ng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u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r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el bravo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wicht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voel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nel afgel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lakker in gedra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selvall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u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der domin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spierd van n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0" name="Picture 31" descr="G:\Communicatie\Relatiegroepen\Interne relatiegroepen\Opleidingen\(Van) paarden houden\Paard en Welzijn\Beeldmateriaal\KNHS_PP\070726550_ABFweb.jpg"/>
          <p:cNvPicPr/>
          <p:nvPr/>
        </p:nvPicPr>
        <p:blipFill>
          <a:blip r:embed="rId1"/>
          <a:stretch/>
        </p:blipFill>
        <p:spPr>
          <a:xfrm>
            <a:off x="6572160" y="3000240"/>
            <a:ext cx="1795680" cy="26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28400" y="2285640"/>
            <a:ext cx="8358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kele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skelet van het paard lijkt op dat van de me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3" name="Picture 5" descr="D:\Deel 1 pg 09-46 map\Links\3-01.jpg"/>
          <p:cNvPicPr/>
          <p:nvPr/>
        </p:nvPicPr>
        <p:blipFill>
          <a:blip r:embed="rId1"/>
          <a:stretch/>
        </p:blipFill>
        <p:spPr>
          <a:xfrm>
            <a:off x="2500200" y="3286080"/>
            <a:ext cx="3643560" cy="324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9968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hoef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onderkant van de hoef bestaat uit een aantal kussens, deze functioneren als schokdempe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paard heeft veel beweging nodig om het hoefmechanisme gezond te houd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t hoefmechanisme werkt als zuig-perspom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5" name="Afbeelding 5" descr="Zuig perspomp.jpg"/>
          <p:cNvPicPr/>
          <p:nvPr/>
        </p:nvPicPr>
        <p:blipFill>
          <a:blip r:embed="rId1"/>
          <a:stretch/>
        </p:blipFill>
        <p:spPr>
          <a:xfrm>
            <a:off x="1000080" y="5286240"/>
            <a:ext cx="3786120" cy="87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6" name="Afbeelding 7" descr="Hoeftekening.jpg"/>
          <p:cNvPicPr/>
          <p:nvPr/>
        </p:nvPicPr>
        <p:blipFill>
          <a:blip r:embed="rId2"/>
          <a:stretch/>
        </p:blipFill>
        <p:spPr>
          <a:xfrm>
            <a:off x="5072040" y="4429080"/>
            <a:ext cx="2397240" cy="174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171432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Welzijn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aoc</cp:lastModifiedBy>
  <dcterms:modified xsi:type="dcterms:W3CDTF">2011-11-28T13:11:53Z</dcterms:modified>
  <cp:revision>677</cp:revision>
  <dc:subject/>
  <dc:title>PowerPoint-presentatie</dc:title>
</cp:coreProperties>
</file>