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1555-24C0-4292-A2D3-016FB07E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3187-B8CE-451C-9C25-E0E54B69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5B88-B218-4288-B37D-E404646E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9F06-826C-402F-93C2-DE6995C2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274B-AEB9-41E9-985A-2594438C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374B-BE1B-42A7-A593-0529A12B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312B-4620-4CF8-B19F-F08063F0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D6C8-5ED6-47EC-A7F5-8CAD3BD5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6DC2-097D-440F-AAEE-FDE365E6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3744-A0F7-4D05-BB2A-5F15279E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C505-689B-421B-8983-49646CE9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A5BF-13AE-4231-974B-E9DEFD63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048D-167C-4CA1-9D00-95FDCA9FF06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51DF-CDBA-4700-A462-D947FFE590E5}" type="datetime"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el 1"/>
          <p:cNvSpPr/>
          <p:nvPr/>
        </p:nvSpPr>
        <p:spPr>
          <a:xfrm>
            <a:off x="679320" y="320364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Cambria"/>
              </a:rPr>
              <a:t>Omgang en </a:t>
            </a:r>
            <a:br>
              <a:rPr sz="4800"/>
            </a:br>
            <a:r>
              <a:rPr b="0" lang="en-US" sz="4800" spc="-1" strike="noStrike">
                <a:solidFill>
                  <a:srgbClr val="2f2b20"/>
                </a:solidFill>
                <a:latin typeface="Cambria"/>
              </a:rPr>
              <a:t>verzorging H4</a:t>
            </a:r>
            <a:endParaRPr b="0" lang="en-US" sz="48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inhoud 2"/>
          <p:cNvSpPr/>
          <p:nvPr/>
        </p:nvSpPr>
        <p:spPr>
          <a:xfrm>
            <a:off x="500040" y="1268280"/>
            <a:ext cx="792468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even uitkrabben hoe doe je dat: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 naast het been staan me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je gezicht richting de staar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lijd met je hand langs de binnenkant van het been en leun iets met je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gewicht tegen het paard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paard verplaatst zijn gewicht en jij kunt het been oppakken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il de hoef aan he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kogelgewrich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op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rab d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traalgroeve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uit, in 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één richting naar de punt van de straal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t het been weer rustig neer als de hoef schoon is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Hoeven uitkrabb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ap het paard goed ui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na het rijden om zweet en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uil te verwijde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ons natte zweetplekken met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en vochtige spons af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erwijder met een zweetmes overtollig wat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79640" y="4005360"/>
            <a:ext cx="3005280" cy="20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Verzorging na het r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1" name="Picture 6" descr="http://img207.imageshack.us/img207/8531/vervanging311kopie.png"/>
          <p:cNvPicPr/>
          <p:nvPr/>
        </p:nvPicPr>
        <p:blipFill>
          <a:blip r:embed="rId2"/>
          <a:stretch/>
        </p:blipFill>
        <p:spPr>
          <a:xfrm rot="895200">
            <a:off x="6156000" y="765000"/>
            <a:ext cx="264168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4920" y="1052640"/>
            <a:ext cx="768204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eesbeschermers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: Beschermen tegen aantikken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an de achterhoef tegen het voorbeen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Kogelbeschermer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: Beschermen de binnenzijd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an de kogel van het achterbeen. Worden vooral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t bij springen en eventing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pringschoene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: Beschermen de kroonranden en de hoefballen. Ze beschermen ook de voorste kootholten tegen het aantikken van het achterbeen. Ook het aftrappen van ijzers wordt tegengegaa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220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enbescherm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5" name="Picture 6" descr="http://oudcdn.agradi.nl/media/products/pics_135/7/f/4030599.jpg"/>
          <p:cNvPicPr/>
          <p:nvPr/>
        </p:nvPicPr>
        <p:blipFill>
          <a:blip r:embed="rId2"/>
          <a:stretch/>
        </p:blipFill>
        <p:spPr>
          <a:xfrm>
            <a:off x="7667640" y="242100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www.hippocare.nl/images/classic_springglocke.jpg"/>
          <p:cNvPicPr/>
          <p:nvPr/>
        </p:nvPicPr>
        <p:blipFill>
          <a:blip r:embed="rId3"/>
          <a:stretch/>
        </p:blipFill>
        <p:spPr>
          <a:xfrm>
            <a:off x="7229520" y="4614840"/>
            <a:ext cx="1908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1196640"/>
            <a:ext cx="76089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Bandages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orden veel gebruikt bij dressuu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ieden weinig steu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unnen ervoor zorgen da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pezen oververhit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k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unn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ernstige blessure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eroorzaken als ze niet goed zijn aangebrach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og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niet te los en niet te strak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itten en de stof mag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niet gerimpeld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ij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22082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enbescherm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246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2f2b20"/>
                </a:solidFill>
                <a:latin typeface="Cambria"/>
              </a:rPr>
              <a:t>Lesopbou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riëntatiefase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heo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an de sla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heo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an de slag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valuatiefa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2" descr="http://paardenliefhebber.info/sub/downloads/paarden_plaatjes/Paarden%20-%20Paard%20in%20weide.jpg"/>
          <p:cNvPicPr/>
          <p:nvPr/>
        </p:nvPicPr>
        <p:blipFill>
          <a:blip r:embed="rId1"/>
          <a:stretch/>
        </p:blipFill>
        <p:spPr>
          <a:xfrm>
            <a:off x="4140360" y="2205000"/>
            <a:ext cx="45306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naderen van een paar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3640" y="1125000"/>
            <a:ext cx="806436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t benaderen van een paard moet met zorg gebeur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aat het paard horen dat je er b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k rustig kennis met het paard en laat hem aan je hand ruik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f2b20"/>
                </a:solidFill>
                <a:latin typeface="Calibri"/>
              </a:rPr>
              <a:t>Maak rustige bewegingen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nader het paard nooit van achteren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f2b20"/>
                </a:solidFill>
                <a:latin typeface="Calibri"/>
              </a:rPr>
              <a:t>Te voorzichtig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, dan denkt het paard dat je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n leider b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f2b20"/>
                </a:solidFill>
                <a:latin typeface="Calibri"/>
              </a:rPr>
              <a:t>Te ruw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, dan schrikt het paard van j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G:\Communicatie\Relatiegroepen\Interne relatiegroepen\Opleidingen\(Van) paarden houden\Paard en Welzijn\Beeldmateriaal\KNHS_PP\080416524_ABFweb.jpg"/>
          <p:cNvPicPr/>
          <p:nvPr/>
        </p:nvPicPr>
        <p:blipFill>
          <a:blip r:embed="rId1"/>
          <a:stretch/>
        </p:blipFill>
        <p:spPr>
          <a:xfrm>
            <a:off x="6037200" y="4005360"/>
            <a:ext cx="2909880" cy="216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000" y="1197000"/>
            <a:ext cx="777564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org dat het halster niet gedraaid i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vestig het touw alvast aan de onderkant van het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st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 links van het paard staa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eem het halster in beide handen en schuif het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zichtig over de neus en schuif dan het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ekgedeelte achter de o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eg de manen en de maantop weer op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un plek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luit de kaakgesp, LET OP dat het klipje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aar buiten is gedraaid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2" name="Picture 5" descr="G:\Communicatie\Relatiegroepen\Interne relatiegroepen\Opleidingen\(Van) paarden houden\Paard en Welzijn\Beeldmateriaal\KNHS_PP\090611156_ABFweb.jpg"/>
          <p:cNvPicPr/>
          <p:nvPr/>
        </p:nvPicPr>
        <p:blipFill>
          <a:blip r:embed="rId1"/>
          <a:stretch/>
        </p:blipFill>
        <p:spPr>
          <a:xfrm>
            <a:off x="7399440" y="0"/>
            <a:ext cx="1744560" cy="26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9246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Omdoen van een halste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4" name="Picture 6" descr="http://www.kooleruitersport.nl/img/product/337839/0/0/br-leren-halster.jpg"/>
          <p:cNvPicPr/>
          <p:nvPr/>
        </p:nvPicPr>
        <p:blipFill>
          <a:blip r:embed="rId2"/>
          <a:stretch/>
        </p:blipFill>
        <p:spPr>
          <a:xfrm>
            <a:off x="6004080" y="3859200"/>
            <a:ext cx="31636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000" y="1628640"/>
            <a:ext cx="7961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vestig het touw aan het halster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ud het touw op ongeveer 30 centimeter vanaf de sluiting vast.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oop links naast het paard ter hoogte van de hals, net voor de schoud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Draai het paard met zijn hoofd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naar de uitgang voor je hem in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de weide of paddock loslaat.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148360" y="3913200"/>
            <a:ext cx="357660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912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aard naar de wei/paddock bre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Aan de hand leiden en vastze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980640"/>
            <a:ext cx="80294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an de hand leid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paard moet op jouw lichaamstaal letten,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s jij stopt moet hij ook stoppe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lijf zelf rustig en ontspann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astzett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halster en halstertouw, geen hoofdste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et het paard bij voorkeur aan twee zijden vas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veiligheidsknoop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 e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aniekhaak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032600" y="3611520"/>
            <a:ext cx="183852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6" descr="G:\Communicatie\Relatiegroepen\Interne relatiegroepen\Opleidingen\(Van) paarden houden\Paard en Welzijn\Beeldmateriaal\KNHS_PP\090611153_ABFweb.jpg"/>
          <p:cNvPicPr/>
          <p:nvPr/>
        </p:nvPicPr>
        <p:blipFill>
          <a:blip r:embed="rId2"/>
          <a:stretch/>
        </p:blipFill>
        <p:spPr>
          <a:xfrm rot="929400">
            <a:off x="6575400" y="1385640"/>
            <a:ext cx="2146320" cy="143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gelmatig poetsen is belangrij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Je leg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ac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met je paar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is goed voor de vach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is e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rolemomen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voor wondje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oede reiniging voorkomt schuren van bijvoorbeeld het zade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bevorder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bloedsomloop en huidactivitei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Afbeelding 3" descr="Verzorging.jpg"/>
          <p:cNvPicPr/>
          <p:nvPr/>
        </p:nvPicPr>
        <p:blipFill>
          <a:blip r:embed="rId1"/>
          <a:stretch/>
        </p:blipFill>
        <p:spPr>
          <a:xfrm>
            <a:off x="6643800" y="549360"/>
            <a:ext cx="2286000" cy="169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et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5" name="Picture 6" descr="http://www.alkmaarseruitersportspeciaalzaak.nl/osc/images/rubber%20rosborstel.jpg"/>
          <p:cNvPicPr/>
          <p:nvPr/>
        </p:nvPicPr>
        <p:blipFill>
          <a:blip r:embed="rId2"/>
          <a:stretch/>
        </p:blipFill>
        <p:spPr>
          <a:xfrm>
            <a:off x="468360" y="4149720"/>
            <a:ext cx="2512800" cy="2513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albatros-schoonhoven.nl/Shop/images/36300001.gif"/>
          <p:cNvPicPr/>
          <p:nvPr/>
        </p:nvPicPr>
        <p:blipFill>
          <a:blip r:embed="rId3"/>
          <a:stretch/>
        </p:blipFill>
        <p:spPr>
          <a:xfrm>
            <a:off x="3203640" y="4776840"/>
            <a:ext cx="2695680" cy="12571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0"/>
          <p:cNvSpPr/>
          <p:nvPr/>
        </p:nvSpPr>
        <p:spPr>
          <a:xfrm>
            <a:off x="155520" y="-41112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8" name="Picture 12" descr="http://oudcdn.agradi.nl/media/products/pics_310/4/4/4045031.jpg"/>
          <p:cNvPicPr/>
          <p:nvPr/>
        </p:nvPicPr>
        <p:blipFill>
          <a:blip r:embed="rId4"/>
          <a:stretch/>
        </p:blipFill>
        <p:spPr>
          <a:xfrm>
            <a:off x="6084720" y="412128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000" y="1052280"/>
            <a:ext cx="795636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een hoevenkrabber, een rubberen rosborstel, een harde en een zachte borstel en een manenkam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in een vaste volgorde: krab eerst de hoeven uit, poets dan het paard met de rosborstel en de zachte borstel. Borstel de manen met de harde borstel of gebruik de manenkam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niet in de sta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paarden die voornamelijk buiten verblijven niet te vaak en niet te grondig zodat de talglaag in de vacht behouden blijf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et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1" name="Picture 5" descr="http://www.horseshopinternational.nl/media/catalog/category/Hoevenkrabber_soft_hand.jpg"/>
          <p:cNvPicPr/>
          <p:nvPr/>
        </p:nvPicPr>
        <p:blipFill>
          <a:blip r:embed="rId1"/>
          <a:stretch/>
        </p:blipFill>
        <p:spPr>
          <a:xfrm>
            <a:off x="6175440" y="473868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http://static.ruitersport.com/media/catalog/product/cache/15/image/600x600/9df78eab33525d08d6e5fb8d27136e95/m/a/manenkam_bo701.jpg"/>
          <p:cNvPicPr/>
          <p:nvPr/>
        </p:nvPicPr>
        <p:blipFill>
          <a:blip r:embed="rId2"/>
          <a:stretch/>
        </p:blipFill>
        <p:spPr>
          <a:xfrm>
            <a:off x="3492360" y="464328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rab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oor en na het rijden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 hoeven uit o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uil te verwijde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ud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een vaste volgorde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an, dit is prettiger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 het paar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itkrabben van de hoeven is belangrijk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 de werking van het hoefmechanism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 controle op steentjes of scherp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werpen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 hygien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554880" y="2708280"/>
            <a:ext cx="2089080" cy="299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Hoeven uitkrabb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Mayke Rulof</cp:lastModifiedBy>
  <dcterms:modified xsi:type="dcterms:W3CDTF">2012-11-26T13:56:09Z</dcterms:modified>
  <cp:revision>682</cp:revision>
  <dc:subject/>
  <dc:title>PowerPoint-presentatie</dc:title>
</cp:coreProperties>
</file>