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75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9.png" ContentType="image/png"/>
  <Override PartName="/ppt/media/image17.wmf" ContentType="image/x-wmf"/>
  <Override PartName="/ppt/media/image16.wmf" ContentType="image/x-wmf"/>
  <Override PartName="/ppt/media/image29.png" ContentType="image/png"/>
  <Override PartName="/ppt/media/image14.wmf" ContentType="image/x-wmf"/>
  <Override PartName="/ppt/media/image4.wmf" ContentType="image/x-wmf"/>
  <Override PartName="/ppt/media/image28.png" ContentType="image/png"/>
  <Override PartName="/ppt/media/image10.jpeg" ContentType="image/jpeg"/>
  <Override PartName="/ppt/media/image13.wmf" ContentType="image/x-wmf"/>
  <Override PartName="/ppt/media/image9.wmf" ContentType="image/x-wmf"/>
  <Override PartName="/ppt/media/image31.png" ContentType="image/png"/>
  <Override PartName="/ppt/media/image33.png" ContentType="image/png"/>
  <Override PartName="/ppt/media/image34.png" ContentType="image/png"/>
  <Override PartName="/ppt/media/image36.wmf" ContentType="image/x-wmf"/>
  <Override PartName="/ppt/media/image38.wmf" ContentType="image/x-wmf"/>
  <Override PartName="/ppt/media/image8.wmf" ContentType="image/x-wmf"/>
  <Override PartName="/ppt/media/image37.wmf" ContentType="image/x-wmf"/>
  <Override PartName="/ppt/media/image39.jpeg" ContentType="image/jpeg"/>
  <Override PartName="/ppt/media/image41.jpeg" ContentType="image/jpeg"/>
  <Override PartName="/ppt/media/image11.wmf" ContentType="image/x-wmf"/>
  <Override PartName="/ppt/media/image26.png" ContentType="image/png"/>
  <Override PartName="/ppt/media/image40.wmf" ContentType="image/x-wmf"/>
  <Override PartName="/ppt/media/image7.png" ContentType="image/png"/>
  <Override PartName="/ppt/media/image35.jpeg" ContentType="image/jpeg"/>
  <Override PartName="/ppt/media/image1.jpeg" ContentType="image/jpeg"/>
  <Override PartName="/ppt/media/image12.wmf" ContentType="image/x-wmf"/>
  <Override PartName="/ppt/media/image27.png" ContentType="image/png"/>
  <Override PartName="/ppt/media/image6.jpeg" ContentType="image/jpeg"/>
  <Override PartName="/ppt/media/image5.wmf" ContentType="image/x-wmf"/>
  <Override PartName="/ppt/media/image30.png" ContentType="image/png"/>
  <Override PartName="/ppt/media/image3.jpeg" ContentType="image/jpeg"/>
  <Override PartName="/ppt/media/image15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23.xml.rels" ContentType="application/vnd.openxmlformats-package.relationships+xml"/>
  <Override PartName="/ppt/slides/_rels/slide93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24.xml.rels" ContentType="application/vnd.openxmlformats-package.relationships+xml"/>
  <Override PartName="/ppt/slides/_rels/slide94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03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1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17.xml" ContentType="application/vnd.openxmlformats-officedocument.presentationml.slide+xml"/>
  <Override PartName="/ppt/slides/slide72.xml" ContentType="application/vnd.openxmlformats-officedocument.presentationml.slide+xml"/>
  <Override PartName="/ppt/slides/slide116.xml" ContentType="application/vnd.openxmlformats-officedocument.presentationml.slide+xml"/>
  <Override PartName="/ppt/slides/slide71.xml" ContentType="application/vnd.openxmlformats-officedocument.presentationml.slide+xml"/>
  <Override PartName="/ppt/slides/slide79.xml" ContentType="application/vnd.openxmlformats-officedocument.presentationml.slide+xml"/>
  <Override PartName="/ppt/slides/slide12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122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11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4"/>
          </p:nvPr>
        </p:nvSpPr>
        <p:spPr>
          <a:xfrm>
            <a:off x="402696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003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5"/>
          </p:nvPr>
        </p:nvSpPr>
        <p:spPr>
          <a:xfrm>
            <a:off x="-360" y="9634320"/>
            <a:ext cx="3071880" cy="547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lstStyle>
            <a:lvl1pPr indent="0"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  <a:defRPr b="0" lang="nl-NL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0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6"/>
          </p:nvPr>
        </p:nvSpPr>
        <p:spPr>
          <a:xfrm>
            <a:off x="4026960" y="9634320"/>
            <a:ext cx="3071880" cy="547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lstStyle>
            <a:lvl1pPr indent="0" algn="r"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  <a:defRPr b="0" lang="nl-NL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31332383-CD09-467A-92BD-4F45EBE8AE4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Rectangle 2"/>
          <p:cNvSpPr/>
          <p:nvPr/>
        </p:nvSpPr>
        <p:spPr>
          <a:xfrm>
            <a:off x="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Rectangle 6"/>
          <p:cNvSpPr/>
          <p:nvPr/>
        </p:nvSpPr>
        <p:spPr>
          <a:xfrm>
            <a:off x="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0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Rectangle 7"/>
          <p:cNvSpPr/>
          <p:nvPr/>
        </p:nvSpPr>
        <p:spPr>
          <a:xfrm>
            <a:off x="402732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r"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A5F95CF0-D00E-4417-ADA3-366370D58BDE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2"/>
          <p:cNvSpPr/>
          <p:nvPr/>
        </p:nvSpPr>
        <p:spPr>
          <a:xfrm>
            <a:off x="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Rectangle 6"/>
          <p:cNvSpPr/>
          <p:nvPr/>
        </p:nvSpPr>
        <p:spPr>
          <a:xfrm>
            <a:off x="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0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Rectangle 7"/>
          <p:cNvSpPr/>
          <p:nvPr/>
        </p:nvSpPr>
        <p:spPr>
          <a:xfrm>
            <a:off x="402732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r"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51A05376-657C-47EF-9338-5D7FF0309E13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Rectangle 2"/>
          <p:cNvSpPr/>
          <p:nvPr/>
        </p:nvSpPr>
        <p:spPr>
          <a:xfrm>
            <a:off x="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Rectangle 6"/>
          <p:cNvSpPr/>
          <p:nvPr/>
        </p:nvSpPr>
        <p:spPr>
          <a:xfrm>
            <a:off x="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2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Rectangle 7"/>
          <p:cNvSpPr/>
          <p:nvPr/>
        </p:nvSpPr>
        <p:spPr>
          <a:xfrm>
            <a:off x="402732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r"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ADD2BFBB-54D0-4120-BAE5-1D25A30ADAF2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Rectangle 2"/>
          <p:cNvSpPr/>
          <p:nvPr/>
        </p:nvSpPr>
        <p:spPr>
          <a:xfrm>
            <a:off x="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Rectangle 6"/>
          <p:cNvSpPr/>
          <p:nvPr/>
        </p:nvSpPr>
        <p:spPr>
          <a:xfrm>
            <a:off x="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0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Rectangle 7"/>
          <p:cNvSpPr/>
          <p:nvPr/>
        </p:nvSpPr>
        <p:spPr>
          <a:xfrm>
            <a:off x="402732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r"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C92356CB-D3E2-4170-99D7-C90DF0AEB7A0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1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ln w="0">
            <a:noFill/>
          </a:ln>
        </p:spPr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Rectangle 2"/>
          <p:cNvSpPr/>
          <p:nvPr/>
        </p:nvSpPr>
        <p:spPr>
          <a:xfrm>
            <a:off x="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Rectangle 6"/>
          <p:cNvSpPr/>
          <p:nvPr/>
        </p:nvSpPr>
        <p:spPr>
          <a:xfrm>
            <a:off x="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2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Rectangle 7"/>
          <p:cNvSpPr/>
          <p:nvPr/>
        </p:nvSpPr>
        <p:spPr>
          <a:xfrm>
            <a:off x="402732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r"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58139945-E99C-4626-B22A-ABD960601EAA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2"/>
          <p:cNvSpPr/>
          <p:nvPr/>
        </p:nvSpPr>
        <p:spPr>
          <a:xfrm>
            <a:off x="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Rectangle 6"/>
          <p:cNvSpPr/>
          <p:nvPr/>
        </p:nvSpPr>
        <p:spPr>
          <a:xfrm>
            <a:off x="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0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Rectangle 7"/>
          <p:cNvSpPr/>
          <p:nvPr/>
        </p:nvSpPr>
        <p:spPr>
          <a:xfrm>
            <a:off x="402732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r"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70CA4A55-4071-4747-AC35-2F8AF9091D7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Rectangle 2"/>
          <p:cNvSpPr/>
          <p:nvPr/>
        </p:nvSpPr>
        <p:spPr>
          <a:xfrm>
            <a:off x="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Rectangle 6"/>
          <p:cNvSpPr/>
          <p:nvPr/>
        </p:nvSpPr>
        <p:spPr>
          <a:xfrm>
            <a:off x="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0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Rectangle 7"/>
          <p:cNvSpPr/>
          <p:nvPr/>
        </p:nvSpPr>
        <p:spPr>
          <a:xfrm>
            <a:off x="402732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r"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5EA52F29-AF82-4F52-9EE8-2BAB0B94F1DD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1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ln w="0">
            <a:noFill/>
          </a:ln>
        </p:spPr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819000" y="768240"/>
            <a:ext cx="5461200" cy="409752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45840" y="5118120"/>
            <a:ext cx="5807160" cy="38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Tijdelijke aanduiding voor dianummer 3"/>
          <p:cNvSpPr/>
          <p:nvPr/>
        </p:nvSpPr>
        <p:spPr>
          <a:xfrm>
            <a:off x="6453360" y="9053640"/>
            <a:ext cx="6458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A64D759-1C0E-4F46-83B0-1650938160E4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2"/>
          <p:cNvSpPr/>
          <p:nvPr/>
        </p:nvSpPr>
        <p:spPr>
          <a:xfrm>
            <a:off x="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2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402732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r"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0A725E9D-DEB5-4AC9-8575-22CD5A1904B2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8A9ED-9DE1-4E27-96DC-2FA02BD8F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8067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11240" y="3866760"/>
            <a:ext cx="8067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8BF92-DEDA-470E-B8EE-46D1074F3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11240" y="386676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45480" y="386676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7AC2F-D556-4AB1-B55C-B1099076F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38960" y="116028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66680" y="116028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11240" y="386676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38960" y="386676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66680" y="386676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1C9AC-D4D6-4B3B-8DAD-BA4058383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11240" y="1160280"/>
            <a:ext cx="8067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8067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34640" y="-360"/>
            <a:ext cx="803916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11240" y="386676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11240" y="1160280"/>
            <a:ext cx="8067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365E9-9F89-4D20-9DD9-BE5CE02F8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45480" y="386676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11240" y="3866760"/>
            <a:ext cx="8067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8067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11240" y="3866760"/>
            <a:ext cx="8067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11240" y="386676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45480" y="386676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738960" y="116028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66680" y="116028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11240" y="386676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738960" y="386676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66680" y="386676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8067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C65A5-30CD-4AD0-A42F-9E1842801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DB9DC-BFCB-413E-8D2E-B362CBB59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99DA3-CE2C-4F9E-A19D-3882F5584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34640" y="-360"/>
            <a:ext cx="803916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C351C-A552-4C9E-A00B-EA8CFAADE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11240" y="386676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0B6BE-7841-4E27-8B87-A80100C8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5480" y="386676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BA784-4126-46EC-8463-877F3D9D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11240" y="3866760"/>
            <a:ext cx="8067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7562E-C66D-4DF3-B5EB-5498D46B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4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83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003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11240" y="1160280"/>
            <a:ext cx="8067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248240" y="663840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619440" y="663840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52630-6469-4CFC-9D73-D6D5BC87BCD2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-14400" y="6683040"/>
            <a:ext cx="1214640" cy="1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14324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0" y="0"/>
            <a:ext cx="1943280" cy="88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3" descr="PBNA kl"/>
          <p:cNvPicPr/>
          <p:nvPr/>
        </p:nvPicPr>
        <p:blipFill>
          <a:blip r:embed="rId3"/>
          <a:stretch/>
        </p:blipFill>
        <p:spPr>
          <a:xfrm>
            <a:off x="171360" y="181080"/>
            <a:ext cx="1622520" cy="541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7"/>
          <p:cNvSpPr/>
          <p:nvPr/>
        </p:nvSpPr>
        <p:spPr>
          <a:xfrm>
            <a:off x="1987920" y="6485040"/>
            <a:ext cx="88848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960" rIns="8496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100" spc="-1" strike="noStrike">
                <a:solidFill>
                  <a:srgbClr val="ff9933"/>
                </a:solidFill>
                <a:latin typeface="Calibri"/>
                <a:ea typeface="ＭＳ Ｐゴシック"/>
              </a:rPr>
              <a:t>|</a:t>
            </a:r>
            <a:r>
              <a:rPr b="1" lang="nl-NL" sz="1100" spc="-1" strike="noStrike">
                <a:solidFill>
                  <a:srgbClr val="cc0000"/>
                </a:solidFill>
                <a:latin typeface="Calibri"/>
                <a:ea typeface="ＭＳ Ｐゴシック"/>
              </a:rPr>
              <a:t> </a:t>
            </a:r>
            <a:fld id="{E45A4002-047C-4F96-B334-7BB99E695127}" type="slidenum">
              <a:rPr b="1" lang="nl-NL" sz="900" spc="-1" strike="noStrike">
                <a:solidFill>
                  <a:srgbClr val="808080"/>
                </a:solidFill>
                <a:latin typeface="Calibri"/>
                <a:ea typeface="ＭＳ Ｐゴシック"/>
              </a:rPr>
              <a:t>&lt;number&gt;</a:t>
            </a:fld>
            <a:r>
              <a:rPr b="1" lang="nl-NL" sz="1100" spc="-1" strike="noStrike">
                <a:solidFill>
                  <a:srgbClr val="808080"/>
                </a:solidFill>
                <a:latin typeface="Calibri"/>
                <a:ea typeface="ＭＳ Ｐゴシック"/>
              </a:rPr>
              <a:t> </a:t>
            </a:r>
            <a:r>
              <a:rPr b="1" lang="nl-NL" sz="1100" spc="-1" strike="noStrike">
                <a:solidFill>
                  <a:srgbClr val="ff9933"/>
                </a:solidFill>
                <a:latin typeface="Calibri"/>
                <a:ea typeface="ＭＳ Ｐゴシック"/>
              </a:rPr>
              <a:t>|</a:t>
            </a:r>
            <a:r>
              <a:rPr b="1" lang="nl-NL" sz="1100" spc="-1" strike="noStrike">
                <a:solidFill>
                  <a:srgbClr val="808080"/>
                </a:solidFill>
                <a:latin typeface="Calibri"/>
                <a:ea typeface="ＭＳ Ｐゴシック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4"/>
          <p:cNvSpPr/>
          <p:nvPr/>
        </p:nvSpPr>
        <p:spPr>
          <a:xfrm>
            <a:off x="-9360" y="954000"/>
            <a:ext cx="9175680" cy="1800"/>
          </a:xfrm>
          <a:prstGeom prst="line">
            <a:avLst/>
          </a:prstGeom>
          <a:ln w="19080">
            <a:solidFill>
              <a:srgbClr val="ae48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3840" y="70920"/>
            <a:ext cx="864396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85840" y="1214280"/>
            <a:ext cx="857232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3"/>
          <p:cNvSpPr/>
          <p:nvPr/>
        </p:nvSpPr>
        <p:spPr>
          <a:xfrm>
            <a:off x="-9360" y="6330960"/>
            <a:ext cx="9144000" cy="1440"/>
          </a:xfrm>
          <a:prstGeom prst="line">
            <a:avLst/>
          </a:prstGeom>
          <a:ln w="19080">
            <a:solidFill>
              <a:srgbClr val="ae48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jdelijke aanduiding voor voettekst 3"/>
          <p:cNvSpPr/>
          <p:nvPr/>
        </p:nvSpPr>
        <p:spPr>
          <a:xfrm>
            <a:off x="2228760" y="6481800"/>
            <a:ext cx="67723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ff9933"/>
                </a:solidFill>
                <a:latin typeface="Arial"/>
                <a:ea typeface="ＭＳ Ｐゴシック"/>
              </a:rPr>
              <a:t> </a:t>
            </a:r>
            <a:r>
              <a:rPr b="0" lang="en-US" sz="9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VOL-VCA versie 4.7</a:t>
            </a:r>
            <a:r>
              <a:rPr b="0" lang="nl-NL" sz="9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 </a:t>
            </a:r>
            <a:r>
              <a:rPr b="0" lang="nl-NL" sz="900" spc="-1" strike="noStrike">
                <a:solidFill>
                  <a:srgbClr val="ff9933"/>
                </a:solidFill>
                <a:latin typeface="Arial"/>
                <a:ea typeface="ＭＳ Ｐゴシック"/>
              </a:rPr>
              <a:t>|</a:t>
            </a:r>
            <a:r>
              <a:rPr b="0" lang="nl-NL" sz="9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 © Koninklijke PBNA </a:t>
            </a:r>
            <a:r>
              <a:rPr b="0" lang="nl-NL" sz="900" spc="-1" strike="noStrike">
                <a:solidFill>
                  <a:srgbClr val="ff9933"/>
                </a:solidFill>
                <a:latin typeface="Arial"/>
                <a:ea typeface="ＭＳ Ｐゴシック"/>
              </a:rPr>
              <a:t>|</a:t>
            </a:r>
            <a:r>
              <a:rPr b="0" lang="nl-NL" sz="9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 not for general distribution </a:t>
            </a:r>
            <a:r>
              <a:rPr b="0" lang="nl-NL" sz="900" spc="-1" strike="noStrike">
                <a:solidFill>
                  <a:srgbClr val="ff9933"/>
                </a:solidFill>
                <a:latin typeface="Arial"/>
                <a:ea typeface="ＭＳ Ｐゴシック"/>
              </a:rPr>
              <a:t>|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Afbeelding 8" descr=""/>
          <p:cNvPicPr/>
          <p:nvPr/>
        </p:nvPicPr>
        <p:blipFill>
          <a:blip r:embed="rId2"/>
          <a:stretch/>
        </p:blipFill>
        <p:spPr>
          <a:xfrm>
            <a:off x="128520" y="6394320"/>
            <a:ext cx="1366920" cy="36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hyperlink" Target="http://esign.hsdev.com/main.php?g2_itemId=1733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4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25.png"/><Relationship Id="rId9" Type="http://schemas.openxmlformats.org/officeDocument/2006/relationships/oleObject" Target="../embeddings/oleObject3.bin"/><Relationship Id="rId10" Type="http://schemas.openxmlformats.org/officeDocument/2006/relationships/image" Target="../media/image26.png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27.pn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19.png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28.png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29.png"/><Relationship Id="rId19" Type="http://schemas.openxmlformats.org/officeDocument/2006/relationships/image" Target="../media/image30.png"/><Relationship Id="rId20" Type="http://schemas.openxmlformats.org/officeDocument/2006/relationships/image" Target="../media/image31.png"/><Relationship Id="rId21" Type="http://schemas.openxmlformats.org/officeDocument/2006/relationships/image" Target="../media/image32.png"/><Relationship Id="rId22" Type="http://schemas.openxmlformats.org/officeDocument/2006/relationships/image" Target="../media/image33.png"/><Relationship Id="rId23" Type="http://schemas.openxmlformats.org/officeDocument/2006/relationships/image" Target="../media/image34.png"/><Relationship Id="rId24" Type="http://schemas.openxmlformats.org/officeDocument/2006/relationships/image" Target="../media/image35.jpeg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5E2F3-072D-4BFC-84A1-49CB9BD173E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687240" y="2019240"/>
            <a:ext cx="6255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6600"/>
                </a:solidFill>
                <a:latin typeface="Zurich BT"/>
              </a:rPr>
              <a:t>	</a:t>
            </a:r>
            <a:r>
              <a:rPr b="1" lang="nl-NL" sz="2800" spc="-1" strike="noStrike">
                <a:solidFill>
                  <a:srgbClr val="006600"/>
                </a:solidFill>
                <a:latin typeface="Zurich BT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6600"/>
                </a:solidFill>
                <a:latin typeface="Zurich BT"/>
              </a:rPr>
              <a:t>	</a:t>
            </a:r>
            <a:r>
              <a:rPr b="1" lang="nl-NL" sz="2800" spc="-1" strike="noStrike">
                <a:solidFill>
                  <a:srgbClr val="006600"/>
                </a:solidFill>
                <a:latin typeface="Zurich BT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VOL-VCA</a:t>
            </a:r>
            <a:br>
              <a:rPr sz="2800"/>
            </a:b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versie 4.7 alleen extra she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6600"/>
                </a:solidFill>
                <a:latin typeface="Arial"/>
              </a:rPr>
              <a:t>Veilighei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voor</a:t>
            </a:r>
            <a:r>
              <a:rPr b="1" lang="nl-NL" sz="2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6600"/>
                </a:solidFill>
                <a:latin typeface="Arial"/>
              </a:rPr>
              <a:t>Operatione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6600"/>
                </a:solidFill>
                <a:latin typeface="Arial"/>
              </a:rPr>
              <a:t>Leidinggeve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6600"/>
                </a:solidFill>
                <a:latin typeface="Zurich BT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011240" y="126648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wijzen toezichthoudende taken aan leidinggevend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zicht op eigen persone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zicht op personeel van andere leidinggeven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zicht op bedrijfsmidd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di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ven van bevoegdheden en midd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riftelijk toewijz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02320" indent="-3301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én leidinggeve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02320" indent="-3301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én zelfde ta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zicht op welke handel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zicht op welke pers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zicht op welke middelen en wa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463BC-1699-4EE4-AEDE-F1C5C77FCF4A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GELUID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55" name=""/>
          <p:cNvSpPr txBox="1"/>
          <p:nvPr/>
        </p:nvSpPr>
        <p:spPr>
          <a:xfrm>
            <a:off x="1294920" y="2209680"/>
            <a:ext cx="5867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ichamelijke effect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hoogde bloeddr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stoorde ademha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stoorde stofwiss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agere bloedcircul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agere spijsvert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ofdpij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spannen spi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e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ervos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minderde waakzaam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A0432-7716-41D7-93F3-8765A9C2D1F9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762120" y="8748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GELUID </a:t>
            </a:r>
            <a:r>
              <a:rPr b="1" lang="nl-NL" sz="1600" spc="-1" strike="noStrike">
                <a:solidFill>
                  <a:srgbClr val="860038"/>
                </a:solidFill>
                <a:latin typeface="Arial"/>
              </a:rPr>
              <a:t>(VERVOLG)</a:t>
            </a:r>
            <a:endParaRPr b="1" lang="en-US" sz="16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1011240" y="1447920"/>
            <a:ext cx="8067600" cy="47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grootte van het blijvende gehoorverlies is afhankelijk v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tale blootstellingstij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uur van blootste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uur van rustperiode tussen blootstelling (beschadiging in het begin omkeerba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erkte van het lawaa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requentiespectrum van het lawaai (hoge tonen schadelijker dan l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ntinuïteit van het gel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B72F8-6E42-4E27-A8ED-690EB3855E5B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875880" y="774720"/>
            <a:ext cx="8039160" cy="4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GELUID </a:t>
            </a:r>
            <a:r>
              <a:rPr b="1" lang="nl-NL" sz="1800" spc="-1" strike="noStrike">
                <a:solidFill>
                  <a:srgbClr val="860038"/>
                </a:solidFill>
                <a:latin typeface="Arial"/>
              </a:rPr>
              <a:t>(</a:t>
            </a:r>
            <a:r>
              <a:rPr b="1" lang="nl-NL" sz="1600" spc="-1" strike="noStrike">
                <a:solidFill>
                  <a:srgbClr val="860038"/>
                </a:solidFill>
                <a:latin typeface="Arial"/>
              </a:rPr>
              <a:t>VERVOLG</a:t>
            </a:r>
            <a:r>
              <a:rPr b="1" lang="nl-NL" sz="1800" spc="-1" strike="noStrike">
                <a:solidFill>
                  <a:srgbClr val="860038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1011240" y="1422360"/>
            <a:ext cx="806760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tellen van twee geluidsbronn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verdubbeling van de afstand tot de geluidsbron geeft een vermindering van 6 dB(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90857-D655-48E4-83CF-D9324CA9C4AF}" type="slidenum">
              <a:rPr b="0" lang="nl-NL" sz="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8" name="Picture 5" descr=""/>
          <p:cNvPicPr/>
          <p:nvPr/>
        </p:nvPicPr>
        <p:blipFill>
          <a:blip r:embed="rId1"/>
          <a:stretch/>
        </p:blipFill>
        <p:spPr>
          <a:xfrm>
            <a:off x="2195640" y="2295360"/>
            <a:ext cx="4676760" cy="2286000"/>
          </a:xfrm>
          <a:prstGeom prst="rect">
            <a:avLst/>
          </a:prstGeom>
          <a:ln w="0">
            <a:noFill/>
          </a:ln>
        </p:spPr>
      </p:pic>
      <p:sp>
        <p:nvSpPr>
          <p:cNvPr id="1169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104480" y="282240"/>
            <a:ext cx="803916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71" name=""/>
          <p:cNvSpPr txBox="1"/>
          <p:nvPr/>
        </p:nvSpPr>
        <p:spPr>
          <a:xfrm>
            <a:off x="1076400" y="2298240"/>
            <a:ext cx="8067600" cy="40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om geluidhinder te voorkomen in volgorde van priorite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veau van de geluidsbron verlag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uidsbron afscherm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uidtrillingen demp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gehoorbescherm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81651-756E-4E82-9015-C6BE0B939089}" type="slidenum">
              <a:rPr b="0" lang="nl-NL" sz="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Tijdelijke aanduiding voor voettekst 1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2"/>
          <p:cNvSpPr/>
          <p:nvPr/>
        </p:nvSpPr>
        <p:spPr>
          <a:xfrm>
            <a:off x="939960" y="1020600"/>
            <a:ext cx="8038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Verdana"/>
              </a:rPr>
              <a:t>GELUID </a:t>
            </a:r>
            <a:r>
              <a:rPr b="1" lang="nl-NL" sz="1600" spc="-1" strike="noStrike">
                <a:solidFill>
                  <a:srgbClr val="860038"/>
                </a:solidFill>
                <a:latin typeface="Verdana"/>
              </a:rPr>
              <a:t>(VERVOLG</a:t>
            </a:r>
            <a:r>
              <a:rPr b="1" lang="nl-NL" sz="1800" spc="-1" strike="noStrike">
                <a:solidFill>
                  <a:srgbClr val="860038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034640" y="187200"/>
            <a:ext cx="8039160" cy="40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76" name=""/>
          <p:cNvSpPr txBox="1"/>
          <p:nvPr/>
        </p:nvSpPr>
        <p:spPr>
          <a:xfrm>
            <a:off x="1011240" y="2023560"/>
            <a:ext cx="806760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werkgever moet tegen geluid de volgende maatregelen nem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352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af 80 dB(A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3067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gelijkheid tot gehooronderzoe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3067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hoorbescherming uitreik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3067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352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af 85 dB(A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3067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heerspla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3067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atregel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3067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arschuwingsbor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80149-16E5-441E-A9E2-C4E24CAF17D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Rectangle 2"/>
          <p:cNvSpPr/>
          <p:nvPr/>
        </p:nvSpPr>
        <p:spPr>
          <a:xfrm>
            <a:off x="939960" y="1384200"/>
            <a:ext cx="8038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Verdana"/>
              </a:rPr>
              <a:t>GELUID </a:t>
            </a:r>
            <a:r>
              <a:rPr b="1" lang="nl-NL" sz="1600" spc="-1" strike="noStrike">
                <a:solidFill>
                  <a:srgbClr val="860038"/>
                </a:solidFill>
                <a:latin typeface="Verdana"/>
              </a:rPr>
              <a:t>(VERVOL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RILLING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81" name=""/>
          <p:cNvSpPr txBox="1"/>
          <p:nvPr/>
        </p:nvSpPr>
        <p:spPr>
          <a:xfrm>
            <a:off x="1039680" y="21337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oorzaken stotende verplaatsingen van het gehele lichaam of gedeelten daarv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ootte van verplaatsing bepaalt het gevol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ol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rill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8A98C-366E-4DEA-BB0B-6B706B2A26B4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RILLINGEN (vervolg)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86" name=""/>
          <p:cNvSpPr txBox="1"/>
          <p:nvPr/>
        </p:nvSpPr>
        <p:spPr>
          <a:xfrm>
            <a:off x="920880" y="4152600"/>
            <a:ext cx="777240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224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 -   9 Hz: algemeen onwel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3 - 20 Hz: hoofdpij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4 - 14 Hz: buikp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2D9ED-6C90-4768-812E-652B11C1D793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Rectangle 3"/>
          <p:cNvSpPr/>
          <p:nvPr/>
        </p:nvSpPr>
        <p:spPr>
          <a:xfrm>
            <a:off x="977760" y="2019240"/>
            <a:ext cx="7988400" cy="18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ysieke trillin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nd- en armtrillingen bij gebruik handgereedscha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ichaamstrillingen door een voertuig, installatie of bewegend vlo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774360" y="965160"/>
            <a:ext cx="8039160" cy="43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RILLINGEN (vervolg)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1011240" y="1498680"/>
            <a:ext cx="806760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achten door hand- en armtrillin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ij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adiging bloedvaten en gewrich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voelloze vingertopp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tte vinger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2d2d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achten door lichaamtrillin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agklach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ugklach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moeidhei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ofdpij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pierpij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minderde concentrat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doeningen evenwichtsorga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D3C25-B250-42F0-9F25-4DECF94D861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966960" y="9363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MAATREGELEN TEGEN BLOOTSTELLING AAN TRILLING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97" name=""/>
          <p:cNvSpPr txBox="1"/>
          <p:nvPr/>
        </p:nvSpPr>
        <p:spPr>
          <a:xfrm>
            <a:off x="1326960" y="2023560"/>
            <a:ext cx="75754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tegen trillin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dacht bij aanschaf machin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brengen van dempers of isolat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passen alternatieve techniek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perken van blootstellingduur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imaat op de werkplek wordt bepaald do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mgevingstemperatuu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ralingswarm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uchtvochtighei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inderlijke luchtbewegin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9F721-60DE-4859-9E22-59FB3936962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KLIMAAT</a:t>
            </a:r>
            <a:r>
              <a:rPr b="1" lang="nl-NL" sz="1800" spc="-1" strike="noStrike">
                <a:solidFill>
                  <a:srgbClr val="860038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9907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heersen, zodat we ons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</a:rPr>
              <a:t>behaaglijk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voel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en optimale prestaties kunnen lev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rie factoren bepalen een comfortabel klima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led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ol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spann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fvoer warm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lima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chtigheid (relatieve luchtvochtigheid 40-6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Temperatu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Luchtsnelheid (‘s winters &lt; 0,15 m/s en ‘s zomers &lt; 0,25 m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19066-896B-4C9F-86F0-EDDCABE89747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Text Box 6"/>
          <p:cNvSpPr/>
          <p:nvPr/>
        </p:nvSpPr>
        <p:spPr>
          <a:xfrm>
            <a:off x="1562040" y="26676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00332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GEVAAR VOOR ANDERE PERSONEN ZO VEEL MOGELIJK VOORK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s van andere werkge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veranciers goed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zoekers, voorbijgangers en omwone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bevoegden, die zich toegang kunnen verschaf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09C57-D08E-4A63-8238-B9EBDC6BE0D4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hoofddeksel"/>
          <p:cNvPicPr/>
          <p:nvPr/>
        </p:nvPicPr>
        <p:blipFill>
          <a:blip r:embed="rId1"/>
          <a:stretch/>
        </p:blipFill>
        <p:spPr>
          <a:xfrm>
            <a:off x="7440480" y="2514600"/>
            <a:ext cx="1344600" cy="1344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veiligheidspak"/>
          <p:cNvPicPr/>
          <p:nvPr/>
        </p:nvPicPr>
        <p:blipFill>
          <a:blip r:embed="rId2"/>
          <a:stretch/>
        </p:blipFill>
        <p:spPr>
          <a:xfrm>
            <a:off x="7516800" y="4021200"/>
            <a:ext cx="1301760" cy="13078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6"/>
          <p:cNvSpPr/>
          <p:nvPr/>
        </p:nvSpPr>
        <p:spPr>
          <a:xfrm>
            <a:off x="3086280" y="247680"/>
            <a:ext cx="57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"/>
          <p:cNvSpPr txBox="1"/>
          <p:nvPr/>
        </p:nvSpPr>
        <p:spPr>
          <a:xfrm>
            <a:off x="1011240" y="2730600"/>
            <a:ext cx="8067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om het werkcomfort te verbeteren zij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mperatuur behaaglijk en gelijkwaardig en aangepast aan de fysieke inspanning te houd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hinderlijke luchtbeweg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trekken pbm’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chtbalans ruimte op peil hou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ADFEE-7FA7-40F8-917C-F9F86D282F0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Rectangle 2"/>
          <p:cNvSpPr/>
          <p:nvPr/>
        </p:nvSpPr>
        <p:spPr>
          <a:xfrm>
            <a:off x="1041480" y="158760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KLIMAAT (vervolg)</a:t>
            </a:r>
            <a:r>
              <a:rPr b="1" lang="nl-NL" sz="1800" spc="-1" strike="noStrike">
                <a:solidFill>
                  <a:srgbClr val="860038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Text Box 6"/>
          <p:cNvSpPr/>
          <p:nvPr/>
        </p:nvSpPr>
        <p:spPr>
          <a:xfrm>
            <a:off x="1562040" y="26676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3352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ERLICHT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12" name=""/>
          <p:cNvSpPr txBox="1"/>
          <p:nvPr/>
        </p:nvSpPr>
        <p:spPr>
          <a:xfrm>
            <a:off x="1066680" y="2286000"/>
            <a:ext cx="7454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arnemen kleine details vereist hogere verlichtingssterk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lichtingssterkte in l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mpen gaan minder licht g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 vervui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 veroud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uderen hebben meer licht nodig dan jong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ast niet te groot (verhouding licht : donk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E0A99-A14C-43D0-82B5-956C26967935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104148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ERLICHT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1011240" y="2235240"/>
            <a:ext cx="80676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j verlichting op de werkplek rekening houden m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 kleiner de voorwerpen waarmee wordt gewerkt, hoe meer lich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udere werknemers hebben meer licht nodi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asten mogen niet te groot zij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erspiegeling moet voorkomen word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uwe lampen geven meer lich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ichtsterkte moet voldoen aan de wetgev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01D51-567D-4865-82D0-3932B645127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Text Box 6"/>
          <p:cNvSpPr/>
          <p:nvPr/>
        </p:nvSpPr>
        <p:spPr>
          <a:xfrm>
            <a:off x="1562040" y="26676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041480" y="80460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INSPANN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22" name=""/>
          <p:cNvSpPr txBox="1"/>
          <p:nvPr/>
        </p:nvSpPr>
        <p:spPr>
          <a:xfrm>
            <a:off x="1027080" y="1338120"/>
            <a:ext cx="7772400" cy="462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ysiek en/of geestelij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ustperiode nod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rstel spieren/bloedsom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tische bel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tdurend aanspannen van de spieren belemmert doorbloeding blessures, lets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ynamische overbel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pieren regelmatig spannen/ontspannen vraagt ener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gemene lichamelijke vermoeid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ntale overbel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stelijke sp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druk en persoonlijke capacite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C5841-F8C1-4E60-8B20-7AA136AF6C8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1034640" y="72720"/>
            <a:ext cx="803916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27" name=""/>
          <p:cNvSpPr txBox="1"/>
          <p:nvPr/>
        </p:nvSpPr>
        <p:spPr>
          <a:xfrm>
            <a:off x="1011240" y="1160280"/>
            <a:ext cx="8067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sicovolle werkomstandigheden die lichamelijk klachten veroorzaken zij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 lange duur van de inspann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ngdurig zitten of staa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keerde houd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lootstelling aan trilling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rugkerende handeling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ovenmatige inspa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tische belasting veroorzaak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minderde doorbloed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pierpijn of kr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hronische vermoeidhe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35E70-32F6-41C6-AF20-D64A8F62A3BA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Rectangle 2"/>
          <p:cNvSpPr/>
          <p:nvPr/>
        </p:nvSpPr>
        <p:spPr>
          <a:xfrm>
            <a:off x="1041480" y="865080"/>
            <a:ext cx="77724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INSP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034640" y="15480"/>
            <a:ext cx="803916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32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4EED3-725A-45D6-81BA-A445F674C5F6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Tijdelijke aanduiding voor voettekst 2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3"/>
          <p:cNvSpPr/>
          <p:nvPr/>
        </p:nvSpPr>
        <p:spPr>
          <a:xfrm>
            <a:off x="914400" y="15876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ynamische belasting is minder slecht dan statische belasting, maar kan toch de volgende gevolgen hebb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moeidhei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pierpij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ts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ntale belasting wordt veroorzaakt do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dru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aak versus capacitei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latie met collega’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iërarchische relat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ysische arbeidsomstandighed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(on)zekerhei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frastructuur en uitrus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Rectangle 2"/>
          <p:cNvSpPr/>
          <p:nvPr/>
        </p:nvSpPr>
        <p:spPr>
          <a:xfrm>
            <a:off x="1041480" y="888840"/>
            <a:ext cx="77724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INSP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D82FF-72AD-4D6F-8328-3B2217DEAC32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Text Box 6"/>
          <p:cNvSpPr/>
          <p:nvPr/>
        </p:nvSpPr>
        <p:spPr>
          <a:xfrm>
            <a:off x="1562040" y="2412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Hijs- en hefwerktu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Hijs- en hefwerktuigen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26A8C-131D-46EB-92C8-57A26903CFDB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Text Box 6"/>
          <p:cNvSpPr/>
          <p:nvPr/>
        </p:nvSpPr>
        <p:spPr>
          <a:xfrm>
            <a:off x="1562040" y="2412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Werken op hoog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Werken op hoog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7F91F-CE64-4325-9134-520C08B258C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Text Box 3"/>
          <p:cNvSpPr/>
          <p:nvPr/>
        </p:nvSpPr>
        <p:spPr>
          <a:xfrm>
            <a:off x="898560" y="1211400"/>
            <a:ext cx="772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00000"/>
                </a:solidFill>
                <a:latin typeface="Arial"/>
              </a:rPr>
              <a:t>SCHUINE EN PLATTE DAKEN,  GATEN IN VLOEREN EN WA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0" name="Object 4" descr=""/>
          <p:cNvPicPr/>
          <p:nvPr/>
        </p:nvPicPr>
        <p:blipFill>
          <a:blip r:embed="rId1"/>
          <a:stretch/>
        </p:blipFill>
        <p:spPr>
          <a:xfrm>
            <a:off x="4876920" y="2216160"/>
            <a:ext cx="3311280" cy="1303200"/>
          </a:xfrm>
          <a:prstGeom prst="rect">
            <a:avLst/>
          </a:prstGeom>
          <a:ln w="0">
            <a:noFill/>
          </a:ln>
        </p:spPr>
      </p:pic>
      <p:sp>
        <p:nvSpPr>
          <p:cNvPr id="1251" name="Text Box 5"/>
          <p:cNvSpPr/>
          <p:nvPr/>
        </p:nvSpPr>
        <p:spPr>
          <a:xfrm>
            <a:off x="1055520" y="2631960"/>
            <a:ext cx="250164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Risico op va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Text Box 6"/>
          <p:cNvSpPr/>
          <p:nvPr/>
        </p:nvSpPr>
        <p:spPr>
          <a:xfrm>
            <a:off x="1172520" y="3689280"/>
            <a:ext cx="7076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loopplanken (hellend da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individueel veiligheidshar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dakrandbeveiliging of vangnet (plat da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k gaten af met stevig materia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eng markering aan op gevaarlijke plaat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Text Box 6"/>
          <p:cNvSpPr/>
          <p:nvPr/>
        </p:nvSpPr>
        <p:spPr>
          <a:xfrm>
            <a:off x="1562040" y="2412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Werken op hoog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FF899-32C1-4944-AFFF-25481F187410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Handgereedsch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Handgereedschap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069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SAMENWERKENDE WERKGEVERS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03824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werkgevers gelijktijdig op dezelfde locatie moeten samenwerken om de Arbowet na te l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spraken vooraf vastleggen in Arboprojectpl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jze van samenwer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 treffen voorzien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nier van toez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isico’s vanuit en naar omgeving en te nemen maatreg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E6BC4-658F-4082-94D0-ED133A4DB135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BF06F-6ACA-4E67-B131-4910FA78AB1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reedschaps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Gereedschapsmach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692EB-097B-4EC6-A05F-241A737CA6EB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Persoonlijke beschermingsmidd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Text Box 7"/>
          <p:cNvSpPr/>
          <p:nvPr/>
        </p:nvSpPr>
        <p:spPr>
          <a:xfrm>
            <a:off x="1222200" y="2476440"/>
            <a:ext cx="69343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Persoonlijke beschermingsmiddelen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860038"/>
                </a:solidFill>
                <a:latin typeface="Arial"/>
              </a:rPr>
              <a:t>INDELING NAAR STOF- EN STOFFILTERKLASSE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70" name=""/>
          <p:cNvSpPr txBox="1"/>
          <p:nvPr/>
        </p:nvSpPr>
        <p:spPr>
          <a:xfrm>
            <a:off x="1058400" y="2057040"/>
            <a:ext cx="932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3333cc"/>
                </a:solidFill>
                <a:latin typeface="Arial"/>
              </a:rPr>
              <a:t>Stof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3333cc"/>
                </a:solidFill>
                <a:latin typeface="Arial"/>
              </a:rPr>
              <a:t>klas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2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2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668E-1308-41C8-B155-5DB78770D6E2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Rectangle 2"/>
          <p:cNvSpPr/>
          <p:nvPr/>
        </p:nvSpPr>
        <p:spPr>
          <a:xfrm>
            <a:off x="1143000" y="1981080"/>
            <a:ext cx="7696080" cy="4343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Rectangle 5"/>
          <p:cNvSpPr/>
          <p:nvPr/>
        </p:nvSpPr>
        <p:spPr>
          <a:xfrm>
            <a:off x="2057400" y="2057400"/>
            <a:ext cx="3429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3333cc"/>
                </a:solidFill>
                <a:latin typeface="Arial"/>
              </a:rPr>
              <a:t>Omschrijv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nert zwevend stof met een grens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aarde van 10 mg/m</a:t>
            </a:r>
            <a:r>
              <a:rPr b="0" lang="nl-NL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behal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sb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chadelijke stof met een grens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aarde van 0,1 tot 10 mg/m</a:t>
            </a:r>
            <a:r>
              <a:rPr b="0" lang="nl-NL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ehalve asb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iftige stof met een grenswaar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an &lt; 0,1 mg/m3, waaro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sbest, carcinogene stoff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poren, virussen, bacterië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roteolytische enzymen en b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esluit aangewezen stoff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Rectangle 6"/>
          <p:cNvSpPr/>
          <p:nvPr/>
        </p:nvSpPr>
        <p:spPr>
          <a:xfrm>
            <a:off x="5191200" y="2057400"/>
            <a:ext cx="9903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3333cc"/>
                </a:solidFill>
                <a:latin typeface="Arial"/>
              </a:rPr>
              <a:t>Fil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Rectangle 7"/>
          <p:cNvSpPr/>
          <p:nvPr/>
        </p:nvSpPr>
        <p:spPr>
          <a:xfrm>
            <a:off x="6181560" y="2057400"/>
            <a:ext cx="28195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3333cc"/>
                </a:solidFill>
                <a:latin typeface="Arial"/>
              </a:rPr>
              <a:t>Maxim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3333cc"/>
                </a:solidFill>
                <a:latin typeface="Arial"/>
              </a:rPr>
              <a:t>concentrat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5x grenswaar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nuitj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10x grenswaar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alfmask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12 x grenswaar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lgelaatsmask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16 X grenswaar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lleen samen met vol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laatsmasker inzett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200x grenswaar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Line 8"/>
          <p:cNvSpPr/>
          <p:nvPr/>
        </p:nvSpPr>
        <p:spPr>
          <a:xfrm flipV="1">
            <a:off x="2057400" y="1980720"/>
            <a:ext cx="0" cy="4343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Line 9"/>
          <p:cNvSpPr/>
          <p:nvPr/>
        </p:nvSpPr>
        <p:spPr>
          <a:xfrm flipV="1">
            <a:off x="1125360" y="2514240"/>
            <a:ext cx="771372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Line 10"/>
          <p:cNvSpPr/>
          <p:nvPr/>
        </p:nvSpPr>
        <p:spPr>
          <a:xfrm flipV="1">
            <a:off x="5257800" y="1980720"/>
            <a:ext cx="0" cy="4343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Line 11"/>
          <p:cNvSpPr/>
          <p:nvPr/>
        </p:nvSpPr>
        <p:spPr>
          <a:xfrm flipV="1">
            <a:off x="6248520" y="1980720"/>
            <a:ext cx="0" cy="4343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Line 12"/>
          <p:cNvSpPr/>
          <p:nvPr/>
        </p:nvSpPr>
        <p:spPr>
          <a:xfrm>
            <a:off x="1147680" y="3265560"/>
            <a:ext cx="769140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Line 13"/>
          <p:cNvSpPr/>
          <p:nvPr/>
        </p:nvSpPr>
        <p:spPr>
          <a:xfrm flipV="1">
            <a:off x="1149480" y="4800240"/>
            <a:ext cx="768960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dembescher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213840" y="70920"/>
            <a:ext cx="864396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ersoonlijke beschermingsmiddel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 txBox="1"/>
          <p:nvPr/>
        </p:nvSpPr>
        <p:spPr>
          <a:xfrm>
            <a:off x="285840" y="1214280"/>
            <a:ext cx="857232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800000"/>
                </a:solidFill>
                <a:latin typeface="Arial"/>
              </a:rPr>
              <a:t>INDELING GASFILTERTY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Rectangle 2"/>
          <p:cNvSpPr/>
          <p:nvPr/>
        </p:nvSpPr>
        <p:spPr>
          <a:xfrm>
            <a:off x="1125360" y="1693800"/>
            <a:ext cx="7010640" cy="4343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Rectangle 3"/>
          <p:cNvSpPr/>
          <p:nvPr/>
        </p:nvSpPr>
        <p:spPr>
          <a:xfrm>
            <a:off x="1125360" y="3903840"/>
            <a:ext cx="7010640" cy="380880"/>
          </a:xfrm>
          <a:prstGeom prst="rect">
            <a:avLst/>
          </a:prstGeom>
          <a:solidFill>
            <a:srgbClr val="800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Line 6"/>
          <p:cNvSpPr/>
          <p:nvPr/>
        </p:nvSpPr>
        <p:spPr>
          <a:xfrm flipV="1">
            <a:off x="2192400" y="4284720"/>
            <a:ext cx="0" cy="1752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Line 7"/>
          <p:cNvSpPr/>
          <p:nvPr/>
        </p:nvSpPr>
        <p:spPr>
          <a:xfrm flipV="1">
            <a:off x="3411360" y="4284720"/>
            <a:ext cx="0" cy="1752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Line 8"/>
          <p:cNvSpPr/>
          <p:nvPr/>
        </p:nvSpPr>
        <p:spPr>
          <a:xfrm flipV="1">
            <a:off x="2192400" y="1693440"/>
            <a:ext cx="0" cy="2210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Line 9"/>
          <p:cNvSpPr/>
          <p:nvPr/>
        </p:nvSpPr>
        <p:spPr>
          <a:xfrm flipV="1">
            <a:off x="3411360" y="1693440"/>
            <a:ext cx="0" cy="2210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Line 10"/>
          <p:cNvSpPr/>
          <p:nvPr/>
        </p:nvSpPr>
        <p:spPr>
          <a:xfrm>
            <a:off x="1125360" y="5580000"/>
            <a:ext cx="701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Line 11"/>
          <p:cNvSpPr/>
          <p:nvPr/>
        </p:nvSpPr>
        <p:spPr>
          <a:xfrm>
            <a:off x="1125360" y="5122800"/>
            <a:ext cx="701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Line 12"/>
          <p:cNvSpPr/>
          <p:nvPr/>
        </p:nvSpPr>
        <p:spPr>
          <a:xfrm>
            <a:off x="1125360" y="4665600"/>
            <a:ext cx="701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Line 13"/>
          <p:cNvSpPr/>
          <p:nvPr/>
        </p:nvSpPr>
        <p:spPr>
          <a:xfrm>
            <a:off x="1125360" y="3446640"/>
            <a:ext cx="701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Line 14"/>
          <p:cNvSpPr/>
          <p:nvPr/>
        </p:nvSpPr>
        <p:spPr>
          <a:xfrm>
            <a:off x="1125360" y="3065400"/>
            <a:ext cx="701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Line 15"/>
          <p:cNvSpPr/>
          <p:nvPr/>
        </p:nvSpPr>
        <p:spPr>
          <a:xfrm>
            <a:off x="1125360" y="2608200"/>
            <a:ext cx="701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Line 16"/>
          <p:cNvSpPr/>
          <p:nvPr/>
        </p:nvSpPr>
        <p:spPr>
          <a:xfrm>
            <a:off x="1125360" y="2151000"/>
            <a:ext cx="701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Rectangle 20"/>
          <p:cNvSpPr/>
          <p:nvPr/>
        </p:nvSpPr>
        <p:spPr>
          <a:xfrm>
            <a:off x="2190600" y="2141640"/>
            <a:ext cx="1211400" cy="4521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Rectangle 21"/>
          <p:cNvSpPr/>
          <p:nvPr/>
        </p:nvSpPr>
        <p:spPr>
          <a:xfrm>
            <a:off x="2187720" y="2602080"/>
            <a:ext cx="1211040" cy="4521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Rectangle 22"/>
          <p:cNvSpPr/>
          <p:nvPr/>
        </p:nvSpPr>
        <p:spPr>
          <a:xfrm>
            <a:off x="2201760" y="3433680"/>
            <a:ext cx="1211400" cy="4525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Rectangle 23"/>
          <p:cNvSpPr/>
          <p:nvPr/>
        </p:nvSpPr>
        <p:spPr>
          <a:xfrm>
            <a:off x="2200320" y="4297320"/>
            <a:ext cx="1211040" cy="35892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Rectangle 24"/>
          <p:cNvSpPr/>
          <p:nvPr/>
        </p:nvSpPr>
        <p:spPr>
          <a:xfrm>
            <a:off x="2195640" y="4676760"/>
            <a:ext cx="1211040" cy="452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Rectangle 25"/>
          <p:cNvSpPr/>
          <p:nvPr/>
        </p:nvSpPr>
        <p:spPr>
          <a:xfrm>
            <a:off x="2195640" y="5114880"/>
            <a:ext cx="1211040" cy="45252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Rectangle 26"/>
          <p:cNvSpPr/>
          <p:nvPr/>
        </p:nvSpPr>
        <p:spPr>
          <a:xfrm>
            <a:off x="2203560" y="5575320"/>
            <a:ext cx="1211040" cy="452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Rectangle 27"/>
          <p:cNvSpPr/>
          <p:nvPr/>
        </p:nvSpPr>
        <p:spPr>
          <a:xfrm>
            <a:off x="2189160" y="3054240"/>
            <a:ext cx="1211400" cy="370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1139760" y="1704960"/>
            <a:ext cx="69343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ff"/>
                </a:solidFill>
                <a:latin typeface="Arial"/>
                <a:ea typeface="Arial"/>
              </a:rPr>
              <a:t>Type</a:t>
            </a:r>
            <a:r>
              <a:rPr b="1" lang="nl-NL" sz="2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0000ff"/>
                </a:solidFill>
                <a:latin typeface="Arial"/>
                <a:ea typeface="Arial"/>
              </a:rPr>
              <a:t>Kleur</a:t>
            </a:r>
            <a:r>
              <a:rPr b="1" lang="nl-NL" sz="2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0000ff"/>
                </a:solidFill>
                <a:latin typeface="Arial"/>
                <a:ea typeface="Arial"/>
              </a:rPr>
              <a:t>Beschermt teg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Brui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organische dampen en oplosmidd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Grijs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zure gassen, zoals Cl</a:t>
            </a:r>
            <a:r>
              <a:rPr b="0" lang="nl-NL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, H</a:t>
            </a:r>
            <a:r>
              <a:rPr b="0" lang="nl-NL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 en HC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eeece1"/>
                </a:solidFill>
                <a:latin typeface="Arial"/>
                <a:ea typeface="Arial"/>
              </a:rPr>
              <a:t>Geel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zwaveldi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Gro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mmoni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peciale fil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CO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Zwar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oolstofmon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Hg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Roo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wik(dam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Blau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nitreuze dam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R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Oranj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reactorfilter, radioactief jo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CEF8F-B5EF-4438-A393-BA4E170202B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Tijdelijke aanduiding voor voettekst 1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560F2-FDF3-4DAF-9CC3-4CE674B23F7C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Tekstvak 2"/>
          <p:cNvSpPr/>
          <p:nvPr/>
        </p:nvSpPr>
        <p:spPr>
          <a:xfrm>
            <a:off x="1131840" y="992160"/>
            <a:ext cx="53355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het examen geld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es vragen goed do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ies het meest juiste antwo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er of je alle vragen goed hebt beantwo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70 vragen waarvan er 21 fout mogen zij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05 minuten de tij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Rectangle 8"/>
          <p:cNvSpPr/>
          <p:nvPr/>
        </p:nvSpPr>
        <p:spPr>
          <a:xfrm>
            <a:off x="993600" y="0"/>
            <a:ext cx="80773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Verdana"/>
              </a:rPr>
              <a:t>EXA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3" name="Picture 5" descr=""/>
          <p:cNvPicPr/>
          <p:nvPr/>
        </p:nvPicPr>
        <p:blipFill>
          <a:blip r:embed="rId1"/>
          <a:stretch/>
        </p:blipFill>
        <p:spPr>
          <a:xfrm>
            <a:off x="6110280" y="2120760"/>
            <a:ext cx="2635200" cy="2635560"/>
          </a:xfrm>
          <a:prstGeom prst="rect">
            <a:avLst/>
          </a:prstGeom>
          <a:ln w="0">
            <a:noFill/>
          </a:ln>
        </p:spPr>
      </p:pic>
      <p:sp>
        <p:nvSpPr>
          <p:cNvPr id="1314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6516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IN- EN UITLENEN VAN PERSONEEL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008000" y="2068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spraken mak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e geeft instructi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e verzorgt voorlichting en onderrich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e verstrekt PB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gemeen gestel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e geeft aanwijzing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e houdt toezich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e verstrekt middel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ze personen zijn verantwoordelijk voor de naleving van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rbo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s leidinggevende vertegenwoordigt u uw werkgever, dus: medeverantwoordel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E4CEE-87FD-4030-930D-0F78B8D778F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OEZICHT DOOR INSPECTIE SZW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0191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Landelijke Werkwijze handhavingsbel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e Fase: Inspectie SZW maakt afspraken om tekortkomingen op te hef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e Fase: Afspraak niet nakomen: Officiële waarschu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e Fase: Officiële waarschuwing niet nagekomen: Proces verba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A8883-A0A2-44CE-BF27-B72BCA917812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3086280" y="247680"/>
            <a:ext cx="57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0378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OEZICHT DOOR INSPECTIE SZW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47760" y="1885680"/>
            <a:ext cx="751536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nl-NL" sz="2400" spc="-1" strike="noStrike">
                <a:solidFill>
                  <a:srgbClr val="ff3300"/>
                </a:solidFill>
                <a:latin typeface="Arial"/>
              </a:rPr>
              <a:t>Bij ernstige overtredingen (dus bij direct ernstig gevaar voor </a:t>
            </a:r>
            <a:r>
              <a:rPr b="1" i="1" lang="nl-NL" sz="2400" spc="-1" strike="noStrike">
                <a:solidFill>
                  <a:srgbClr val="ff3300"/>
                </a:solidFill>
                <a:latin typeface="Arial"/>
              </a:rPr>
              <a:t>personen</a:t>
            </a:r>
            <a:r>
              <a:rPr b="1" lang="nl-NL" sz="2400" spc="-1" strike="noStrike">
                <a:solidFill>
                  <a:srgbClr val="ff33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rijwillig stilleggen werk en afspraken m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heffen tekortkoming voor beginnen met 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wil om afspraken te maken of na te l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mele stillegging werk en opmaken proces-verba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EAA4E-F509-4782-9858-A9B43425E3B0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3086280" y="247680"/>
            <a:ext cx="57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680" y="7999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ARBODESKUNDIG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02708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terne Arbodeskundi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eventiemedewe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ventueel externe Arbodeskundi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&amp;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zoeken naar geluidsbelasting, klimaat, fysieke belasting en gevaarlijke stof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iodiek gezondheidskundig onderzo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geleiding van zieke werkne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dische keuringen (voor sommige functies verplic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04BEC-D5FD-4458-8110-3452153AA436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E67EE-1BAD-45C0-A951-DCB7F31F53F4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DA399-C62B-4A9B-8B71-4BA36531D574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ijdelijke aanduiding voor voettekst 1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1774800" y="1600200"/>
            <a:ext cx="53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00000"/>
                </a:solidFill>
                <a:latin typeface="Arial"/>
              </a:rPr>
              <a:t>BRONNEN VAN RISICO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hthoek 3"/>
          <p:cNvSpPr/>
          <p:nvPr/>
        </p:nvSpPr>
        <p:spPr>
          <a:xfrm>
            <a:off x="1143000" y="2141640"/>
            <a:ext cx="7645320" cy="39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soort we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nnis en erv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werkplek z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welz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mentalit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62699"/>
              </a:buClr>
              <a:buFont typeface="Arial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62699"/>
              </a:buClr>
              <a:buFont typeface="Arial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SICO = KANS x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 = bewust nemen van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anvaardbaar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ris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0" descr=""/>
          <p:cNvPicPr/>
          <p:nvPr/>
        </p:nvPicPr>
        <p:blipFill>
          <a:blip r:embed="rId1"/>
          <a:stretch/>
        </p:blipFill>
        <p:spPr>
          <a:xfrm>
            <a:off x="6305400" y="1751040"/>
            <a:ext cx="233208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20600" y="1152360"/>
            <a:ext cx="7772400" cy="71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860038"/>
                </a:solidFill>
                <a:latin typeface="Arial"/>
              </a:rPr>
              <a:t>IJSBERG MET VERHOUDING TUSSEN </a:t>
            </a:r>
            <a:br>
              <a:rPr sz="2000"/>
            </a:br>
            <a:r>
              <a:rPr b="1" lang="nl-NL" sz="2000" spc="-1" strike="noStrike">
                <a:solidFill>
                  <a:srgbClr val="860038"/>
                </a:solidFill>
                <a:latin typeface="Arial"/>
              </a:rPr>
              <a:t>VERSCHILLENDE SOORTEN ONGEVALLEN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184640" y="2565000"/>
            <a:ext cx="4780080" cy="35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ngeval met dodelijke afloop of zeer ernstig let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ngeval met ernstig letsel met verzu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ngevallen met letsel met verzu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(bijna) ongevallen met ger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letsel / EHBO zonder verzu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gevaren als gevolg van onveili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handelingen en/of situa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D98C9-9747-4EF8-8B02-77884DD945E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96"/>
          <p:cNvSpPr/>
          <p:nvPr/>
        </p:nvSpPr>
        <p:spPr>
          <a:xfrm>
            <a:off x="1000080" y="3116160"/>
            <a:ext cx="8064720" cy="3365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62" descr=""/>
          <p:cNvPicPr/>
          <p:nvPr/>
        </p:nvPicPr>
        <p:blipFill>
          <a:blip r:embed="rId1"/>
          <a:stretch/>
        </p:blipFill>
        <p:spPr>
          <a:xfrm>
            <a:off x="998640" y="6370560"/>
            <a:ext cx="8066160" cy="98640"/>
          </a:xfrm>
          <a:prstGeom prst="rect">
            <a:avLst/>
          </a:prstGeom>
          <a:ln w="0">
            <a:noFill/>
          </a:ln>
        </p:spPr>
      </p:pic>
      <p:sp>
        <p:nvSpPr>
          <p:cNvPr id="191" name="Line 91"/>
          <p:cNvSpPr/>
          <p:nvPr/>
        </p:nvSpPr>
        <p:spPr>
          <a:xfrm>
            <a:off x="1003320" y="3635280"/>
            <a:ext cx="7794720" cy="7920"/>
          </a:xfrm>
          <a:prstGeom prst="line">
            <a:avLst/>
          </a:prstGeom>
          <a:ln w="15840">
            <a:solidFill>
              <a:srgbClr val="f94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92"/>
          <p:cNvSpPr/>
          <p:nvPr/>
        </p:nvSpPr>
        <p:spPr>
          <a:xfrm>
            <a:off x="1003320" y="4516560"/>
            <a:ext cx="7794720" cy="1440"/>
          </a:xfrm>
          <a:prstGeom prst="line">
            <a:avLst/>
          </a:prstGeom>
          <a:ln w="15840">
            <a:solidFill>
              <a:srgbClr val="f94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93"/>
          <p:cNvSpPr/>
          <p:nvPr/>
        </p:nvSpPr>
        <p:spPr>
          <a:xfrm>
            <a:off x="1009800" y="5398920"/>
            <a:ext cx="7788240" cy="1800"/>
          </a:xfrm>
          <a:prstGeom prst="line">
            <a:avLst/>
          </a:prstGeom>
          <a:ln w="15840">
            <a:solidFill>
              <a:srgbClr val="f94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2800440" y="22860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97"/>
          <p:cNvSpPr/>
          <p:nvPr/>
        </p:nvSpPr>
        <p:spPr>
          <a:xfrm>
            <a:off x="1001880" y="1198440"/>
            <a:ext cx="8062920" cy="1974960"/>
          </a:xfrm>
          <a:prstGeom prst="rect">
            <a:avLst/>
          </a:prstGeom>
          <a:gradFill rotWithShape="0">
            <a:gsLst>
              <a:gs pos="0">
                <a:srgbClr val="7dffdd"/>
              </a:gs>
              <a:gs pos="100000">
                <a:srgbClr val="ebff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0"/>
          <p:cNvSpPr/>
          <p:nvPr/>
        </p:nvSpPr>
        <p:spPr>
          <a:xfrm>
            <a:off x="1265400" y="3081240"/>
            <a:ext cx="4036680" cy="2965680"/>
          </a:xfrm>
          <a:custGeom>
            <a:avLst/>
            <a:gdLst>
              <a:gd name="textAreaLeft" fmla="*/ 0 w 4036680"/>
              <a:gd name="textAreaRight" fmla="*/ 4037040 w 4036680"/>
              <a:gd name="textAreaTop" fmla="*/ 0 h 2965680"/>
              <a:gd name="textAreaBottom" fmla="*/ 2966040 h 2965680"/>
            </a:gdLst>
            <a:ahLst/>
            <a:rect l="textAreaLeft" t="textAreaTop" r="textAreaRight" b="textAreaBottom"/>
            <a:pathLst>
              <a:path w="2543" h="1839">
                <a:moveTo>
                  <a:pt x="777" y="0"/>
                </a:moveTo>
                <a:lnTo>
                  <a:pt x="766" y="134"/>
                </a:lnTo>
                <a:lnTo>
                  <a:pt x="869" y="360"/>
                </a:lnTo>
                <a:lnTo>
                  <a:pt x="668" y="427"/>
                </a:lnTo>
                <a:lnTo>
                  <a:pt x="673" y="436"/>
                </a:lnTo>
                <a:lnTo>
                  <a:pt x="683" y="446"/>
                </a:lnTo>
                <a:lnTo>
                  <a:pt x="688" y="460"/>
                </a:lnTo>
                <a:lnTo>
                  <a:pt x="693" y="465"/>
                </a:lnTo>
                <a:lnTo>
                  <a:pt x="693" y="474"/>
                </a:lnTo>
                <a:lnTo>
                  <a:pt x="693" y="484"/>
                </a:lnTo>
                <a:lnTo>
                  <a:pt x="698" y="489"/>
                </a:lnTo>
                <a:lnTo>
                  <a:pt x="698" y="498"/>
                </a:lnTo>
                <a:lnTo>
                  <a:pt x="693" y="507"/>
                </a:lnTo>
                <a:lnTo>
                  <a:pt x="693" y="517"/>
                </a:lnTo>
                <a:lnTo>
                  <a:pt x="688" y="526"/>
                </a:lnTo>
                <a:lnTo>
                  <a:pt x="678" y="550"/>
                </a:lnTo>
                <a:lnTo>
                  <a:pt x="663" y="575"/>
                </a:lnTo>
                <a:lnTo>
                  <a:pt x="627" y="622"/>
                </a:lnTo>
                <a:lnTo>
                  <a:pt x="596" y="665"/>
                </a:lnTo>
                <a:lnTo>
                  <a:pt x="586" y="679"/>
                </a:lnTo>
                <a:lnTo>
                  <a:pt x="586" y="684"/>
                </a:lnTo>
                <a:lnTo>
                  <a:pt x="581" y="684"/>
                </a:lnTo>
                <a:lnTo>
                  <a:pt x="581" y="689"/>
                </a:lnTo>
                <a:lnTo>
                  <a:pt x="576" y="684"/>
                </a:lnTo>
                <a:lnTo>
                  <a:pt x="571" y="684"/>
                </a:lnTo>
                <a:lnTo>
                  <a:pt x="555" y="679"/>
                </a:lnTo>
                <a:lnTo>
                  <a:pt x="545" y="670"/>
                </a:lnTo>
                <a:lnTo>
                  <a:pt x="505" y="641"/>
                </a:lnTo>
                <a:lnTo>
                  <a:pt x="499" y="599"/>
                </a:lnTo>
                <a:lnTo>
                  <a:pt x="489" y="618"/>
                </a:lnTo>
                <a:lnTo>
                  <a:pt x="296" y="823"/>
                </a:lnTo>
                <a:lnTo>
                  <a:pt x="321" y="1100"/>
                </a:lnTo>
                <a:lnTo>
                  <a:pt x="158" y="1204"/>
                </a:lnTo>
                <a:lnTo>
                  <a:pt x="10" y="1467"/>
                </a:lnTo>
                <a:lnTo>
                  <a:pt x="0" y="1620"/>
                </a:lnTo>
                <a:lnTo>
                  <a:pt x="158" y="1700"/>
                </a:lnTo>
                <a:lnTo>
                  <a:pt x="555" y="1839"/>
                </a:lnTo>
                <a:lnTo>
                  <a:pt x="861" y="1811"/>
                </a:lnTo>
                <a:lnTo>
                  <a:pt x="1315" y="1792"/>
                </a:lnTo>
                <a:lnTo>
                  <a:pt x="1478" y="1700"/>
                </a:lnTo>
                <a:lnTo>
                  <a:pt x="1534" y="1768"/>
                </a:lnTo>
                <a:lnTo>
                  <a:pt x="1977" y="1825"/>
                </a:lnTo>
                <a:lnTo>
                  <a:pt x="2166" y="1677"/>
                </a:lnTo>
                <a:lnTo>
                  <a:pt x="2309" y="1743"/>
                </a:lnTo>
                <a:lnTo>
                  <a:pt x="2472" y="1629"/>
                </a:lnTo>
                <a:lnTo>
                  <a:pt x="2543" y="1538"/>
                </a:lnTo>
                <a:lnTo>
                  <a:pt x="2298" y="1195"/>
                </a:lnTo>
                <a:lnTo>
                  <a:pt x="2258" y="1147"/>
                </a:lnTo>
                <a:lnTo>
                  <a:pt x="2196" y="1066"/>
                </a:lnTo>
                <a:lnTo>
                  <a:pt x="2222" y="952"/>
                </a:lnTo>
                <a:lnTo>
                  <a:pt x="2186" y="880"/>
                </a:lnTo>
                <a:lnTo>
                  <a:pt x="2186" y="875"/>
                </a:lnTo>
                <a:lnTo>
                  <a:pt x="2181" y="875"/>
                </a:lnTo>
                <a:lnTo>
                  <a:pt x="2176" y="870"/>
                </a:lnTo>
                <a:lnTo>
                  <a:pt x="2171" y="870"/>
                </a:lnTo>
                <a:lnTo>
                  <a:pt x="2166" y="861"/>
                </a:lnTo>
                <a:lnTo>
                  <a:pt x="2156" y="851"/>
                </a:lnTo>
                <a:lnTo>
                  <a:pt x="2151" y="842"/>
                </a:lnTo>
                <a:lnTo>
                  <a:pt x="2145" y="832"/>
                </a:lnTo>
                <a:lnTo>
                  <a:pt x="2140" y="813"/>
                </a:lnTo>
                <a:lnTo>
                  <a:pt x="2130" y="794"/>
                </a:lnTo>
                <a:lnTo>
                  <a:pt x="2130" y="785"/>
                </a:lnTo>
                <a:lnTo>
                  <a:pt x="2125" y="775"/>
                </a:lnTo>
                <a:lnTo>
                  <a:pt x="2120" y="766"/>
                </a:lnTo>
                <a:lnTo>
                  <a:pt x="2115" y="761"/>
                </a:lnTo>
                <a:lnTo>
                  <a:pt x="2110" y="761"/>
                </a:lnTo>
                <a:lnTo>
                  <a:pt x="2105" y="756"/>
                </a:lnTo>
                <a:lnTo>
                  <a:pt x="2100" y="751"/>
                </a:lnTo>
                <a:lnTo>
                  <a:pt x="2038" y="861"/>
                </a:lnTo>
                <a:lnTo>
                  <a:pt x="1865" y="823"/>
                </a:lnTo>
                <a:lnTo>
                  <a:pt x="1799" y="646"/>
                </a:lnTo>
                <a:lnTo>
                  <a:pt x="1819" y="417"/>
                </a:lnTo>
                <a:lnTo>
                  <a:pt x="1682" y="550"/>
                </a:lnTo>
                <a:lnTo>
                  <a:pt x="1738" y="307"/>
                </a:lnTo>
                <a:lnTo>
                  <a:pt x="1697" y="293"/>
                </a:lnTo>
                <a:lnTo>
                  <a:pt x="1710" y="6"/>
                </a:lnTo>
                <a:lnTo>
                  <a:pt x="777" y="0"/>
                </a:lnTo>
                <a:close/>
              </a:path>
            </a:pathLst>
          </a:custGeom>
          <a:solidFill>
            <a:srgbClr val="b2b2b2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78"/>
          <p:cNvSpPr/>
          <p:nvPr/>
        </p:nvSpPr>
        <p:spPr>
          <a:xfrm>
            <a:off x="2058840" y="3357720"/>
            <a:ext cx="671760" cy="955440"/>
          </a:xfrm>
          <a:custGeom>
            <a:avLst/>
            <a:gdLst>
              <a:gd name="textAreaLeft" fmla="*/ 0 w 671760"/>
              <a:gd name="textAreaRight" fmla="*/ 672120 w 671760"/>
              <a:gd name="textAreaTop" fmla="*/ 0 h 955440"/>
              <a:gd name="textAreaBottom" fmla="*/ 955800 h 955440"/>
            </a:gdLst>
            <a:ahLst/>
            <a:rect l="textAreaLeft" t="textAreaTop" r="textAreaRight" b="textAreaBottom"/>
            <a:pathLst>
              <a:path w="83" h="131">
                <a:moveTo>
                  <a:pt x="17" y="128"/>
                </a:moveTo>
                <a:cubicBezTo>
                  <a:pt x="17" y="125"/>
                  <a:pt x="32" y="106"/>
                  <a:pt x="37" y="95"/>
                </a:cubicBezTo>
                <a:cubicBezTo>
                  <a:pt x="43" y="85"/>
                  <a:pt x="71" y="115"/>
                  <a:pt x="71" y="115"/>
                </a:cubicBezTo>
                <a:lnTo>
                  <a:pt x="83" y="38"/>
                </a:lnTo>
                <a:lnTo>
                  <a:pt x="54" y="0"/>
                </a:lnTo>
                <a:lnTo>
                  <a:pt x="54" y="10"/>
                </a:lnTo>
                <a:lnTo>
                  <a:pt x="53" y="49"/>
                </a:lnTo>
                <a:lnTo>
                  <a:pt x="26" y="53"/>
                </a:lnTo>
                <a:lnTo>
                  <a:pt x="0" y="110"/>
                </a:lnTo>
                <a:lnTo>
                  <a:pt x="1" y="119"/>
                </a:lnTo>
                <a:cubicBezTo>
                  <a:pt x="1" y="119"/>
                  <a:pt x="17" y="131"/>
                  <a:pt x="17" y="128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79"/>
          <p:cNvSpPr/>
          <p:nvPr/>
        </p:nvSpPr>
        <p:spPr>
          <a:xfrm>
            <a:off x="2503440" y="3467160"/>
            <a:ext cx="566640" cy="1515960"/>
          </a:xfrm>
          <a:custGeom>
            <a:avLst/>
            <a:gdLst>
              <a:gd name="textAreaLeft" fmla="*/ 0 w 566640"/>
              <a:gd name="textAreaRight" fmla="*/ 567000 w 566640"/>
              <a:gd name="textAreaTop" fmla="*/ 0 h 1515960"/>
              <a:gd name="textAreaBottom" fmla="*/ 1516320 h 1515960"/>
            </a:gdLst>
            <a:ahLst/>
            <a:rect l="textAreaLeft" t="textAreaTop" r="textAreaRight" b="textAreaBottom"/>
            <a:pathLst>
              <a:path w="70" h="208">
                <a:moveTo>
                  <a:pt x="47" y="17"/>
                </a:moveTo>
                <a:lnTo>
                  <a:pt x="47" y="58"/>
                </a:lnTo>
                <a:lnTo>
                  <a:pt x="23" y="99"/>
                </a:lnTo>
                <a:lnTo>
                  <a:pt x="20" y="138"/>
                </a:lnTo>
                <a:lnTo>
                  <a:pt x="0" y="163"/>
                </a:lnTo>
                <a:lnTo>
                  <a:pt x="23" y="208"/>
                </a:lnTo>
                <a:lnTo>
                  <a:pt x="6" y="163"/>
                </a:lnTo>
                <a:lnTo>
                  <a:pt x="31" y="137"/>
                </a:lnTo>
                <a:lnTo>
                  <a:pt x="33" y="102"/>
                </a:lnTo>
                <a:lnTo>
                  <a:pt x="70" y="65"/>
                </a:lnTo>
                <a:lnTo>
                  <a:pt x="55" y="22"/>
                </a:lnTo>
                <a:lnTo>
                  <a:pt x="68" y="0"/>
                </a:lnTo>
                <a:lnTo>
                  <a:pt x="67" y="0"/>
                </a:lnTo>
                <a:lnTo>
                  <a:pt x="47" y="1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84"/>
          <p:cNvSpPr/>
          <p:nvPr/>
        </p:nvSpPr>
        <p:spPr>
          <a:xfrm>
            <a:off x="1403280" y="4495680"/>
            <a:ext cx="897120" cy="968400"/>
          </a:xfrm>
          <a:custGeom>
            <a:avLst/>
            <a:gdLst>
              <a:gd name="textAreaLeft" fmla="*/ 0 w 897120"/>
              <a:gd name="textAreaRight" fmla="*/ 897480 w 897120"/>
              <a:gd name="textAreaTop" fmla="*/ 0 h 968400"/>
              <a:gd name="textAreaBottom" fmla="*/ 968760 h 968400"/>
            </a:gdLst>
            <a:ahLst/>
            <a:rect l="textAreaLeft" t="textAreaTop" r="textAreaRight" b="textAreaBottom"/>
            <a:pathLst>
              <a:path w="111" h="133">
                <a:moveTo>
                  <a:pt x="58" y="78"/>
                </a:moveTo>
                <a:lnTo>
                  <a:pt x="46" y="57"/>
                </a:lnTo>
                <a:lnTo>
                  <a:pt x="12" y="79"/>
                </a:lnTo>
                <a:lnTo>
                  <a:pt x="0" y="133"/>
                </a:lnTo>
                <a:lnTo>
                  <a:pt x="63" y="90"/>
                </a:lnTo>
                <a:lnTo>
                  <a:pt x="101" y="87"/>
                </a:lnTo>
                <a:lnTo>
                  <a:pt x="111" y="0"/>
                </a:lnTo>
                <a:cubicBezTo>
                  <a:pt x="111" y="0"/>
                  <a:pt x="86" y="75"/>
                  <a:pt x="86" y="73"/>
                </a:cubicBezTo>
                <a:cubicBezTo>
                  <a:pt x="86" y="71"/>
                  <a:pt x="72" y="29"/>
                  <a:pt x="72" y="29"/>
                </a:cubicBezTo>
                <a:lnTo>
                  <a:pt x="58" y="7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87"/>
          <p:cNvSpPr/>
          <p:nvPr/>
        </p:nvSpPr>
        <p:spPr>
          <a:xfrm>
            <a:off x="2300400" y="4946760"/>
            <a:ext cx="866520" cy="1077840"/>
          </a:xfrm>
          <a:custGeom>
            <a:avLst/>
            <a:gdLst>
              <a:gd name="textAreaLeft" fmla="*/ 0 w 866520"/>
              <a:gd name="textAreaRight" fmla="*/ 866880 w 866520"/>
              <a:gd name="textAreaTop" fmla="*/ 0 h 1077840"/>
              <a:gd name="textAreaBottom" fmla="*/ 1078200 h 1077840"/>
            </a:gdLst>
            <a:ahLst/>
            <a:rect l="textAreaLeft" t="textAreaTop" r="textAreaRight" b="textAreaBottom"/>
            <a:pathLst>
              <a:path w="107" h="148">
                <a:moveTo>
                  <a:pt x="81" y="0"/>
                </a:moveTo>
                <a:lnTo>
                  <a:pt x="39" y="40"/>
                </a:lnTo>
                <a:lnTo>
                  <a:pt x="51" y="71"/>
                </a:lnTo>
                <a:lnTo>
                  <a:pt x="0" y="102"/>
                </a:lnTo>
                <a:lnTo>
                  <a:pt x="3" y="148"/>
                </a:lnTo>
                <a:lnTo>
                  <a:pt x="45" y="143"/>
                </a:lnTo>
                <a:lnTo>
                  <a:pt x="13" y="109"/>
                </a:lnTo>
                <a:lnTo>
                  <a:pt x="58" y="79"/>
                </a:lnTo>
                <a:lnTo>
                  <a:pt x="107" y="50"/>
                </a:lnTo>
                <a:lnTo>
                  <a:pt x="65" y="63"/>
                </a:lnTo>
                <a:lnTo>
                  <a:pt x="51" y="36"/>
                </a:lnTo>
                <a:lnTo>
                  <a:pt x="8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89"/>
          <p:cNvSpPr/>
          <p:nvPr/>
        </p:nvSpPr>
        <p:spPr>
          <a:xfrm>
            <a:off x="990720" y="5595840"/>
            <a:ext cx="1157040" cy="574920"/>
          </a:xfrm>
          <a:custGeom>
            <a:avLst/>
            <a:gdLst>
              <a:gd name="textAreaLeft" fmla="*/ 0 w 1157040"/>
              <a:gd name="textAreaRight" fmla="*/ 1157400 w 115704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143" h="79">
                <a:moveTo>
                  <a:pt x="46" y="0"/>
                </a:moveTo>
                <a:lnTo>
                  <a:pt x="0" y="43"/>
                </a:lnTo>
                <a:lnTo>
                  <a:pt x="42" y="36"/>
                </a:lnTo>
                <a:lnTo>
                  <a:pt x="71" y="79"/>
                </a:lnTo>
                <a:lnTo>
                  <a:pt x="104" y="55"/>
                </a:lnTo>
                <a:lnTo>
                  <a:pt x="143" y="62"/>
                </a:lnTo>
                <a:lnTo>
                  <a:pt x="65" y="33"/>
                </a:lnTo>
                <a:lnTo>
                  <a:pt x="4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94"/>
          <p:cNvSpPr/>
          <p:nvPr/>
        </p:nvSpPr>
        <p:spPr>
          <a:xfrm>
            <a:off x="2058840" y="3343320"/>
            <a:ext cx="436680" cy="815760"/>
          </a:xfrm>
          <a:custGeom>
            <a:avLst/>
            <a:gdLst>
              <a:gd name="textAreaLeft" fmla="*/ 0 w 436680"/>
              <a:gd name="textAreaRight" fmla="*/ 437040 w 436680"/>
              <a:gd name="textAreaTop" fmla="*/ 0 h 815760"/>
              <a:gd name="textAreaBottom" fmla="*/ 816120 h 815760"/>
            </a:gdLst>
            <a:ahLst/>
            <a:rect l="textAreaLeft" t="textAreaTop" r="textAreaRight" b="textAreaBottom"/>
            <a:pathLst>
              <a:path w="54" h="112">
                <a:moveTo>
                  <a:pt x="54" y="0"/>
                </a:moveTo>
                <a:lnTo>
                  <a:pt x="53" y="51"/>
                </a:lnTo>
                <a:lnTo>
                  <a:pt x="25" y="55"/>
                </a:lnTo>
                <a:lnTo>
                  <a:pt x="0" y="112"/>
                </a:ln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72"/>
          <p:cNvSpPr/>
          <p:nvPr/>
        </p:nvSpPr>
        <p:spPr>
          <a:xfrm>
            <a:off x="2489040" y="1944720"/>
            <a:ext cx="1519560" cy="1274760"/>
          </a:xfrm>
          <a:custGeom>
            <a:avLst/>
            <a:gdLst>
              <a:gd name="textAreaLeft" fmla="*/ 0 w 1519560"/>
              <a:gd name="textAreaRight" fmla="*/ 1519920 w 1519560"/>
              <a:gd name="textAreaTop" fmla="*/ 0 h 1274760"/>
              <a:gd name="textAreaBottom" fmla="*/ 1274760 h 1274760"/>
            </a:gdLst>
            <a:ahLst/>
            <a:rect l="textAreaLeft" t="textAreaTop" r="textAreaRight" b="textAreaBottom"/>
            <a:pathLst>
              <a:path w="957" h="693">
                <a:moveTo>
                  <a:pt x="957" y="693"/>
                </a:moveTo>
                <a:lnTo>
                  <a:pt x="947" y="611"/>
                </a:lnTo>
                <a:lnTo>
                  <a:pt x="947" y="596"/>
                </a:lnTo>
                <a:lnTo>
                  <a:pt x="850" y="554"/>
                </a:lnTo>
                <a:lnTo>
                  <a:pt x="677" y="459"/>
                </a:lnTo>
                <a:lnTo>
                  <a:pt x="728" y="287"/>
                </a:lnTo>
                <a:lnTo>
                  <a:pt x="575" y="206"/>
                </a:lnTo>
                <a:lnTo>
                  <a:pt x="498" y="195"/>
                </a:lnTo>
                <a:lnTo>
                  <a:pt x="504" y="92"/>
                </a:lnTo>
                <a:lnTo>
                  <a:pt x="447" y="0"/>
                </a:lnTo>
                <a:lnTo>
                  <a:pt x="177" y="256"/>
                </a:lnTo>
                <a:lnTo>
                  <a:pt x="198" y="367"/>
                </a:lnTo>
                <a:lnTo>
                  <a:pt x="111" y="558"/>
                </a:lnTo>
                <a:lnTo>
                  <a:pt x="4" y="596"/>
                </a:lnTo>
                <a:lnTo>
                  <a:pt x="4" y="623"/>
                </a:lnTo>
                <a:lnTo>
                  <a:pt x="0" y="687"/>
                </a:lnTo>
                <a:lnTo>
                  <a:pt x="957" y="693"/>
                </a:lnTo>
                <a:close/>
              </a:path>
            </a:pathLst>
          </a:custGeom>
          <a:solidFill>
            <a:srgbClr val="eaeaea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53"/>
          <p:cNvGrpSpPr/>
          <p:nvPr/>
        </p:nvGrpSpPr>
        <p:grpSpPr>
          <a:xfrm>
            <a:off x="2889360" y="2392200"/>
            <a:ext cx="685800" cy="3324600"/>
            <a:chOff x="2889360" y="2392200"/>
            <a:chExt cx="685800" cy="3324600"/>
          </a:xfrm>
        </p:grpSpPr>
        <p:sp>
          <p:nvSpPr>
            <p:cNvPr id="205" name="Text Box 5"/>
            <p:cNvSpPr/>
            <p:nvPr/>
          </p:nvSpPr>
          <p:spPr>
            <a:xfrm>
              <a:off x="3080160" y="2392200"/>
              <a:ext cx="304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6"/>
            <p:cNvSpPr/>
            <p:nvPr/>
          </p:nvSpPr>
          <p:spPr>
            <a:xfrm>
              <a:off x="2889360" y="321480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7"/>
            <p:cNvSpPr/>
            <p:nvPr/>
          </p:nvSpPr>
          <p:spPr>
            <a:xfrm>
              <a:off x="2889360" y="391644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8"/>
            <p:cNvSpPr/>
            <p:nvPr/>
          </p:nvSpPr>
          <p:spPr>
            <a:xfrm>
              <a:off x="2889360" y="467820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000000"/>
                  </a:solidFill>
                  <a:latin typeface="Arial"/>
                </a:rPr>
                <a:t>3.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9"/>
            <p:cNvSpPr/>
            <p:nvPr/>
          </p:nvSpPr>
          <p:spPr>
            <a:xfrm>
              <a:off x="2889360" y="544032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000000"/>
                  </a:solidFill>
                  <a:latin typeface="Arial"/>
                </a:rPr>
                <a:t>30.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Freeform 74"/>
          <p:cNvSpPr/>
          <p:nvPr/>
        </p:nvSpPr>
        <p:spPr>
          <a:xfrm>
            <a:off x="3927600" y="3708360"/>
            <a:ext cx="663480" cy="852480"/>
          </a:xfrm>
          <a:custGeom>
            <a:avLst/>
            <a:gdLst>
              <a:gd name="textAreaLeft" fmla="*/ 0 w 663480"/>
              <a:gd name="textAreaRight" fmla="*/ 663840 w 663480"/>
              <a:gd name="textAreaTop" fmla="*/ 0 h 852480"/>
              <a:gd name="textAreaBottom" fmla="*/ 852840 h 852480"/>
            </a:gdLst>
            <a:ahLst/>
            <a:rect l="textAreaLeft" t="textAreaTop" r="textAreaRight" b="textAreaBottom"/>
            <a:pathLst>
              <a:path w="82" h="117">
                <a:moveTo>
                  <a:pt x="23" y="31"/>
                </a:moveTo>
                <a:lnTo>
                  <a:pt x="19" y="92"/>
                </a:lnTo>
                <a:lnTo>
                  <a:pt x="36" y="109"/>
                </a:lnTo>
                <a:lnTo>
                  <a:pt x="70" y="117"/>
                </a:lnTo>
                <a:lnTo>
                  <a:pt x="82" y="94"/>
                </a:lnTo>
                <a:cubicBezTo>
                  <a:pt x="67" y="89"/>
                  <a:pt x="56" y="88"/>
                  <a:pt x="56" y="88"/>
                </a:cubicBezTo>
                <a:lnTo>
                  <a:pt x="55" y="45"/>
                </a:lnTo>
                <a:lnTo>
                  <a:pt x="56" y="19"/>
                </a:lnTo>
                <a:lnTo>
                  <a:pt x="11" y="0"/>
                </a:lnTo>
                <a:lnTo>
                  <a:pt x="0" y="51"/>
                </a:lnTo>
                <a:lnTo>
                  <a:pt x="23" y="3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76"/>
          <p:cNvSpPr/>
          <p:nvPr/>
        </p:nvSpPr>
        <p:spPr>
          <a:xfrm>
            <a:off x="3481560" y="5114880"/>
            <a:ext cx="299880" cy="407880"/>
          </a:xfrm>
          <a:custGeom>
            <a:avLst/>
            <a:gdLst>
              <a:gd name="textAreaLeft" fmla="*/ 0 w 299880"/>
              <a:gd name="textAreaRight" fmla="*/ 300240 w 299880"/>
              <a:gd name="textAreaTop" fmla="*/ 0 h 407880"/>
              <a:gd name="textAreaBottom" fmla="*/ 408240 h 407880"/>
            </a:gdLst>
            <a:ahLst/>
            <a:rect l="textAreaLeft" t="textAreaTop" r="textAreaRight" b="textAreaBottom"/>
            <a:pathLst>
              <a:path w="37" h="56">
                <a:moveTo>
                  <a:pt x="21" y="0"/>
                </a:moveTo>
                <a:lnTo>
                  <a:pt x="0" y="30"/>
                </a:lnTo>
                <a:lnTo>
                  <a:pt x="37" y="56"/>
                </a:lnTo>
                <a:lnTo>
                  <a:pt x="2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77"/>
          <p:cNvSpPr/>
          <p:nvPr/>
        </p:nvSpPr>
        <p:spPr>
          <a:xfrm>
            <a:off x="4695840" y="4940280"/>
            <a:ext cx="817560" cy="968400"/>
          </a:xfrm>
          <a:custGeom>
            <a:avLst/>
            <a:gdLst>
              <a:gd name="textAreaLeft" fmla="*/ 0 w 817560"/>
              <a:gd name="textAreaRight" fmla="*/ 817920 w 817560"/>
              <a:gd name="textAreaTop" fmla="*/ 0 h 968400"/>
              <a:gd name="textAreaBottom" fmla="*/ 968760 h 968400"/>
            </a:gdLst>
            <a:ahLst/>
            <a:rect l="textAreaLeft" t="textAreaTop" r="textAreaRight" b="textAreaBottom"/>
            <a:pathLst>
              <a:path w="101" h="133">
                <a:moveTo>
                  <a:pt x="31" y="49"/>
                </a:moveTo>
                <a:lnTo>
                  <a:pt x="0" y="80"/>
                </a:lnTo>
                <a:lnTo>
                  <a:pt x="34" y="96"/>
                </a:lnTo>
                <a:lnTo>
                  <a:pt x="34" y="126"/>
                </a:lnTo>
                <a:lnTo>
                  <a:pt x="101" y="133"/>
                </a:lnTo>
                <a:lnTo>
                  <a:pt x="14" y="0"/>
                </a:lnTo>
                <a:lnTo>
                  <a:pt x="31" y="4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80"/>
          <p:cNvSpPr/>
          <p:nvPr/>
        </p:nvSpPr>
        <p:spPr>
          <a:xfrm>
            <a:off x="3287880" y="3227400"/>
            <a:ext cx="420480" cy="655560"/>
          </a:xfrm>
          <a:custGeom>
            <a:avLst/>
            <a:gdLst>
              <a:gd name="textAreaLeft" fmla="*/ 0 w 420480"/>
              <a:gd name="textAreaRight" fmla="*/ 420840 w 420480"/>
              <a:gd name="textAreaTop" fmla="*/ 0 h 655560"/>
              <a:gd name="textAreaBottom" fmla="*/ 655920 h 655560"/>
            </a:gdLst>
            <a:ahLst/>
            <a:rect l="textAreaLeft" t="textAreaTop" r="textAreaRight" b="textAreaBottom"/>
            <a:pathLst>
              <a:path w="52" h="90">
                <a:moveTo>
                  <a:pt x="22" y="16"/>
                </a:moveTo>
                <a:lnTo>
                  <a:pt x="23" y="40"/>
                </a:lnTo>
                <a:lnTo>
                  <a:pt x="47" y="58"/>
                </a:lnTo>
                <a:lnTo>
                  <a:pt x="30" y="90"/>
                </a:lnTo>
                <a:lnTo>
                  <a:pt x="52" y="59"/>
                </a:lnTo>
                <a:lnTo>
                  <a:pt x="34" y="41"/>
                </a:lnTo>
                <a:lnTo>
                  <a:pt x="30" y="14"/>
                </a:lnTo>
                <a:lnTo>
                  <a:pt x="20" y="0"/>
                </a:lnTo>
                <a:lnTo>
                  <a:pt x="0" y="0"/>
                </a:lnTo>
                <a:lnTo>
                  <a:pt x="22" y="1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82"/>
          <p:cNvSpPr/>
          <p:nvPr/>
        </p:nvSpPr>
        <p:spPr>
          <a:xfrm>
            <a:off x="3433680" y="3933720"/>
            <a:ext cx="598680" cy="911160"/>
          </a:xfrm>
          <a:custGeom>
            <a:avLst/>
            <a:gdLst>
              <a:gd name="textAreaLeft" fmla="*/ 0 w 598680"/>
              <a:gd name="textAreaRight" fmla="*/ 599040 w 598680"/>
              <a:gd name="textAreaTop" fmla="*/ 0 h 911160"/>
              <a:gd name="textAreaBottom" fmla="*/ 911520 h 911160"/>
            </a:gdLst>
            <a:ahLst/>
            <a:rect l="textAreaLeft" t="textAreaTop" r="textAreaRight" b="textAreaBottom"/>
            <a:pathLst>
              <a:path w="74" h="125">
                <a:moveTo>
                  <a:pt x="7" y="125"/>
                </a:moveTo>
                <a:lnTo>
                  <a:pt x="0" y="86"/>
                </a:lnTo>
                <a:lnTo>
                  <a:pt x="35" y="70"/>
                </a:lnTo>
                <a:lnTo>
                  <a:pt x="4" y="36"/>
                </a:lnTo>
                <a:lnTo>
                  <a:pt x="6" y="0"/>
                </a:lnTo>
                <a:lnTo>
                  <a:pt x="15" y="30"/>
                </a:lnTo>
                <a:lnTo>
                  <a:pt x="74" y="67"/>
                </a:lnTo>
                <a:lnTo>
                  <a:pt x="20" y="94"/>
                </a:lnTo>
                <a:lnTo>
                  <a:pt x="7" y="12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83"/>
          <p:cNvSpPr/>
          <p:nvPr/>
        </p:nvSpPr>
        <p:spPr>
          <a:xfrm>
            <a:off x="3975120" y="4670280"/>
            <a:ext cx="720720" cy="909720"/>
          </a:xfrm>
          <a:custGeom>
            <a:avLst/>
            <a:gdLst>
              <a:gd name="textAreaLeft" fmla="*/ 0 w 720720"/>
              <a:gd name="textAreaRight" fmla="*/ 721080 w 720720"/>
              <a:gd name="textAreaTop" fmla="*/ 0 h 909720"/>
              <a:gd name="textAreaBottom" fmla="*/ 910080 h 909720"/>
            </a:gdLst>
            <a:ahLst/>
            <a:rect l="textAreaLeft" t="textAreaTop" r="textAreaRight" b="textAreaBottom"/>
            <a:pathLst>
              <a:path w="89" h="125">
                <a:moveTo>
                  <a:pt x="50" y="125"/>
                </a:moveTo>
                <a:lnTo>
                  <a:pt x="58" y="86"/>
                </a:lnTo>
                <a:lnTo>
                  <a:pt x="23" y="70"/>
                </a:lnTo>
                <a:lnTo>
                  <a:pt x="89" y="32"/>
                </a:lnTo>
                <a:lnTo>
                  <a:pt x="52" y="0"/>
                </a:lnTo>
                <a:lnTo>
                  <a:pt x="58" y="29"/>
                </a:lnTo>
                <a:lnTo>
                  <a:pt x="0" y="71"/>
                </a:lnTo>
                <a:lnTo>
                  <a:pt x="70" y="87"/>
                </a:lnTo>
                <a:lnTo>
                  <a:pt x="50" y="12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88"/>
          <p:cNvSpPr/>
          <p:nvPr/>
        </p:nvSpPr>
        <p:spPr>
          <a:xfrm>
            <a:off x="3441600" y="5143680"/>
            <a:ext cx="865440" cy="793440"/>
          </a:xfrm>
          <a:custGeom>
            <a:avLst/>
            <a:gdLst>
              <a:gd name="textAreaLeft" fmla="*/ 0 w 865440"/>
              <a:gd name="textAreaRight" fmla="*/ 865800 w 865440"/>
              <a:gd name="textAreaTop" fmla="*/ 0 h 793440"/>
              <a:gd name="textAreaBottom" fmla="*/ 793800 h 793440"/>
            </a:gdLst>
            <a:ahLst/>
            <a:rect l="textAreaLeft" t="textAreaTop" r="textAreaRight" b="textAreaBottom"/>
            <a:pathLst>
              <a:path w="107" h="109">
                <a:moveTo>
                  <a:pt x="0" y="109"/>
                </a:moveTo>
                <a:lnTo>
                  <a:pt x="34" y="109"/>
                </a:lnTo>
                <a:lnTo>
                  <a:pt x="66" y="88"/>
                </a:lnTo>
                <a:lnTo>
                  <a:pt x="77" y="103"/>
                </a:lnTo>
                <a:lnTo>
                  <a:pt x="107" y="99"/>
                </a:lnTo>
                <a:cubicBezTo>
                  <a:pt x="107" y="99"/>
                  <a:pt x="77" y="81"/>
                  <a:pt x="78" y="73"/>
                </a:cubicBezTo>
                <a:cubicBezTo>
                  <a:pt x="80" y="64"/>
                  <a:pt x="85" y="23"/>
                  <a:pt x="85" y="23"/>
                </a:cubicBezTo>
                <a:lnTo>
                  <a:pt x="48" y="0"/>
                </a:lnTo>
                <a:lnTo>
                  <a:pt x="65" y="31"/>
                </a:lnTo>
                <a:lnTo>
                  <a:pt x="54" y="93"/>
                </a:lnTo>
                <a:lnTo>
                  <a:pt x="33" y="95"/>
                </a:lnTo>
                <a:lnTo>
                  <a:pt x="19" y="97"/>
                </a:lnTo>
                <a:lnTo>
                  <a:pt x="0" y="10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95"/>
          <p:cNvSpPr/>
          <p:nvPr/>
        </p:nvSpPr>
        <p:spPr>
          <a:xfrm>
            <a:off x="3975120" y="3686040"/>
            <a:ext cx="615960" cy="706680"/>
          </a:xfrm>
          <a:custGeom>
            <a:avLst/>
            <a:gdLst>
              <a:gd name="textAreaLeft" fmla="*/ 0 w 615960"/>
              <a:gd name="textAreaRight" fmla="*/ 616320 w 615960"/>
              <a:gd name="textAreaTop" fmla="*/ 0 h 706680"/>
              <a:gd name="textAreaBottom" fmla="*/ 707040 h 706680"/>
            </a:gdLst>
            <a:ahLst/>
            <a:rect l="textAreaLeft" t="textAreaTop" r="textAreaRight" b="textAreaBottom"/>
            <a:pathLst>
              <a:path w="76" h="97">
                <a:moveTo>
                  <a:pt x="0" y="0"/>
                </a:moveTo>
                <a:lnTo>
                  <a:pt x="49" y="22"/>
                </a:lnTo>
                <a:lnTo>
                  <a:pt x="50" y="91"/>
                </a:lnTo>
                <a:lnTo>
                  <a:pt x="76" y="97"/>
                </a:ln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98"/>
          <p:cNvSpPr/>
          <p:nvPr/>
        </p:nvSpPr>
        <p:spPr>
          <a:xfrm>
            <a:off x="1000080" y="3154320"/>
            <a:ext cx="8064720" cy="6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C0253-31C0-495F-9874-67C9A445F51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222200" y="2476440"/>
            <a:ext cx="69343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347480"/>
            <a:ext cx="7772400" cy="44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DE OORZAKEN/GEVOLGENREEKS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7DD70-FF4C-45C0-880B-5804A37C75D9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" descr="afb2_4"/>
          <p:cNvPicPr/>
          <p:nvPr/>
        </p:nvPicPr>
        <p:blipFill>
          <a:blip r:embed="rId1"/>
          <a:stretch/>
        </p:blipFill>
        <p:spPr>
          <a:xfrm>
            <a:off x="979560" y="2743200"/>
            <a:ext cx="8164440" cy="37432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"/>
          <p:cNvPicPr/>
          <p:nvPr/>
        </p:nvPicPr>
        <p:blipFill>
          <a:blip r:embed="rId2"/>
          <a:stretch/>
        </p:blipFill>
        <p:spPr>
          <a:xfrm>
            <a:off x="1384200" y="2989440"/>
            <a:ext cx="6531120" cy="23540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5"/>
          <p:cNvSpPr/>
          <p:nvPr/>
        </p:nvSpPr>
        <p:spPr>
          <a:xfrm>
            <a:off x="2800440" y="228600"/>
            <a:ext cx="579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1562040" y="25416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F6911-B07C-4B37-BBB3-B81C194D2A7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"/>
          <p:cNvSpPr/>
          <p:nvPr/>
        </p:nvSpPr>
        <p:spPr>
          <a:xfrm>
            <a:off x="120672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3722040" y="1415880"/>
            <a:ext cx="190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00000"/>
                </a:solidFill>
                <a:latin typeface="Arial"/>
              </a:rPr>
              <a:t>PREVEN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966960" y="2278080"/>
            <a:ext cx="5636880" cy="30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gevallen/incidenten voorkomen do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orkomen va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veili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ndel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orkomen van onveilige situa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atregel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v. taak- of werkomschrijving, toez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e en voorlich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8"/>
          <p:cNvSpPr/>
          <p:nvPr/>
        </p:nvSpPr>
        <p:spPr>
          <a:xfrm>
            <a:off x="993600" y="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9" descr=""/>
          <p:cNvPicPr/>
          <p:nvPr/>
        </p:nvPicPr>
        <p:blipFill>
          <a:blip r:embed="rId1"/>
          <a:stretch/>
        </p:blipFill>
        <p:spPr>
          <a:xfrm>
            <a:off x="6404040" y="2805120"/>
            <a:ext cx="2495520" cy="378144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6"/>
          <p:cNvSpPr/>
          <p:nvPr/>
        </p:nvSpPr>
        <p:spPr>
          <a:xfrm>
            <a:off x="1562040" y="2412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720" y="1176480"/>
            <a:ext cx="777240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GEVOLGEN ONGEVALSTHEORIE</a:t>
            </a:r>
            <a:r>
              <a:rPr b="1" lang="en-US" sz="2400" spc="-1" strike="noStrike">
                <a:solidFill>
                  <a:srgbClr val="860038"/>
                </a:solidFill>
                <a:latin typeface="Arial"/>
                <a:ea typeface="Arial"/>
              </a:rPr>
              <a:t>Ë</a:t>
            </a: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N </a:t>
            </a:r>
            <a:br>
              <a:rPr sz="2400"/>
            </a:b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OOR ARBOBELEID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019160" y="2052360"/>
            <a:ext cx="77724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Jsbergtheorie: rol leidinggevende bij voorkomen v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veilige handel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veilige situa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rzaken/gevolgenree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gevallen/incidenten hebben verscheidene oorza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Conclusi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er een structureel Arbobel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erin spelen direct leidinggevenden en management een 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FB00A-76CB-48D7-AC4B-B1E075687A2A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2800440" y="228600"/>
            <a:ext cx="579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984240"/>
            <a:ext cx="77724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AKEN VAN MANAGEMENT BETREFFENDE ARBOBELEID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027080" y="20016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uctureren van Arbobel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legeren van taken en bevoegdheden (aan leidinggevend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Taken direct Leidinggeve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zicht hou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en van voorlichting en instruc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ystematisch rapporteren van (bijna)ongeva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geven van gesignaleerde problemen en klachte</a:t>
            </a:r>
            <a:r>
              <a:rPr b="0" lang="nl-NL" sz="24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63E85-1938-45AE-BDD7-0DB7382B3237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2800440" y="22860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30320" y="1316160"/>
            <a:ext cx="8067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ONGEVALLENONDERZOEK EN -REGISTRATI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033560" y="209880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en ongevallenonderzo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lke factoren zijn oorzaak ongev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richt op voorkomen ongeva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gevallen melden a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drachtge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recte che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spectie SZW  (ernstige ongevall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96960" indent="-3405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ituatie niet wijz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68A47-B4F6-467A-8842-1F4C6423421E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1179360"/>
            <a:ext cx="7772400" cy="4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ASPECTEN ONGEVALLENONDERZOEK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359000" y="1874520"/>
            <a:ext cx="655776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. Onderzoek ter plekke van ongev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 Bewijsmateriaal bewa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 Interviewen getuigen/betrokk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 Analyse onderzoeksresult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 Eindrapport (conclusies/aanbeveling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BD6BC-AC5A-4814-AF67-AFDFA12AC20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2800440" y="22860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961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ONGEVALLENREGISTRATI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125360" y="1476000"/>
            <a:ext cx="6274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langrij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stleggen gegevens voor bel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doen aan wettelijke ei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om ongevallen te voork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scheid ongevall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eidsongeva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keersongeva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ivé-ongeva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4B74B-7175-4148-8856-36C5A0F65E0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2800440" y="22860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1422360"/>
            <a:ext cx="7772400" cy="4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OOK REGISTRATIE VAN: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2689200" y="1869840"/>
            <a:ext cx="5486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lieu-incide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adegeva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/explos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1B2B3-528A-4F2F-858C-7F9190105E30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4FC5D-0522-41B8-9D01-35F8079DDE76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ijdelijke aanduiding voor voettekst 1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kstvak 3"/>
          <p:cNvSpPr/>
          <p:nvPr/>
        </p:nvSpPr>
        <p:spPr>
          <a:xfrm>
            <a:off x="1015920" y="1535040"/>
            <a:ext cx="753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ak Risico Analyse 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RI&amp;E op projectnive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kstvak 4"/>
          <p:cNvSpPr/>
          <p:nvPr/>
        </p:nvSpPr>
        <p:spPr>
          <a:xfrm>
            <a:off x="928800" y="2054160"/>
            <a:ext cx="797544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rt werkvoorberei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alyse van de gevar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 uitvoering van risicovolle taken of   bij werken in risicovolle omgev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 en de gezondheid van werknem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isico’s te analyseren en te evaluer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spreken van juiste beheersmaatreg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kstvak 6"/>
          <p:cNvSpPr/>
          <p:nvPr/>
        </p:nvSpPr>
        <p:spPr>
          <a:xfrm>
            <a:off x="3604680" y="914400"/>
            <a:ext cx="22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00000"/>
                </a:solidFill>
                <a:latin typeface="Arial"/>
              </a:rPr>
              <a:t>TRA en LM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993600" y="0"/>
            <a:ext cx="8077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23760" y="820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WERKWIJZE BIJ TAAK - RISICOANALYS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865160" y="1701720"/>
            <a:ext cx="598176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WERK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BEPALEN VAN RIS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ELIMINEREN OF VERVANGEN VAN HOOG RIS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WERKVOORBEREI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OPSTELLEN TAAK - RISICOANALY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COMMUNIC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UITVO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EVALU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E107C-32F2-43B8-BDB2-F89F28719A07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1380960" y="1892160"/>
            <a:ext cx="6782040" cy="3636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63504" dir="2216091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1380960" y="2473200"/>
            <a:ext cx="6782040" cy="3636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1380960" y="3054240"/>
            <a:ext cx="6782040" cy="3636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1380960" y="3635280"/>
            <a:ext cx="6782040" cy="3654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1380960" y="4216320"/>
            <a:ext cx="6782040" cy="3650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8"/>
          <p:cNvSpPr/>
          <p:nvPr/>
        </p:nvSpPr>
        <p:spPr>
          <a:xfrm>
            <a:off x="1380960" y="4799160"/>
            <a:ext cx="6782040" cy="3632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9"/>
          <p:cNvSpPr/>
          <p:nvPr/>
        </p:nvSpPr>
        <p:spPr>
          <a:xfrm>
            <a:off x="1380960" y="5380200"/>
            <a:ext cx="6782040" cy="3632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0"/>
          <p:cNvSpPr/>
          <p:nvPr/>
        </p:nvSpPr>
        <p:spPr>
          <a:xfrm>
            <a:off x="1380960" y="5961240"/>
            <a:ext cx="6782040" cy="3632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0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31"/>
          <p:cNvGrpSpPr/>
          <p:nvPr/>
        </p:nvGrpSpPr>
        <p:grpSpPr>
          <a:xfrm>
            <a:off x="3875040" y="2268360"/>
            <a:ext cx="1749600" cy="3664080"/>
            <a:chOff x="3875040" y="2268360"/>
            <a:chExt cx="1749600" cy="3664080"/>
          </a:xfrm>
        </p:grpSpPr>
        <p:sp>
          <p:nvSpPr>
            <p:cNvPr id="290" name="AutoShape 22"/>
            <p:cNvSpPr/>
            <p:nvPr/>
          </p:nvSpPr>
          <p:spPr>
            <a:xfrm>
              <a:off x="3887640" y="2268360"/>
              <a:ext cx="1730520" cy="182880"/>
            </a:xfrm>
            <a:prstGeom prst="flowChartMerg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AutoShape 24"/>
            <p:cNvSpPr/>
            <p:nvPr/>
          </p:nvSpPr>
          <p:spPr>
            <a:xfrm>
              <a:off x="3884760" y="2851200"/>
              <a:ext cx="1730160" cy="182520"/>
            </a:xfrm>
            <a:prstGeom prst="flowChartMerg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AutoShape 25"/>
            <p:cNvSpPr/>
            <p:nvPr/>
          </p:nvSpPr>
          <p:spPr>
            <a:xfrm>
              <a:off x="3892680" y="3422520"/>
              <a:ext cx="1730160" cy="182520"/>
            </a:xfrm>
            <a:prstGeom prst="flowChartMerg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AutoShape 26"/>
            <p:cNvSpPr/>
            <p:nvPr/>
          </p:nvSpPr>
          <p:spPr>
            <a:xfrm>
              <a:off x="3887640" y="4011480"/>
              <a:ext cx="1730520" cy="182520"/>
            </a:xfrm>
            <a:prstGeom prst="flowChartMerg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AutoShape 27"/>
            <p:cNvSpPr/>
            <p:nvPr/>
          </p:nvSpPr>
          <p:spPr>
            <a:xfrm>
              <a:off x="3892680" y="4591080"/>
              <a:ext cx="1730160" cy="182520"/>
            </a:xfrm>
            <a:prstGeom prst="flowChartMerg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AutoShape 28"/>
            <p:cNvSpPr/>
            <p:nvPr/>
          </p:nvSpPr>
          <p:spPr>
            <a:xfrm>
              <a:off x="3875040" y="5170320"/>
              <a:ext cx="1730520" cy="182880"/>
            </a:xfrm>
            <a:prstGeom prst="flowChartMerg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AutoShape 29"/>
            <p:cNvSpPr/>
            <p:nvPr/>
          </p:nvSpPr>
          <p:spPr>
            <a:xfrm>
              <a:off x="3894120" y="5749920"/>
              <a:ext cx="1730520" cy="182520"/>
            </a:xfrm>
            <a:prstGeom prst="flowChartMerg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44320" y="923760"/>
            <a:ext cx="6219720" cy="57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GRONDBEGINSELEN ARBOWET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15920" y="1844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 goed mogelijk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zond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lzij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nadelige invloed vanuit arbeid, and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vaar bij bron bestrij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scher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soonlijke beschermingsmidd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delijkerwijs haalbaar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chn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rganisator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conom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5A07C-538E-45C8-AB27-25FC083EFECB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- en milieuwetgeving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365200" y="995040"/>
            <a:ext cx="591192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RAJECT RISICOBEHEERS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1514160" y="1401840"/>
            <a:ext cx="106668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J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5DB60-ED04-473B-B3C2-FB5AA8D475CE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4"/>
          <p:cNvSpPr/>
          <p:nvPr/>
        </p:nvSpPr>
        <p:spPr>
          <a:xfrm>
            <a:off x="1252440" y="1319040"/>
            <a:ext cx="1579680" cy="530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5"/>
          <p:cNvSpPr/>
          <p:nvPr/>
        </p:nvSpPr>
        <p:spPr>
          <a:xfrm>
            <a:off x="1162080" y="2898720"/>
            <a:ext cx="1752480" cy="685800"/>
          </a:xfrm>
          <a:prstGeom prst="diamond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6"/>
          <p:cNvSpPr/>
          <p:nvPr/>
        </p:nvSpPr>
        <p:spPr>
          <a:xfrm>
            <a:off x="1173240" y="3836880"/>
            <a:ext cx="1752480" cy="685800"/>
          </a:xfrm>
          <a:prstGeom prst="diamond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7"/>
          <p:cNvSpPr/>
          <p:nvPr/>
        </p:nvSpPr>
        <p:spPr>
          <a:xfrm>
            <a:off x="1149480" y="4703760"/>
            <a:ext cx="1752480" cy="685800"/>
          </a:xfrm>
          <a:prstGeom prst="diamond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40186" dir="4303641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9"/>
          <p:cNvSpPr/>
          <p:nvPr/>
        </p:nvSpPr>
        <p:spPr>
          <a:xfrm>
            <a:off x="1157400" y="5977080"/>
            <a:ext cx="1828800" cy="30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0"/>
          <p:cNvSpPr/>
          <p:nvPr/>
        </p:nvSpPr>
        <p:spPr>
          <a:xfrm>
            <a:off x="7045200" y="5653080"/>
            <a:ext cx="1676520" cy="3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1"/>
          <p:cNvSpPr/>
          <p:nvPr/>
        </p:nvSpPr>
        <p:spPr>
          <a:xfrm>
            <a:off x="4084560" y="5477040"/>
            <a:ext cx="2665440" cy="623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2"/>
          <p:cNvSpPr/>
          <p:nvPr/>
        </p:nvSpPr>
        <p:spPr>
          <a:xfrm>
            <a:off x="1303200" y="21337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pdelen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taakstap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3"/>
          <p:cNvSpPr/>
          <p:nvPr/>
        </p:nvSpPr>
        <p:spPr>
          <a:xfrm>
            <a:off x="1338120" y="306396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Beheerst v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procedur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1333440" y="4019400"/>
            <a:ext cx="1447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isico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bepa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1351080" y="4857840"/>
            <a:ext cx="1447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pstell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isico-analy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4162320" y="5502240"/>
            <a:ext cx="2535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Communicatie van risico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en beheersmaatregel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1141560" y="5986440"/>
            <a:ext cx="1830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Heroverwe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8"/>
          <p:cNvSpPr/>
          <p:nvPr/>
        </p:nvSpPr>
        <p:spPr>
          <a:xfrm>
            <a:off x="7002360" y="5654520"/>
            <a:ext cx="177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Uitvo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9"/>
          <p:cNvSpPr/>
          <p:nvPr/>
        </p:nvSpPr>
        <p:spPr>
          <a:xfrm>
            <a:off x="2862360" y="4768920"/>
            <a:ext cx="1904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isico’s beheersba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0"/>
          <p:cNvSpPr/>
          <p:nvPr/>
        </p:nvSpPr>
        <p:spPr>
          <a:xfrm>
            <a:off x="2862360" y="3889440"/>
            <a:ext cx="622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la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1"/>
          <p:cNvSpPr/>
          <p:nvPr/>
        </p:nvSpPr>
        <p:spPr>
          <a:xfrm>
            <a:off x="2897280" y="296244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2"/>
          <p:cNvSpPr/>
          <p:nvPr/>
        </p:nvSpPr>
        <p:spPr>
          <a:xfrm>
            <a:off x="2089080" y="35686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n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3"/>
          <p:cNvSpPr/>
          <p:nvPr/>
        </p:nvSpPr>
        <p:spPr>
          <a:xfrm>
            <a:off x="2100240" y="447048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ho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29"/>
          <p:cNvSpPr/>
          <p:nvPr/>
        </p:nvSpPr>
        <p:spPr>
          <a:xfrm>
            <a:off x="1098720" y="5560920"/>
            <a:ext cx="2219040" cy="228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isico’s  niet beheersba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30"/>
          <p:cNvSpPr/>
          <p:nvPr/>
        </p:nvSpPr>
        <p:spPr>
          <a:xfrm>
            <a:off x="6762600" y="5818320"/>
            <a:ext cx="30492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31"/>
          <p:cNvSpPr/>
          <p:nvPr/>
        </p:nvSpPr>
        <p:spPr>
          <a:xfrm flipH="1">
            <a:off x="5306760" y="3262320"/>
            <a:ext cx="11160" cy="22255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33"/>
          <p:cNvSpPr/>
          <p:nvPr/>
        </p:nvSpPr>
        <p:spPr>
          <a:xfrm>
            <a:off x="2879640" y="3241800"/>
            <a:ext cx="243864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34"/>
          <p:cNvSpPr/>
          <p:nvPr/>
        </p:nvSpPr>
        <p:spPr>
          <a:xfrm>
            <a:off x="2867040" y="4181400"/>
            <a:ext cx="243828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35"/>
          <p:cNvSpPr/>
          <p:nvPr/>
        </p:nvSpPr>
        <p:spPr>
          <a:xfrm>
            <a:off x="2890800" y="5045040"/>
            <a:ext cx="243828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37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47"/>
          <p:cNvSpPr/>
          <p:nvPr/>
        </p:nvSpPr>
        <p:spPr>
          <a:xfrm>
            <a:off x="1917720" y="5853240"/>
            <a:ext cx="130320" cy="17784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49"/>
          <p:cNvSpPr/>
          <p:nvPr/>
        </p:nvSpPr>
        <p:spPr>
          <a:xfrm>
            <a:off x="1251000" y="2089080"/>
            <a:ext cx="1579680" cy="530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50"/>
          <p:cNvSpPr/>
          <p:nvPr/>
        </p:nvSpPr>
        <p:spPr>
          <a:xfrm flipV="1">
            <a:off x="1990800" y="5783400"/>
            <a:ext cx="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52"/>
          <p:cNvGrpSpPr/>
          <p:nvPr/>
        </p:nvGrpSpPr>
        <p:grpSpPr>
          <a:xfrm>
            <a:off x="1976400" y="1780920"/>
            <a:ext cx="141120" cy="352800"/>
            <a:chOff x="1976400" y="1780920"/>
            <a:chExt cx="141120" cy="352800"/>
          </a:xfrm>
        </p:grpSpPr>
        <p:sp>
          <p:nvSpPr>
            <p:cNvPr id="331" name="AutoShape 44"/>
            <p:cNvSpPr/>
            <p:nvPr/>
          </p:nvSpPr>
          <p:spPr>
            <a:xfrm>
              <a:off x="1976400" y="1956240"/>
              <a:ext cx="141120" cy="177480"/>
            </a:xfrm>
            <a:prstGeom prst="flowChartMerg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Line 51"/>
            <p:cNvSpPr/>
            <p:nvPr/>
          </p:nvSpPr>
          <p:spPr>
            <a:xfrm flipV="1">
              <a:off x="2049480" y="1780920"/>
              <a:ext cx="0" cy="273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Group 53"/>
          <p:cNvGrpSpPr/>
          <p:nvPr/>
        </p:nvGrpSpPr>
        <p:grpSpPr>
          <a:xfrm>
            <a:off x="1973160" y="2622240"/>
            <a:ext cx="141120" cy="352800"/>
            <a:chOff x="1973160" y="2622240"/>
            <a:chExt cx="141120" cy="352800"/>
          </a:xfrm>
        </p:grpSpPr>
        <p:sp>
          <p:nvSpPr>
            <p:cNvPr id="334" name="AutoShape 54"/>
            <p:cNvSpPr/>
            <p:nvPr/>
          </p:nvSpPr>
          <p:spPr>
            <a:xfrm>
              <a:off x="1973160" y="2797560"/>
              <a:ext cx="141120" cy="177480"/>
            </a:xfrm>
            <a:prstGeom prst="flowChartMerg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55"/>
            <p:cNvSpPr/>
            <p:nvPr/>
          </p:nvSpPr>
          <p:spPr>
            <a:xfrm flipV="1">
              <a:off x="2046240" y="2622240"/>
              <a:ext cx="0" cy="273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56"/>
          <p:cNvGrpSpPr/>
          <p:nvPr/>
        </p:nvGrpSpPr>
        <p:grpSpPr>
          <a:xfrm>
            <a:off x="1962000" y="3549240"/>
            <a:ext cx="141120" cy="352800"/>
            <a:chOff x="1962000" y="3549240"/>
            <a:chExt cx="141120" cy="352800"/>
          </a:xfrm>
        </p:grpSpPr>
        <p:sp>
          <p:nvSpPr>
            <p:cNvPr id="337" name="AutoShape 57"/>
            <p:cNvSpPr/>
            <p:nvPr/>
          </p:nvSpPr>
          <p:spPr>
            <a:xfrm>
              <a:off x="1962000" y="3724560"/>
              <a:ext cx="141120" cy="177480"/>
            </a:xfrm>
            <a:prstGeom prst="flowChartMerg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58"/>
            <p:cNvSpPr/>
            <p:nvPr/>
          </p:nvSpPr>
          <p:spPr>
            <a:xfrm flipV="1">
              <a:off x="2035080" y="3549240"/>
              <a:ext cx="0" cy="273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59"/>
          <p:cNvGrpSpPr/>
          <p:nvPr/>
        </p:nvGrpSpPr>
        <p:grpSpPr>
          <a:xfrm>
            <a:off x="1962000" y="4462200"/>
            <a:ext cx="141120" cy="352800"/>
            <a:chOff x="1962000" y="4462200"/>
            <a:chExt cx="141120" cy="352800"/>
          </a:xfrm>
        </p:grpSpPr>
        <p:sp>
          <p:nvSpPr>
            <p:cNvPr id="340" name="AutoShape 60"/>
            <p:cNvSpPr/>
            <p:nvPr/>
          </p:nvSpPr>
          <p:spPr>
            <a:xfrm>
              <a:off x="1962000" y="4637520"/>
              <a:ext cx="141120" cy="177480"/>
            </a:xfrm>
            <a:prstGeom prst="flowChartMerg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61"/>
            <p:cNvSpPr/>
            <p:nvPr/>
          </p:nvSpPr>
          <p:spPr>
            <a:xfrm flipV="1">
              <a:off x="2035080" y="4462200"/>
              <a:ext cx="0" cy="273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Line 62"/>
          <p:cNvSpPr/>
          <p:nvPr/>
        </p:nvSpPr>
        <p:spPr>
          <a:xfrm>
            <a:off x="2001960" y="5391000"/>
            <a:ext cx="0" cy="190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AA138-DB78-453C-B376-43EA3E9C4733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ijdelijke aanduiding voor voettekst 1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kstvak 4"/>
          <p:cNvSpPr/>
          <p:nvPr/>
        </p:nvSpPr>
        <p:spPr>
          <a:xfrm>
            <a:off x="1015920" y="2147760"/>
            <a:ext cx="602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atste minuut risico analyse  (LM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kstvak 6"/>
          <p:cNvSpPr/>
          <p:nvPr/>
        </p:nvSpPr>
        <p:spPr>
          <a:xfrm>
            <a:off x="863640" y="3005280"/>
            <a:ext cx="521352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LMRA  of Start Werk Analy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itvoeren voor je echt aan het werk ga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orte risico controle en “zelf chec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rst denken dan pas do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993600" y="0"/>
            <a:ext cx="80773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kstvak 6"/>
          <p:cNvSpPr/>
          <p:nvPr/>
        </p:nvSpPr>
        <p:spPr>
          <a:xfrm>
            <a:off x="3604680" y="914400"/>
            <a:ext cx="22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00000"/>
                </a:solidFill>
                <a:latin typeface="Arial"/>
              </a:rPr>
              <a:t>TRA en LM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77760" y="8316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LINE SAFETY MEET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030320" y="1490400"/>
            <a:ext cx="7910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spreken van risico’s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óó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de aanvang van het 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kick-off mee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79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 gehele werk (risico’s, beheersmaatregelen, interac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rtwerkmee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79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oor leidinggevenden, gericht op komende werkd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hiftoverdrac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79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 ploegendiens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de werkpl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79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v. toolbox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7BBCA-96EC-4FC7-BBA4-935B84E6295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4223880" y="2265480"/>
            <a:ext cx="403380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beïnvloeding van gedr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80CFF-F40D-4A2C-9A1B-0A08319A83CA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2" descr="afb3_1"/>
          <p:cNvPicPr/>
          <p:nvPr/>
        </p:nvPicPr>
        <p:blipFill>
          <a:blip r:embed="rId1"/>
          <a:stretch/>
        </p:blipFill>
        <p:spPr>
          <a:xfrm>
            <a:off x="993600" y="1144440"/>
            <a:ext cx="8150400" cy="536256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4"/>
          <p:cNvSpPr/>
          <p:nvPr/>
        </p:nvSpPr>
        <p:spPr>
          <a:xfrm>
            <a:off x="900000" y="1144440"/>
            <a:ext cx="777240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SCHEMATISCHE VOORSTELLING VAN DE VIER STRATEGIE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1638360" y="234144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4 strategieë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1427040" y="3273480"/>
            <a:ext cx="27403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eaeaea"/>
                </a:solidFill>
                <a:latin typeface="Arial"/>
              </a:rPr>
              <a:t>M.b.t. veilig werk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7"/>
          <p:cNvSpPr/>
          <p:nvPr/>
        </p:nvSpPr>
        <p:spPr>
          <a:xfrm>
            <a:off x="1857240" y="3665520"/>
            <a:ext cx="68659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. Benadruk succes van veilig gedr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2. Verminder nadelen van veilig gedr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8"/>
          <p:cNvSpPr/>
          <p:nvPr/>
        </p:nvSpPr>
        <p:spPr>
          <a:xfrm>
            <a:off x="1413000" y="4827600"/>
            <a:ext cx="29718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eaeaea"/>
                </a:solidFill>
                <a:latin typeface="Arial"/>
              </a:rPr>
              <a:t>M.b.t. </a:t>
            </a:r>
            <a:r>
              <a:rPr b="1" lang="nl-NL" sz="1600" spc="-1" strike="noStrike">
                <a:solidFill>
                  <a:srgbClr val="eaeaea"/>
                </a:solidFill>
                <a:latin typeface="Arial"/>
              </a:rPr>
              <a:t>onveilig werk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9"/>
          <p:cNvSpPr/>
          <p:nvPr/>
        </p:nvSpPr>
        <p:spPr>
          <a:xfrm>
            <a:off x="1857240" y="5219640"/>
            <a:ext cx="68659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3. Verduidelijk gevolgen van onveilig wer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4. Bemoeilijk mogelijkheden van onveilig wer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REGELS EN PROCEDURES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038240" y="27428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 = richtlijn voor gedrag en han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ocedure = chronologisch stappenplan met acties/ handelingen en beslismomente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sequent, Veilig en Efficiënt uit te vo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reven in handboeken, beschikbaar voor iedere medewe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handeld in voorlichting en Instructieprogramma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F7EA8-B92C-4CC9-9652-C431C15D9C9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ALGEMENE VEILIGHEIDSREGELS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03824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de gehele organisati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igen persone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reffen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/afmel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keersreg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lden ongeval, brand en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e te handelen bij alarm en evacu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ar een werkvergunning vereist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6AE6-F3E5-4107-8E90-A52047CAD5D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62120" y="11332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SPECIFIEKE VEILIGHEIDSREGELS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011240" y="1677600"/>
            <a:ext cx="8067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taken, functies en werkzaamheden m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hoogd ris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reffen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bruik aanvullende persoonlijke beschermingsmidd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bruik bijzonder(e) gereedschap/apparatuur en werktu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laatsen afscherming, markering en gebruik beveilig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85F22-7615-4E07-8388-AE526B8E3887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74720" y="12700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DOEL BEDRIJFSHULPVERLENINGSPLA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011240" y="2292120"/>
            <a:ext cx="8067600" cy="27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bereiden op noodsitua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cidenten bestrij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achtoffers voorkomen en beper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achtoffers hel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nemers maar ook bezoekers moeten op de hoogte zij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37D49-FCFD-4D24-A30B-9807DD448C6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77760" y="74880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860038"/>
                </a:solidFill>
                <a:latin typeface="Arial"/>
              </a:rPr>
              <a:t>INHOUD BEDRIJFSHULPVERLENINGSPLAN</a:t>
            </a:r>
            <a:endParaRPr b="1" lang="en-US" sz="18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1011240" y="1928880"/>
            <a:ext cx="8067600" cy="27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en voorzieningen om de effecten van een calamiteit te minimaliseren en te bestrij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basis van ingeschatte calamiteiten c.q. incide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lke soort incident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mv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wezig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BE970-5CD7-4E97-8E53-FF0F3E394630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77760" y="74880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INHOUD BEDRIJFSHULPVERLENINGSPLA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896400" y="1654200"/>
            <a:ext cx="8067960" cy="27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-20232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bedrijfsnoodplan omv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lattegro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arschuwingsmiddel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ar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efening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ulpmiddel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rste hul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gnemen oorza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ld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arschuwing hulpdiens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 het plan kan ook het aanvalsplan zijn toegevoeg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C1577-B962-4E5E-816E-4A40759A6485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9C0A8-D859-4D8F-8C54-321B83BBBDA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1289160" y="2286000"/>
            <a:ext cx="6858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993600" y="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- en milieuwetgeving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1351080" y="1047600"/>
            <a:ext cx="7234200" cy="53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owe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voorschrif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obeslui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lich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ulpmiddel bij overheidstoezicht en – handha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ocatalogus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 werkgever e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s opgest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che brochure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formatie va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pectie SZW* voo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ij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uropese regelgeving is opgenomen in nationale wetge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 Voorheen Arbeidsinspec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57160" y="11998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BEDRIJFSHULPVERLENINGSORGANISATI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1485720" y="1810800"/>
            <a:ext cx="6802200" cy="45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isen bedrijfshulpverleningsorganis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bou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antwoordelijkheden van iedere func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tstandkoming/inrichting cen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 waarschuwings- en alarmerings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ctuele alarmeringslij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armerings- en Communicatiesyste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DB9B-3BAE-41AC-8B63-42DE1DEB548C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9224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INVULLING BEDRIJFSHULPVERLENINGSPLA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1050840" y="1574280"/>
            <a:ext cx="7772400" cy="24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bedrijfshulpverlening geld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et in ieder organisatie geregeld en gewaarborgd zij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HV-ers moeten voldoende opgeleid zij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r is een vastgesteld takenpakk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2DAF0-2595-40CD-B5A9-C6F28D6BB527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hthoek 5"/>
          <p:cNvSpPr/>
          <p:nvPr/>
        </p:nvSpPr>
        <p:spPr>
          <a:xfrm>
            <a:off x="1084320" y="3267000"/>
            <a:ext cx="74548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n van de BHV-er zij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620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lenen eerste hul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620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trijden beginnende bra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620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vacuat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620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municatie met hulpdiens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620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event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"/>
          <p:cNvSpPr/>
          <p:nvPr/>
        </p:nvSpPr>
        <p:spPr>
          <a:xfrm>
            <a:off x="1544760" y="5315040"/>
            <a:ext cx="6761160" cy="1326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nl-NL" sz="2000" spc="-1" strike="noStrike">
                <a:solidFill>
                  <a:srgbClr val="ff3300"/>
                </a:solidFill>
                <a:latin typeface="Arial"/>
              </a:rPr>
              <a:t>Elke leidinggevende moet op de hoogte zijn v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nl-NL" sz="2000" spc="-1" strike="noStrike">
                <a:solidFill>
                  <a:srgbClr val="ff3300"/>
                </a:solidFill>
                <a:latin typeface="Arial"/>
              </a:rPr>
              <a:t>de alarmeringsprocedures en zijn/haar tak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3300"/>
                </a:solidFill>
                <a:latin typeface="Arial"/>
              </a:rPr>
              <a:t>tijdens een calam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23960" y="1171440"/>
            <a:ext cx="51055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FASER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1170000" y="2224080"/>
            <a:ext cx="73548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rste melding/antwo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assering van incident bekend m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elingen/maatregel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oppen met werken, telefoon niet gebrui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itschakelen apparatu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ar verzamelplaats en melden bij coörd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ëindiging incident en sporen oorzaak incident veilig st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136F3-1E8D-4D92-8120-58E26767A727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4" descr="vluchtroute"/>
          <p:cNvPicPr/>
          <p:nvPr/>
        </p:nvPicPr>
        <p:blipFill>
          <a:blip r:embed="rId1"/>
          <a:stretch/>
        </p:blipFill>
        <p:spPr>
          <a:xfrm>
            <a:off x="6248520" y="1190520"/>
            <a:ext cx="2114280" cy="1130400"/>
          </a:xfrm>
          <a:prstGeom prst="rect">
            <a:avLst/>
          </a:prstGeom>
          <a:ln w="0">
            <a:noFill/>
          </a:ln>
        </p:spPr>
      </p:pic>
      <p:sp>
        <p:nvSpPr>
          <p:cNvPr id="413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19200" y="1123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OPLEIDING, OEFENING, HERHAL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090080" y="2147400"/>
            <a:ext cx="7355160" cy="40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dig voor testen van pl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m medewerkers en BHV-ers voor te bereiden op inciden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efeningen/herhaling van bedrijfshulpverleningsplan/gemeentelijke rampenbestrijdingsplann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combin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n minste eenmaal per jaar een ontruimings-oef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682C9-535F-4180-8CC1-CF673CAF8449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4" descr="brandblusser"/>
          <p:cNvPicPr/>
          <p:nvPr/>
        </p:nvPicPr>
        <p:blipFill>
          <a:blip r:embed="rId1"/>
          <a:stretch/>
        </p:blipFill>
        <p:spPr>
          <a:xfrm>
            <a:off x="7257960" y="3386160"/>
            <a:ext cx="1447920" cy="1441440"/>
          </a:xfrm>
          <a:prstGeom prst="rect">
            <a:avLst/>
          </a:prstGeom>
          <a:ln w="0">
            <a:noFill/>
          </a:ln>
        </p:spPr>
      </p:pic>
      <p:sp>
        <p:nvSpPr>
          <p:cNvPr id="419" name="Text Box 6"/>
          <p:cNvSpPr/>
          <p:nvPr/>
        </p:nvSpPr>
        <p:spPr>
          <a:xfrm>
            <a:off x="1562040" y="25416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81200" y="108576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BEDRIJFSHULPVERLEN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1011240" y="1992240"/>
            <a:ext cx="8067600" cy="47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owetverplich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elk bedrijf voldoende bedrijfshulpverleners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ijfshulpverlening geregeld hebben met bv. buurbedrij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de op basis van RI&amp;E wordt invulling BHV-organisatie bepaa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isen van deskundigheid BHV-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ruimingsoefening ten minste eenma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 j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F8C54-7429-44D7-89A8-E82D95C1323C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4" descr="ehbo"/>
          <p:cNvPicPr/>
          <p:nvPr/>
        </p:nvPicPr>
        <p:blipFill>
          <a:blip r:embed="rId1"/>
          <a:stretch/>
        </p:blipFill>
        <p:spPr>
          <a:xfrm>
            <a:off x="7189920" y="4378320"/>
            <a:ext cx="1542960" cy="154944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10508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EILIGHEID DOOR LEIDINGGEV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1011240" y="1983960"/>
            <a:ext cx="8067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l leidinggevenden belangrijk voor de veilig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zichthouders/directe chef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bben informatie 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edewer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rbeidspro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rbeidsomstandighe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palen hoe werk moet worden uitgevoe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36474-F471-4AF9-911D-270E9B2A92A6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801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EILIGHEID DOOR LEIDINGGEV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1038240" y="1459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h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ddelen, Mogelijkheden en Mentalit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idinggevende heeft voorbeeldfunc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 bevorderen door goede motivati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oordeel objectief en geef uw mening aan betreffende pers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at iemand in zijn waarde als mens/vakman bij correc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tel niet alleen hoe maar ook waar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34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34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A2B2D-8437-47AB-A666-89A6C6A1F9CC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1009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EILIGHEIDSOBSERVATIES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1328760" y="1779480"/>
            <a:ext cx="72676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 leidinggevenden (objectie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richt o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veilige handel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veilige situa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hogen veiligheidsbewustzijn gro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idinggevenden komen op werkp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rijgen inzicht in de werkplek en medewe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k jaarplan observa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9E104-8BA2-4B12-9DC6-ABBE014EC8F7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828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CA** EN VCA*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1076400" y="1447560"/>
            <a:ext cx="8067600" cy="48942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CA**</a:t>
            </a:r>
            <a:r>
              <a:rPr b="0" lang="nl-NL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- Algemene goedkeu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voor bedrijven met 35 of meer medewerkers 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ofdaannem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CA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- Beperkte goedkeuring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(voor bedrijven met minder dan 35 werknem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CA petrochemie  - aanvullende eisen op VCA**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(voor bedrijven die risicovolle werkzaamheden in de                                     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petrochemische industrie uitvoer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CU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- goedkeuring voor detachering- en uitzendburea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CO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- voor opdrachtgevers van VCA-/VCU gecertificeerde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bedrij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B33A4-4FA8-40DE-93B4-240199FA432A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27000" y="7552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OOLBOX/LINE SAFETY MEET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1203480" y="1415880"/>
            <a:ext cx="69595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orte vergadering over veiligheid in informele sf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leg met medewe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tiveren van medewe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voor een goede VGM-bijeenkom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uidelijke vastgelegde afsprak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ts of de boodschappen zijn begrep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B6FFB-EAF2-4BFC-9F56-815A33628D40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17E05-ACDB-409F-9EEF-754C168CCE87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ijdelijke aanduiding voor voettekst 1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kstvak 4"/>
          <p:cNvSpPr/>
          <p:nvPr/>
        </p:nvSpPr>
        <p:spPr>
          <a:xfrm>
            <a:off x="1020600" y="2054160"/>
            <a:ext cx="7856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s voor werk en rusttij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ximale werktijd per dag en we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veel uren werken en hoeveel uren ru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kening houden met werknemer zijn zorgtaken in gez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- en milieuwetgeving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1444680" y="1019160"/>
            <a:ext cx="621972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ARBEIDSTIJDENW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AF68D-C5AD-4A20-986F-87EA3CCC4913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96960" y="1273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OXICOLOGI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1143000" y="205704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87480" indent="-1887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xicologie = de leer van de inwerking van schadelijke stoffen op levende wez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7480" indent="-1887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7480" indent="-1887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xiciteit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= giftigheid (eigenschap van een sto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7480" indent="-1887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7480" indent="-1887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iftig voor alle levende organis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7480" indent="-1887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7480" indent="-1887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dividuele gevoelighe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n elke so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nnen elke so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3EB8B-0E29-4A01-A8AE-6E68309FA094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04480" y="762120"/>
            <a:ext cx="80391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Verdana"/>
              </a:rPr>
              <a:t>Gevaarlijke stoffen en leidinggeven: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1011240" y="1160280"/>
            <a:ext cx="8067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leidinggevende maakt en houdt de medewerker bewust v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3715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gevar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3715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lang hygiën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3715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voorkomen van risico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371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om risico’s te beperk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371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 de br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371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chnische, collectieve en organisatorisch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85FD2-F4C6-4BA3-99AF-D16969155990}" type="slidenum">
              <a:rPr b="0" lang="nl-NL" sz="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ijdelijke aanduiding voor voettekst 1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kstvak 5"/>
          <p:cNvSpPr/>
          <p:nvPr/>
        </p:nvSpPr>
        <p:spPr>
          <a:xfrm>
            <a:off x="7518240" y="6396120"/>
            <a:ext cx="11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Calibri"/>
              </a:rPr>
              <a:t>Blz 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SYSTEEMWERK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1009800" y="20188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of in bloed heeft effect op bepaalde organen, bijvoorbeeld aantasting door oplosmidd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enuwstels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ver/ni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elverand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rfelijke eigenschappen (mutage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adelijk voor ongeboren kind (teratoge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ankerverwekkend (carcinoge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as o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n diverse stoffen zijn niet alle eigenschappen bek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82C36-1BDF-4E2A-82E2-196FC55ADB1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98400" y="12970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CONTACTWERK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1009800" y="204804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ing van stof op huid, ogen, slijmvliezen, neus/keel en luchtwe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een te lange blootstelling of allergisch zijn voor st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ffe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cze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doening luchtwe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61496-866F-446A-BF65-7EBC1226D0CE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09600" y="101556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SPECIFIEK OF ASPECIFIEK EFFECT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1076400" y="2265120"/>
            <a:ext cx="8067600" cy="32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ecifieke effecten kunnen worden veroorzaakt door één stof (asbest/kank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specifieke effecten kunnen worden veroorzaakt doo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cheidene stoffen (schoonmaakmiddelen/sufhe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C7E9E-86AE-42E6-892B-DFE51EFD44FA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54080" y="707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ASBEST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1009800" y="1714680"/>
            <a:ext cx="77724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sbest veroorzaakt ernstige gezondheidsaandoenin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sbestose (incubatietijd 15-25 jaa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sbestlongkank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sotheli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ttelijke bepalingen bij asbes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ventarisatie van aanwezige asbest verplich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nieuw toepassen en verwerken van asbest is verbod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sbesthoudend afval scheid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wezig asbest label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le werkzaamheden met asbest melden aan de Inspectie SZ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20B77-328C-44C0-9FFA-F01D60D30250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077840" y="982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PLAATSEN  WAAR ASBEST ANGETROFFEN KAN WORD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1266480" y="1579320"/>
            <a:ext cx="656604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warmte-isolati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flenzen en afdichting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werende constructi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fornuiz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isolatie in elektrische apparatuu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werende deken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mvoering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oo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afdichtingmateria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k- en wandbeplat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oerbedek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3C1D0-C72D-40D7-89B4-E35E1ED5D0C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9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12" descr="Asbestwaarschuw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78800" y="1905120"/>
            <a:ext cx="2125440" cy="21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47800" y="1123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WETTELIJKE BEPALING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1299960" y="1814400"/>
            <a:ext cx="743724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- en bewerken asbest verbo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roepsmatig omgaan asbest alle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 slopen/verwijd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derhoud/repar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rijstelling/ontheff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OMO procescertifica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TA =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skundig toezichthouder asbestverwijd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098CE-3173-48FA-AC9F-66A9CF03F885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04480" y="758880"/>
            <a:ext cx="8039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HOE TE HANDELEN, WANNEER MATERIAAL “ASBESTVERDACHT” IS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1000080" y="158760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nster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LAT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nemen door onafhankelijk laborator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zaamheden alleen door deskundig bedrij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skundig toezichthouder (D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OMO-procescertificaat asbest verwijderen voor aanne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dewerkers asbestsaneringswerkzaamheden volgens schriftelijk plan oplei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elk werk geld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gemeld bij Inspectie SZ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plan aanwez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TA aanwez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7F077-8640-491D-837F-D1AA8E78211C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83160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BELEID VOEREN IS STRUCTURELE AANPAK</a:t>
            </a:r>
            <a:br>
              <a:rPr sz="2000"/>
            </a:br>
            <a:r>
              <a:rPr b="0" lang="nl-NL" sz="2800" spc="-1" strike="noStrike">
                <a:solidFill>
                  <a:srgbClr val="860038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ff3300"/>
                </a:solidFill>
                <a:latin typeface="Arial"/>
              </a:rPr>
              <a:t>Verplicht</a:t>
            </a:r>
            <a:r>
              <a:rPr b="1" lang="nl-NL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voor elke onderneming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17360" y="2447640"/>
            <a:ext cx="812628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om risico’s te vermind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leid realiseren, Plan van Aanp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iekteverzuim beleid vo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antwoordelijkheden en bevoegdheden vastleg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leid toetsen en aanpa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14167-C95C-41D9-BFCB-B4632AC1ECC7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077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1011240" y="2046240"/>
            <a:ext cx="806760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eurcodering op schouder van cilin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rrect opsla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doende ventilatie van opslagruim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oit opslaan in of bij kelders,putten en sleuv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uurstofflessen gescheiden houden van flessen met brandbare gass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gepaste blusmiddel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ter als koelmiddel bij opslagruim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C53B5-FC9A-47A6-8311-59EBC1A19CAE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71640" y="1177920"/>
            <a:ext cx="8039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INDUSTRIËLE GASCILI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146320" y="742680"/>
            <a:ext cx="523080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PREVENTIEVE MAATREGEL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925560" y="1863720"/>
            <a:ext cx="8153280" cy="44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er opslagvaten en tanks regelmatig op lek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er bedrijfsinstallaties zoals leidingen, filters, afsluiters en verdeelstukken op lekk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 voor voldoende lekbak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ekte producten zo snel mogelijk oprui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01528-3E16-4E18-9CE4-DE005188F37D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34640" y="155160"/>
            <a:ext cx="803916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923400" y="2412720"/>
            <a:ext cx="806796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het werken met biologische agentia geld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 mogelijke eerst de bronaanpa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vullende regels voor pbm’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enge hygiënische voorschrift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tructie en onderrich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 op en informatie over mogelijke gevolg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 op legione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4725-98D9-4758-BC4D-E4BBEB498A7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52560" y="1123920"/>
            <a:ext cx="76960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PREVENTIEVE MAATREGELEN BIJ BIOLOGISCHE STOF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143000" y="933120"/>
            <a:ext cx="769608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PREVENTIEVE MAATREGELEN BIJ BIOLOGISCHE STOFF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2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0A03C-87A2-4785-AEC0-376D43CA3885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kstvak 4"/>
          <p:cNvSpPr/>
          <p:nvPr/>
        </p:nvSpPr>
        <p:spPr>
          <a:xfrm>
            <a:off x="985680" y="1974960"/>
            <a:ext cx="8158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ent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lootgestelde werknemers beperk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uur blootstelling beperk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ermende kleding gebruik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uidcrème gebruik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gbescherming gebruik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 het werk en bij pauze de handen en gezicht wass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1076400" y="885960"/>
            <a:ext cx="8067600" cy="41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tende stoffen tasten bij contact je huid, ogen, longen en kleding a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rriterende stoffen kunnen ontstekingen aan je huid en slijmvliezen veroorza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rsen, kleurmiddelen, sommige verven, metaalbehandelings- middelen kunnen een gevoelige huid veroorzaken en heftige allergische reacties oproep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fk’s en bepaalde pesticiden zijn gevaarlijk voor mens, dier en milie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A6CF5-099F-4DB1-9B35-80E5B21AE802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97A6A-C80C-40B3-B1FA-B24EBCC5F99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ijdelijke aanduiding voor voettekst 1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hthoek 3"/>
          <p:cNvSpPr/>
          <p:nvPr/>
        </p:nvSpPr>
        <p:spPr>
          <a:xfrm>
            <a:off x="1143000" y="2610000"/>
            <a:ext cx="7518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het werken met gevaarlijke stoffen moet de leidinggevende extra toezicht houden. Hij let daarbij o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pbm’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rde en nethei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inigingen gereedschap en andere middel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voeren afv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itel 1"/>
          <p:cNvSpPr/>
          <p:nvPr/>
        </p:nvSpPr>
        <p:spPr>
          <a:xfrm>
            <a:off x="1054080" y="990720"/>
            <a:ext cx="746748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DE ROL VAN DE LEIDINGGEVE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34640" y="21960"/>
            <a:ext cx="803916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1011240" y="1526760"/>
            <a:ext cx="8067600" cy="41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oniserende stra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noeg energie om bestraalde materiaal te verand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hankelijk van sterkte, dosis en blootstelling schadelijk voor mens en omgev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v. geneeskunde, kerncentrales, meet/detectieapparatuur, aardgaswinning en ertsverwer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-ioniserende stra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iet van invloed op materiaalstructu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ge dosis / langdurige blootstelling wel schadelijk (lets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v. zonlicht, ultraviolet/infrarood straling, laserstralen, radio- of microgol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28F4A-8D0B-46CD-8F0F-1AFE9D74F9A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2"/>
          <p:cNvSpPr/>
          <p:nvPr/>
        </p:nvSpPr>
        <p:spPr>
          <a:xfrm>
            <a:off x="990720" y="85104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WERKEN MET STR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WERKEN MET STRAL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1038240" y="206640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sico van radioactieve straling: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“Je hoort, ziet, voelt en ruikt nie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 nummer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 ver mogelijk er vandaan (de stralingssterkte neemt af met het kwadraat van de afstand)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afstand 4 x groter          stralingsdosis 16 x klei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8ADA7-A73C-4FB1-9469-42B375AB7F63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5" descr="radioactief"/>
          <p:cNvPicPr/>
          <p:nvPr/>
        </p:nvPicPr>
        <p:blipFill>
          <a:blip r:embed="rId1"/>
          <a:stretch/>
        </p:blipFill>
        <p:spPr>
          <a:xfrm>
            <a:off x="6172200" y="2209680"/>
            <a:ext cx="1771560" cy="153036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7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77760" y="8251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WERKEN MET STRALING </a:t>
            </a:r>
            <a:r>
              <a:rPr b="1" lang="nl-NL" sz="1800" spc="-1" strike="noStrike">
                <a:solidFill>
                  <a:srgbClr val="860038"/>
                </a:solidFill>
                <a:latin typeface="Arial"/>
              </a:rPr>
              <a:t>(VERVOLG)</a:t>
            </a:r>
            <a:endParaRPr b="1" lang="en-US" sz="18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1052640" y="1346040"/>
            <a:ext cx="777240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 bij het werken met straling zij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stand houd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pakkingen van de materialen niet beschadig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bied rond de bron afzet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bm’s gebruik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arschuwingsborden plaats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manent me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dewerkers zijn verplicht 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persoonlijke dosis straling te laten me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uwkeurig alle voorschriften te volg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 medische keuring te onderga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35DA3-0C8E-42A2-B967-83D860219E3E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7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90560" y="10188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WERKEN MET STRALING </a:t>
            </a:r>
            <a:r>
              <a:rPr b="1" lang="nl-NL" sz="1800" spc="-1" strike="noStrike">
                <a:solidFill>
                  <a:srgbClr val="860038"/>
                </a:solidFill>
                <a:latin typeface="Arial"/>
              </a:rPr>
              <a:t>(VERVOLG)</a:t>
            </a:r>
            <a:endParaRPr b="1" lang="en-US" sz="18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1119240" y="1790280"/>
            <a:ext cx="735480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verplicht aanwezige stralingsdeskundi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udt toezicht op de stralingsveiligheid en -hygiën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ntroleert medewerkers en materiaal op besmett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eemt zonodig extra maatregel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an werkzaamheden stilleg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niet-ioniserende straling gelden de volgende veiligheidsmaatregel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structie en informatie op toestell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en volgens de instructi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et langer dan toegestaan doorwerk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udt afst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3064B-D477-4887-8431-BFE7D0AF94B0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7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31436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PLAN VAN AANPAK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112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an voor verbeteren van arbeidsomstandigh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at o.a. plannen o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atregelen voor risico-vermindering en ter voorko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ncrete uitvoering maatregelen: Verantwoordelijkheden, middelen, werkwijze, eindlimi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jze van rappor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rokkenheid leidinggevenden belangrij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E051F-CED8-4610-91C3-213282A4531B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ARBEIDSHYGIËNISCH ONDERZOEK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1019160" y="200988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riënterend werkplekonderzo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er kans op blootstelling aan een bepaalde stof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rd van de blootste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eveel mensen hebben kans op blootstell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ft antwoord op mogelijke risico’s en te nemen maatreg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nitor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ingen en registra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aten vergelijken me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74600" indent="-261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renswaa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74600" indent="-261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igen bedrijfswaa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richt op gezondheidsbeheersing op werkpl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AB235-306B-4937-9F05-73900387F4D0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ARBOWET - GEZONDHEID WERKNEMERS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1076400" y="1902960"/>
            <a:ext cx="8067600" cy="38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gever moet werknemers in de gelegenheid stellen zich periodiek medisch te laten onderzoe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iodiek gezondheidskundig onderzo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 vrijwillige b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ijdig schade onderkennen en beperken/wegne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oms verplicht (bv bij werken met asbest, straling en bestrijdingsmiddelen, gebruik ademluchtapparatuu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eidsgezondheidsonderzoek voorafgaand aan specifieke werkzaamheden (functiekeuring) verplicht (bv ademluchtapparatuur, werken met onderdruk of overdruk</a:t>
            </a:r>
            <a:r>
              <a:rPr b="0" lang="nl-NL" sz="2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961EE-5B18-4C08-98CA-5339829AB7E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C4707-741E-4275-ACFE-004EDA0F2B3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tikettering en signal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Etikettering en signalering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SIGNALERING/ETIKETTER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942840" y="203796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ignalering van gevaar op de werkvlo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danig aanbrengen, dat deze wordt opgemer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danig vormen, dat de betekenis duidelijk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 min mogelijk tek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tikettering van gevaarlijke stoff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rote verscheidenheid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isico’s inschatten om juiste maatregelen te ne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208C6-4DC5-44E7-BF5B-8D55A51547C6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5" descr="explosief"/>
          <p:cNvPicPr/>
          <p:nvPr/>
        </p:nvPicPr>
        <p:blipFill>
          <a:blip r:embed="rId1"/>
          <a:stretch/>
        </p:blipFill>
        <p:spPr>
          <a:xfrm>
            <a:off x="7334280" y="2963880"/>
            <a:ext cx="1447920" cy="125568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6" descr="nooduitgang"/>
          <p:cNvPicPr/>
          <p:nvPr/>
        </p:nvPicPr>
        <p:blipFill>
          <a:blip r:embed="rId2"/>
          <a:stretch/>
        </p:blipFill>
        <p:spPr>
          <a:xfrm>
            <a:off x="7248600" y="1952640"/>
            <a:ext cx="1600200" cy="853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5" name="Object 9"/>
          <p:cNvGraphicFramePr/>
          <p:nvPr/>
        </p:nvGraphicFramePr>
        <p:xfrm>
          <a:off x="7461360" y="4459320"/>
          <a:ext cx="1243080" cy="124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6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1360" y="4459320"/>
                    <a:ext cx="1243080" cy="12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7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tikettering en signal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84564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ELKE STOF IN EEN CATEGORI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1019160" y="171936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ti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 zichtb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makkelijk leesb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het Neder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uidin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am st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vaarssymbool/symbo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zondere geva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saanbevel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MS: kleinverpak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voer: vervoerscodering (ADN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347EC-448B-4DAE-A3A4-62B20E59F1E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2" name="Object 8"/>
          <p:cNvGraphicFramePr/>
          <p:nvPr/>
        </p:nvGraphicFramePr>
        <p:xfrm>
          <a:off x="6727680" y="2043000"/>
          <a:ext cx="1243080" cy="124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27680" y="2043000"/>
                    <a:ext cx="1243080" cy="12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4" name="Group 257"/>
          <p:cNvGrpSpPr/>
          <p:nvPr/>
        </p:nvGrpSpPr>
        <p:grpSpPr>
          <a:xfrm>
            <a:off x="6465960" y="3965400"/>
            <a:ext cx="1669680" cy="1671480"/>
            <a:chOff x="6465960" y="3965400"/>
            <a:chExt cx="1669680" cy="1671480"/>
          </a:xfrm>
        </p:grpSpPr>
        <p:sp>
          <p:nvSpPr>
            <p:cNvPr id="585" name="Freeform 10"/>
            <p:cNvSpPr/>
            <p:nvPr/>
          </p:nvSpPr>
          <p:spPr>
            <a:xfrm>
              <a:off x="6465960" y="3965400"/>
              <a:ext cx="1669680" cy="1671480"/>
            </a:xfrm>
            <a:custGeom>
              <a:avLst/>
              <a:gdLst>
                <a:gd name="textAreaLeft" fmla="*/ 0 w 1669680"/>
                <a:gd name="textAreaRight" fmla="*/ 1670040 w 1669680"/>
                <a:gd name="textAreaTop" fmla="*/ 0 h 1671480"/>
                <a:gd name="textAreaBottom" fmla="*/ 1671840 h 1671480"/>
              </a:gdLst>
              <a:ahLst/>
              <a:rect l="textAreaLeft" t="textAreaTop" r="textAreaRight" b="textAreaBottom"/>
              <a:pathLst>
                <a:path w="2358" h="2359">
                  <a:moveTo>
                    <a:pt x="1180" y="2359"/>
                  </a:moveTo>
                  <a:lnTo>
                    <a:pt x="0" y="1180"/>
                  </a:lnTo>
                  <a:lnTo>
                    <a:pt x="1180" y="0"/>
                  </a:lnTo>
                  <a:lnTo>
                    <a:pt x="2358" y="1180"/>
                  </a:lnTo>
                  <a:lnTo>
                    <a:pt x="1180" y="2359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11"/>
            <p:cNvSpPr/>
            <p:nvPr/>
          </p:nvSpPr>
          <p:spPr>
            <a:xfrm>
              <a:off x="6465960" y="4800960"/>
              <a:ext cx="1669680" cy="835560"/>
            </a:xfrm>
            <a:custGeom>
              <a:avLst/>
              <a:gdLst>
                <a:gd name="textAreaLeft" fmla="*/ 0 w 1669680"/>
                <a:gd name="textAreaRight" fmla="*/ 1670040 w 1669680"/>
                <a:gd name="textAreaTop" fmla="*/ 0 h 835560"/>
                <a:gd name="textAreaBottom" fmla="*/ 835920 h 835560"/>
              </a:gdLst>
              <a:ahLst/>
              <a:rect l="textAreaLeft" t="textAreaTop" r="textAreaRight" b="textAreaBottom"/>
              <a:pathLst>
                <a:path w="2358" h="1179">
                  <a:moveTo>
                    <a:pt x="1180" y="1179"/>
                  </a:moveTo>
                  <a:lnTo>
                    <a:pt x="2358" y="0"/>
                  </a:lnTo>
                  <a:lnTo>
                    <a:pt x="0" y="0"/>
                  </a:lnTo>
                  <a:lnTo>
                    <a:pt x="1180" y="117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12"/>
            <p:cNvSpPr/>
            <p:nvPr/>
          </p:nvSpPr>
          <p:spPr>
            <a:xfrm>
              <a:off x="6577560" y="4076640"/>
              <a:ext cx="1446480" cy="1448640"/>
            </a:xfrm>
            <a:custGeom>
              <a:avLst/>
              <a:gdLst>
                <a:gd name="textAreaLeft" fmla="*/ 0 w 1446480"/>
                <a:gd name="textAreaRight" fmla="*/ 1446840 w 1446480"/>
                <a:gd name="textAreaTop" fmla="*/ 0 h 1448640"/>
                <a:gd name="textAreaBottom" fmla="*/ 1449000 h 1448640"/>
              </a:gdLst>
              <a:ahLst/>
              <a:rect l="textAreaLeft" t="textAreaTop" r="textAreaRight" b="textAreaBottom"/>
              <a:pathLst>
                <a:path w="2043" h="2045">
                  <a:moveTo>
                    <a:pt x="1022" y="0"/>
                  </a:moveTo>
                  <a:lnTo>
                    <a:pt x="0" y="1022"/>
                  </a:lnTo>
                  <a:lnTo>
                    <a:pt x="1022" y="2045"/>
                  </a:lnTo>
                  <a:lnTo>
                    <a:pt x="2043" y="1022"/>
                  </a:lnTo>
                  <a:lnTo>
                    <a:pt x="102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Line 13"/>
            <p:cNvSpPr/>
            <p:nvPr/>
          </p:nvSpPr>
          <p:spPr>
            <a:xfrm>
              <a:off x="7133400" y="4689360"/>
              <a:ext cx="3344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14"/>
            <p:cNvSpPr/>
            <p:nvPr/>
          </p:nvSpPr>
          <p:spPr>
            <a:xfrm>
              <a:off x="7122600" y="4179240"/>
              <a:ext cx="361080" cy="469440"/>
            </a:xfrm>
            <a:custGeom>
              <a:avLst/>
              <a:gdLst>
                <a:gd name="textAreaLeft" fmla="*/ 0 w 361080"/>
                <a:gd name="textAreaRight" fmla="*/ 361440 w 36108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511" h="663">
                  <a:moveTo>
                    <a:pt x="356" y="233"/>
                  </a:moveTo>
                  <a:lnTo>
                    <a:pt x="367" y="263"/>
                  </a:lnTo>
                  <a:lnTo>
                    <a:pt x="371" y="274"/>
                  </a:lnTo>
                  <a:lnTo>
                    <a:pt x="376" y="288"/>
                  </a:lnTo>
                  <a:lnTo>
                    <a:pt x="380" y="304"/>
                  </a:lnTo>
                  <a:lnTo>
                    <a:pt x="383" y="322"/>
                  </a:lnTo>
                  <a:lnTo>
                    <a:pt x="385" y="341"/>
                  </a:lnTo>
                  <a:lnTo>
                    <a:pt x="386" y="360"/>
                  </a:lnTo>
                  <a:lnTo>
                    <a:pt x="386" y="379"/>
                  </a:lnTo>
                  <a:lnTo>
                    <a:pt x="385" y="396"/>
                  </a:lnTo>
                  <a:lnTo>
                    <a:pt x="372" y="431"/>
                  </a:lnTo>
                  <a:lnTo>
                    <a:pt x="367" y="469"/>
                  </a:lnTo>
                  <a:lnTo>
                    <a:pt x="393" y="427"/>
                  </a:lnTo>
                  <a:lnTo>
                    <a:pt x="427" y="391"/>
                  </a:lnTo>
                  <a:lnTo>
                    <a:pt x="434" y="384"/>
                  </a:lnTo>
                  <a:lnTo>
                    <a:pt x="440" y="376"/>
                  </a:lnTo>
                  <a:lnTo>
                    <a:pt x="445" y="366"/>
                  </a:lnTo>
                  <a:lnTo>
                    <a:pt x="449" y="355"/>
                  </a:lnTo>
                  <a:lnTo>
                    <a:pt x="452" y="344"/>
                  </a:lnTo>
                  <a:lnTo>
                    <a:pt x="454" y="333"/>
                  </a:lnTo>
                  <a:lnTo>
                    <a:pt x="454" y="322"/>
                  </a:lnTo>
                  <a:lnTo>
                    <a:pt x="452" y="312"/>
                  </a:lnTo>
                  <a:lnTo>
                    <a:pt x="462" y="322"/>
                  </a:lnTo>
                  <a:lnTo>
                    <a:pt x="469" y="336"/>
                  </a:lnTo>
                  <a:lnTo>
                    <a:pt x="474" y="351"/>
                  </a:lnTo>
                  <a:lnTo>
                    <a:pt x="477" y="368"/>
                  </a:lnTo>
                  <a:lnTo>
                    <a:pt x="478" y="385"/>
                  </a:lnTo>
                  <a:lnTo>
                    <a:pt x="475" y="402"/>
                  </a:lnTo>
                  <a:lnTo>
                    <a:pt x="471" y="419"/>
                  </a:lnTo>
                  <a:lnTo>
                    <a:pt x="464" y="434"/>
                  </a:lnTo>
                  <a:lnTo>
                    <a:pt x="451" y="465"/>
                  </a:lnTo>
                  <a:lnTo>
                    <a:pt x="442" y="498"/>
                  </a:lnTo>
                  <a:lnTo>
                    <a:pt x="441" y="503"/>
                  </a:lnTo>
                  <a:lnTo>
                    <a:pt x="441" y="508"/>
                  </a:lnTo>
                  <a:lnTo>
                    <a:pt x="442" y="515"/>
                  </a:lnTo>
                  <a:lnTo>
                    <a:pt x="443" y="521"/>
                  </a:lnTo>
                  <a:lnTo>
                    <a:pt x="445" y="528"/>
                  </a:lnTo>
                  <a:lnTo>
                    <a:pt x="447" y="535"/>
                  </a:lnTo>
                  <a:lnTo>
                    <a:pt x="450" y="541"/>
                  </a:lnTo>
                  <a:lnTo>
                    <a:pt x="452" y="547"/>
                  </a:lnTo>
                  <a:lnTo>
                    <a:pt x="467" y="516"/>
                  </a:lnTo>
                  <a:lnTo>
                    <a:pt x="487" y="488"/>
                  </a:lnTo>
                  <a:lnTo>
                    <a:pt x="491" y="482"/>
                  </a:lnTo>
                  <a:lnTo>
                    <a:pt x="494" y="476"/>
                  </a:lnTo>
                  <a:lnTo>
                    <a:pt x="496" y="468"/>
                  </a:lnTo>
                  <a:lnTo>
                    <a:pt x="498" y="461"/>
                  </a:lnTo>
                  <a:lnTo>
                    <a:pt x="499" y="453"/>
                  </a:lnTo>
                  <a:lnTo>
                    <a:pt x="499" y="444"/>
                  </a:lnTo>
                  <a:lnTo>
                    <a:pt x="498" y="437"/>
                  </a:lnTo>
                  <a:lnTo>
                    <a:pt x="496" y="429"/>
                  </a:lnTo>
                  <a:lnTo>
                    <a:pt x="504" y="446"/>
                  </a:lnTo>
                  <a:lnTo>
                    <a:pt x="509" y="464"/>
                  </a:lnTo>
                  <a:lnTo>
                    <a:pt x="511" y="484"/>
                  </a:lnTo>
                  <a:lnTo>
                    <a:pt x="510" y="506"/>
                  </a:lnTo>
                  <a:lnTo>
                    <a:pt x="506" y="528"/>
                  </a:lnTo>
                  <a:lnTo>
                    <a:pt x="498" y="549"/>
                  </a:lnTo>
                  <a:lnTo>
                    <a:pt x="487" y="568"/>
                  </a:lnTo>
                  <a:lnTo>
                    <a:pt x="474" y="585"/>
                  </a:lnTo>
                  <a:lnTo>
                    <a:pt x="443" y="614"/>
                  </a:lnTo>
                  <a:lnTo>
                    <a:pt x="407" y="637"/>
                  </a:lnTo>
                  <a:lnTo>
                    <a:pt x="368" y="653"/>
                  </a:lnTo>
                  <a:lnTo>
                    <a:pt x="325" y="662"/>
                  </a:lnTo>
                  <a:lnTo>
                    <a:pt x="281" y="663"/>
                  </a:lnTo>
                  <a:lnTo>
                    <a:pt x="216" y="663"/>
                  </a:lnTo>
                  <a:lnTo>
                    <a:pt x="168" y="652"/>
                  </a:lnTo>
                  <a:lnTo>
                    <a:pt x="125" y="633"/>
                  </a:lnTo>
                  <a:lnTo>
                    <a:pt x="87" y="607"/>
                  </a:lnTo>
                  <a:lnTo>
                    <a:pt x="55" y="575"/>
                  </a:lnTo>
                  <a:lnTo>
                    <a:pt x="31" y="537"/>
                  </a:lnTo>
                  <a:lnTo>
                    <a:pt x="26" y="513"/>
                  </a:lnTo>
                  <a:lnTo>
                    <a:pt x="16" y="490"/>
                  </a:lnTo>
                  <a:lnTo>
                    <a:pt x="0" y="469"/>
                  </a:lnTo>
                  <a:lnTo>
                    <a:pt x="22" y="476"/>
                  </a:lnTo>
                  <a:lnTo>
                    <a:pt x="42" y="487"/>
                  </a:lnTo>
                  <a:lnTo>
                    <a:pt x="60" y="501"/>
                  </a:lnTo>
                  <a:lnTo>
                    <a:pt x="74" y="518"/>
                  </a:lnTo>
                  <a:lnTo>
                    <a:pt x="83" y="492"/>
                  </a:lnTo>
                  <a:lnTo>
                    <a:pt x="96" y="469"/>
                  </a:lnTo>
                  <a:lnTo>
                    <a:pt x="103" y="453"/>
                  </a:lnTo>
                  <a:lnTo>
                    <a:pt x="106" y="436"/>
                  </a:lnTo>
                  <a:lnTo>
                    <a:pt x="106" y="418"/>
                  </a:lnTo>
                  <a:lnTo>
                    <a:pt x="101" y="401"/>
                  </a:lnTo>
                  <a:lnTo>
                    <a:pt x="94" y="386"/>
                  </a:lnTo>
                  <a:lnTo>
                    <a:pt x="83" y="372"/>
                  </a:lnTo>
                  <a:lnTo>
                    <a:pt x="69" y="360"/>
                  </a:lnTo>
                  <a:lnTo>
                    <a:pt x="53" y="351"/>
                  </a:lnTo>
                  <a:lnTo>
                    <a:pt x="75" y="358"/>
                  </a:lnTo>
                  <a:lnTo>
                    <a:pt x="96" y="368"/>
                  </a:lnTo>
                  <a:lnTo>
                    <a:pt x="114" y="383"/>
                  </a:lnTo>
                  <a:lnTo>
                    <a:pt x="128" y="400"/>
                  </a:lnTo>
                  <a:lnTo>
                    <a:pt x="137" y="368"/>
                  </a:lnTo>
                  <a:lnTo>
                    <a:pt x="150" y="339"/>
                  </a:lnTo>
                  <a:lnTo>
                    <a:pt x="157" y="324"/>
                  </a:lnTo>
                  <a:lnTo>
                    <a:pt x="161" y="308"/>
                  </a:lnTo>
                  <a:lnTo>
                    <a:pt x="163" y="292"/>
                  </a:lnTo>
                  <a:lnTo>
                    <a:pt x="161" y="276"/>
                  </a:lnTo>
                  <a:lnTo>
                    <a:pt x="157" y="260"/>
                  </a:lnTo>
                  <a:lnTo>
                    <a:pt x="149" y="246"/>
                  </a:lnTo>
                  <a:lnTo>
                    <a:pt x="140" y="234"/>
                  </a:lnTo>
                  <a:lnTo>
                    <a:pt x="128" y="224"/>
                  </a:lnTo>
                  <a:lnTo>
                    <a:pt x="119" y="215"/>
                  </a:lnTo>
                  <a:lnTo>
                    <a:pt x="112" y="205"/>
                  </a:lnTo>
                  <a:lnTo>
                    <a:pt x="107" y="194"/>
                  </a:lnTo>
                  <a:lnTo>
                    <a:pt x="116" y="203"/>
                  </a:lnTo>
                  <a:lnTo>
                    <a:pt x="127" y="209"/>
                  </a:lnTo>
                  <a:lnTo>
                    <a:pt x="139" y="214"/>
                  </a:lnTo>
                  <a:lnTo>
                    <a:pt x="178" y="241"/>
                  </a:lnTo>
                  <a:lnTo>
                    <a:pt x="211" y="274"/>
                  </a:lnTo>
                  <a:lnTo>
                    <a:pt x="237" y="312"/>
                  </a:lnTo>
                  <a:lnTo>
                    <a:pt x="241" y="294"/>
                  </a:lnTo>
                  <a:lnTo>
                    <a:pt x="243" y="275"/>
                  </a:lnTo>
                  <a:lnTo>
                    <a:pt x="241" y="256"/>
                  </a:lnTo>
                  <a:lnTo>
                    <a:pt x="238" y="238"/>
                  </a:lnTo>
                  <a:lnTo>
                    <a:pt x="232" y="221"/>
                  </a:lnTo>
                  <a:lnTo>
                    <a:pt x="224" y="205"/>
                  </a:lnTo>
                  <a:lnTo>
                    <a:pt x="214" y="192"/>
                  </a:lnTo>
                  <a:lnTo>
                    <a:pt x="203" y="182"/>
                  </a:lnTo>
                  <a:lnTo>
                    <a:pt x="196" y="158"/>
                  </a:lnTo>
                  <a:lnTo>
                    <a:pt x="192" y="132"/>
                  </a:lnTo>
                  <a:lnTo>
                    <a:pt x="192" y="106"/>
                  </a:lnTo>
                  <a:lnTo>
                    <a:pt x="195" y="81"/>
                  </a:lnTo>
                  <a:lnTo>
                    <a:pt x="201" y="56"/>
                  </a:lnTo>
                  <a:lnTo>
                    <a:pt x="211" y="34"/>
                  </a:lnTo>
                  <a:lnTo>
                    <a:pt x="223" y="15"/>
                  </a:lnTo>
                  <a:lnTo>
                    <a:pt x="237" y="0"/>
                  </a:lnTo>
                  <a:lnTo>
                    <a:pt x="233" y="15"/>
                  </a:lnTo>
                  <a:lnTo>
                    <a:pt x="232" y="32"/>
                  </a:lnTo>
                  <a:lnTo>
                    <a:pt x="233" y="50"/>
                  </a:lnTo>
                  <a:lnTo>
                    <a:pt x="238" y="69"/>
                  </a:lnTo>
                  <a:lnTo>
                    <a:pt x="245" y="88"/>
                  </a:lnTo>
                  <a:lnTo>
                    <a:pt x="255" y="105"/>
                  </a:lnTo>
                  <a:lnTo>
                    <a:pt x="267" y="121"/>
                  </a:lnTo>
                  <a:lnTo>
                    <a:pt x="281" y="136"/>
                  </a:lnTo>
                  <a:lnTo>
                    <a:pt x="293" y="148"/>
                  </a:lnTo>
                  <a:lnTo>
                    <a:pt x="304" y="164"/>
                  </a:lnTo>
                  <a:lnTo>
                    <a:pt x="313" y="183"/>
                  </a:lnTo>
                  <a:lnTo>
                    <a:pt x="320" y="203"/>
                  </a:lnTo>
                  <a:lnTo>
                    <a:pt x="325" y="226"/>
                  </a:lnTo>
                  <a:lnTo>
                    <a:pt x="327" y="248"/>
                  </a:lnTo>
                  <a:lnTo>
                    <a:pt x="327" y="271"/>
                  </a:lnTo>
                  <a:lnTo>
                    <a:pt x="324" y="292"/>
                  </a:lnTo>
                  <a:lnTo>
                    <a:pt x="328" y="288"/>
                  </a:lnTo>
                  <a:lnTo>
                    <a:pt x="333" y="282"/>
                  </a:lnTo>
                  <a:lnTo>
                    <a:pt x="338" y="275"/>
                  </a:lnTo>
                  <a:lnTo>
                    <a:pt x="343" y="268"/>
                  </a:lnTo>
                  <a:lnTo>
                    <a:pt x="347" y="259"/>
                  </a:lnTo>
                  <a:lnTo>
                    <a:pt x="351" y="250"/>
                  </a:lnTo>
                  <a:lnTo>
                    <a:pt x="354" y="241"/>
                  </a:lnTo>
                  <a:lnTo>
                    <a:pt x="356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15"/>
            <p:cNvSpPr/>
            <p:nvPr/>
          </p:nvSpPr>
          <p:spPr>
            <a:xfrm>
              <a:off x="7383240" y="4365360"/>
              <a:ext cx="144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16"/>
            <p:cNvSpPr/>
            <p:nvPr/>
          </p:nvSpPr>
          <p:spPr>
            <a:xfrm>
              <a:off x="7385040" y="4372560"/>
              <a:ext cx="360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17"/>
            <p:cNvSpPr/>
            <p:nvPr/>
          </p:nvSpPr>
          <p:spPr>
            <a:xfrm>
              <a:off x="7388640" y="4383000"/>
              <a:ext cx="360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18"/>
            <p:cNvSpPr/>
            <p:nvPr/>
          </p:nvSpPr>
          <p:spPr>
            <a:xfrm>
              <a:off x="7392240" y="4393800"/>
              <a:ext cx="144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19"/>
            <p:cNvSpPr/>
            <p:nvPr/>
          </p:nvSpPr>
          <p:spPr>
            <a:xfrm>
              <a:off x="7393680" y="4407840"/>
              <a:ext cx="144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20"/>
            <p:cNvSpPr/>
            <p:nvPr/>
          </p:nvSpPr>
          <p:spPr>
            <a:xfrm>
              <a:off x="7395480" y="4420440"/>
              <a:ext cx="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21"/>
            <p:cNvSpPr/>
            <p:nvPr/>
          </p:nvSpPr>
          <p:spPr>
            <a:xfrm>
              <a:off x="7395480" y="4434480"/>
              <a:ext cx="18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22"/>
            <p:cNvSpPr/>
            <p:nvPr/>
          </p:nvSpPr>
          <p:spPr>
            <a:xfrm>
              <a:off x="7395480" y="4446720"/>
              <a:ext cx="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Line 23"/>
            <p:cNvSpPr/>
            <p:nvPr/>
          </p:nvSpPr>
          <p:spPr>
            <a:xfrm flipH="1">
              <a:off x="7386480" y="4459320"/>
              <a:ext cx="8640" cy="24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Line 24"/>
            <p:cNvSpPr/>
            <p:nvPr/>
          </p:nvSpPr>
          <p:spPr>
            <a:xfrm flipH="1">
              <a:off x="7383240" y="4484160"/>
              <a:ext cx="2880" cy="28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Line 25"/>
            <p:cNvSpPr/>
            <p:nvPr/>
          </p:nvSpPr>
          <p:spPr>
            <a:xfrm flipV="1">
              <a:off x="7383240" y="4482000"/>
              <a:ext cx="17640" cy="29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Line 26"/>
            <p:cNvSpPr/>
            <p:nvPr/>
          </p:nvSpPr>
          <p:spPr>
            <a:xfrm flipV="1">
              <a:off x="7400880" y="4455360"/>
              <a:ext cx="24480" cy="26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Line 27"/>
            <p:cNvSpPr/>
            <p:nvPr/>
          </p:nvSpPr>
          <p:spPr>
            <a:xfrm flipV="1">
              <a:off x="7425360" y="4450320"/>
              <a:ext cx="54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Line 28"/>
            <p:cNvSpPr/>
            <p:nvPr/>
          </p:nvSpPr>
          <p:spPr>
            <a:xfrm flipV="1">
              <a:off x="7431120" y="4445280"/>
              <a:ext cx="288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Line 29"/>
            <p:cNvSpPr/>
            <p:nvPr/>
          </p:nvSpPr>
          <p:spPr>
            <a:xfrm flipV="1">
              <a:off x="7434360" y="4438080"/>
              <a:ext cx="36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Line 30"/>
            <p:cNvSpPr/>
            <p:nvPr/>
          </p:nvSpPr>
          <p:spPr>
            <a:xfrm flipV="1">
              <a:off x="7437960" y="4430880"/>
              <a:ext cx="36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Line 31"/>
            <p:cNvSpPr/>
            <p:nvPr/>
          </p:nvSpPr>
          <p:spPr>
            <a:xfrm flipV="1">
              <a:off x="7441560" y="4421880"/>
              <a:ext cx="18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Line 32"/>
            <p:cNvSpPr/>
            <p:nvPr/>
          </p:nvSpPr>
          <p:spPr>
            <a:xfrm flipV="1">
              <a:off x="7443360" y="441504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Line 33"/>
            <p:cNvSpPr/>
            <p:nvPr/>
          </p:nvSpPr>
          <p:spPr>
            <a:xfrm flipV="1">
              <a:off x="7445160" y="4407840"/>
              <a:ext cx="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Line 34"/>
            <p:cNvSpPr/>
            <p:nvPr/>
          </p:nvSpPr>
          <p:spPr>
            <a:xfrm flipH="1" flipV="1">
              <a:off x="7443360" y="4400640"/>
              <a:ext cx="144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35"/>
            <p:cNvSpPr/>
            <p:nvPr/>
          </p:nvSpPr>
          <p:spPr>
            <a:xfrm>
              <a:off x="7443360" y="4400640"/>
              <a:ext cx="648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36"/>
            <p:cNvSpPr/>
            <p:nvPr/>
          </p:nvSpPr>
          <p:spPr>
            <a:xfrm>
              <a:off x="7450200" y="4407840"/>
              <a:ext cx="504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37"/>
            <p:cNvSpPr/>
            <p:nvPr/>
          </p:nvSpPr>
          <p:spPr>
            <a:xfrm>
              <a:off x="7455600" y="4416840"/>
              <a:ext cx="360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38"/>
            <p:cNvSpPr/>
            <p:nvPr/>
          </p:nvSpPr>
          <p:spPr>
            <a:xfrm>
              <a:off x="7459200" y="4427280"/>
              <a:ext cx="18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39"/>
            <p:cNvSpPr/>
            <p:nvPr/>
          </p:nvSpPr>
          <p:spPr>
            <a:xfrm>
              <a:off x="7461360" y="4439520"/>
              <a:ext cx="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40"/>
            <p:cNvSpPr/>
            <p:nvPr/>
          </p:nvSpPr>
          <p:spPr>
            <a:xfrm flipH="1">
              <a:off x="7458840" y="4452120"/>
              <a:ext cx="18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Line 41"/>
            <p:cNvSpPr/>
            <p:nvPr/>
          </p:nvSpPr>
          <p:spPr>
            <a:xfrm flipH="1">
              <a:off x="7455600" y="4464360"/>
              <a:ext cx="360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Line 42"/>
            <p:cNvSpPr/>
            <p:nvPr/>
          </p:nvSpPr>
          <p:spPr>
            <a:xfrm flipH="1">
              <a:off x="7452360" y="4475520"/>
              <a:ext cx="288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43"/>
            <p:cNvSpPr/>
            <p:nvPr/>
          </p:nvSpPr>
          <p:spPr>
            <a:xfrm flipH="1">
              <a:off x="7441560" y="4485960"/>
              <a:ext cx="10800" cy="22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44"/>
            <p:cNvSpPr/>
            <p:nvPr/>
          </p:nvSpPr>
          <p:spPr>
            <a:xfrm flipH="1">
              <a:off x="7436160" y="4508640"/>
              <a:ext cx="5040" cy="23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45"/>
            <p:cNvSpPr/>
            <p:nvPr/>
          </p:nvSpPr>
          <p:spPr>
            <a:xfrm flipH="1">
              <a:off x="7434000" y="4532040"/>
              <a:ext cx="180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46"/>
            <p:cNvSpPr/>
            <p:nvPr/>
          </p:nvSpPr>
          <p:spPr>
            <a:xfrm>
              <a:off x="7434360" y="4535280"/>
              <a:ext cx="180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47"/>
            <p:cNvSpPr/>
            <p:nvPr/>
          </p:nvSpPr>
          <p:spPr>
            <a:xfrm>
              <a:off x="7434360" y="4538880"/>
              <a:ext cx="180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48"/>
            <p:cNvSpPr/>
            <p:nvPr/>
          </p:nvSpPr>
          <p:spPr>
            <a:xfrm>
              <a:off x="7436160" y="4544280"/>
              <a:ext cx="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49"/>
            <p:cNvSpPr/>
            <p:nvPr/>
          </p:nvSpPr>
          <p:spPr>
            <a:xfrm>
              <a:off x="7436160" y="4547520"/>
              <a:ext cx="144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50"/>
            <p:cNvSpPr/>
            <p:nvPr/>
          </p:nvSpPr>
          <p:spPr>
            <a:xfrm>
              <a:off x="7437960" y="4553280"/>
              <a:ext cx="18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51"/>
            <p:cNvSpPr/>
            <p:nvPr/>
          </p:nvSpPr>
          <p:spPr>
            <a:xfrm>
              <a:off x="7439760" y="4558680"/>
              <a:ext cx="144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52"/>
            <p:cNvSpPr/>
            <p:nvPr/>
          </p:nvSpPr>
          <p:spPr>
            <a:xfrm>
              <a:off x="7441560" y="4562280"/>
              <a:ext cx="18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Line 53"/>
            <p:cNvSpPr/>
            <p:nvPr/>
          </p:nvSpPr>
          <p:spPr>
            <a:xfrm flipV="1">
              <a:off x="7443360" y="4543920"/>
              <a:ext cx="10440" cy="22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54"/>
            <p:cNvSpPr/>
            <p:nvPr/>
          </p:nvSpPr>
          <p:spPr>
            <a:xfrm flipV="1">
              <a:off x="7453800" y="4524840"/>
              <a:ext cx="14040" cy="19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Line 55"/>
            <p:cNvSpPr/>
            <p:nvPr/>
          </p:nvSpPr>
          <p:spPr>
            <a:xfrm flipV="1">
              <a:off x="7468200" y="4521240"/>
              <a:ext cx="180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Line 56"/>
            <p:cNvSpPr/>
            <p:nvPr/>
          </p:nvSpPr>
          <p:spPr>
            <a:xfrm flipV="1">
              <a:off x="7470000" y="4515840"/>
              <a:ext cx="288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Line 57"/>
            <p:cNvSpPr/>
            <p:nvPr/>
          </p:nvSpPr>
          <p:spPr>
            <a:xfrm flipV="1">
              <a:off x="7473240" y="4510800"/>
              <a:ext cx="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Line 58"/>
            <p:cNvSpPr/>
            <p:nvPr/>
          </p:nvSpPr>
          <p:spPr>
            <a:xfrm flipV="1">
              <a:off x="7473240" y="4504680"/>
              <a:ext cx="180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59"/>
            <p:cNvSpPr/>
            <p:nvPr/>
          </p:nvSpPr>
          <p:spPr>
            <a:xfrm flipV="1">
              <a:off x="7475400" y="4500000"/>
              <a:ext cx="144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60"/>
            <p:cNvSpPr/>
            <p:nvPr/>
          </p:nvSpPr>
          <p:spPr>
            <a:xfrm flipV="1">
              <a:off x="7476840" y="4493160"/>
              <a:ext cx="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61"/>
            <p:cNvSpPr/>
            <p:nvPr/>
          </p:nvSpPr>
          <p:spPr>
            <a:xfrm flipH="1" flipV="1">
              <a:off x="7475400" y="4489560"/>
              <a:ext cx="144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62"/>
            <p:cNvSpPr/>
            <p:nvPr/>
          </p:nvSpPr>
          <p:spPr>
            <a:xfrm flipH="1" flipV="1">
              <a:off x="7472880" y="4482360"/>
              <a:ext cx="18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63"/>
            <p:cNvSpPr/>
            <p:nvPr/>
          </p:nvSpPr>
          <p:spPr>
            <a:xfrm>
              <a:off x="7473240" y="4482360"/>
              <a:ext cx="72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64"/>
            <p:cNvSpPr/>
            <p:nvPr/>
          </p:nvSpPr>
          <p:spPr>
            <a:xfrm>
              <a:off x="7480440" y="4494600"/>
              <a:ext cx="360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Line 65"/>
            <p:cNvSpPr/>
            <p:nvPr/>
          </p:nvSpPr>
          <p:spPr>
            <a:xfrm>
              <a:off x="7484040" y="4508640"/>
              <a:ext cx="0" cy="14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Line 66"/>
            <p:cNvSpPr/>
            <p:nvPr/>
          </p:nvSpPr>
          <p:spPr>
            <a:xfrm>
              <a:off x="7484040" y="4523040"/>
              <a:ext cx="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Line 67"/>
            <p:cNvSpPr/>
            <p:nvPr/>
          </p:nvSpPr>
          <p:spPr>
            <a:xfrm flipH="1">
              <a:off x="7480440" y="4537080"/>
              <a:ext cx="360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Line 68"/>
            <p:cNvSpPr/>
            <p:nvPr/>
          </p:nvSpPr>
          <p:spPr>
            <a:xfrm flipH="1">
              <a:off x="7475400" y="4553280"/>
              <a:ext cx="5040" cy="15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Line 69"/>
            <p:cNvSpPr/>
            <p:nvPr/>
          </p:nvSpPr>
          <p:spPr>
            <a:xfrm flipH="1">
              <a:off x="7468200" y="4569120"/>
              <a:ext cx="72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Line 70"/>
            <p:cNvSpPr/>
            <p:nvPr/>
          </p:nvSpPr>
          <p:spPr>
            <a:xfrm flipH="1">
              <a:off x="7459200" y="4581360"/>
              <a:ext cx="864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Line 71"/>
            <p:cNvSpPr/>
            <p:nvPr/>
          </p:nvSpPr>
          <p:spPr>
            <a:xfrm flipH="1">
              <a:off x="7435800" y="4593960"/>
              <a:ext cx="22680" cy="21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72"/>
            <p:cNvSpPr/>
            <p:nvPr/>
          </p:nvSpPr>
          <p:spPr>
            <a:xfrm flipH="1">
              <a:off x="7410960" y="4615200"/>
              <a:ext cx="2484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73"/>
            <p:cNvSpPr/>
            <p:nvPr/>
          </p:nvSpPr>
          <p:spPr>
            <a:xfrm flipH="1">
              <a:off x="7383240" y="4631040"/>
              <a:ext cx="2808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74"/>
            <p:cNvSpPr/>
            <p:nvPr/>
          </p:nvSpPr>
          <p:spPr>
            <a:xfrm flipH="1">
              <a:off x="7353000" y="4641480"/>
              <a:ext cx="2988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75"/>
            <p:cNvSpPr/>
            <p:nvPr/>
          </p:nvSpPr>
          <p:spPr>
            <a:xfrm flipH="1">
              <a:off x="7320600" y="4649040"/>
              <a:ext cx="32040" cy="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76"/>
            <p:cNvSpPr/>
            <p:nvPr/>
          </p:nvSpPr>
          <p:spPr>
            <a:xfrm flipH="1">
              <a:off x="7274880" y="4649040"/>
              <a:ext cx="457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Line 77"/>
            <p:cNvSpPr/>
            <p:nvPr/>
          </p:nvSpPr>
          <p:spPr>
            <a:xfrm flipH="1" flipV="1">
              <a:off x="7241040" y="4641480"/>
              <a:ext cx="3348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Line 78"/>
            <p:cNvSpPr/>
            <p:nvPr/>
          </p:nvSpPr>
          <p:spPr>
            <a:xfrm flipH="1" flipV="1">
              <a:off x="7211160" y="4627080"/>
              <a:ext cx="2988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Line 79"/>
            <p:cNvSpPr/>
            <p:nvPr/>
          </p:nvSpPr>
          <p:spPr>
            <a:xfrm flipH="1" flipV="1">
              <a:off x="7184520" y="4609440"/>
              <a:ext cx="2628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80"/>
            <p:cNvSpPr/>
            <p:nvPr/>
          </p:nvSpPr>
          <p:spPr>
            <a:xfrm flipH="1" flipV="1">
              <a:off x="7161480" y="4586760"/>
              <a:ext cx="23040" cy="23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81"/>
            <p:cNvSpPr/>
            <p:nvPr/>
          </p:nvSpPr>
          <p:spPr>
            <a:xfrm flipH="1" flipV="1">
              <a:off x="7143480" y="4559760"/>
              <a:ext cx="17640" cy="26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Line 82"/>
            <p:cNvSpPr/>
            <p:nvPr/>
          </p:nvSpPr>
          <p:spPr>
            <a:xfrm flipH="1" flipV="1">
              <a:off x="7140240" y="4542120"/>
              <a:ext cx="360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Line 83"/>
            <p:cNvSpPr/>
            <p:nvPr/>
          </p:nvSpPr>
          <p:spPr>
            <a:xfrm flipH="1" flipV="1">
              <a:off x="7133400" y="4526280"/>
              <a:ext cx="648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Line 84"/>
            <p:cNvSpPr/>
            <p:nvPr/>
          </p:nvSpPr>
          <p:spPr>
            <a:xfrm flipH="1" flipV="1">
              <a:off x="7122600" y="4511880"/>
              <a:ext cx="1080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85"/>
            <p:cNvSpPr/>
            <p:nvPr/>
          </p:nvSpPr>
          <p:spPr>
            <a:xfrm>
              <a:off x="7122600" y="4512240"/>
              <a:ext cx="1584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Line 86"/>
            <p:cNvSpPr/>
            <p:nvPr/>
          </p:nvSpPr>
          <p:spPr>
            <a:xfrm>
              <a:off x="7138800" y="4515840"/>
              <a:ext cx="1404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87"/>
            <p:cNvSpPr/>
            <p:nvPr/>
          </p:nvSpPr>
          <p:spPr>
            <a:xfrm>
              <a:off x="7152840" y="4524840"/>
              <a:ext cx="1224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Line 88"/>
            <p:cNvSpPr/>
            <p:nvPr/>
          </p:nvSpPr>
          <p:spPr>
            <a:xfrm>
              <a:off x="7165440" y="4533480"/>
              <a:ext cx="864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Line 89"/>
            <p:cNvSpPr/>
            <p:nvPr/>
          </p:nvSpPr>
          <p:spPr>
            <a:xfrm flipV="1">
              <a:off x="7174080" y="4528080"/>
              <a:ext cx="720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Line 90"/>
            <p:cNvSpPr/>
            <p:nvPr/>
          </p:nvSpPr>
          <p:spPr>
            <a:xfrm flipV="1">
              <a:off x="7181280" y="4512240"/>
              <a:ext cx="864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Line 91"/>
            <p:cNvSpPr/>
            <p:nvPr/>
          </p:nvSpPr>
          <p:spPr>
            <a:xfrm flipV="1">
              <a:off x="7190280" y="4500000"/>
              <a:ext cx="504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Line 92"/>
            <p:cNvSpPr/>
            <p:nvPr/>
          </p:nvSpPr>
          <p:spPr>
            <a:xfrm flipV="1">
              <a:off x="7195320" y="4487400"/>
              <a:ext cx="18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Line 93"/>
            <p:cNvSpPr/>
            <p:nvPr/>
          </p:nvSpPr>
          <p:spPr>
            <a:xfrm flipV="1">
              <a:off x="7197480" y="4475160"/>
              <a:ext cx="1440" cy="11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Line 94"/>
            <p:cNvSpPr/>
            <p:nvPr/>
          </p:nvSpPr>
          <p:spPr>
            <a:xfrm flipH="1" flipV="1">
              <a:off x="7193880" y="4462920"/>
              <a:ext cx="36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Line 95"/>
            <p:cNvSpPr/>
            <p:nvPr/>
          </p:nvSpPr>
          <p:spPr>
            <a:xfrm flipH="1" flipV="1">
              <a:off x="7188480" y="4452120"/>
              <a:ext cx="50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Line 96"/>
            <p:cNvSpPr/>
            <p:nvPr/>
          </p:nvSpPr>
          <p:spPr>
            <a:xfrm flipH="1" flipV="1">
              <a:off x="7181280" y="4443120"/>
              <a:ext cx="72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Line 97"/>
            <p:cNvSpPr/>
            <p:nvPr/>
          </p:nvSpPr>
          <p:spPr>
            <a:xfrm flipH="1" flipV="1">
              <a:off x="7170480" y="4434480"/>
              <a:ext cx="108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Line 98"/>
            <p:cNvSpPr/>
            <p:nvPr/>
          </p:nvSpPr>
          <p:spPr>
            <a:xfrm flipH="1" flipV="1">
              <a:off x="7159680" y="4427280"/>
              <a:ext cx="1044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Line 99"/>
            <p:cNvSpPr/>
            <p:nvPr/>
          </p:nvSpPr>
          <p:spPr>
            <a:xfrm>
              <a:off x="7160040" y="4427280"/>
              <a:ext cx="1584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Line 100"/>
            <p:cNvSpPr/>
            <p:nvPr/>
          </p:nvSpPr>
          <p:spPr>
            <a:xfrm>
              <a:off x="7176240" y="4432680"/>
              <a:ext cx="140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Line 101"/>
            <p:cNvSpPr/>
            <p:nvPr/>
          </p:nvSpPr>
          <p:spPr>
            <a:xfrm>
              <a:off x="7190280" y="4439520"/>
              <a:ext cx="122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Line 102"/>
            <p:cNvSpPr/>
            <p:nvPr/>
          </p:nvSpPr>
          <p:spPr>
            <a:xfrm>
              <a:off x="7202520" y="4450320"/>
              <a:ext cx="1044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Line 103"/>
            <p:cNvSpPr/>
            <p:nvPr/>
          </p:nvSpPr>
          <p:spPr>
            <a:xfrm flipV="1">
              <a:off x="7212960" y="4439520"/>
              <a:ext cx="7200" cy="23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Line 104"/>
            <p:cNvSpPr/>
            <p:nvPr/>
          </p:nvSpPr>
          <p:spPr>
            <a:xfrm flipV="1">
              <a:off x="7220160" y="4417920"/>
              <a:ext cx="8640" cy="21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Line 105"/>
            <p:cNvSpPr/>
            <p:nvPr/>
          </p:nvSpPr>
          <p:spPr>
            <a:xfrm flipV="1">
              <a:off x="7229160" y="4407480"/>
              <a:ext cx="504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Line 106"/>
            <p:cNvSpPr/>
            <p:nvPr/>
          </p:nvSpPr>
          <p:spPr>
            <a:xfrm flipV="1">
              <a:off x="7234200" y="4397040"/>
              <a:ext cx="180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Line 107"/>
            <p:cNvSpPr/>
            <p:nvPr/>
          </p:nvSpPr>
          <p:spPr>
            <a:xfrm flipV="1">
              <a:off x="7236360" y="4386600"/>
              <a:ext cx="14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Line 108"/>
            <p:cNvSpPr/>
            <p:nvPr/>
          </p:nvSpPr>
          <p:spPr>
            <a:xfrm flipH="1" flipV="1">
              <a:off x="7236360" y="4374000"/>
              <a:ext cx="144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Line 109"/>
            <p:cNvSpPr/>
            <p:nvPr/>
          </p:nvSpPr>
          <p:spPr>
            <a:xfrm flipH="1" flipV="1">
              <a:off x="7233840" y="4363200"/>
              <a:ext cx="180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Line 110"/>
            <p:cNvSpPr/>
            <p:nvPr/>
          </p:nvSpPr>
          <p:spPr>
            <a:xfrm flipH="1" flipV="1">
              <a:off x="7227360" y="4352760"/>
              <a:ext cx="648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Line 111"/>
            <p:cNvSpPr/>
            <p:nvPr/>
          </p:nvSpPr>
          <p:spPr>
            <a:xfrm flipH="1" flipV="1">
              <a:off x="7221600" y="4344120"/>
              <a:ext cx="54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Line 112"/>
            <p:cNvSpPr/>
            <p:nvPr/>
          </p:nvSpPr>
          <p:spPr>
            <a:xfrm flipH="1" flipV="1">
              <a:off x="7212960" y="4337280"/>
              <a:ext cx="86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Line 113"/>
            <p:cNvSpPr/>
            <p:nvPr/>
          </p:nvSpPr>
          <p:spPr>
            <a:xfrm flipH="1" flipV="1">
              <a:off x="7206120" y="4331160"/>
              <a:ext cx="648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Line 114"/>
            <p:cNvSpPr/>
            <p:nvPr/>
          </p:nvSpPr>
          <p:spPr>
            <a:xfrm flipH="1" flipV="1">
              <a:off x="7202520" y="4324680"/>
              <a:ext cx="360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Line 115"/>
            <p:cNvSpPr/>
            <p:nvPr/>
          </p:nvSpPr>
          <p:spPr>
            <a:xfrm flipH="1" flipV="1">
              <a:off x="7198920" y="4316040"/>
              <a:ext cx="36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Line 116"/>
            <p:cNvSpPr/>
            <p:nvPr/>
          </p:nvSpPr>
          <p:spPr>
            <a:xfrm>
              <a:off x="7198920" y="4316040"/>
              <a:ext cx="50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Line 117"/>
            <p:cNvSpPr/>
            <p:nvPr/>
          </p:nvSpPr>
          <p:spPr>
            <a:xfrm>
              <a:off x="7204320" y="4322880"/>
              <a:ext cx="864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Line 118"/>
            <p:cNvSpPr/>
            <p:nvPr/>
          </p:nvSpPr>
          <p:spPr>
            <a:xfrm>
              <a:off x="7212960" y="4326480"/>
              <a:ext cx="720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Line 119"/>
            <p:cNvSpPr/>
            <p:nvPr/>
          </p:nvSpPr>
          <p:spPr>
            <a:xfrm>
              <a:off x="7220160" y="4330080"/>
              <a:ext cx="28080" cy="19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Line 120"/>
            <p:cNvSpPr/>
            <p:nvPr/>
          </p:nvSpPr>
          <p:spPr>
            <a:xfrm>
              <a:off x="7248240" y="4349160"/>
              <a:ext cx="23040" cy="23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Line 121"/>
            <p:cNvSpPr/>
            <p:nvPr/>
          </p:nvSpPr>
          <p:spPr>
            <a:xfrm>
              <a:off x="7271640" y="4372560"/>
              <a:ext cx="19080" cy="28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Line 122"/>
            <p:cNvSpPr/>
            <p:nvPr/>
          </p:nvSpPr>
          <p:spPr>
            <a:xfrm flipV="1">
              <a:off x="7291080" y="4386240"/>
              <a:ext cx="180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Line 123"/>
            <p:cNvSpPr/>
            <p:nvPr/>
          </p:nvSpPr>
          <p:spPr>
            <a:xfrm flipV="1">
              <a:off x="7292880" y="4374000"/>
              <a:ext cx="144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Line 124"/>
            <p:cNvSpPr/>
            <p:nvPr/>
          </p:nvSpPr>
          <p:spPr>
            <a:xfrm flipH="1" flipV="1">
              <a:off x="7292880" y="4359600"/>
              <a:ext cx="144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125"/>
            <p:cNvSpPr/>
            <p:nvPr/>
          </p:nvSpPr>
          <p:spPr>
            <a:xfrm flipH="1" flipV="1">
              <a:off x="7290720" y="4347720"/>
              <a:ext cx="18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Line 126"/>
            <p:cNvSpPr/>
            <p:nvPr/>
          </p:nvSpPr>
          <p:spPr>
            <a:xfrm flipH="1" flipV="1">
              <a:off x="7287480" y="4335120"/>
              <a:ext cx="36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Line 127"/>
            <p:cNvSpPr/>
            <p:nvPr/>
          </p:nvSpPr>
          <p:spPr>
            <a:xfrm flipH="1" flipV="1">
              <a:off x="7280640" y="4324320"/>
              <a:ext cx="648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Line 128"/>
            <p:cNvSpPr/>
            <p:nvPr/>
          </p:nvSpPr>
          <p:spPr>
            <a:xfrm flipH="1" flipV="1">
              <a:off x="7273440" y="4316040"/>
              <a:ext cx="72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Line 129"/>
            <p:cNvSpPr/>
            <p:nvPr/>
          </p:nvSpPr>
          <p:spPr>
            <a:xfrm flipH="1" flipV="1">
              <a:off x="7266600" y="4308480"/>
              <a:ext cx="648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Line 130"/>
            <p:cNvSpPr/>
            <p:nvPr/>
          </p:nvSpPr>
          <p:spPr>
            <a:xfrm flipH="1" flipV="1">
              <a:off x="7260480" y="4290480"/>
              <a:ext cx="540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Line 131"/>
            <p:cNvSpPr/>
            <p:nvPr/>
          </p:nvSpPr>
          <p:spPr>
            <a:xfrm flipH="1" flipV="1">
              <a:off x="7259400" y="4272840"/>
              <a:ext cx="144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Line 132"/>
            <p:cNvSpPr/>
            <p:nvPr/>
          </p:nvSpPr>
          <p:spPr>
            <a:xfrm flipV="1">
              <a:off x="7259400" y="4253760"/>
              <a:ext cx="0" cy="19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Line 133"/>
            <p:cNvSpPr/>
            <p:nvPr/>
          </p:nvSpPr>
          <p:spPr>
            <a:xfrm flipV="1">
              <a:off x="7259400" y="4235760"/>
              <a:ext cx="144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Line 134"/>
            <p:cNvSpPr/>
            <p:nvPr/>
          </p:nvSpPr>
          <p:spPr>
            <a:xfrm flipV="1">
              <a:off x="7260840" y="4217760"/>
              <a:ext cx="360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Line 135"/>
            <p:cNvSpPr/>
            <p:nvPr/>
          </p:nvSpPr>
          <p:spPr>
            <a:xfrm flipV="1">
              <a:off x="7264440" y="4202280"/>
              <a:ext cx="720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Line 136"/>
            <p:cNvSpPr/>
            <p:nvPr/>
          </p:nvSpPr>
          <p:spPr>
            <a:xfrm flipV="1">
              <a:off x="7271640" y="4189680"/>
              <a:ext cx="8640" cy="11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Line 137"/>
            <p:cNvSpPr/>
            <p:nvPr/>
          </p:nvSpPr>
          <p:spPr>
            <a:xfrm flipV="1">
              <a:off x="7280640" y="4179240"/>
              <a:ext cx="104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138"/>
            <p:cNvSpPr/>
            <p:nvPr/>
          </p:nvSpPr>
          <p:spPr>
            <a:xfrm flipH="1">
              <a:off x="7287480" y="4179240"/>
              <a:ext cx="360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Line 139"/>
            <p:cNvSpPr/>
            <p:nvPr/>
          </p:nvSpPr>
          <p:spPr>
            <a:xfrm>
              <a:off x="7287480" y="4190040"/>
              <a:ext cx="0" cy="11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Line 140"/>
            <p:cNvSpPr/>
            <p:nvPr/>
          </p:nvSpPr>
          <p:spPr>
            <a:xfrm>
              <a:off x="7287480" y="4202280"/>
              <a:ext cx="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141"/>
            <p:cNvSpPr/>
            <p:nvPr/>
          </p:nvSpPr>
          <p:spPr>
            <a:xfrm>
              <a:off x="7287480" y="4214520"/>
              <a:ext cx="36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Line 142"/>
            <p:cNvSpPr/>
            <p:nvPr/>
          </p:nvSpPr>
          <p:spPr>
            <a:xfrm>
              <a:off x="7291080" y="4227120"/>
              <a:ext cx="540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Line 143"/>
            <p:cNvSpPr/>
            <p:nvPr/>
          </p:nvSpPr>
          <p:spPr>
            <a:xfrm>
              <a:off x="7296480" y="4241160"/>
              <a:ext cx="648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Line 144"/>
            <p:cNvSpPr/>
            <p:nvPr/>
          </p:nvSpPr>
          <p:spPr>
            <a:xfrm>
              <a:off x="7303320" y="4253760"/>
              <a:ext cx="86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Line 145"/>
            <p:cNvSpPr/>
            <p:nvPr/>
          </p:nvSpPr>
          <p:spPr>
            <a:xfrm>
              <a:off x="7312320" y="4264560"/>
              <a:ext cx="864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Line 146"/>
            <p:cNvSpPr/>
            <p:nvPr/>
          </p:nvSpPr>
          <p:spPr>
            <a:xfrm>
              <a:off x="7320960" y="4275000"/>
              <a:ext cx="864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Line 147"/>
            <p:cNvSpPr/>
            <p:nvPr/>
          </p:nvSpPr>
          <p:spPr>
            <a:xfrm>
              <a:off x="7329960" y="4283640"/>
              <a:ext cx="720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Line 148"/>
            <p:cNvSpPr/>
            <p:nvPr/>
          </p:nvSpPr>
          <p:spPr>
            <a:xfrm>
              <a:off x="7337160" y="4294440"/>
              <a:ext cx="720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149"/>
            <p:cNvSpPr/>
            <p:nvPr/>
          </p:nvSpPr>
          <p:spPr>
            <a:xfrm>
              <a:off x="7344360" y="4308480"/>
              <a:ext cx="504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150"/>
            <p:cNvSpPr/>
            <p:nvPr/>
          </p:nvSpPr>
          <p:spPr>
            <a:xfrm>
              <a:off x="7349400" y="4322880"/>
              <a:ext cx="360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Line 151"/>
            <p:cNvSpPr/>
            <p:nvPr/>
          </p:nvSpPr>
          <p:spPr>
            <a:xfrm>
              <a:off x="7353360" y="4338720"/>
              <a:ext cx="144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Line 152"/>
            <p:cNvSpPr/>
            <p:nvPr/>
          </p:nvSpPr>
          <p:spPr>
            <a:xfrm>
              <a:off x="7354800" y="4354920"/>
              <a:ext cx="0" cy="15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Line 153"/>
            <p:cNvSpPr/>
            <p:nvPr/>
          </p:nvSpPr>
          <p:spPr>
            <a:xfrm flipH="1">
              <a:off x="7351200" y="4370400"/>
              <a:ext cx="360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Line 154"/>
            <p:cNvSpPr/>
            <p:nvPr/>
          </p:nvSpPr>
          <p:spPr>
            <a:xfrm flipV="1">
              <a:off x="7351200" y="4383000"/>
              <a:ext cx="360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Line 155"/>
            <p:cNvSpPr/>
            <p:nvPr/>
          </p:nvSpPr>
          <p:spPr>
            <a:xfrm flipV="1">
              <a:off x="7354800" y="4379400"/>
              <a:ext cx="360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Line 156"/>
            <p:cNvSpPr/>
            <p:nvPr/>
          </p:nvSpPr>
          <p:spPr>
            <a:xfrm flipV="1">
              <a:off x="7358400" y="4374000"/>
              <a:ext cx="36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Line 157"/>
            <p:cNvSpPr/>
            <p:nvPr/>
          </p:nvSpPr>
          <p:spPr>
            <a:xfrm flipV="1">
              <a:off x="7362000" y="4368960"/>
              <a:ext cx="288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Line 158"/>
            <p:cNvSpPr/>
            <p:nvPr/>
          </p:nvSpPr>
          <p:spPr>
            <a:xfrm flipV="1">
              <a:off x="7365240" y="4361760"/>
              <a:ext cx="36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Line 159"/>
            <p:cNvSpPr/>
            <p:nvPr/>
          </p:nvSpPr>
          <p:spPr>
            <a:xfrm flipV="1">
              <a:off x="7368840" y="4356360"/>
              <a:ext cx="18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Line 160"/>
            <p:cNvSpPr/>
            <p:nvPr/>
          </p:nvSpPr>
          <p:spPr>
            <a:xfrm flipV="1">
              <a:off x="7371000" y="4349160"/>
              <a:ext cx="36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Line 161"/>
            <p:cNvSpPr/>
            <p:nvPr/>
          </p:nvSpPr>
          <p:spPr>
            <a:xfrm flipV="1">
              <a:off x="7374600" y="4344120"/>
              <a:ext cx="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Line 162"/>
            <p:cNvSpPr/>
            <p:nvPr/>
          </p:nvSpPr>
          <p:spPr>
            <a:xfrm flipH="1" flipV="1">
              <a:off x="7374600" y="4343760"/>
              <a:ext cx="8640" cy="21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163"/>
            <p:cNvSpPr/>
            <p:nvPr/>
          </p:nvSpPr>
          <p:spPr>
            <a:xfrm>
              <a:off x="7212960" y="4427280"/>
              <a:ext cx="178920" cy="221400"/>
            </a:xfrm>
            <a:custGeom>
              <a:avLst/>
              <a:gdLst>
                <a:gd name="textAreaLeft" fmla="*/ 0 w 178920"/>
                <a:gd name="textAreaRight" fmla="*/ 179280 w 17892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250" h="311">
                  <a:moveTo>
                    <a:pt x="154" y="311"/>
                  </a:moveTo>
                  <a:lnTo>
                    <a:pt x="123" y="311"/>
                  </a:lnTo>
                  <a:lnTo>
                    <a:pt x="94" y="298"/>
                  </a:lnTo>
                  <a:lnTo>
                    <a:pt x="77" y="286"/>
                  </a:lnTo>
                  <a:lnTo>
                    <a:pt x="63" y="271"/>
                  </a:lnTo>
                  <a:lnTo>
                    <a:pt x="50" y="252"/>
                  </a:lnTo>
                  <a:lnTo>
                    <a:pt x="42" y="231"/>
                  </a:lnTo>
                  <a:lnTo>
                    <a:pt x="37" y="222"/>
                  </a:lnTo>
                  <a:lnTo>
                    <a:pt x="30" y="213"/>
                  </a:lnTo>
                  <a:lnTo>
                    <a:pt x="21" y="206"/>
                  </a:lnTo>
                  <a:lnTo>
                    <a:pt x="11" y="200"/>
                  </a:lnTo>
                  <a:lnTo>
                    <a:pt x="0" y="197"/>
                  </a:lnTo>
                  <a:lnTo>
                    <a:pt x="9" y="193"/>
                  </a:lnTo>
                  <a:lnTo>
                    <a:pt x="19" y="191"/>
                  </a:lnTo>
                  <a:lnTo>
                    <a:pt x="29" y="191"/>
                  </a:lnTo>
                  <a:lnTo>
                    <a:pt x="39" y="193"/>
                  </a:lnTo>
                  <a:lnTo>
                    <a:pt x="49" y="197"/>
                  </a:lnTo>
                  <a:lnTo>
                    <a:pt x="43" y="189"/>
                  </a:lnTo>
                  <a:lnTo>
                    <a:pt x="40" y="181"/>
                  </a:lnTo>
                  <a:lnTo>
                    <a:pt x="37" y="172"/>
                  </a:lnTo>
                  <a:lnTo>
                    <a:pt x="37" y="163"/>
                  </a:lnTo>
                  <a:lnTo>
                    <a:pt x="38" y="154"/>
                  </a:lnTo>
                  <a:lnTo>
                    <a:pt x="37" y="145"/>
                  </a:lnTo>
                  <a:lnTo>
                    <a:pt x="34" y="136"/>
                  </a:lnTo>
                  <a:lnTo>
                    <a:pt x="29" y="128"/>
                  </a:lnTo>
                  <a:lnTo>
                    <a:pt x="36" y="130"/>
                  </a:lnTo>
                  <a:lnTo>
                    <a:pt x="42" y="133"/>
                  </a:lnTo>
                  <a:lnTo>
                    <a:pt x="48" y="137"/>
                  </a:lnTo>
                  <a:lnTo>
                    <a:pt x="53" y="142"/>
                  </a:lnTo>
                  <a:lnTo>
                    <a:pt x="57" y="147"/>
                  </a:lnTo>
                  <a:lnTo>
                    <a:pt x="61" y="153"/>
                  </a:lnTo>
                  <a:lnTo>
                    <a:pt x="64" y="161"/>
                  </a:lnTo>
                  <a:lnTo>
                    <a:pt x="67" y="169"/>
                  </a:lnTo>
                  <a:lnTo>
                    <a:pt x="69" y="177"/>
                  </a:lnTo>
                  <a:lnTo>
                    <a:pt x="73" y="191"/>
                  </a:lnTo>
                  <a:lnTo>
                    <a:pt x="80" y="204"/>
                  </a:lnTo>
                  <a:lnTo>
                    <a:pt x="89" y="216"/>
                  </a:lnTo>
                  <a:lnTo>
                    <a:pt x="100" y="226"/>
                  </a:lnTo>
                  <a:lnTo>
                    <a:pt x="99" y="226"/>
                  </a:lnTo>
                  <a:lnTo>
                    <a:pt x="93" y="212"/>
                  </a:lnTo>
                  <a:lnTo>
                    <a:pt x="89" y="198"/>
                  </a:lnTo>
                  <a:lnTo>
                    <a:pt x="87" y="183"/>
                  </a:lnTo>
                  <a:lnTo>
                    <a:pt x="86" y="168"/>
                  </a:lnTo>
                  <a:lnTo>
                    <a:pt x="87" y="153"/>
                  </a:lnTo>
                  <a:lnTo>
                    <a:pt x="86" y="138"/>
                  </a:lnTo>
                  <a:lnTo>
                    <a:pt x="84" y="123"/>
                  </a:lnTo>
                  <a:lnTo>
                    <a:pt x="79" y="109"/>
                  </a:lnTo>
                  <a:lnTo>
                    <a:pt x="74" y="100"/>
                  </a:lnTo>
                  <a:lnTo>
                    <a:pt x="70" y="90"/>
                  </a:lnTo>
                  <a:lnTo>
                    <a:pt x="69" y="79"/>
                  </a:lnTo>
                  <a:lnTo>
                    <a:pt x="69" y="69"/>
                  </a:lnTo>
                  <a:lnTo>
                    <a:pt x="73" y="76"/>
                  </a:lnTo>
                  <a:lnTo>
                    <a:pt x="79" y="83"/>
                  </a:lnTo>
                  <a:lnTo>
                    <a:pt x="86" y="90"/>
                  </a:lnTo>
                  <a:lnTo>
                    <a:pt x="93" y="95"/>
                  </a:lnTo>
                  <a:lnTo>
                    <a:pt x="101" y="99"/>
                  </a:lnTo>
                  <a:lnTo>
                    <a:pt x="108" y="104"/>
                  </a:lnTo>
                  <a:lnTo>
                    <a:pt x="114" y="111"/>
                  </a:lnTo>
                  <a:lnTo>
                    <a:pt x="118" y="118"/>
                  </a:lnTo>
                  <a:lnTo>
                    <a:pt x="124" y="106"/>
                  </a:lnTo>
                  <a:lnTo>
                    <a:pt x="127" y="90"/>
                  </a:lnTo>
                  <a:lnTo>
                    <a:pt x="128" y="71"/>
                  </a:lnTo>
                  <a:lnTo>
                    <a:pt x="126" y="51"/>
                  </a:lnTo>
                  <a:lnTo>
                    <a:pt x="122" y="35"/>
                  </a:lnTo>
                  <a:lnTo>
                    <a:pt x="121" y="21"/>
                  </a:lnTo>
                  <a:lnTo>
                    <a:pt x="123" y="9"/>
                  </a:lnTo>
                  <a:lnTo>
                    <a:pt x="128" y="0"/>
                  </a:lnTo>
                  <a:lnTo>
                    <a:pt x="127" y="11"/>
                  </a:lnTo>
                  <a:lnTo>
                    <a:pt x="130" y="24"/>
                  </a:lnTo>
                  <a:lnTo>
                    <a:pt x="136" y="38"/>
                  </a:lnTo>
                  <a:lnTo>
                    <a:pt x="144" y="53"/>
                  </a:lnTo>
                  <a:lnTo>
                    <a:pt x="159" y="90"/>
                  </a:lnTo>
                  <a:lnTo>
                    <a:pt x="161" y="124"/>
                  </a:lnTo>
                  <a:lnTo>
                    <a:pt x="152" y="153"/>
                  </a:lnTo>
                  <a:lnTo>
                    <a:pt x="132" y="177"/>
                  </a:lnTo>
                  <a:lnTo>
                    <a:pt x="163" y="170"/>
                  </a:lnTo>
                  <a:lnTo>
                    <a:pt x="188" y="153"/>
                  </a:lnTo>
                  <a:lnTo>
                    <a:pt x="206" y="124"/>
                  </a:lnTo>
                  <a:lnTo>
                    <a:pt x="205" y="158"/>
                  </a:lnTo>
                  <a:lnTo>
                    <a:pt x="193" y="186"/>
                  </a:lnTo>
                  <a:lnTo>
                    <a:pt x="170" y="208"/>
                  </a:lnTo>
                  <a:lnTo>
                    <a:pt x="201" y="201"/>
                  </a:lnTo>
                  <a:lnTo>
                    <a:pt x="226" y="183"/>
                  </a:lnTo>
                  <a:lnTo>
                    <a:pt x="243" y="155"/>
                  </a:lnTo>
                  <a:lnTo>
                    <a:pt x="250" y="200"/>
                  </a:lnTo>
                  <a:lnTo>
                    <a:pt x="241" y="239"/>
                  </a:lnTo>
                  <a:lnTo>
                    <a:pt x="216" y="274"/>
                  </a:lnTo>
                  <a:lnTo>
                    <a:pt x="185" y="298"/>
                  </a:lnTo>
                  <a:lnTo>
                    <a:pt x="154" y="3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Line 164"/>
            <p:cNvSpPr/>
            <p:nvPr/>
          </p:nvSpPr>
          <p:spPr>
            <a:xfrm flipH="1">
              <a:off x="7301520" y="4649040"/>
              <a:ext cx="21240" cy="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Line 165"/>
            <p:cNvSpPr/>
            <p:nvPr/>
          </p:nvSpPr>
          <p:spPr>
            <a:xfrm flipH="1" flipV="1">
              <a:off x="7280280" y="4640040"/>
              <a:ext cx="2124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Line 166"/>
            <p:cNvSpPr/>
            <p:nvPr/>
          </p:nvSpPr>
          <p:spPr>
            <a:xfrm flipH="1" flipV="1">
              <a:off x="7268040" y="4631040"/>
              <a:ext cx="1224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Line 167"/>
            <p:cNvSpPr/>
            <p:nvPr/>
          </p:nvSpPr>
          <p:spPr>
            <a:xfrm flipH="1" flipV="1">
              <a:off x="7259400" y="4620240"/>
              <a:ext cx="86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Line 168"/>
            <p:cNvSpPr/>
            <p:nvPr/>
          </p:nvSpPr>
          <p:spPr>
            <a:xfrm flipH="1" flipV="1">
              <a:off x="7248240" y="4605840"/>
              <a:ext cx="1080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Line 169"/>
            <p:cNvSpPr/>
            <p:nvPr/>
          </p:nvSpPr>
          <p:spPr>
            <a:xfrm flipH="1" flipV="1">
              <a:off x="7243200" y="4591800"/>
              <a:ext cx="504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Line 170"/>
            <p:cNvSpPr/>
            <p:nvPr/>
          </p:nvSpPr>
          <p:spPr>
            <a:xfrm flipH="1" flipV="1">
              <a:off x="7239600" y="4584960"/>
              <a:ext cx="36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Line 171"/>
            <p:cNvSpPr/>
            <p:nvPr/>
          </p:nvSpPr>
          <p:spPr>
            <a:xfrm flipH="1" flipV="1">
              <a:off x="7234200" y="4579920"/>
              <a:ext cx="504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Line 172"/>
            <p:cNvSpPr/>
            <p:nvPr/>
          </p:nvSpPr>
          <p:spPr>
            <a:xfrm flipH="1" flipV="1">
              <a:off x="7229160" y="4573800"/>
              <a:ext cx="504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Line 173"/>
            <p:cNvSpPr/>
            <p:nvPr/>
          </p:nvSpPr>
          <p:spPr>
            <a:xfrm flipH="1" flipV="1">
              <a:off x="7221960" y="4569120"/>
              <a:ext cx="72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Line 174"/>
            <p:cNvSpPr/>
            <p:nvPr/>
          </p:nvSpPr>
          <p:spPr>
            <a:xfrm flipH="1" flipV="1">
              <a:off x="7212960" y="4567320"/>
              <a:ext cx="86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Line 175"/>
            <p:cNvSpPr/>
            <p:nvPr/>
          </p:nvSpPr>
          <p:spPr>
            <a:xfrm flipV="1">
              <a:off x="7212960" y="4564800"/>
              <a:ext cx="72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Line 176"/>
            <p:cNvSpPr/>
            <p:nvPr/>
          </p:nvSpPr>
          <p:spPr>
            <a:xfrm flipV="1">
              <a:off x="7220160" y="4563720"/>
              <a:ext cx="7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Line 177"/>
            <p:cNvSpPr/>
            <p:nvPr/>
          </p:nvSpPr>
          <p:spPr>
            <a:xfrm>
              <a:off x="7227360" y="4563720"/>
              <a:ext cx="6480" cy="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Line 178"/>
            <p:cNvSpPr/>
            <p:nvPr/>
          </p:nvSpPr>
          <p:spPr>
            <a:xfrm>
              <a:off x="7234200" y="4563720"/>
              <a:ext cx="7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Line 179"/>
            <p:cNvSpPr/>
            <p:nvPr/>
          </p:nvSpPr>
          <p:spPr>
            <a:xfrm>
              <a:off x="7241400" y="4565160"/>
              <a:ext cx="64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Line 180"/>
            <p:cNvSpPr/>
            <p:nvPr/>
          </p:nvSpPr>
          <p:spPr>
            <a:xfrm flipH="1" flipV="1">
              <a:off x="7245000" y="4562280"/>
              <a:ext cx="288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Line 181"/>
            <p:cNvSpPr/>
            <p:nvPr/>
          </p:nvSpPr>
          <p:spPr>
            <a:xfrm flipH="1" flipV="1">
              <a:off x="7241400" y="4556160"/>
              <a:ext cx="360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Line 182"/>
            <p:cNvSpPr/>
            <p:nvPr/>
          </p:nvSpPr>
          <p:spPr>
            <a:xfrm flipH="1" flipV="1">
              <a:off x="7239240" y="4549680"/>
              <a:ext cx="180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Line 183"/>
            <p:cNvSpPr/>
            <p:nvPr/>
          </p:nvSpPr>
          <p:spPr>
            <a:xfrm flipV="1">
              <a:off x="7239600" y="4544280"/>
              <a:ext cx="18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Line 184"/>
            <p:cNvSpPr/>
            <p:nvPr/>
          </p:nvSpPr>
          <p:spPr>
            <a:xfrm flipV="1">
              <a:off x="7239600" y="4537080"/>
              <a:ext cx="18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Line 185"/>
            <p:cNvSpPr/>
            <p:nvPr/>
          </p:nvSpPr>
          <p:spPr>
            <a:xfrm flipH="1" flipV="1">
              <a:off x="7239240" y="4529880"/>
              <a:ext cx="18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Line 186"/>
            <p:cNvSpPr/>
            <p:nvPr/>
          </p:nvSpPr>
          <p:spPr>
            <a:xfrm flipH="1" flipV="1">
              <a:off x="7237800" y="4524840"/>
              <a:ext cx="144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Line 187"/>
            <p:cNvSpPr/>
            <p:nvPr/>
          </p:nvSpPr>
          <p:spPr>
            <a:xfrm flipH="1" flipV="1">
              <a:off x="7234200" y="4519440"/>
              <a:ext cx="36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Line 188"/>
            <p:cNvSpPr/>
            <p:nvPr/>
          </p:nvSpPr>
          <p:spPr>
            <a:xfrm>
              <a:off x="7234200" y="4519440"/>
              <a:ext cx="5040" cy="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Line 189"/>
            <p:cNvSpPr/>
            <p:nvPr/>
          </p:nvSpPr>
          <p:spPr>
            <a:xfrm>
              <a:off x="7239600" y="4519440"/>
              <a:ext cx="360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Line 190"/>
            <p:cNvSpPr/>
            <p:nvPr/>
          </p:nvSpPr>
          <p:spPr>
            <a:xfrm>
              <a:off x="7243200" y="4523040"/>
              <a:ext cx="5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Line 191"/>
            <p:cNvSpPr/>
            <p:nvPr/>
          </p:nvSpPr>
          <p:spPr>
            <a:xfrm>
              <a:off x="7248240" y="4524840"/>
              <a:ext cx="360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Line 192"/>
            <p:cNvSpPr/>
            <p:nvPr/>
          </p:nvSpPr>
          <p:spPr>
            <a:xfrm>
              <a:off x="7251840" y="4528440"/>
              <a:ext cx="180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Line 193"/>
            <p:cNvSpPr/>
            <p:nvPr/>
          </p:nvSpPr>
          <p:spPr>
            <a:xfrm>
              <a:off x="7254000" y="4532040"/>
              <a:ext cx="36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Line 194"/>
            <p:cNvSpPr/>
            <p:nvPr/>
          </p:nvSpPr>
          <p:spPr>
            <a:xfrm>
              <a:off x="7257600" y="4537080"/>
              <a:ext cx="144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Line 195"/>
            <p:cNvSpPr/>
            <p:nvPr/>
          </p:nvSpPr>
          <p:spPr>
            <a:xfrm>
              <a:off x="7259400" y="4542480"/>
              <a:ext cx="144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Line 196"/>
            <p:cNvSpPr/>
            <p:nvPr/>
          </p:nvSpPr>
          <p:spPr>
            <a:xfrm>
              <a:off x="7260840" y="4547520"/>
              <a:ext cx="180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Line 197"/>
            <p:cNvSpPr/>
            <p:nvPr/>
          </p:nvSpPr>
          <p:spPr>
            <a:xfrm>
              <a:off x="7263000" y="4553280"/>
              <a:ext cx="360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Line 198"/>
            <p:cNvSpPr/>
            <p:nvPr/>
          </p:nvSpPr>
          <p:spPr>
            <a:xfrm>
              <a:off x="7266600" y="4563720"/>
              <a:ext cx="288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Line 199"/>
            <p:cNvSpPr/>
            <p:nvPr/>
          </p:nvSpPr>
          <p:spPr>
            <a:xfrm>
              <a:off x="7269840" y="4572720"/>
              <a:ext cx="72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Line 200"/>
            <p:cNvSpPr/>
            <p:nvPr/>
          </p:nvSpPr>
          <p:spPr>
            <a:xfrm>
              <a:off x="7277040" y="4581360"/>
              <a:ext cx="72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Line 201"/>
            <p:cNvSpPr/>
            <p:nvPr/>
          </p:nvSpPr>
          <p:spPr>
            <a:xfrm flipH="1" flipV="1">
              <a:off x="7280640" y="4577760"/>
              <a:ext cx="360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202"/>
            <p:cNvSpPr/>
            <p:nvPr/>
          </p:nvSpPr>
          <p:spPr>
            <a:xfrm flipH="1" flipV="1">
              <a:off x="7277040" y="4569120"/>
              <a:ext cx="36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Line 203"/>
            <p:cNvSpPr/>
            <p:nvPr/>
          </p:nvSpPr>
          <p:spPr>
            <a:xfrm flipH="1" flipV="1">
              <a:off x="7275240" y="4558320"/>
              <a:ext cx="144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Line 204"/>
            <p:cNvSpPr/>
            <p:nvPr/>
          </p:nvSpPr>
          <p:spPr>
            <a:xfrm flipV="1">
              <a:off x="7275240" y="4547520"/>
              <a:ext cx="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205"/>
            <p:cNvSpPr/>
            <p:nvPr/>
          </p:nvSpPr>
          <p:spPr>
            <a:xfrm flipV="1">
              <a:off x="7275240" y="4536720"/>
              <a:ext cx="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Line 206"/>
            <p:cNvSpPr/>
            <p:nvPr/>
          </p:nvSpPr>
          <p:spPr>
            <a:xfrm flipV="1">
              <a:off x="7275240" y="4526280"/>
              <a:ext cx="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Line 207"/>
            <p:cNvSpPr/>
            <p:nvPr/>
          </p:nvSpPr>
          <p:spPr>
            <a:xfrm flipH="1" flipV="1">
              <a:off x="7273080" y="4515480"/>
              <a:ext cx="180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Line 208"/>
            <p:cNvSpPr/>
            <p:nvPr/>
          </p:nvSpPr>
          <p:spPr>
            <a:xfrm flipH="1" flipV="1">
              <a:off x="7269840" y="4505040"/>
              <a:ext cx="360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Line 209"/>
            <p:cNvSpPr/>
            <p:nvPr/>
          </p:nvSpPr>
          <p:spPr>
            <a:xfrm flipH="1" flipV="1">
              <a:off x="7266600" y="4498200"/>
              <a:ext cx="288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Line 210"/>
            <p:cNvSpPr/>
            <p:nvPr/>
          </p:nvSpPr>
          <p:spPr>
            <a:xfrm flipH="1" flipV="1">
              <a:off x="7263000" y="4491000"/>
              <a:ext cx="36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Line 211"/>
            <p:cNvSpPr/>
            <p:nvPr/>
          </p:nvSpPr>
          <p:spPr>
            <a:xfrm flipV="1">
              <a:off x="7263000" y="4484160"/>
              <a:ext cx="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Line 212"/>
            <p:cNvSpPr/>
            <p:nvPr/>
          </p:nvSpPr>
          <p:spPr>
            <a:xfrm flipV="1">
              <a:off x="7263000" y="4476960"/>
              <a:ext cx="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Line 213"/>
            <p:cNvSpPr/>
            <p:nvPr/>
          </p:nvSpPr>
          <p:spPr>
            <a:xfrm>
              <a:off x="7263000" y="4476960"/>
              <a:ext cx="36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Line 214"/>
            <p:cNvSpPr/>
            <p:nvPr/>
          </p:nvSpPr>
          <p:spPr>
            <a:xfrm>
              <a:off x="7266600" y="4482360"/>
              <a:ext cx="288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Line 215"/>
            <p:cNvSpPr/>
            <p:nvPr/>
          </p:nvSpPr>
          <p:spPr>
            <a:xfrm>
              <a:off x="7269840" y="4485960"/>
              <a:ext cx="54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Line 216"/>
            <p:cNvSpPr/>
            <p:nvPr/>
          </p:nvSpPr>
          <p:spPr>
            <a:xfrm>
              <a:off x="7275240" y="4491000"/>
              <a:ext cx="504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Line 217"/>
            <p:cNvSpPr/>
            <p:nvPr/>
          </p:nvSpPr>
          <p:spPr>
            <a:xfrm>
              <a:off x="7280640" y="4494600"/>
              <a:ext cx="504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Line 218"/>
            <p:cNvSpPr/>
            <p:nvPr/>
          </p:nvSpPr>
          <p:spPr>
            <a:xfrm>
              <a:off x="7285680" y="4498200"/>
              <a:ext cx="504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Line 219"/>
            <p:cNvSpPr/>
            <p:nvPr/>
          </p:nvSpPr>
          <p:spPr>
            <a:xfrm>
              <a:off x="7291080" y="4501800"/>
              <a:ext cx="36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Line 220"/>
            <p:cNvSpPr/>
            <p:nvPr/>
          </p:nvSpPr>
          <p:spPr>
            <a:xfrm>
              <a:off x="7294680" y="4507200"/>
              <a:ext cx="36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Line 221"/>
            <p:cNvSpPr/>
            <p:nvPr/>
          </p:nvSpPr>
          <p:spPr>
            <a:xfrm flipV="1">
              <a:off x="7298280" y="4503600"/>
              <a:ext cx="36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Line 222"/>
            <p:cNvSpPr/>
            <p:nvPr/>
          </p:nvSpPr>
          <p:spPr>
            <a:xfrm flipV="1">
              <a:off x="7301880" y="4491000"/>
              <a:ext cx="144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Line 223"/>
            <p:cNvSpPr/>
            <p:nvPr/>
          </p:nvSpPr>
          <p:spPr>
            <a:xfrm flipV="1">
              <a:off x="7303320" y="4478400"/>
              <a:ext cx="18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224"/>
            <p:cNvSpPr/>
            <p:nvPr/>
          </p:nvSpPr>
          <p:spPr>
            <a:xfrm flipH="1" flipV="1">
              <a:off x="7302960" y="4464000"/>
              <a:ext cx="180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Line 225"/>
            <p:cNvSpPr/>
            <p:nvPr/>
          </p:nvSpPr>
          <p:spPr>
            <a:xfrm flipH="1" flipV="1">
              <a:off x="7299720" y="4452120"/>
              <a:ext cx="36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Line 226"/>
            <p:cNvSpPr/>
            <p:nvPr/>
          </p:nvSpPr>
          <p:spPr>
            <a:xfrm flipV="1">
              <a:off x="7299720" y="4443120"/>
              <a:ext cx="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27"/>
            <p:cNvSpPr/>
            <p:nvPr/>
          </p:nvSpPr>
          <p:spPr>
            <a:xfrm flipV="1">
              <a:off x="7299720" y="4434480"/>
              <a:ext cx="18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28"/>
            <p:cNvSpPr/>
            <p:nvPr/>
          </p:nvSpPr>
          <p:spPr>
            <a:xfrm flipV="1">
              <a:off x="7301880" y="4427280"/>
              <a:ext cx="36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229"/>
            <p:cNvSpPr/>
            <p:nvPr/>
          </p:nvSpPr>
          <p:spPr>
            <a:xfrm flipH="1">
              <a:off x="7302960" y="4427280"/>
              <a:ext cx="1800" cy="90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Line 230"/>
            <p:cNvSpPr/>
            <p:nvPr/>
          </p:nvSpPr>
          <p:spPr>
            <a:xfrm>
              <a:off x="7303320" y="4436280"/>
              <a:ext cx="18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Line 231"/>
            <p:cNvSpPr/>
            <p:nvPr/>
          </p:nvSpPr>
          <p:spPr>
            <a:xfrm>
              <a:off x="7305480" y="4445280"/>
              <a:ext cx="504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Line 232"/>
            <p:cNvSpPr/>
            <p:nvPr/>
          </p:nvSpPr>
          <p:spPr>
            <a:xfrm>
              <a:off x="7310520" y="4453920"/>
              <a:ext cx="504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Line 233"/>
            <p:cNvSpPr/>
            <p:nvPr/>
          </p:nvSpPr>
          <p:spPr>
            <a:xfrm>
              <a:off x="7315920" y="4464360"/>
              <a:ext cx="10440" cy="26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Line 234"/>
            <p:cNvSpPr/>
            <p:nvPr/>
          </p:nvSpPr>
          <p:spPr>
            <a:xfrm>
              <a:off x="7326360" y="4491000"/>
              <a:ext cx="1800" cy="24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Line 235"/>
            <p:cNvSpPr/>
            <p:nvPr/>
          </p:nvSpPr>
          <p:spPr>
            <a:xfrm flipH="1">
              <a:off x="7320960" y="4515840"/>
              <a:ext cx="7200" cy="21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Line 236"/>
            <p:cNvSpPr/>
            <p:nvPr/>
          </p:nvSpPr>
          <p:spPr>
            <a:xfrm flipH="1">
              <a:off x="7306560" y="4537080"/>
              <a:ext cx="1404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Line 237"/>
            <p:cNvSpPr/>
            <p:nvPr/>
          </p:nvSpPr>
          <p:spPr>
            <a:xfrm flipV="1">
              <a:off x="7306920" y="4547160"/>
              <a:ext cx="2268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Line 238"/>
            <p:cNvSpPr/>
            <p:nvPr/>
          </p:nvSpPr>
          <p:spPr>
            <a:xfrm flipV="1">
              <a:off x="7329960" y="4536720"/>
              <a:ext cx="1764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Line 239"/>
            <p:cNvSpPr/>
            <p:nvPr/>
          </p:nvSpPr>
          <p:spPr>
            <a:xfrm flipV="1">
              <a:off x="7347600" y="4515480"/>
              <a:ext cx="12240" cy="21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Line 240"/>
            <p:cNvSpPr/>
            <p:nvPr/>
          </p:nvSpPr>
          <p:spPr>
            <a:xfrm>
              <a:off x="7359840" y="4515840"/>
              <a:ext cx="0" cy="24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Line 241"/>
            <p:cNvSpPr/>
            <p:nvPr/>
          </p:nvSpPr>
          <p:spPr>
            <a:xfrm flipH="1">
              <a:off x="7351200" y="4540680"/>
              <a:ext cx="8640" cy="19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Line 242"/>
            <p:cNvSpPr/>
            <p:nvPr/>
          </p:nvSpPr>
          <p:spPr>
            <a:xfrm flipH="1">
              <a:off x="7333200" y="4560120"/>
              <a:ext cx="1764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243"/>
            <p:cNvSpPr/>
            <p:nvPr/>
          </p:nvSpPr>
          <p:spPr>
            <a:xfrm flipV="1">
              <a:off x="7333560" y="4570920"/>
              <a:ext cx="2268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244"/>
            <p:cNvSpPr/>
            <p:nvPr/>
          </p:nvSpPr>
          <p:spPr>
            <a:xfrm flipV="1">
              <a:off x="7356240" y="4558680"/>
              <a:ext cx="180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245"/>
            <p:cNvSpPr/>
            <p:nvPr/>
          </p:nvSpPr>
          <p:spPr>
            <a:xfrm flipV="1">
              <a:off x="7374600" y="4536720"/>
              <a:ext cx="11880" cy="21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246"/>
            <p:cNvSpPr/>
            <p:nvPr/>
          </p:nvSpPr>
          <p:spPr>
            <a:xfrm>
              <a:off x="7386480" y="4537080"/>
              <a:ext cx="5400" cy="31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247"/>
            <p:cNvSpPr/>
            <p:nvPr/>
          </p:nvSpPr>
          <p:spPr>
            <a:xfrm flipH="1">
              <a:off x="7385040" y="4569120"/>
              <a:ext cx="7200" cy="28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248"/>
            <p:cNvSpPr/>
            <p:nvPr/>
          </p:nvSpPr>
          <p:spPr>
            <a:xfrm flipH="1">
              <a:off x="7367040" y="4597560"/>
              <a:ext cx="17640" cy="24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Line 249"/>
            <p:cNvSpPr/>
            <p:nvPr/>
          </p:nvSpPr>
          <p:spPr>
            <a:xfrm flipH="1">
              <a:off x="7344000" y="4622400"/>
              <a:ext cx="2268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Line 250"/>
            <p:cNvSpPr/>
            <p:nvPr/>
          </p:nvSpPr>
          <p:spPr>
            <a:xfrm flipH="1">
              <a:off x="7322760" y="4640040"/>
              <a:ext cx="2124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251"/>
            <p:cNvSpPr/>
            <p:nvPr/>
          </p:nvSpPr>
          <p:spPr>
            <a:xfrm>
              <a:off x="7312320" y="4351320"/>
              <a:ext cx="14040" cy="615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21" h="88">
                  <a:moveTo>
                    <a:pt x="19" y="88"/>
                  </a:moveTo>
                  <a:lnTo>
                    <a:pt x="0" y="69"/>
                  </a:lnTo>
                  <a:lnTo>
                    <a:pt x="5" y="52"/>
                  </a:lnTo>
                  <a:lnTo>
                    <a:pt x="7" y="34"/>
                  </a:lnTo>
                  <a:lnTo>
                    <a:pt x="5" y="17"/>
                  </a:lnTo>
                  <a:lnTo>
                    <a:pt x="0" y="0"/>
                  </a:lnTo>
                  <a:lnTo>
                    <a:pt x="11" y="20"/>
                  </a:lnTo>
                  <a:lnTo>
                    <a:pt x="18" y="42"/>
                  </a:lnTo>
                  <a:lnTo>
                    <a:pt x="21" y="65"/>
                  </a:lnTo>
                  <a:lnTo>
                    <a:pt x="19" y="8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7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tikettering en signal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Footer Placeholder 6"/>
          <p:cNvSpPr/>
          <p:nvPr/>
        </p:nvSpPr>
        <p:spPr>
          <a:xfrm>
            <a:off x="2171880" y="6581880"/>
            <a:ext cx="38480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ijdelijke aanduiding voor dianummer 3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7611C-5045-40E7-B0A1-06E0108C8CA0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ijdelijke aanduiding voor voettekst 2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1" name="Picture 27" descr="flamme"/>
          <p:cNvPicPr/>
          <p:nvPr/>
        </p:nvPicPr>
        <p:blipFill>
          <a:blip r:embed="rId1"/>
          <a:stretch/>
        </p:blipFill>
        <p:spPr>
          <a:xfrm>
            <a:off x="216000" y="2022480"/>
            <a:ext cx="765000" cy="826920"/>
          </a:xfrm>
          <a:prstGeom prst="rect">
            <a:avLst/>
          </a:prstGeom>
          <a:ln w="0">
            <a:noFill/>
          </a:ln>
        </p:spPr>
      </p:pic>
      <p:pic>
        <p:nvPicPr>
          <p:cNvPr id="832" name="Picture 30" descr="explos"/>
          <p:cNvPicPr/>
          <p:nvPr/>
        </p:nvPicPr>
        <p:blipFill>
          <a:blip r:embed="rId2"/>
          <a:stretch/>
        </p:blipFill>
        <p:spPr>
          <a:xfrm>
            <a:off x="216000" y="963720"/>
            <a:ext cx="774720" cy="826920"/>
          </a:xfrm>
          <a:prstGeom prst="rect">
            <a:avLst/>
          </a:prstGeom>
          <a:ln w="0">
            <a:noFill/>
          </a:ln>
        </p:spPr>
      </p:pic>
      <p:pic>
        <p:nvPicPr>
          <p:cNvPr id="833" name="Picture 33" descr="acide"/>
          <p:cNvPicPr/>
          <p:nvPr/>
        </p:nvPicPr>
        <p:blipFill>
          <a:blip r:embed="rId3"/>
          <a:stretch/>
        </p:blipFill>
        <p:spPr>
          <a:xfrm>
            <a:off x="7913520" y="3179880"/>
            <a:ext cx="870120" cy="938160"/>
          </a:xfrm>
          <a:prstGeom prst="rect">
            <a:avLst/>
          </a:prstGeom>
          <a:ln w="0">
            <a:noFill/>
          </a:ln>
        </p:spPr>
      </p:pic>
      <p:pic>
        <p:nvPicPr>
          <p:cNvPr id="834" name="Picture 36" descr="rondflam"/>
          <p:cNvPicPr/>
          <p:nvPr/>
        </p:nvPicPr>
        <p:blipFill>
          <a:blip r:embed="rId4"/>
          <a:stretch/>
        </p:blipFill>
        <p:spPr>
          <a:xfrm>
            <a:off x="216000" y="3011400"/>
            <a:ext cx="817560" cy="828720"/>
          </a:xfrm>
          <a:prstGeom prst="rect">
            <a:avLst/>
          </a:prstGeom>
          <a:ln w="0">
            <a:noFill/>
          </a:ln>
        </p:spPr>
      </p:pic>
      <p:sp>
        <p:nvSpPr>
          <p:cNvPr id="835" name="Text Box 4"/>
          <p:cNvSpPr/>
          <p:nvPr/>
        </p:nvSpPr>
        <p:spPr>
          <a:xfrm>
            <a:off x="1072080" y="2716200"/>
            <a:ext cx="18360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6" name="Object 5"/>
          <p:cNvGraphicFramePr/>
          <p:nvPr/>
        </p:nvGraphicFramePr>
        <p:xfrm>
          <a:off x="1163520" y="1978200"/>
          <a:ext cx="760680" cy="774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7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63520" y="1978200"/>
                    <a:ext cx="760680" cy="77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6"/>
          <p:cNvGraphicFramePr/>
          <p:nvPr/>
        </p:nvGraphicFramePr>
        <p:xfrm>
          <a:off x="1160640" y="1011240"/>
          <a:ext cx="747360" cy="830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39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60640" y="1011240"/>
                    <a:ext cx="74736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0" name="Object 7"/>
          <p:cNvGraphicFramePr/>
          <p:nvPr/>
        </p:nvGraphicFramePr>
        <p:xfrm>
          <a:off x="5533920" y="3328920"/>
          <a:ext cx="857520" cy="854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41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533920" y="3328920"/>
                    <a:ext cx="857520" cy="8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2" name="Object 8"/>
          <p:cNvGraphicFramePr/>
          <p:nvPr/>
        </p:nvGraphicFramePr>
        <p:xfrm>
          <a:off x="1163520" y="5059440"/>
          <a:ext cx="801720" cy="869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43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63520" y="5059440"/>
                    <a:ext cx="801720" cy="86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9"/>
          <p:cNvGraphicFramePr/>
          <p:nvPr/>
        </p:nvGraphicFramePr>
        <p:xfrm>
          <a:off x="5535720" y="4443480"/>
          <a:ext cx="866520" cy="896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45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535720" y="4443480"/>
                    <a:ext cx="866520" cy="89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10"/>
          <p:cNvGraphicFramePr/>
          <p:nvPr/>
        </p:nvGraphicFramePr>
        <p:xfrm>
          <a:off x="5495760" y="1042920"/>
          <a:ext cx="843120" cy="8604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47" name="Object 1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495760" y="1042920"/>
                    <a:ext cx="84312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8" name="Text Box 11"/>
          <p:cNvSpPr/>
          <p:nvPr/>
        </p:nvSpPr>
        <p:spPr>
          <a:xfrm>
            <a:off x="2016000" y="1957320"/>
            <a:ext cx="14209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((zeer) lich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ontvlamba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1906920" y="1022400"/>
            <a:ext cx="10980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explosie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13"/>
          <p:cNvSpPr/>
          <p:nvPr/>
        </p:nvSpPr>
        <p:spPr>
          <a:xfrm>
            <a:off x="6461280" y="3330720"/>
            <a:ext cx="10810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corrosie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2050920" y="2924280"/>
            <a:ext cx="1258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oxider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1797120" y="5033880"/>
            <a:ext cx="187308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Schadel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of irriter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16"/>
          <p:cNvSpPr/>
          <p:nvPr/>
        </p:nvSpPr>
        <p:spPr>
          <a:xfrm>
            <a:off x="6417720" y="4329000"/>
            <a:ext cx="13525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(zeer) gift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17"/>
          <p:cNvSpPr/>
          <p:nvPr/>
        </p:nvSpPr>
        <p:spPr>
          <a:xfrm>
            <a:off x="6272280" y="1001880"/>
            <a:ext cx="1843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milieuschadel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5" name="Object 18"/>
          <p:cNvGraphicFramePr/>
          <p:nvPr/>
        </p:nvGraphicFramePr>
        <p:xfrm>
          <a:off x="1143000" y="2892600"/>
          <a:ext cx="793800" cy="860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56" name="Object 18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143000" y="2892600"/>
                    <a:ext cx="79380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57" name="Group 19"/>
          <p:cNvGrpSpPr/>
          <p:nvPr/>
        </p:nvGrpSpPr>
        <p:grpSpPr>
          <a:xfrm>
            <a:off x="5526000" y="5784840"/>
            <a:ext cx="777960" cy="836640"/>
            <a:chOff x="5526000" y="5784840"/>
            <a:chExt cx="777960" cy="836640"/>
          </a:xfrm>
        </p:grpSpPr>
        <p:pic>
          <p:nvPicPr>
            <p:cNvPr id="858" name="Picture 20" descr=""/>
            <p:cNvPicPr/>
            <p:nvPr/>
          </p:nvPicPr>
          <p:blipFill>
            <a:blip r:embed="rId19"/>
            <a:srcRect l="40807" t="28118" r="39742" b="62122"/>
            <a:stretch/>
          </p:blipFill>
          <p:spPr>
            <a:xfrm>
              <a:off x="5526000" y="5784840"/>
              <a:ext cx="7167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9" name="Line 21"/>
            <p:cNvSpPr/>
            <p:nvPr/>
          </p:nvSpPr>
          <p:spPr>
            <a:xfrm>
              <a:off x="5530680" y="5839200"/>
              <a:ext cx="77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Line 22"/>
            <p:cNvSpPr/>
            <p:nvPr/>
          </p:nvSpPr>
          <p:spPr>
            <a:xfrm>
              <a:off x="5530680" y="5851800"/>
              <a:ext cx="0" cy="74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Line 23"/>
            <p:cNvSpPr/>
            <p:nvPr/>
          </p:nvSpPr>
          <p:spPr>
            <a:xfrm>
              <a:off x="6289200" y="5839200"/>
              <a:ext cx="0" cy="75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Line 24"/>
            <p:cNvSpPr/>
            <p:nvPr/>
          </p:nvSpPr>
          <p:spPr>
            <a:xfrm>
              <a:off x="5545080" y="6596280"/>
              <a:ext cx="74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3" name="Text Box 25"/>
          <p:cNvSpPr/>
          <p:nvPr/>
        </p:nvSpPr>
        <p:spPr>
          <a:xfrm>
            <a:off x="6446880" y="5992920"/>
            <a:ext cx="2552760" cy="7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klein chemisch af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( geen GHS klass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4" name="Picture 41" descr="pollu"/>
          <p:cNvPicPr/>
          <p:nvPr/>
        </p:nvPicPr>
        <p:blipFill>
          <a:blip r:embed="rId20"/>
          <a:stretch/>
        </p:blipFill>
        <p:spPr>
          <a:xfrm>
            <a:off x="7899480" y="1014480"/>
            <a:ext cx="893520" cy="89208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43" descr="exclam"/>
          <p:cNvPicPr/>
          <p:nvPr/>
        </p:nvPicPr>
        <p:blipFill>
          <a:blip r:embed="rId21"/>
          <a:stretch/>
        </p:blipFill>
        <p:spPr>
          <a:xfrm>
            <a:off x="3419640" y="5143680"/>
            <a:ext cx="814320" cy="814320"/>
          </a:xfrm>
          <a:prstGeom prst="rect">
            <a:avLst/>
          </a:prstGeom>
          <a:ln w="0">
            <a:noFill/>
          </a:ln>
        </p:spPr>
      </p:pic>
      <p:pic>
        <p:nvPicPr>
          <p:cNvPr id="866" name="Picture 45" descr="silouete"/>
          <p:cNvPicPr/>
          <p:nvPr/>
        </p:nvPicPr>
        <p:blipFill>
          <a:blip r:embed="rId22"/>
          <a:stretch/>
        </p:blipFill>
        <p:spPr>
          <a:xfrm>
            <a:off x="7939080" y="2077920"/>
            <a:ext cx="884160" cy="882720"/>
          </a:xfrm>
          <a:prstGeom prst="rect">
            <a:avLst/>
          </a:prstGeom>
          <a:ln w="0">
            <a:noFill/>
          </a:ln>
        </p:spPr>
      </p:pic>
      <p:sp>
        <p:nvSpPr>
          <p:cNvPr id="867" name="Picture 47"/>
          <p:cNvSpPr/>
          <p:nvPr/>
        </p:nvSpPr>
        <p:spPr>
          <a:xfrm>
            <a:off x="6329520" y="2720880"/>
            <a:ext cx="7333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86"/>
              </a:spcBef>
              <a:spcAft>
                <a:spcPts val="575"/>
              </a:spcAft>
              <a:buClr>
                <a:srgbClr val="000000"/>
              </a:buClr>
              <a:buSzPct val="50000"/>
              <a:buFont typeface="CommonBullets" charset="2"/>
              <a:buChar char="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48"/>
          <p:cNvSpPr/>
          <p:nvPr/>
        </p:nvSpPr>
        <p:spPr>
          <a:xfrm>
            <a:off x="5384520" y="2073240"/>
            <a:ext cx="255168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400" spc="-1" strike="noStrike">
                <a:solidFill>
                  <a:srgbClr val="c00000"/>
                </a:solidFill>
                <a:latin typeface="Zurich BT"/>
              </a:rPr>
              <a:t>nieuw; 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lange termijn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Gezondheidsschadelij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Zurich BT"/>
              </a:rPr>
              <a:t>(kankerverwekkende, 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Zurich BT"/>
              </a:rPr>
              <a:t>mutagene en/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Zurich BT"/>
              </a:rPr>
              <a:t>reprotoxische stoff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49"/>
          <p:cNvSpPr/>
          <p:nvPr/>
        </p:nvSpPr>
        <p:spPr>
          <a:xfrm>
            <a:off x="1136520" y="120600"/>
            <a:ext cx="76154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ETIKETTERING VOLGENS HET G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(GLOBAL HARMONIZED SYST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Picture 48" descr="skull"/>
          <p:cNvPicPr/>
          <p:nvPr/>
        </p:nvPicPr>
        <p:blipFill>
          <a:blip r:embed="rId23"/>
          <a:stretch/>
        </p:blipFill>
        <p:spPr>
          <a:xfrm>
            <a:off x="7916760" y="4370400"/>
            <a:ext cx="912960" cy="912960"/>
          </a:xfrm>
          <a:prstGeom prst="rect">
            <a:avLst/>
          </a:prstGeom>
          <a:ln w="0">
            <a:noFill/>
          </a:ln>
        </p:spPr>
      </p:pic>
      <p:pic>
        <p:nvPicPr>
          <p:cNvPr id="871" name="Picture 48" descr="C:\Users\peter\Desktop\Cap_2x.jpg"/>
          <p:cNvPicPr/>
          <p:nvPr/>
        </p:nvPicPr>
        <p:blipFill>
          <a:blip r:embed="rId24"/>
          <a:stretch/>
        </p:blipFill>
        <p:spPr>
          <a:xfrm>
            <a:off x="3357720" y="4064040"/>
            <a:ext cx="961920" cy="914400"/>
          </a:xfrm>
          <a:prstGeom prst="rect">
            <a:avLst/>
          </a:prstGeom>
          <a:ln w="0">
            <a:noFill/>
          </a:ln>
        </p:spPr>
      </p:pic>
      <p:sp>
        <p:nvSpPr>
          <p:cNvPr id="872" name="Tekstvak 47"/>
          <p:cNvSpPr/>
          <p:nvPr/>
        </p:nvSpPr>
        <p:spPr>
          <a:xfrm>
            <a:off x="1103400" y="4032360"/>
            <a:ext cx="190800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c00000"/>
                </a:solidFill>
                <a:latin typeface="Zurich BT"/>
              </a:rPr>
              <a:t>nieuw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gassen</a:t>
            </a:r>
            <a:r>
              <a:rPr b="1" lang="nl-NL" sz="1600" spc="-1" strike="noStrike">
                <a:solidFill>
                  <a:srgbClr val="000000"/>
                </a:solidFill>
                <a:latin typeface="Calibri"/>
              </a:rPr>
              <a:t> onder dru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kstvak 1"/>
          <p:cNvSpPr/>
          <p:nvPr/>
        </p:nvSpPr>
        <p:spPr>
          <a:xfrm>
            <a:off x="1054080" y="6130800"/>
            <a:ext cx="424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Calibri"/>
              </a:rPr>
              <a:t>Nieuwe etiketten 2010 ingevoer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Calibri"/>
              </a:rPr>
              <a:t>en vanaf 2017 verpl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NIEUWE SYMBOLEN VOOR: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1000080" y="20188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arcinogeen (kankerverwekke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ratogeen (functiestoornissen ongeboren ki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utageen (erfelijke eigenschappen verander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36A2A-D9DB-4166-A9A8-C4EDDDB69686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tikettering en signal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9" name="Group 8"/>
          <p:cNvGrpSpPr/>
          <p:nvPr/>
        </p:nvGrpSpPr>
        <p:grpSpPr>
          <a:xfrm>
            <a:off x="2716200" y="2153520"/>
            <a:ext cx="3400200" cy="3400560"/>
            <a:chOff x="2716200" y="2153520"/>
            <a:chExt cx="3400200" cy="3400560"/>
          </a:xfrm>
        </p:grpSpPr>
        <p:sp>
          <p:nvSpPr>
            <p:cNvPr id="880" name="Rectangle 9"/>
            <p:cNvSpPr/>
            <p:nvPr/>
          </p:nvSpPr>
          <p:spPr>
            <a:xfrm rot="18906000">
              <a:off x="2968200" y="3244680"/>
              <a:ext cx="1218960" cy="121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Rectangle 10"/>
            <p:cNvSpPr/>
            <p:nvPr/>
          </p:nvSpPr>
          <p:spPr>
            <a:xfrm rot="18906000">
              <a:off x="3836520" y="2393640"/>
              <a:ext cx="1184040" cy="1218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Rectangle 11"/>
            <p:cNvSpPr/>
            <p:nvPr/>
          </p:nvSpPr>
          <p:spPr>
            <a:xfrm rot="18906000">
              <a:off x="4644360" y="3244320"/>
              <a:ext cx="1219320" cy="12186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Rectangle 12"/>
            <p:cNvSpPr/>
            <p:nvPr/>
          </p:nvSpPr>
          <p:spPr>
            <a:xfrm rot="18906000">
              <a:off x="3806640" y="4082400"/>
              <a:ext cx="1219320" cy="12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860038"/>
                </a:solidFill>
                <a:latin typeface="Arial"/>
              </a:rPr>
              <a:t>Etikettering en signalering</a:t>
            </a: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885" name="Text Box 2"/>
          <p:cNvSpPr/>
          <p:nvPr/>
        </p:nvSpPr>
        <p:spPr>
          <a:xfrm>
            <a:off x="979560" y="251460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 Box 3"/>
          <p:cNvSpPr/>
          <p:nvPr/>
        </p:nvSpPr>
        <p:spPr>
          <a:xfrm>
            <a:off x="1577160" y="1095480"/>
            <a:ext cx="60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GEVARENDIAMANT (grootverpakkingen</a:t>
            </a:r>
            <a:r>
              <a:rPr b="1" lang="nl-NL" sz="18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4"/>
          <p:cNvSpPr/>
          <p:nvPr/>
        </p:nvSpPr>
        <p:spPr>
          <a:xfrm>
            <a:off x="6292800" y="3651120"/>
            <a:ext cx="215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reactiviteit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instabilit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5"/>
          <p:cNvSpPr/>
          <p:nvPr/>
        </p:nvSpPr>
        <p:spPr>
          <a:xfrm>
            <a:off x="3306600" y="1600200"/>
            <a:ext cx="232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brandgev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6"/>
          <p:cNvSpPr/>
          <p:nvPr/>
        </p:nvSpPr>
        <p:spPr>
          <a:xfrm>
            <a:off x="323280" y="3247920"/>
            <a:ext cx="243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gezondheids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gev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7"/>
          <p:cNvSpPr/>
          <p:nvPr/>
        </p:nvSpPr>
        <p:spPr>
          <a:xfrm>
            <a:off x="3143160" y="5433840"/>
            <a:ext cx="430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bijzondere aanduid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13"/>
          <p:cNvSpPr/>
          <p:nvPr/>
        </p:nvSpPr>
        <p:spPr>
          <a:xfrm>
            <a:off x="3323520" y="36543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 Box 14"/>
          <p:cNvSpPr/>
          <p:nvPr/>
        </p:nvSpPr>
        <p:spPr>
          <a:xfrm>
            <a:off x="4263480" y="27288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15"/>
          <p:cNvSpPr/>
          <p:nvPr/>
        </p:nvSpPr>
        <p:spPr>
          <a:xfrm>
            <a:off x="5168880" y="3733920"/>
            <a:ext cx="24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16"/>
          <p:cNvSpPr/>
          <p:nvPr/>
        </p:nvSpPr>
        <p:spPr>
          <a:xfrm>
            <a:off x="4242960" y="4572000"/>
            <a:ext cx="50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17"/>
          <p:cNvSpPr/>
          <p:nvPr/>
        </p:nvSpPr>
        <p:spPr>
          <a:xfrm>
            <a:off x="4330800" y="4876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041480" y="69804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SIGNALER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897" name=""/>
          <p:cNvSpPr txBox="1"/>
          <p:nvPr/>
        </p:nvSpPr>
        <p:spPr>
          <a:xfrm>
            <a:off x="1019160" y="146052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plicht op werkvloer, geregeld in Arbowet/beslui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ijf groep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b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b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arschuw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svoorzie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ded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Tijdelijke marker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00BE1-21D0-49A1-AA97-6ADAD6BCF80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0" name="Picture 4" descr="obstakel"/>
          <p:cNvPicPr/>
          <p:nvPr/>
        </p:nvPicPr>
        <p:blipFill>
          <a:blip r:embed="rId1"/>
          <a:stretch/>
        </p:blipFill>
        <p:spPr>
          <a:xfrm>
            <a:off x="6153120" y="5678640"/>
            <a:ext cx="2552760" cy="460080"/>
          </a:xfrm>
          <a:prstGeom prst="rect">
            <a:avLst/>
          </a:prstGeom>
          <a:ln w="0">
            <a:noFill/>
          </a:ln>
        </p:spPr>
      </p:pic>
      <p:sp>
        <p:nvSpPr>
          <p:cNvPr id="901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tikettering en signal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CF73E-02EA-401C-AD03-5595636F8E9C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lektric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Elektriciteit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OORLICHTING EN ONDERRICHT</a:t>
            </a: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0350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gever verplicht te g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 verplicht te vol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gestemd op werkne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alleen schriftelij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st en tijdelijk person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85148-F493-4E9B-8A97-887764834D8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GEVAREN BIJ GEBRUIK ELEKTRICITEIT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1009800" y="21902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roomdoorgang door menselijk licha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wonding door vu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tsel van val ten gevolge van elektric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rand/explos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b050"/>
                </a:solidFill>
                <a:latin typeface="Arial"/>
              </a:rPr>
              <a:t>VEILIGE INSTALL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b050"/>
                </a:solidFill>
                <a:latin typeface="Arial"/>
              </a:rPr>
              <a:t>als gevaren er niet zijn of</a:t>
            </a:r>
            <a:br>
              <a:rPr sz="2000"/>
            </a:br>
            <a:r>
              <a:rPr b="1" lang="nl-NL" sz="2000" spc="-1" strike="noStrike">
                <a:solidFill>
                  <a:srgbClr val="00b050"/>
                </a:solidFill>
                <a:latin typeface="Arial"/>
              </a:rPr>
              <a:t>tot een minimum worden beper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BB7BC-344A-4339-B2BF-C834BEEC416D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2"/>
          <p:cNvSpPr/>
          <p:nvPr/>
        </p:nvSpPr>
        <p:spPr>
          <a:xfrm>
            <a:off x="2630520" y="4462560"/>
            <a:ext cx="4710240" cy="1339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lektric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GEVAREN DOOR ELEKTRICITEIT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1028520" y="2095200"/>
            <a:ext cx="784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 van installaties/machines/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pparatuur/gereedscha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iet in orde/verkeerd behand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el ongevall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fecte en ondeugdelijke machines/toestellen/leid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echte of ontbrekende aardverbind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utieve aanleg of mon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willekeurige aanraking onder spanning staande d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DBE62-343A-4997-9BDF-33715BEB7BE9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Picture 4" descr="elektriciteit"/>
          <p:cNvPicPr/>
          <p:nvPr/>
        </p:nvPicPr>
        <p:blipFill>
          <a:blip r:embed="rId1"/>
          <a:stretch/>
        </p:blipFill>
        <p:spPr>
          <a:xfrm>
            <a:off x="6400800" y="2209680"/>
            <a:ext cx="1752480" cy="1511280"/>
          </a:xfrm>
          <a:prstGeom prst="rect">
            <a:avLst/>
          </a:prstGeom>
          <a:ln w="0">
            <a:noFill/>
          </a:ln>
        </p:spPr>
      </p:pic>
      <p:sp>
        <p:nvSpPr>
          <p:cNvPr id="918" name="Text Box 5"/>
          <p:cNvSpPr/>
          <p:nvPr/>
        </p:nvSpPr>
        <p:spPr>
          <a:xfrm>
            <a:off x="1562040" y="2160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lektric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E3E08-B9E2-42FF-AD38-47565468BC80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Rectangle 3"/>
          <p:cNvSpPr/>
          <p:nvPr/>
        </p:nvSpPr>
        <p:spPr>
          <a:xfrm>
            <a:off x="996840" y="1438200"/>
            <a:ext cx="80028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00000"/>
                </a:solidFill>
                <a:latin typeface="Arial"/>
              </a:rPr>
              <a:t>VEILIGHEIDSMAATREGELEN</a:t>
            </a:r>
            <a:r>
              <a:rPr b="1" lang="nl-NL" sz="1800" spc="-1" strike="noStrike">
                <a:solidFill>
                  <a:srgbClr val="c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Rectangle 4"/>
          <p:cNvSpPr/>
          <p:nvPr/>
        </p:nvSpPr>
        <p:spPr>
          <a:xfrm>
            <a:off x="1046160" y="2066760"/>
            <a:ext cx="7953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en handelingen door deskund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P = voldoende onderricht pers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e span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(in besloten ruimte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aarding van uitwendig metalen omhulsel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rding steiger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bouwwerken aardlekschakelaar in elektrische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eding (aanspreekstroom 30 m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rding van metalen werkplaats- en opslagcontainer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ugdelijke kabels (mechanische bescherming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lektric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0175C-5B1E-44AA-AFAB-80AE71B2023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Brand- en explosiegeva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Brand- en explosiegevaar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AFC91-A78C-4A02-8E60-1A87F83DA96D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6"/>
          <p:cNvSpPr/>
          <p:nvPr/>
        </p:nvSpPr>
        <p:spPr>
          <a:xfrm>
            <a:off x="1562040" y="22860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6600"/>
                </a:solidFill>
                <a:latin typeface="Arial"/>
              </a:rPr>
              <a:t>Werken in besloten ruim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7"/>
          <p:cNvSpPr/>
          <p:nvPr/>
        </p:nvSpPr>
        <p:spPr>
          <a:xfrm>
            <a:off x="1222200" y="2476440"/>
            <a:ext cx="7027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Werken in besloten ruimten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092240" y="9522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RISICOBRONNEN EN WERKVERGUNN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952560" y="1612440"/>
            <a:ext cx="8191440" cy="43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sico’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werk, het gereedschap, het materia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ocessen (inhoud/soo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heersen door werken volgens voorwaarden vergu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t is de invloed van uw werkzaamheden op uw omge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t is de invloed van uw omgeving op uw werkzaamh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oel van werkvergunning: goede voorbereiding van risicovol w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 werkvergunning is een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edrijfsregel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, geen wettelijke verplich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8EEBC-644F-4F0E-939B-6C2D10DDA079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6"/>
          <p:cNvSpPr/>
          <p:nvPr/>
        </p:nvSpPr>
        <p:spPr>
          <a:xfrm>
            <a:off x="1562040" y="22860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6600"/>
                </a:solidFill>
                <a:latin typeface="Arial"/>
              </a:rPr>
              <a:t>Werken in besloten ruim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2A824-DF6F-46F3-8063-F6CA30654BC3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Rectangle 2"/>
          <p:cNvSpPr/>
          <p:nvPr/>
        </p:nvSpPr>
        <p:spPr>
          <a:xfrm>
            <a:off x="1019160" y="1219320"/>
            <a:ext cx="3886200" cy="518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Rectangle 3"/>
          <p:cNvSpPr/>
          <p:nvPr/>
        </p:nvSpPr>
        <p:spPr>
          <a:xfrm>
            <a:off x="5133960" y="1219320"/>
            <a:ext cx="3886200" cy="518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 Box 4"/>
          <p:cNvSpPr/>
          <p:nvPr/>
        </p:nvSpPr>
        <p:spPr>
          <a:xfrm>
            <a:off x="1006920" y="1219320"/>
            <a:ext cx="293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AANVRAAG WERKZAAMHE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 Box 5"/>
          <p:cNvSpPr/>
          <p:nvPr/>
        </p:nvSpPr>
        <p:spPr>
          <a:xfrm>
            <a:off x="1019160" y="1523880"/>
            <a:ext cx="3809880" cy="48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(In te vullen door aanvrag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Locatie / equipment nr.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Omschrijving van het werk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Werkwijz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monteren/demonteren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hakken/bor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openen installaties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slij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betreden besloten ruimte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hogedruk spui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branden/gutsen/lassen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gritstr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röntgen/stralingswerk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graven handmatig/machina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hijsen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instrumentatie/Electric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 Box 6"/>
          <p:cNvSpPr/>
          <p:nvPr/>
        </p:nvSpPr>
        <p:spPr>
          <a:xfrm>
            <a:off x="5167440" y="1523880"/>
            <a:ext cx="3733560" cy="37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Toegepaste gereedschappe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Toegepaste voertuigen / equipmen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Gepland aantal uitvoerenden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       perso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Geplande begindatum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Geplande einddatum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Werktijd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                    van                       to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Bijzondere vergunningen van toepassing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Hottap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Graafvergun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Pluglas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7"/>
          <p:cNvSpPr/>
          <p:nvPr/>
        </p:nvSpPr>
        <p:spPr>
          <a:xfrm>
            <a:off x="1095480" y="30481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Line 8"/>
          <p:cNvSpPr/>
          <p:nvPr/>
        </p:nvSpPr>
        <p:spPr>
          <a:xfrm>
            <a:off x="1095480" y="32767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Line 9"/>
          <p:cNvSpPr/>
          <p:nvPr/>
        </p:nvSpPr>
        <p:spPr>
          <a:xfrm>
            <a:off x="1095480" y="35053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10"/>
          <p:cNvSpPr/>
          <p:nvPr/>
        </p:nvSpPr>
        <p:spPr>
          <a:xfrm>
            <a:off x="1095480" y="37339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11"/>
          <p:cNvSpPr/>
          <p:nvPr/>
        </p:nvSpPr>
        <p:spPr>
          <a:xfrm>
            <a:off x="1095480" y="39625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ine 12"/>
          <p:cNvSpPr/>
          <p:nvPr/>
        </p:nvSpPr>
        <p:spPr>
          <a:xfrm>
            <a:off x="1095480" y="41911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Line 13"/>
          <p:cNvSpPr/>
          <p:nvPr/>
        </p:nvSpPr>
        <p:spPr>
          <a:xfrm>
            <a:off x="1095480" y="44197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Line 14"/>
          <p:cNvSpPr/>
          <p:nvPr/>
        </p:nvSpPr>
        <p:spPr>
          <a:xfrm>
            <a:off x="1095480" y="46483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15"/>
          <p:cNvSpPr/>
          <p:nvPr/>
        </p:nvSpPr>
        <p:spPr>
          <a:xfrm>
            <a:off x="1095480" y="48769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Line 16"/>
          <p:cNvSpPr/>
          <p:nvPr/>
        </p:nvSpPr>
        <p:spPr>
          <a:xfrm>
            <a:off x="1628640" y="2379600"/>
            <a:ext cx="32004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Line 17"/>
          <p:cNvSpPr/>
          <p:nvPr/>
        </p:nvSpPr>
        <p:spPr>
          <a:xfrm>
            <a:off x="2467080" y="2158920"/>
            <a:ext cx="23619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Line 18"/>
          <p:cNvSpPr/>
          <p:nvPr/>
        </p:nvSpPr>
        <p:spPr>
          <a:xfrm>
            <a:off x="5210280" y="30481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Line 19"/>
          <p:cNvSpPr/>
          <p:nvPr/>
        </p:nvSpPr>
        <p:spPr>
          <a:xfrm>
            <a:off x="5210280" y="28195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Line 20"/>
          <p:cNvSpPr/>
          <p:nvPr/>
        </p:nvSpPr>
        <p:spPr>
          <a:xfrm>
            <a:off x="5210280" y="23623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Line 21"/>
          <p:cNvSpPr/>
          <p:nvPr/>
        </p:nvSpPr>
        <p:spPr>
          <a:xfrm>
            <a:off x="5210280" y="21337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Line 22"/>
          <p:cNvSpPr/>
          <p:nvPr/>
        </p:nvSpPr>
        <p:spPr>
          <a:xfrm>
            <a:off x="5210280" y="19051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Line 23"/>
          <p:cNvSpPr/>
          <p:nvPr/>
        </p:nvSpPr>
        <p:spPr>
          <a:xfrm>
            <a:off x="5210280" y="32767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Line 24"/>
          <p:cNvSpPr/>
          <p:nvPr/>
        </p:nvSpPr>
        <p:spPr>
          <a:xfrm>
            <a:off x="7191360" y="3753000"/>
            <a:ext cx="106668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Line 25"/>
          <p:cNvSpPr/>
          <p:nvPr/>
        </p:nvSpPr>
        <p:spPr>
          <a:xfrm>
            <a:off x="7191360" y="3994200"/>
            <a:ext cx="16002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Line 26"/>
          <p:cNvSpPr/>
          <p:nvPr/>
        </p:nvSpPr>
        <p:spPr>
          <a:xfrm>
            <a:off x="7191360" y="4221000"/>
            <a:ext cx="16002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Line 27"/>
          <p:cNvSpPr/>
          <p:nvPr/>
        </p:nvSpPr>
        <p:spPr>
          <a:xfrm flipH="1">
            <a:off x="7191000" y="4441680"/>
            <a:ext cx="6858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Line 28"/>
          <p:cNvSpPr/>
          <p:nvPr/>
        </p:nvSpPr>
        <p:spPr>
          <a:xfrm flipH="1">
            <a:off x="8105400" y="4441680"/>
            <a:ext cx="6858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Line 29"/>
          <p:cNvSpPr/>
          <p:nvPr/>
        </p:nvSpPr>
        <p:spPr>
          <a:xfrm>
            <a:off x="7267680" y="5111640"/>
            <a:ext cx="152388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6"/>
          <p:cNvSpPr/>
          <p:nvPr/>
        </p:nvSpPr>
        <p:spPr>
          <a:xfrm>
            <a:off x="1562040" y="22860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6600"/>
                </a:solidFill>
                <a:latin typeface="Arial"/>
              </a:rPr>
              <a:t>Werken in besloten ruim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98631-B563-46A6-B939-94DF55C3E766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Rectangle 2"/>
          <p:cNvSpPr/>
          <p:nvPr/>
        </p:nvSpPr>
        <p:spPr>
          <a:xfrm>
            <a:off x="1028880" y="1219320"/>
            <a:ext cx="3886200" cy="518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Rectangle 3"/>
          <p:cNvSpPr/>
          <p:nvPr/>
        </p:nvSpPr>
        <p:spPr>
          <a:xfrm>
            <a:off x="5143680" y="1219320"/>
            <a:ext cx="3886200" cy="518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Text Box 4"/>
          <p:cNvSpPr/>
          <p:nvPr/>
        </p:nvSpPr>
        <p:spPr>
          <a:xfrm>
            <a:off x="1028880" y="1219320"/>
            <a:ext cx="380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AATREGELEN TE NEMEN DOOR VERSTREKKENDE AFDE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 Box 5"/>
          <p:cNvSpPr/>
          <p:nvPr/>
        </p:nvSpPr>
        <p:spPr>
          <a:xfrm>
            <a:off x="1028880" y="1752480"/>
            <a:ext cx="3809880" cy="44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(In te vullen door verstrekker/area operat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Welk product bevat of heeft de apparatuur/leiding beva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Invloed van naburige werkzaamhede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 u="sng">
                <a:solidFill>
                  <a:srgbClr val="000000"/>
                </a:solidFill>
                <a:uFillTx/>
                <a:latin typeface="Arial"/>
              </a:rPr>
              <a:t>Nodig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1000" spc="-1" strike="noStrike" u="sng">
                <a:solidFill>
                  <a:srgbClr val="000000"/>
                </a:solidFill>
                <a:uFillTx/>
                <a:latin typeface="Arial"/>
              </a:rPr>
              <a:t>Ger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flenzen label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ysteem spoel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ysteem aftapp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ysteem stom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ysteem inblokk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ysteem afstek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ysteem afkoppel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ysteem drukvrij mak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ysteem productvrij mak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omgeving controleren op tox. en/of agress. stoff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omgeving controleren op brandbaar materia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apparatuur elektrisch blokkeren (nr./handtekening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apparatuur elektrisch vrijschakelen (nr./handtekening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apparatuur mechanisch blokkeren (hoe?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 Box 6"/>
          <p:cNvSpPr/>
          <p:nvPr/>
        </p:nvSpPr>
        <p:spPr>
          <a:xfrm>
            <a:off x="5183280" y="1295280"/>
            <a:ext cx="3733560" cy="29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besloten ruimte conditierapport (nr.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verzamelplaa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milieueschermende maatregel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(t.w.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1000" spc="-1" strike="noStrike" u="sng">
                <a:solidFill>
                  <a:srgbClr val="000000"/>
                </a:solidFill>
                <a:uFillTx/>
                <a:latin typeface="Arial"/>
              </a:rPr>
              <a:t>Speciale operationele aandachtspunte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1000" spc="-1" strike="noStrike" u="sng">
                <a:solidFill>
                  <a:srgbClr val="000000"/>
                </a:solidFill>
                <a:uFillTx/>
                <a:latin typeface="Arial"/>
              </a:rPr>
              <a:t>Mogelijke risico’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1" lang="nl-NL" sz="900" spc="-1" strike="noStrike">
                <a:solidFill>
                  <a:srgbClr val="000000"/>
                </a:solidFill>
                <a:latin typeface="Arial"/>
              </a:rPr>
              <a:t>GASMETING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Line 7"/>
          <p:cNvSpPr/>
          <p:nvPr/>
        </p:nvSpPr>
        <p:spPr>
          <a:xfrm>
            <a:off x="5143680" y="4191120"/>
            <a:ext cx="3886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Line 8"/>
          <p:cNvSpPr/>
          <p:nvPr/>
        </p:nvSpPr>
        <p:spPr>
          <a:xfrm>
            <a:off x="5676840" y="4191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Line 9"/>
          <p:cNvSpPr/>
          <p:nvPr/>
        </p:nvSpPr>
        <p:spPr>
          <a:xfrm>
            <a:off x="6362640" y="4191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Line 10"/>
          <p:cNvSpPr/>
          <p:nvPr/>
        </p:nvSpPr>
        <p:spPr>
          <a:xfrm>
            <a:off x="8344080" y="4191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Line 11"/>
          <p:cNvSpPr/>
          <p:nvPr/>
        </p:nvSpPr>
        <p:spPr>
          <a:xfrm>
            <a:off x="7658280" y="4191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Line 12"/>
          <p:cNvSpPr/>
          <p:nvPr/>
        </p:nvSpPr>
        <p:spPr>
          <a:xfrm>
            <a:off x="5143680" y="48006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Line 13"/>
          <p:cNvSpPr/>
          <p:nvPr/>
        </p:nvSpPr>
        <p:spPr>
          <a:xfrm>
            <a:off x="5143680" y="51055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Line 14"/>
          <p:cNvSpPr/>
          <p:nvPr/>
        </p:nvSpPr>
        <p:spPr>
          <a:xfrm>
            <a:off x="5143680" y="54864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Line 15"/>
          <p:cNvSpPr/>
          <p:nvPr/>
        </p:nvSpPr>
        <p:spPr>
          <a:xfrm>
            <a:off x="5143680" y="61722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Line 16"/>
          <p:cNvSpPr/>
          <p:nvPr/>
        </p:nvSpPr>
        <p:spPr>
          <a:xfrm>
            <a:off x="8877240" y="4495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Line 17"/>
          <p:cNvSpPr/>
          <p:nvPr/>
        </p:nvSpPr>
        <p:spPr>
          <a:xfrm>
            <a:off x="8039160" y="4495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18"/>
          <p:cNvSpPr/>
          <p:nvPr/>
        </p:nvSpPr>
        <p:spPr>
          <a:xfrm>
            <a:off x="5338800" y="4705200"/>
            <a:ext cx="838080" cy="19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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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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 Box 19"/>
          <p:cNvSpPr/>
          <p:nvPr/>
        </p:nvSpPr>
        <p:spPr>
          <a:xfrm>
            <a:off x="5219640" y="4275000"/>
            <a:ext cx="1100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contin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Nodig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me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 Box 20"/>
          <p:cNvSpPr/>
          <p:nvPr/>
        </p:nvSpPr>
        <p:spPr>
          <a:xfrm>
            <a:off x="6321600" y="4156200"/>
            <a:ext cx="1517400" cy="22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spcBef>
                <a:spcPts val="499"/>
              </a:spcBef>
              <a:tabLst>
                <a:tab algn="l" pos="0"/>
                <a:tab algn="l" pos="476280"/>
                <a:tab algn="l" pos="86040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Dat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spcBef>
                <a:spcPts val="499"/>
              </a:spcBef>
              <a:tabLst>
                <a:tab algn="l" pos="0"/>
                <a:tab algn="l" pos="476280"/>
                <a:tab algn="l" pos="86040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Tij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spcBef>
                <a:spcPts val="499"/>
              </a:spcBef>
              <a:tabLst>
                <a:tab algn="l" pos="0"/>
                <a:tab algn="l" pos="476280"/>
                <a:tab algn="l" pos="86040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Zuurstof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% O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spcBef>
                <a:spcPts val="499"/>
              </a:spcBef>
              <a:tabLst>
                <a:tab algn="l" pos="0"/>
                <a:tab algn="l" pos="476280"/>
                <a:tab algn="l" pos="86040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Explosiviteit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% L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40000"/>
              </a:lnSpc>
              <a:spcBef>
                <a:spcPts val="499"/>
              </a:spcBef>
              <a:tabLst>
                <a:tab algn="l" pos="0"/>
                <a:tab algn="l" pos="476280"/>
                <a:tab algn="l" pos="86040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Toxische stoffen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pp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40000"/>
              </a:lnSpc>
              <a:spcBef>
                <a:spcPts val="499"/>
              </a:spcBef>
              <a:tabLst>
                <a:tab algn="l" pos="0"/>
                <a:tab algn="l" pos="476280"/>
                <a:tab algn="l" pos="86040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Type me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40000"/>
              </a:lnSpc>
              <a:spcBef>
                <a:spcPts val="499"/>
              </a:spcBef>
              <a:tabLst>
                <a:tab algn="l" pos="0"/>
                <a:tab algn="l" pos="476280"/>
                <a:tab algn="l" pos="86040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Paraa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Line 21"/>
          <p:cNvSpPr/>
          <p:nvPr/>
        </p:nvSpPr>
        <p:spPr>
          <a:xfrm>
            <a:off x="7048440" y="5962680"/>
            <a:ext cx="4572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Line 22"/>
          <p:cNvSpPr/>
          <p:nvPr/>
        </p:nvSpPr>
        <p:spPr>
          <a:xfrm>
            <a:off x="6362640" y="44956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Line 23"/>
          <p:cNvSpPr/>
          <p:nvPr/>
        </p:nvSpPr>
        <p:spPr>
          <a:xfrm>
            <a:off x="5295960" y="396252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Line 24"/>
          <p:cNvSpPr/>
          <p:nvPr/>
        </p:nvSpPr>
        <p:spPr>
          <a:xfrm>
            <a:off x="5295960" y="373392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25"/>
          <p:cNvSpPr/>
          <p:nvPr/>
        </p:nvSpPr>
        <p:spPr>
          <a:xfrm>
            <a:off x="5295960" y="350532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Line 26"/>
          <p:cNvSpPr/>
          <p:nvPr/>
        </p:nvSpPr>
        <p:spPr>
          <a:xfrm>
            <a:off x="3390840" y="5772240"/>
            <a:ext cx="1219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Line 27"/>
          <p:cNvSpPr/>
          <p:nvPr/>
        </p:nvSpPr>
        <p:spPr>
          <a:xfrm>
            <a:off x="5295960" y="320040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Line 28"/>
          <p:cNvSpPr/>
          <p:nvPr/>
        </p:nvSpPr>
        <p:spPr>
          <a:xfrm>
            <a:off x="5295960" y="297180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Line 29"/>
          <p:cNvSpPr/>
          <p:nvPr/>
        </p:nvSpPr>
        <p:spPr>
          <a:xfrm>
            <a:off x="5518080" y="2208240"/>
            <a:ext cx="31147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Line 30"/>
          <p:cNvSpPr/>
          <p:nvPr/>
        </p:nvSpPr>
        <p:spPr>
          <a:xfrm>
            <a:off x="5981760" y="1774800"/>
            <a:ext cx="26510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Line 31"/>
          <p:cNvSpPr/>
          <p:nvPr/>
        </p:nvSpPr>
        <p:spPr>
          <a:xfrm>
            <a:off x="6896160" y="1498680"/>
            <a:ext cx="1736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Line 32"/>
          <p:cNvSpPr/>
          <p:nvPr/>
        </p:nvSpPr>
        <p:spPr>
          <a:xfrm>
            <a:off x="1144440" y="266688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Line 33"/>
          <p:cNvSpPr/>
          <p:nvPr/>
        </p:nvSpPr>
        <p:spPr>
          <a:xfrm>
            <a:off x="3543480" y="5972040"/>
            <a:ext cx="106668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Line 34"/>
          <p:cNvSpPr/>
          <p:nvPr/>
        </p:nvSpPr>
        <p:spPr>
          <a:xfrm>
            <a:off x="2952720" y="6162840"/>
            <a:ext cx="16574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Line 35"/>
          <p:cNvSpPr/>
          <p:nvPr/>
        </p:nvSpPr>
        <p:spPr>
          <a:xfrm>
            <a:off x="1144440" y="320040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 Box 6"/>
          <p:cNvSpPr/>
          <p:nvPr/>
        </p:nvSpPr>
        <p:spPr>
          <a:xfrm>
            <a:off x="1562040" y="22860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6600"/>
                </a:solidFill>
                <a:latin typeface="Arial"/>
              </a:rPr>
              <a:t>Werken in besloten ruim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38C46-8810-4933-90E4-653B2CC2A4D9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2"/>
          <p:cNvSpPr/>
          <p:nvPr/>
        </p:nvSpPr>
        <p:spPr>
          <a:xfrm>
            <a:off x="1047600" y="1219320"/>
            <a:ext cx="3886200" cy="518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3"/>
          <p:cNvSpPr/>
          <p:nvPr/>
        </p:nvSpPr>
        <p:spPr>
          <a:xfrm>
            <a:off x="5162400" y="1219320"/>
            <a:ext cx="3886200" cy="518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 Box 4"/>
          <p:cNvSpPr/>
          <p:nvPr/>
        </p:nvSpPr>
        <p:spPr>
          <a:xfrm>
            <a:off x="1047600" y="1219320"/>
            <a:ext cx="381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AATREGELEN TE NEMEN DOOR HOU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 Box 5"/>
          <p:cNvSpPr/>
          <p:nvPr/>
        </p:nvSpPr>
        <p:spPr>
          <a:xfrm>
            <a:off x="1047600" y="1752480"/>
            <a:ext cx="3810240" cy="45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(In te vullen door aanvrag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 u="sng">
                <a:solidFill>
                  <a:srgbClr val="000000"/>
                </a:solidFill>
                <a:uFillTx/>
                <a:latin typeface="Arial"/>
              </a:rPr>
              <a:t>Te nemen voorzorgsmaatregele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putten goten en/of riolen afdekken binnen 30 me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vonkafscherming plaats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werkplek afzett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mangatwacht inzett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brandwacht inzett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brandwaterslang gereed met straalpij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aanvullende brandblusmiddelen (t.w.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werkplek en/of werkstuk nat houd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werkplek beveiligen tegen valgeva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(t.w.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ventilat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 u="sng">
                <a:solidFill>
                  <a:srgbClr val="000000"/>
                </a:solidFill>
                <a:uFillTx/>
                <a:latin typeface="Arial"/>
              </a:rPr>
              <a:t>Aanvullende persoonlijke beschermingsmiddele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ruimzicht/zuurbri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gelaatscher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valbescherm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hand/arm bescherming (t.w.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beschermende kleding (t.w.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vluchtmasker binnen handberei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 Box 6"/>
          <p:cNvSpPr/>
          <p:nvPr/>
        </p:nvSpPr>
        <p:spPr>
          <a:xfrm>
            <a:off x="5202360" y="1295280"/>
            <a:ext cx="3733560" cy="19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Persoonlijke gasalarmering (t.w.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gebruik adembescherm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filtermasker (type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verse lucht ka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persluchtmask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624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1000" spc="-1" strike="noStrike" u="sng">
                <a:solidFill>
                  <a:srgbClr val="000000"/>
                </a:solidFill>
                <a:uFillTx/>
                <a:latin typeface="Arial"/>
              </a:rPr>
              <a:t>Extra eisen (in te vullen door verstrekker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Line 7"/>
          <p:cNvSpPr/>
          <p:nvPr/>
        </p:nvSpPr>
        <p:spPr>
          <a:xfrm>
            <a:off x="5162400" y="4191120"/>
            <a:ext cx="3886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Line 8"/>
          <p:cNvSpPr/>
          <p:nvPr/>
        </p:nvSpPr>
        <p:spPr>
          <a:xfrm>
            <a:off x="5695920" y="4495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Line 9"/>
          <p:cNvSpPr/>
          <p:nvPr/>
        </p:nvSpPr>
        <p:spPr>
          <a:xfrm>
            <a:off x="6134040" y="4191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Line 10"/>
          <p:cNvSpPr/>
          <p:nvPr/>
        </p:nvSpPr>
        <p:spPr>
          <a:xfrm>
            <a:off x="8120160" y="4191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Line 11"/>
          <p:cNvSpPr/>
          <p:nvPr/>
        </p:nvSpPr>
        <p:spPr>
          <a:xfrm>
            <a:off x="7201080" y="4191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Line 12"/>
          <p:cNvSpPr/>
          <p:nvPr/>
        </p:nvSpPr>
        <p:spPr>
          <a:xfrm>
            <a:off x="5162400" y="48006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Line 13"/>
          <p:cNvSpPr/>
          <p:nvPr/>
        </p:nvSpPr>
        <p:spPr>
          <a:xfrm>
            <a:off x="5162400" y="51055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14"/>
          <p:cNvSpPr/>
          <p:nvPr/>
        </p:nvSpPr>
        <p:spPr>
          <a:xfrm>
            <a:off x="5162400" y="54864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15"/>
          <p:cNvSpPr/>
          <p:nvPr/>
        </p:nvSpPr>
        <p:spPr>
          <a:xfrm>
            <a:off x="5162400" y="61722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16"/>
          <p:cNvSpPr/>
          <p:nvPr/>
        </p:nvSpPr>
        <p:spPr>
          <a:xfrm>
            <a:off x="8591400" y="4495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17"/>
          <p:cNvSpPr/>
          <p:nvPr/>
        </p:nvSpPr>
        <p:spPr>
          <a:xfrm>
            <a:off x="7691400" y="4495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Line 18"/>
          <p:cNvSpPr/>
          <p:nvPr/>
        </p:nvSpPr>
        <p:spPr>
          <a:xfrm>
            <a:off x="5315040" y="396252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19"/>
          <p:cNvSpPr/>
          <p:nvPr/>
        </p:nvSpPr>
        <p:spPr>
          <a:xfrm>
            <a:off x="5315040" y="373392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20"/>
          <p:cNvSpPr/>
          <p:nvPr/>
        </p:nvSpPr>
        <p:spPr>
          <a:xfrm>
            <a:off x="5315040" y="350532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Line 21"/>
          <p:cNvSpPr/>
          <p:nvPr/>
        </p:nvSpPr>
        <p:spPr>
          <a:xfrm>
            <a:off x="5537160" y="2819520"/>
            <a:ext cx="31147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ine 22"/>
          <p:cNvSpPr/>
          <p:nvPr/>
        </p:nvSpPr>
        <p:spPr>
          <a:xfrm>
            <a:off x="6321600" y="2057400"/>
            <a:ext cx="2346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23"/>
          <p:cNvSpPr/>
          <p:nvPr/>
        </p:nvSpPr>
        <p:spPr>
          <a:xfrm>
            <a:off x="6778800" y="1498680"/>
            <a:ext cx="18889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24"/>
          <p:cNvSpPr/>
          <p:nvPr/>
        </p:nvSpPr>
        <p:spPr>
          <a:xfrm>
            <a:off x="1163520" y="4821120"/>
            <a:ext cx="354168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25"/>
          <p:cNvSpPr/>
          <p:nvPr/>
        </p:nvSpPr>
        <p:spPr>
          <a:xfrm>
            <a:off x="2428920" y="6067440"/>
            <a:ext cx="2200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Line 26"/>
          <p:cNvSpPr/>
          <p:nvPr/>
        </p:nvSpPr>
        <p:spPr>
          <a:xfrm>
            <a:off x="2419200" y="5897520"/>
            <a:ext cx="2200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Line 27"/>
          <p:cNvSpPr/>
          <p:nvPr/>
        </p:nvSpPr>
        <p:spPr>
          <a:xfrm>
            <a:off x="1352520" y="4419720"/>
            <a:ext cx="32670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Line 28"/>
          <p:cNvSpPr/>
          <p:nvPr/>
        </p:nvSpPr>
        <p:spPr>
          <a:xfrm>
            <a:off x="2800440" y="3822840"/>
            <a:ext cx="181908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Line 29"/>
          <p:cNvSpPr/>
          <p:nvPr/>
        </p:nvSpPr>
        <p:spPr>
          <a:xfrm flipH="1">
            <a:off x="5162040" y="44956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Line 30"/>
          <p:cNvSpPr/>
          <p:nvPr/>
        </p:nvSpPr>
        <p:spPr>
          <a:xfrm>
            <a:off x="5238720" y="4191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Line 31"/>
          <p:cNvSpPr/>
          <p:nvPr/>
        </p:nvSpPr>
        <p:spPr>
          <a:xfrm>
            <a:off x="6696000" y="4495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Text Box 6"/>
          <p:cNvSpPr/>
          <p:nvPr/>
        </p:nvSpPr>
        <p:spPr>
          <a:xfrm>
            <a:off x="1562040" y="22860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6600"/>
                </a:solidFill>
                <a:latin typeface="Arial"/>
              </a:rPr>
              <a:t>Werken in besloten ruim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E3423-3403-49B2-B224-B8CBF4E627E6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Rectangle 2"/>
          <p:cNvSpPr/>
          <p:nvPr/>
        </p:nvSpPr>
        <p:spPr>
          <a:xfrm>
            <a:off x="1038240" y="1219320"/>
            <a:ext cx="3886200" cy="518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Rectangle 3"/>
          <p:cNvSpPr/>
          <p:nvPr/>
        </p:nvSpPr>
        <p:spPr>
          <a:xfrm>
            <a:off x="5153040" y="1219320"/>
            <a:ext cx="3886200" cy="518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 Box 4"/>
          <p:cNvSpPr/>
          <p:nvPr/>
        </p:nvSpPr>
        <p:spPr>
          <a:xfrm>
            <a:off x="1038240" y="1219320"/>
            <a:ext cx="380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BEKRACHTI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Text Box 5"/>
          <p:cNvSpPr/>
          <p:nvPr/>
        </p:nvSpPr>
        <p:spPr>
          <a:xfrm>
            <a:off x="1038240" y="1523880"/>
            <a:ext cx="3809880" cy="49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Risico Categorie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Risico analyse (nr.                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De kolommen “Aanvraag werkzaamheden” en “Maatregelen te nemen door houder” zijn juist ingevuld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000000"/>
                </a:solidFill>
                <a:latin typeface="Arial"/>
              </a:rPr>
              <a:t>Aanvrag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Naa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Firm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Telefoon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Datu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andtekening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Principe toestemming bijzondere werkzaamheden:</a:t>
            </a: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n.v.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000000"/>
                </a:solidFill>
                <a:latin typeface="Arial"/>
              </a:rPr>
              <a:t>Operationeel beheer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Naam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Datu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andtekening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Vergunning mede beoordeeld:</a:t>
            </a: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n.v.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000000"/>
                </a:solidFill>
                <a:latin typeface="Arial"/>
              </a:rPr>
              <a:t>Mede ondertekena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Naa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Datu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andtekening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Vergunning is voorbereid:</a:t>
            </a: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n.v.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000000"/>
                </a:solidFill>
                <a:latin typeface="Arial"/>
              </a:rPr>
              <a:t>Vergunning voorberei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Naam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Datu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andtekening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Text Box 6"/>
          <p:cNvSpPr/>
          <p:nvPr/>
        </p:nvSpPr>
        <p:spPr>
          <a:xfrm>
            <a:off x="5192640" y="1295280"/>
            <a:ext cx="3733920" cy="29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Het werk kan veilig uitgevoerd worden en beheersmaatregelen zijn doorgesproken met vergunninghouder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1" lang="nl-NL" sz="900" spc="-1" strike="noStrike">
                <a:solidFill>
                  <a:srgbClr val="000000"/>
                </a:solidFill>
                <a:latin typeface="Arial"/>
              </a:rPr>
              <a:t>Verstrekk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Naam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Datu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andtekening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Akkoord met opgelegde eisen en draagt zorg voor uitvoering volgens de vergunningsvoorwaarden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1" lang="nl-NL" sz="900" spc="-1" strike="noStrike">
                <a:solidFill>
                  <a:srgbClr val="000000"/>
                </a:solidFill>
                <a:latin typeface="Arial"/>
              </a:rPr>
              <a:t>Hou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Naa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Firm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Datu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andtekening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1" lang="nl-NL" sz="900" spc="-1" strike="noStrike">
                <a:solidFill>
                  <a:srgbClr val="000000"/>
                </a:solidFill>
                <a:latin typeface="Arial"/>
              </a:rPr>
              <a:t>Houder na overdrach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Naa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Firm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Datu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andtekening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Line 7"/>
          <p:cNvSpPr/>
          <p:nvPr/>
        </p:nvSpPr>
        <p:spPr>
          <a:xfrm>
            <a:off x="5153040" y="4191120"/>
            <a:ext cx="3886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Line 8"/>
          <p:cNvSpPr/>
          <p:nvPr/>
        </p:nvSpPr>
        <p:spPr>
          <a:xfrm>
            <a:off x="5915160" y="44197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Line 9"/>
          <p:cNvSpPr/>
          <p:nvPr/>
        </p:nvSpPr>
        <p:spPr>
          <a:xfrm>
            <a:off x="6905520" y="4613400"/>
            <a:ext cx="0" cy="155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Line 10"/>
          <p:cNvSpPr/>
          <p:nvPr/>
        </p:nvSpPr>
        <p:spPr>
          <a:xfrm>
            <a:off x="8505720" y="4613400"/>
            <a:ext cx="0" cy="155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Line 11"/>
          <p:cNvSpPr/>
          <p:nvPr/>
        </p:nvSpPr>
        <p:spPr>
          <a:xfrm>
            <a:off x="5153040" y="48006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Line 12"/>
          <p:cNvSpPr/>
          <p:nvPr/>
        </p:nvSpPr>
        <p:spPr>
          <a:xfrm>
            <a:off x="5153040" y="49528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Line 13"/>
          <p:cNvSpPr/>
          <p:nvPr/>
        </p:nvSpPr>
        <p:spPr>
          <a:xfrm>
            <a:off x="5153040" y="6172200"/>
            <a:ext cx="3886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Line 14"/>
          <p:cNvSpPr/>
          <p:nvPr/>
        </p:nvSpPr>
        <p:spPr>
          <a:xfrm>
            <a:off x="7524720" y="4114800"/>
            <a:ext cx="13622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Line 15"/>
          <p:cNvSpPr/>
          <p:nvPr/>
        </p:nvSpPr>
        <p:spPr>
          <a:xfrm flipH="1">
            <a:off x="5152680" y="44197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Line 16"/>
          <p:cNvSpPr/>
          <p:nvPr/>
        </p:nvSpPr>
        <p:spPr>
          <a:xfrm>
            <a:off x="7515360" y="44197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Text Box 17"/>
          <p:cNvSpPr/>
          <p:nvPr/>
        </p:nvSpPr>
        <p:spPr>
          <a:xfrm>
            <a:off x="5181480" y="4197240"/>
            <a:ext cx="358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Verlenging</a:t>
            </a: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maximaal 1 week geldi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 Box 18"/>
          <p:cNvSpPr/>
          <p:nvPr/>
        </p:nvSpPr>
        <p:spPr>
          <a:xfrm>
            <a:off x="2333520" y="1523880"/>
            <a:ext cx="221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oog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9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 Laa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Line 19"/>
          <p:cNvSpPr/>
          <p:nvPr/>
        </p:nvSpPr>
        <p:spPr>
          <a:xfrm>
            <a:off x="5610240" y="4114800"/>
            <a:ext cx="1133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Line 20"/>
          <p:cNvSpPr/>
          <p:nvPr/>
        </p:nvSpPr>
        <p:spPr>
          <a:xfrm>
            <a:off x="5610240" y="3886200"/>
            <a:ext cx="1905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Line 21"/>
          <p:cNvSpPr/>
          <p:nvPr/>
        </p:nvSpPr>
        <p:spPr>
          <a:xfrm>
            <a:off x="7896240" y="3886200"/>
            <a:ext cx="9907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ne 22"/>
          <p:cNvSpPr/>
          <p:nvPr/>
        </p:nvSpPr>
        <p:spPr>
          <a:xfrm>
            <a:off x="7896240" y="3200400"/>
            <a:ext cx="9907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Line 23"/>
          <p:cNvSpPr/>
          <p:nvPr/>
        </p:nvSpPr>
        <p:spPr>
          <a:xfrm>
            <a:off x="7524720" y="3429000"/>
            <a:ext cx="13622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Line 24"/>
          <p:cNvSpPr/>
          <p:nvPr/>
        </p:nvSpPr>
        <p:spPr>
          <a:xfrm>
            <a:off x="5610240" y="3429000"/>
            <a:ext cx="1133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Line 25"/>
          <p:cNvSpPr/>
          <p:nvPr/>
        </p:nvSpPr>
        <p:spPr>
          <a:xfrm>
            <a:off x="5610240" y="3200400"/>
            <a:ext cx="1905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Line 26"/>
          <p:cNvSpPr/>
          <p:nvPr/>
        </p:nvSpPr>
        <p:spPr>
          <a:xfrm>
            <a:off x="7591320" y="2340000"/>
            <a:ext cx="1295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Line 27"/>
          <p:cNvSpPr/>
          <p:nvPr/>
        </p:nvSpPr>
        <p:spPr>
          <a:xfrm>
            <a:off x="5637240" y="2340000"/>
            <a:ext cx="113328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Line 28"/>
          <p:cNvSpPr/>
          <p:nvPr/>
        </p:nvSpPr>
        <p:spPr>
          <a:xfrm>
            <a:off x="5610240" y="2119320"/>
            <a:ext cx="32767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Line 29"/>
          <p:cNvSpPr/>
          <p:nvPr/>
        </p:nvSpPr>
        <p:spPr>
          <a:xfrm>
            <a:off x="3400560" y="6324480"/>
            <a:ext cx="13716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Line 30"/>
          <p:cNvSpPr/>
          <p:nvPr/>
        </p:nvSpPr>
        <p:spPr>
          <a:xfrm>
            <a:off x="1495440" y="6324480"/>
            <a:ext cx="1133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Line 31"/>
          <p:cNvSpPr/>
          <p:nvPr/>
        </p:nvSpPr>
        <p:spPr>
          <a:xfrm>
            <a:off x="1495440" y="6081840"/>
            <a:ext cx="32767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Line 32"/>
          <p:cNvSpPr/>
          <p:nvPr/>
        </p:nvSpPr>
        <p:spPr>
          <a:xfrm>
            <a:off x="3857760" y="5105520"/>
            <a:ext cx="9144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Line 33"/>
          <p:cNvSpPr/>
          <p:nvPr/>
        </p:nvSpPr>
        <p:spPr>
          <a:xfrm>
            <a:off x="3409920" y="5342040"/>
            <a:ext cx="13622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Line 34"/>
          <p:cNvSpPr/>
          <p:nvPr/>
        </p:nvSpPr>
        <p:spPr>
          <a:xfrm>
            <a:off x="1495440" y="5342040"/>
            <a:ext cx="1133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Line 35"/>
          <p:cNvSpPr/>
          <p:nvPr/>
        </p:nvSpPr>
        <p:spPr>
          <a:xfrm>
            <a:off x="1495440" y="5105520"/>
            <a:ext cx="1905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Line 36"/>
          <p:cNvSpPr/>
          <p:nvPr/>
        </p:nvSpPr>
        <p:spPr>
          <a:xfrm>
            <a:off x="3781440" y="2895480"/>
            <a:ext cx="9907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Line 37"/>
          <p:cNvSpPr/>
          <p:nvPr/>
        </p:nvSpPr>
        <p:spPr>
          <a:xfrm>
            <a:off x="3409920" y="3381480"/>
            <a:ext cx="13622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Line 38"/>
          <p:cNvSpPr/>
          <p:nvPr/>
        </p:nvSpPr>
        <p:spPr>
          <a:xfrm>
            <a:off x="1495440" y="3381480"/>
            <a:ext cx="1133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Line 39"/>
          <p:cNvSpPr/>
          <p:nvPr/>
        </p:nvSpPr>
        <p:spPr>
          <a:xfrm>
            <a:off x="1495440" y="2895480"/>
            <a:ext cx="1905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Line 40"/>
          <p:cNvSpPr/>
          <p:nvPr/>
        </p:nvSpPr>
        <p:spPr>
          <a:xfrm>
            <a:off x="3476520" y="4357800"/>
            <a:ext cx="1295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Line 41"/>
          <p:cNvSpPr/>
          <p:nvPr/>
        </p:nvSpPr>
        <p:spPr>
          <a:xfrm>
            <a:off x="1495440" y="4357800"/>
            <a:ext cx="1133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Line 42"/>
          <p:cNvSpPr/>
          <p:nvPr/>
        </p:nvSpPr>
        <p:spPr>
          <a:xfrm>
            <a:off x="1495440" y="4114800"/>
            <a:ext cx="32767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Line 43"/>
          <p:cNvSpPr/>
          <p:nvPr/>
        </p:nvSpPr>
        <p:spPr>
          <a:xfrm>
            <a:off x="2104920" y="1962000"/>
            <a:ext cx="4572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Line 44"/>
          <p:cNvSpPr/>
          <p:nvPr/>
        </p:nvSpPr>
        <p:spPr>
          <a:xfrm flipH="1">
            <a:off x="5152680" y="35053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Line 45"/>
          <p:cNvSpPr/>
          <p:nvPr/>
        </p:nvSpPr>
        <p:spPr>
          <a:xfrm flipH="1">
            <a:off x="1037880" y="20574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Line 46"/>
          <p:cNvSpPr/>
          <p:nvPr/>
        </p:nvSpPr>
        <p:spPr>
          <a:xfrm flipH="1">
            <a:off x="1037880" y="15238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Line 47"/>
          <p:cNvSpPr/>
          <p:nvPr/>
        </p:nvSpPr>
        <p:spPr>
          <a:xfrm flipH="1">
            <a:off x="1037880" y="343224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Line 48"/>
          <p:cNvSpPr/>
          <p:nvPr/>
        </p:nvSpPr>
        <p:spPr>
          <a:xfrm flipH="1">
            <a:off x="1037880" y="468324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Line 49"/>
          <p:cNvSpPr/>
          <p:nvPr/>
        </p:nvSpPr>
        <p:spPr>
          <a:xfrm flipH="1">
            <a:off x="1037880" y="567216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Text Box 50"/>
          <p:cNvSpPr/>
          <p:nvPr/>
        </p:nvSpPr>
        <p:spPr>
          <a:xfrm>
            <a:off x="5153040" y="4419720"/>
            <a:ext cx="38862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0320"/>
                <a:tab algn="l" pos="1712880"/>
                <a:tab algn="l" pos="238140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Verstrekker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Hou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0320"/>
                <a:tab algn="l" pos="1712880"/>
                <a:tab algn="l" pos="238140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Datum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Naam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Paraaf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Naam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Paraa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Line 51"/>
          <p:cNvSpPr/>
          <p:nvPr/>
        </p:nvSpPr>
        <p:spPr>
          <a:xfrm>
            <a:off x="5153040" y="461484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Line 52"/>
          <p:cNvSpPr/>
          <p:nvPr/>
        </p:nvSpPr>
        <p:spPr>
          <a:xfrm>
            <a:off x="5153040" y="51055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Line 53"/>
          <p:cNvSpPr/>
          <p:nvPr/>
        </p:nvSpPr>
        <p:spPr>
          <a:xfrm>
            <a:off x="5153040" y="52578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Line 54"/>
          <p:cNvSpPr/>
          <p:nvPr/>
        </p:nvSpPr>
        <p:spPr>
          <a:xfrm>
            <a:off x="5153040" y="54100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Line 55"/>
          <p:cNvSpPr/>
          <p:nvPr/>
        </p:nvSpPr>
        <p:spPr>
          <a:xfrm>
            <a:off x="5153040" y="55627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Line 56"/>
          <p:cNvSpPr/>
          <p:nvPr/>
        </p:nvSpPr>
        <p:spPr>
          <a:xfrm>
            <a:off x="5153040" y="57150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Line 57"/>
          <p:cNvSpPr/>
          <p:nvPr/>
        </p:nvSpPr>
        <p:spPr>
          <a:xfrm>
            <a:off x="5153040" y="58672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Line 58"/>
          <p:cNvSpPr/>
          <p:nvPr/>
        </p:nvSpPr>
        <p:spPr>
          <a:xfrm>
            <a:off x="5153040" y="60199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Text Box 6"/>
          <p:cNvSpPr/>
          <p:nvPr/>
        </p:nvSpPr>
        <p:spPr>
          <a:xfrm>
            <a:off x="1562040" y="22860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6600"/>
                </a:solidFill>
                <a:latin typeface="Arial"/>
              </a:rPr>
              <a:t>Werken in besloten ruim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28880" y="9712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WERKOVERLE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90080" y="1898640"/>
            <a:ext cx="616932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menwerking en overleg 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dernemingsra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delingswerkoverl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rie kenmerk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indt regelmatig pla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groepsactiv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ïnvloeding van “onderaf” (werkvlo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7BA0D-08A0-4E32-8756-E0926B5925E6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EFB33-A0E6-493E-9D15-7F37F75BDEC4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Text Box 6"/>
          <p:cNvSpPr/>
          <p:nvPr/>
        </p:nvSpPr>
        <p:spPr>
          <a:xfrm>
            <a:off x="1562040" y="2412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109224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DEFINITIE ERGONOMI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06" name=""/>
          <p:cNvSpPr txBox="1"/>
          <p:nvPr/>
        </p:nvSpPr>
        <p:spPr>
          <a:xfrm>
            <a:off x="1028880" y="1452600"/>
            <a:ext cx="777240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gonomie volgens Arbowe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al gericht op het welzijn van de medewe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zondheid van medewerkers beschermen door stellen van ergonomische randvoorwaard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chin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reedschap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svoorwer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p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mgevingsfactoren: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l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ill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lima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AA071-6C55-487A-8D51-044E4A8DBD7C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1058760" y="75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ARBOWET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11" name=""/>
          <p:cNvSpPr txBox="1"/>
          <p:nvPr/>
        </p:nvSpPr>
        <p:spPr>
          <a:xfrm>
            <a:off x="1011240" y="1797120"/>
            <a:ext cx="806760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rbeidssituatie en ta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passen aan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igenschappen van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ne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n niet anderso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15DE9-392F-45F9-BB49-A0AB1F6F9E36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722160" y="10872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MENS-MACHINESYSTEEM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16" name=""/>
          <p:cNvSpPr txBox="1"/>
          <p:nvPr/>
        </p:nvSpPr>
        <p:spPr>
          <a:xfrm>
            <a:off x="102384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plek is combinatie van twee zak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chines, gereedschappen, gebruiksvoorwerpen en werkplek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mstandighed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daaromhe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lich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l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lima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ill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ns met zijn</a:t>
            </a:r>
            <a:r>
              <a:rPr b="0" lang="nl-NL" sz="2000" spc="-1" strike="noStrike">
                <a:solidFill>
                  <a:srgbClr val="3333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ichamelijke bela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sp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we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hou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stelijke bela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9B7FB-715C-4229-8A32-E8E631F8BB2E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641520" y="1074240"/>
            <a:ext cx="777240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7 FACTOREN, DIE ERGONOMIE WERKPLEK BEPAL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21" name=""/>
          <p:cNvSpPr txBox="1"/>
          <p:nvPr/>
        </p:nvSpPr>
        <p:spPr>
          <a:xfrm>
            <a:off x="1765080" y="2523600"/>
            <a:ext cx="612756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. Ti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2.  Zitten en sta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l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4.  Klima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5.  Trill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6.  Verlich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7.  Lichamelijke en mentale bela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4ADAE-0078-49A7-9D6D-1376BEFCA3E7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1015920" y="8884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ILL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26" name=""/>
          <p:cNvSpPr txBox="1"/>
          <p:nvPr/>
        </p:nvSpPr>
        <p:spPr>
          <a:xfrm>
            <a:off x="1015920" y="1730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lastende factor in veel beroe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nste belas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ug re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ssa boven r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praktij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illen last vóór licha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lastbaarheid spier/skeletsysteem individueel verschillen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eftij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sla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ichaamsbou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traindhei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wustwording belast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ilinstruc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2A648-495D-4C9F-BFD5-4D66496BA513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ILINSTRUCTI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31" name=""/>
          <p:cNvSpPr txBox="1"/>
          <p:nvPr/>
        </p:nvSpPr>
        <p:spPr>
          <a:xfrm>
            <a:off x="1371600" y="5740200"/>
            <a:ext cx="1371600" cy="57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Plan ma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82760-5C73-46DE-A130-BCD94E12976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4" name="Picture 4" descr="tillen"/>
          <p:cNvPicPr/>
          <p:nvPr/>
        </p:nvPicPr>
        <p:blipFill>
          <a:blip r:embed="rId1"/>
          <a:stretch/>
        </p:blipFill>
        <p:spPr>
          <a:xfrm>
            <a:off x="1693800" y="2286000"/>
            <a:ext cx="5754600" cy="3378240"/>
          </a:xfrm>
          <a:prstGeom prst="rect">
            <a:avLst/>
          </a:prstGeom>
          <a:ln w="0">
            <a:noFill/>
          </a:ln>
        </p:spPr>
      </p:pic>
      <p:sp>
        <p:nvSpPr>
          <p:cNvPr id="1135" name="Rectangle 5"/>
          <p:cNvSpPr/>
          <p:nvPr/>
        </p:nvSpPr>
        <p:spPr>
          <a:xfrm>
            <a:off x="2971800" y="5715000"/>
            <a:ext cx="1981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Benen in spreid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stand, voeten 4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graden naar bui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Rectangle 6"/>
          <p:cNvSpPr/>
          <p:nvPr/>
        </p:nvSpPr>
        <p:spPr>
          <a:xfrm>
            <a:off x="4952880" y="5715000"/>
            <a:ext cx="1447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Knieën buige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ug recht hou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Rectangle 7"/>
          <p:cNvSpPr/>
          <p:nvPr/>
        </p:nvSpPr>
        <p:spPr>
          <a:xfrm>
            <a:off x="6324480" y="5715000"/>
            <a:ext cx="1905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anuit staande posit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beginnen met l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685800" y="1136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MAATREGELEN TER BEPERKING</a:t>
            </a:r>
            <a:br>
              <a:rPr sz="2400"/>
            </a:b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AN TILBELAST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40" name=""/>
          <p:cNvSpPr txBox="1"/>
          <p:nvPr/>
        </p:nvSpPr>
        <p:spPr>
          <a:xfrm>
            <a:off x="1801800" y="2311560"/>
            <a:ext cx="498312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chanisering/hulpmidd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minder gewi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rganisatie 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men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zittend ti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perk tilhoog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perk verplaatsingsaf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9EF20-1E6C-4E22-8614-40F08F838B50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ZITT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10159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ngdurig zitten is belast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84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tische belasting van bekken, wervelkolom, schouder, gor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wisseling voorkomt klach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84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open/staan/zitten/verschillende zithoud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timale zithou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84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oede ondersteuning be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84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oede stand r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84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tlasting schou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84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gelijkheid kieze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dere houd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83D79-C06C-4328-B7E1-40D81DF7D21B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003320" y="939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STAA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1170000" y="1592280"/>
            <a:ext cx="719784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en, indi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voldoende beenruimte om te zi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ak reiken (hoog, laag, v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scheiden werkplekken (vaak heen en weer lop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erwaartse krachten (verpakkingswerkzaamhed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steu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ngt 60% lichaamsgewicht 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tlast benen/voe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ADC6D-AA00-4B5D-BBCE-44B68BFAEB97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19T06:00:50Z</dcterms:created>
  <dc:creator>Servicedesk</dc:creator>
  <dc:description/>
  <dc:language>en-US</dc:language>
  <cp:lastModifiedBy>Johan Schuppert</cp:lastModifiedBy>
  <cp:lastPrinted>2002-10-03T14:29:02Z</cp:lastPrinted>
  <dcterms:modified xsi:type="dcterms:W3CDTF">2015-10-27T08:56:37Z</dcterms:modified>
  <cp:revision>260</cp:revision>
  <dc:subject/>
  <dc:title>Geen diatitel</dc:title>
</cp:coreProperties>
</file>