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4.wmf" ContentType="image/x-wmf"/>
  <Override PartName="/ppt/media/image28.png" ContentType="image/png"/>
  <Override PartName="/ppt/media/image10.jpeg" ContentType="image/jpeg"/>
  <Override PartName="/ppt/media/image13.wmf" ContentType="image/x-wmf"/>
  <Override PartName="/ppt/media/image9.wmf" ContentType="image/x-wmf"/>
  <Override PartName="/ppt/media/image31.png" ContentType="image/png"/>
  <Override PartName="/ppt/media/image33.png" ContentType="image/png"/>
  <Override PartName="/ppt/media/image34.png" ContentType="image/png"/>
  <Override PartName="/ppt/media/image36.wmf" ContentType="image/x-wmf"/>
  <Override PartName="/ppt/media/image38.wmf" ContentType="image/x-wmf"/>
  <Override PartName="/ppt/media/image8.wmf" ContentType="image/x-wmf"/>
  <Override PartName="/ppt/media/image37.wmf" ContentType="image/x-wmf"/>
  <Override PartName="/ppt/media/image39.jpeg" ContentType="image/jpeg"/>
  <Override PartName="/ppt/media/image41.jpeg" ContentType="image/jpeg"/>
  <Override PartName="/ppt/media/image11.wmf" ContentType="image/x-wmf"/>
  <Override PartName="/ppt/media/image26.png" ContentType="image/png"/>
  <Override PartName="/ppt/media/image40.wmf" ContentType="image/x-wmf"/>
  <Override PartName="/ppt/media/image7.png" ContentType="image/png"/>
  <Override PartName="/ppt/media/image35.jpeg" ContentType="image/jpeg"/>
  <Override PartName="/ppt/media/image1.jpeg" ContentType="image/jpeg"/>
  <Override PartName="/ppt/media/image12.wmf" ContentType="image/x-wmf"/>
  <Override PartName="/ppt/media/image27.png" ContentType="image/png"/>
  <Override PartName="/ppt/media/image6.jpeg" ContentType="image/jpeg"/>
  <Override PartName="/ppt/media/image5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40269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40269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98AFF3DE-CF60-4895-9FA3-4410EDC01AF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0F32F947-8006-407E-87BC-46212E8D5A5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2EF92232-7145-4B38-B77D-FFDE1EDD4E2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CBBB0BB8-85C6-40DA-B352-BF36D45D939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03177E11-BB09-436D-B832-A77E7AD7503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292A775E-EF18-42FF-A21F-C59C38070D3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3586E31C-604F-4484-9B23-BE52B56A667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4AA58FA4-48DB-46CE-91DD-A57E931FEB0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819000" y="768240"/>
            <a:ext cx="5461200" cy="409752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45840" y="5118120"/>
            <a:ext cx="580716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ijdelijke aanduiding voor dianummer 3"/>
          <p:cNvSpPr/>
          <p:nvPr/>
        </p:nvSpPr>
        <p:spPr>
          <a:xfrm>
            <a:off x="6453360" y="9053640"/>
            <a:ext cx="645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5F05825-702B-423A-934B-BAA594690768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2EF272C9-7F44-4399-9CB6-D356E33A842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3036-52F3-4597-8448-D0D50983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1DFC1-6052-4F95-88CD-D44BDFFA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4B5D1-A4E8-4C6A-B8FC-4EC1D7F4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B4B37-D9ED-4E10-8411-4DC22E3F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804F6-F1D7-485D-B250-DD9435B5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CD5DF-EB21-4E4B-A6F7-CE08D1B0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EF87B-B172-4F3D-B9E9-E851FB46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7C8AA-4BDC-482F-8A13-7CEAA6E9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3A017-1EC6-48B2-A615-2A3C4C8F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4AF47-F2D3-4CFC-8C41-01519730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F27EB-8F3B-4D2C-B297-E6C0525C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9BDB1-C69E-4A29-BA8A-D176DB00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83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48240" y="66384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619440" y="66384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23A4-8A55-4334-B20F-5EEC8E8EA2D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-14400" y="6683040"/>
            <a:ext cx="12146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14324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0" y="0"/>
            <a:ext cx="194328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" descr="PBNA kl"/>
          <p:cNvPicPr/>
          <p:nvPr/>
        </p:nvPicPr>
        <p:blipFill>
          <a:blip r:embed="rId3"/>
          <a:stretch/>
        </p:blipFill>
        <p:spPr>
          <a:xfrm>
            <a:off x="171360" y="181080"/>
            <a:ext cx="162252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987920" y="6485040"/>
            <a:ext cx="8884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 </a:t>
            </a:r>
            <a:fld id="{EA1924A2-1EDD-405E-9D10-B60A42DA1ABD}" type="slidenum">
              <a:rPr b="1" lang="nl-NL" sz="9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&lt;number&gt;</a:t>
            </a:fld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4"/>
          <p:cNvSpPr/>
          <p:nvPr/>
        </p:nvSpPr>
        <p:spPr>
          <a:xfrm>
            <a:off x="-9360" y="954000"/>
            <a:ext cx="9175680" cy="180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3"/>
          <p:cNvSpPr/>
          <p:nvPr/>
        </p:nvSpPr>
        <p:spPr>
          <a:xfrm>
            <a:off x="-9360" y="6330960"/>
            <a:ext cx="9144000" cy="144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jdelijke aanduiding voor voettekst 3"/>
          <p:cNvSpPr/>
          <p:nvPr/>
        </p:nvSpPr>
        <p:spPr>
          <a:xfrm>
            <a:off x="2228760" y="6481800"/>
            <a:ext cx="67723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VOL-VCA versie 4.7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© Koninklijke PBNA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not for general distribution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fbeelding 8" descr=""/>
          <p:cNvPicPr/>
          <p:nvPr/>
        </p:nvPicPr>
        <p:blipFill>
          <a:blip r:embed="rId2"/>
          <a:stretch/>
        </p:blipFill>
        <p:spPr>
          <a:xfrm>
            <a:off x="128520" y="6394320"/>
            <a:ext cx="1366920" cy="36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esign.hsdev.com/main.php?g2_itemId=1733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6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7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28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4.png"/><Relationship Id="rId24" Type="http://schemas.openxmlformats.org/officeDocument/2006/relationships/image" Target="../media/image35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5262-A3BC-4EB4-914E-583208D985D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87240" y="2019240"/>
            <a:ext cx="6255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OL-VCA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sie 4.7 alleen extra she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Veilig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voor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Operatione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Leidinggev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11240" y="12664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wijzen toezichthoudende taken aan leidinggeven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personeel van andere leidinggeve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bedrijf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en van bevoegdheden en 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riftelijk toewijz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leidingge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zelfde t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pers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middelen en w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E332-D00B-4E48-BDFD-F98D5FE354E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1294920" y="22096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effec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hoogde bloed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ademh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stofwiss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bloedcircu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spijsver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pannen sp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waakzaam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5DEC-6C86-41C1-B03F-CD9456FDCC0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762120" y="8748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6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1011240" y="1447920"/>
            <a:ext cx="806760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rootte van het blijvende gehoorverlies is afhankelijk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tale blootstellings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rustperiode tussen blootstelling (beschadiging in het begin omkeerba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te van het lawa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requentiespectrum van het lawaai (hoge tonen schadelijker dan l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inuïteit van het 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A04A-AC2B-4E62-981E-6C72735BE5A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875880" y="774720"/>
            <a:ext cx="803916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VERVOLG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1011240" y="1422360"/>
            <a:ext cx="8067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ellen van twee geluidsbro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rdubbeling van de afstand tot de geluidsbron geeft een vermindering van 6 dB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F828-769A-4B11-AABE-453975A23C9E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5" descr=""/>
          <p:cNvPicPr/>
          <p:nvPr/>
        </p:nvPicPr>
        <p:blipFill>
          <a:blip r:embed="rId1"/>
          <a:stretch/>
        </p:blipFill>
        <p:spPr>
          <a:xfrm>
            <a:off x="2195640" y="2295360"/>
            <a:ext cx="4676760" cy="2286000"/>
          </a:xfrm>
          <a:prstGeom prst="rect">
            <a:avLst/>
          </a:prstGeom>
          <a:ln w="0">
            <a:noFill/>
          </a:ln>
        </p:spPr>
      </p:pic>
      <p:sp>
        <p:nvSpPr>
          <p:cNvPr id="116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104480" y="28224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1076400" y="2298240"/>
            <a:ext cx="80676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geluidhinder te voorkomen in volgorde van priorite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veau van de geluidsbron verla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sbron afscherm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trillingen demp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gehoorbescher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74A2-261C-4AA3-888C-6BFD743A06F4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2"/>
          <p:cNvSpPr/>
          <p:nvPr/>
        </p:nvSpPr>
        <p:spPr>
          <a:xfrm>
            <a:off x="939960" y="10206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</a:t>
            </a:r>
            <a:r>
              <a:rPr b="1" lang="nl-NL" sz="1800" spc="-1" strike="noStrike">
                <a:solidFill>
                  <a:srgbClr val="86003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034640" y="187200"/>
            <a:ext cx="803916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1011240" y="2023560"/>
            <a:ext cx="806760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 tegen geluid de volgende maatregelen nem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0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tot gehooronderzo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hoorbescherming uitrei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5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pl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413C-C6BF-416E-8959-9A86AF944DB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2"/>
          <p:cNvSpPr/>
          <p:nvPr/>
        </p:nvSpPr>
        <p:spPr>
          <a:xfrm>
            <a:off x="939960" y="13842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1039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oorzaken stotende verplaatsingen van het gehele lichaam of gedeelten daar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te van verplaatsing bepaalt he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52CC-4117-4587-A88B-3115A9C7C5F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920880" y="415260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 -   9 Hz: algemeen onwel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3 - 20 Hz: hoofdpij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4 - 14 Hz: buik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C3DB-10DB-4A74-9A20-1F980B3720E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977760" y="2019240"/>
            <a:ext cx="798840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nd- en armtrillingen bij gebruik handgereedscha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trillingen door een voertuig, installatie of bewegend vlo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774360" y="965160"/>
            <a:ext cx="803916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011240" y="1498680"/>
            <a:ext cx="8067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hand- en ar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adiging bloedvaten en gewri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oelloze vingertopp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tte vinger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2d2d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lichaa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concentr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en evenwichtsorg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BBD7-D480-42A7-ADBF-88ADA276396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966960" y="936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GEN BLOOTSTELLING AAN 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1326960" y="2023560"/>
            <a:ext cx="75754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gen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acht bij aanschaf machin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brengen van dempers of iso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passen alternatieve technie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erken van blootstellingduu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imaat op de werkplek wordt bepaal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gevingstemperatuu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alingswarm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uchtvochtig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nderlijke luchtbeweg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F3F8-C5DC-4657-ABE1-C6965895F6B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, zodat we ons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behaaglijk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voe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en optimale prestaties kunnen lev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factoren bepalen een comfortabel klima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voer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chtigheid (relatieve luchtvochtigheid 40-6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mper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uchtsnelheid (‘s winters &lt; 0,15 m/s en ‘s zomers &lt; 0,25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4212-4F1B-41E6-A118-756E4D8BD86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03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VAAR VOOR ANDERE PERSONEN ZO VEEL MOGELIJK VOOR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van andere werkge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veranciers goe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oekers, voorbijgangers en omwon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bevoegden, die zich toegang kunnen ver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896E-5E6B-4F2A-B308-40E9089A952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hoofddeksel"/>
          <p:cNvPicPr/>
          <p:nvPr/>
        </p:nvPicPr>
        <p:blipFill>
          <a:blip r:embed="rId1"/>
          <a:stretch/>
        </p:blipFill>
        <p:spPr>
          <a:xfrm>
            <a:off x="7440480" y="251460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veiligheidspak"/>
          <p:cNvPicPr/>
          <p:nvPr/>
        </p:nvPicPr>
        <p:blipFill>
          <a:blip r:embed="rId2"/>
          <a:stretch/>
        </p:blipFill>
        <p:spPr>
          <a:xfrm>
            <a:off x="7516800" y="4021200"/>
            <a:ext cx="1301760" cy="1307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1011240" y="2730600"/>
            <a:ext cx="8067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het werkcomfort te verbeter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mperatuur behaaglijk en gelijkwaardig en aangepast aan de fysieke inspanning te hou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hinderlijke luchtbeweg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rekken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balans ruimte op peil hou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1193-3588-41B6-9326-F3C535941B7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2"/>
          <p:cNvSpPr/>
          <p:nvPr/>
        </p:nvSpPr>
        <p:spPr>
          <a:xfrm>
            <a:off x="1041480" y="15876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 (vervolg)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066680" y="2286000"/>
            <a:ext cx="74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nemen kleine details vereist hogere verlichtingsster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chtingssterkte in 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mpen gaan minder licht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vu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ou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n hebben meer licht nodig dan jon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 niet te groot (verhouding licht : do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1D70-581F-4A65-92B2-A52F03EF4AC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04148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1011240" y="2235240"/>
            <a:ext cx="8067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verlichting op de werkplek rekening houden 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kleiner de voorwerpen waarmee wordt gewerkt, hoe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 werknemers hebben meer licht nodi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en mogen niet te groot zij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erspiegeling moet voorkomen wor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lampen geven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tsterkte moet voldoen aan de wetge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6C8D-1070-4358-870C-E4A5BB0454E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041480" y="80460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1027080" y="1338120"/>
            <a:ext cx="7772400" cy="46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 en/of gees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stperiode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rstel spieren/bloedsom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tdurend aanspannen van de spieren belemmert doorbloeding blessures, let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en regelmatig spannen/ontspannen vraagt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ne lichamelijke vermoei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 en persoonlijke capacite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730B-27CB-4153-B70B-4EF82C0E12A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034640" y="7272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omstandigheden die lichamelijk klachten veroorzak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lange duur van de inspann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ngdurig zitten of sta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de hou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otstelling aan tril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rugkerende hande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atige inspa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 veroorza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doorbloe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 of kr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onische vermoeidh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A8EB-B1CF-4F78-8140-0486E800933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2"/>
          <p:cNvSpPr/>
          <p:nvPr/>
        </p:nvSpPr>
        <p:spPr>
          <a:xfrm>
            <a:off x="1041480" y="86508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034640" y="1548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FD61-1D6A-446C-9EAE-CB1B95A83F7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"/>
          <p:cNvSpPr/>
          <p:nvPr/>
        </p:nvSpPr>
        <p:spPr>
          <a:xfrm>
            <a:off x="9144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belasting is minder slecht dan statische belasting, maar kan toch de volgende gevolgen hebb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belasting wordt veroorzaakt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ak versus capacitei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e met collega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ërarchische re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ysische arbeidsomstandighe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(on)zeker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frastructuur en uitru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2"/>
          <p:cNvSpPr/>
          <p:nvPr/>
        </p:nvSpPr>
        <p:spPr>
          <a:xfrm>
            <a:off x="1041480" y="88884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FBDA-6F2A-498C-9FB4-13597F20AE8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AC97-F2CA-4709-84BB-3518C696945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FD55-48C1-4C88-83C8-5D2D0C4350F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3"/>
          <p:cNvSpPr/>
          <p:nvPr/>
        </p:nvSpPr>
        <p:spPr>
          <a:xfrm>
            <a:off x="898560" y="121140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SCHUINE EN PLATTE DAKEN,  GATEN IN VLOEREN EN W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Object 4" descr=""/>
          <p:cNvPicPr/>
          <p:nvPr/>
        </p:nvPicPr>
        <p:blipFill>
          <a:blip r:embed="rId1"/>
          <a:stretch/>
        </p:blipFill>
        <p:spPr>
          <a:xfrm>
            <a:off x="4876920" y="2216160"/>
            <a:ext cx="3311280" cy="1303200"/>
          </a:xfrm>
          <a:prstGeom prst="rect">
            <a:avLst/>
          </a:prstGeom>
          <a:ln w="0">
            <a:noFill/>
          </a:ln>
        </p:spPr>
      </p:pic>
      <p:sp>
        <p:nvSpPr>
          <p:cNvPr id="1251" name="Text Box 5"/>
          <p:cNvSpPr/>
          <p:nvPr/>
        </p:nvSpPr>
        <p:spPr>
          <a:xfrm>
            <a:off x="1055520" y="2631960"/>
            <a:ext cx="25016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Risico op 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6"/>
          <p:cNvSpPr/>
          <p:nvPr/>
        </p:nvSpPr>
        <p:spPr>
          <a:xfrm>
            <a:off x="1172520" y="3689280"/>
            <a:ext cx="70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loopplanken (hellend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individueel veiligheidsha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dakrandbeveiliging of vangnet (plat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k gaten af met stevig materi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arkering aan op gevaarlijke plaat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EEF5-0CAA-43B1-8E44-FA0294FA67E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andgereeds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andgereedschap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9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AMENWERKENDE WERKGEV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382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werkgevers gelijktijdig op dezelfde locatie moeten samenwerken om de Arbowet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vooraf vastleggen in Arboproject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samen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treffen voorzien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nier van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vanuit en naar omgeving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A73C-842E-46E1-9E8E-16B14049956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1963-E3E0-409F-A4DE-1AC093AFFAA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F9B4-30B6-4F3F-819A-8DC4ECA7B57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7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NDELING NAAR STOF- EN STOFFILTERKLASSE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058400" y="2057040"/>
            <a:ext cx="932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Stof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kla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2557-1D84-4C15-9341-D525D065022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2"/>
          <p:cNvSpPr/>
          <p:nvPr/>
        </p:nvSpPr>
        <p:spPr>
          <a:xfrm>
            <a:off x="1143000" y="1981080"/>
            <a:ext cx="769608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5"/>
          <p:cNvSpPr/>
          <p:nvPr/>
        </p:nvSpPr>
        <p:spPr>
          <a:xfrm>
            <a:off x="2057400" y="2057400"/>
            <a:ext cx="342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Omschrij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ert zwevend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eha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chadelijke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0,1 tot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halve 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iftige stof met een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&lt; 0,1 mg/m3, waaro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, carcinogene stoff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poren, virussen, bacterië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teolytische enzymen en b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 aangewezen sto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6"/>
          <p:cNvSpPr/>
          <p:nvPr/>
        </p:nvSpPr>
        <p:spPr>
          <a:xfrm>
            <a:off x="5191200" y="2057400"/>
            <a:ext cx="990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7"/>
          <p:cNvSpPr/>
          <p:nvPr/>
        </p:nvSpPr>
        <p:spPr>
          <a:xfrm>
            <a:off x="6181560" y="20574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Maxi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concentra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5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nuit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alf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2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laats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6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en samen met vol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laatsmasker inzet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20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8"/>
          <p:cNvSpPr/>
          <p:nvPr/>
        </p:nvSpPr>
        <p:spPr>
          <a:xfrm flipV="1">
            <a:off x="20574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9"/>
          <p:cNvSpPr/>
          <p:nvPr/>
        </p:nvSpPr>
        <p:spPr>
          <a:xfrm flipV="1">
            <a:off x="1125360" y="2514240"/>
            <a:ext cx="77137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0"/>
          <p:cNvSpPr/>
          <p:nvPr/>
        </p:nvSpPr>
        <p:spPr>
          <a:xfrm flipV="1">
            <a:off x="52578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1"/>
          <p:cNvSpPr/>
          <p:nvPr/>
        </p:nvSpPr>
        <p:spPr>
          <a:xfrm flipV="1">
            <a:off x="624852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2"/>
          <p:cNvSpPr/>
          <p:nvPr/>
        </p:nvSpPr>
        <p:spPr>
          <a:xfrm>
            <a:off x="1147680" y="3265560"/>
            <a:ext cx="76914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3"/>
          <p:cNvSpPr/>
          <p:nvPr/>
        </p:nvSpPr>
        <p:spPr>
          <a:xfrm flipV="1">
            <a:off x="1149480" y="4800240"/>
            <a:ext cx="76896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dembesche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00000"/>
                </a:solidFill>
                <a:latin typeface="Arial"/>
              </a:rPr>
              <a:t>INDELING GASFILTER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2"/>
          <p:cNvSpPr/>
          <p:nvPr/>
        </p:nvSpPr>
        <p:spPr>
          <a:xfrm>
            <a:off x="1125360" y="1693800"/>
            <a:ext cx="701064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"/>
          <p:cNvSpPr/>
          <p:nvPr/>
        </p:nvSpPr>
        <p:spPr>
          <a:xfrm>
            <a:off x="1125360" y="3903840"/>
            <a:ext cx="7010640" cy="38088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6"/>
          <p:cNvSpPr/>
          <p:nvPr/>
        </p:nvSpPr>
        <p:spPr>
          <a:xfrm flipV="1">
            <a:off x="219240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7"/>
          <p:cNvSpPr/>
          <p:nvPr/>
        </p:nvSpPr>
        <p:spPr>
          <a:xfrm flipV="1">
            <a:off x="341136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8"/>
          <p:cNvSpPr/>
          <p:nvPr/>
        </p:nvSpPr>
        <p:spPr>
          <a:xfrm flipV="1">
            <a:off x="219240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9"/>
          <p:cNvSpPr/>
          <p:nvPr/>
        </p:nvSpPr>
        <p:spPr>
          <a:xfrm flipV="1">
            <a:off x="341136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0"/>
          <p:cNvSpPr/>
          <p:nvPr/>
        </p:nvSpPr>
        <p:spPr>
          <a:xfrm>
            <a:off x="1125360" y="5580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11"/>
          <p:cNvSpPr/>
          <p:nvPr/>
        </p:nvSpPr>
        <p:spPr>
          <a:xfrm>
            <a:off x="1125360" y="51228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12"/>
          <p:cNvSpPr/>
          <p:nvPr/>
        </p:nvSpPr>
        <p:spPr>
          <a:xfrm>
            <a:off x="1125360" y="46656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13"/>
          <p:cNvSpPr/>
          <p:nvPr/>
        </p:nvSpPr>
        <p:spPr>
          <a:xfrm>
            <a:off x="1125360" y="344664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14"/>
          <p:cNvSpPr/>
          <p:nvPr/>
        </p:nvSpPr>
        <p:spPr>
          <a:xfrm>
            <a:off x="1125360" y="30654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15"/>
          <p:cNvSpPr/>
          <p:nvPr/>
        </p:nvSpPr>
        <p:spPr>
          <a:xfrm>
            <a:off x="1125360" y="26082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16"/>
          <p:cNvSpPr/>
          <p:nvPr/>
        </p:nvSpPr>
        <p:spPr>
          <a:xfrm>
            <a:off x="1125360" y="2151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20"/>
          <p:cNvSpPr/>
          <p:nvPr/>
        </p:nvSpPr>
        <p:spPr>
          <a:xfrm>
            <a:off x="2190600" y="2141640"/>
            <a:ext cx="1211400" cy="4521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21"/>
          <p:cNvSpPr/>
          <p:nvPr/>
        </p:nvSpPr>
        <p:spPr>
          <a:xfrm>
            <a:off x="2187720" y="2602080"/>
            <a:ext cx="1211040" cy="4521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22"/>
          <p:cNvSpPr/>
          <p:nvPr/>
        </p:nvSpPr>
        <p:spPr>
          <a:xfrm>
            <a:off x="2201760" y="3433680"/>
            <a:ext cx="1211400" cy="452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23"/>
          <p:cNvSpPr/>
          <p:nvPr/>
        </p:nvSpPr>
        <p:spPr>
          <a:xfrm>
            <a:off x="2200320" y="4297320"/>
            <a:ext cx="1211040" cy="35892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24"/>
          <p:cNvSpPr/>
          <p:nvPr/>
        </p:nvSpPr>
        <p:spPr>
          <a:xfrm>
            <a:off x="2195640" y="4676760"/>
            <a:ext cx="1211040" cy="452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25"/>
          <p:cNvSpPr/>
          <p:nvPr/>
        </p:nvSpPr>
        <p:spPr>
          <a:xfrm>
            <a:off x="2195640" y="5114880"/>
            <a:ext cx="1211040" cy="4525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26"/>
          <p:cNvSpPr/>
          <p:nvPr/>
        </p:nvSpPr>
        <p:spPr>
          <a:xfrm>
            <a:off x="2203560" y="5575320"/>
            <a:ext cx="1211040" cy="45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27"/>
          <p:cNvSpPr/>
          <p:nvPr/>
        </p:nvSpPr>
        <p:spPr>
          <a:xfrm>
            <a:off x="2189160" y="3054240"/>
            <a:ext cx="1211400" cy="370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1139760" y="1704960"/>
            <a:ext cx="6934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Type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Kleur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Beschermt te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rui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rganische dampen en oplo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ij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ure gassen, zoals Cl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, H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 en HC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eeece1"/>
                </a:solidFill>
                <a:latin typeface="Arial"/>
                <a:ea typeface="Arial"/>
              </a:rPr>
              <a:t>Ge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wavel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o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mmoni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peciale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Zwar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oolstofmon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Roo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wik(da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lau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itreuze da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Oranj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actorfilter, radioactief jo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0360-DB90-423E-AFC0-98BD95127E2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1AAF-2F53-4C17-993D-E054A0A3923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kstvak 2"/>
          <p:cNvSpPr/>
          <p:nvPr/>
        </p:nvSpPr>
        <p:spPr>
          <a:xfrm>
            <a:off x="1131840" y="992160"/>
            <a:ext cx="5335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examen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 vragen goed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es het meest juiste 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f je alle vragen goed hebt be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0 vragen waarvan er 21 fout mogen 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5 minuten de tij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8"/>
          <p:cNvSpPr/>
          <p:nvPr/>
        </p:nvSpPr>
        <p:spPr>
          <a:xfrm>
            <a:off x="993600" y="0"/>
            <a:ext cx="80773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Picture 5" descr=""/>
          <p:cNvPicPr/>
          <p:nvPr/>
        </p:nvPicPr>
        <p:blipFill>
          <a:blip r:embed="rId1"/>
          <a:stretch/>
        </p:blipFill>
        <p:spPr>
          <a:xfrm>
            <a:off x="6110280" y="2120760"/>
            <a:ext cx="2635200" cy="2635560"/>
          </a:xfrm>
          <a:prstGeom prst="rect">
            <a:avLst/>
          </a:prstGeom>
          <a:ln w="0">
            <a:noFill/>
          </a:ln>
        </p:spPr>
      </p:pic>
      <p:sp>
        <p:nvSpPr>
          <p:cNvPr id="131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6516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- EN UITLENEN VAN PERSONEEL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08000" y="206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m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instruc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zorgt voorlichting en onderr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PB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en gest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aanwijzin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houdt toez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middel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personen zijn verantwoordelijk voor de naleving va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s leidinggevende vertegenwoordigt u uw werkgever, dus: medeverantwoord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0B08-16D0-4A3D-9879-9F07B5209C0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191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andelijke Werkwijze handhavings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e Fase: Inspectie SZW maakt afspraken om tekortkomingen op te he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e Fase: Afspraak niet nakomen: Officiële waarschu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e Fase: Officiële waarschuwing niet nagekomen: Proces 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7BB0-3E22-4C27-B874-08B25910C52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037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47760" y="1885680"/>
            <a:ext cx="751536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Bij ernstige overtredingen (dus bij direct ernstig gevaar voor </a:t>
            </a:r>
            <a:r>
              <a:rPr b="1" i="1" lang="nl-NL" sz="2400" spc="-1" strike="noStrike">
                <a:solidFill>
                  <a:srgbClr val="ff3300"/>
                </a:solidFill>
                <a:latin typeface="Arial"/>
              </a:rPr>
              <a:t>personen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willig stilleggen werk en afspraken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heffen tekortkoming voor beginnen m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wil om afspraken te maken of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le stillegging werk en opmaken proces-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BD14-9903-45FD-859B-AE19A58B978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799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DESKUNDIG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27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entueel ex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&amp;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zoeken naar geluidsbelasting, klimaat, fysieke belasting en gevaarlijk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geleiding van zieke 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sche keuringen (voor sommige functies verpl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77D9-B5C2-4501-937F-949DD516142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7079-45A8-4F00-99F0-C8F4EA48253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3927-D228-44E6-B1D8-A64EF9F5036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774800" y="1600200"/>
            <a:ext cx="53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BRONNEN VAN RISIC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hthoek 3"/>
          <p:cNvSpPr/>
          <p:nvPr/>
        </p:nvSpPr>
        <p:spPr>
          <a:xfrm>
            <a:off x="1143000" y="2141640"/>
            <a:ext cx="764532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erv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z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= bewust nem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anvaard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ri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6305400" y="1751040"/>
            <a:ext cx="233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20600" y="1152360"/>
            <a:ext cx="7772400" cy="7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JSBERG MET VERHOUDING TUSSEN </a:t>
            </a:r>
            <a:br>
              <a:rPr sz="2000"/>
            </a:b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VERSCHILLENDE SOORTEN ONGEVALL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184640" y="2565000"/>
            <a:ext cx="478008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dodelijke afloop of zeer ernstig let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ernstig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len met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bijna) ongevallen met ge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etsel / EHBO zonder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varen als gevolg van onveili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andelingen en/of situa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AA68-008F-42FF-8714-3A3FE4A4CDB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6"/>
          <p:cNvSpPr/>
          <p:nvPr/>
        </p:nvSpPr>
        <p:spPr>
          <a:xfrm>
            <a:off x="1000080" y="3116160"/>
            <a:ext cx="8064720" cy="336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2" descr=""/>
          <p:cNvPicPr/>
          <p:nvPr/>
        </p:nvPicPr>
        <p:blipFill>
          <a:blip r:embed="rId1"/>
          <a:stretch/>
        </p:blipFill>
        <p:spPr>
          <a:xfrm>
            <a:off x="998640" y="6370560"/>
            <a:ext cx="8066160" cy="98640"/>
          </a:xfrm>
          <a:prstGeom prst="rect">
            <a:avLst/>
          </a:prstGeom>
          <a:ln w="0">
            <a:noFill/>
          </a:ln>
        </p:spPr>
      </p:pic>
      <p:sp>
        <p:nvSpPr>
          <p:cNvPr id="191" name="Line 91"/>
          <p:cNvSpPr/>
          <p:nvPr/>
        </p:nvSpPr>
        <p:spPr>
          <a:xfrm>
            <a:off x="1003320" y="3635280"/>
            <a:ext cx="7794720" cy="792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2"/>
          <p:cNvSpPr/>
          <p:nvPr/>
        </p:nvSpPr>
        <p:spPr>
          <a:xfrm>
            <a:off x="1003320" y="4516560"/>
            <a:ext cx="7794720" cy="144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3"/>
          <p:cNvSpPr/>
          <p:nvPr/>
        </p:nvSpPr>
        <p:spPr>
          <a:xfrm>
            <a:off x="1009800" y="5398920"/>
            <a:ext cx="7788240" cy="180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7"/>
          <p:cNvSpPr/>
          <p:nvPr/>
        </p:nvSpPr>
        <p:spPr>
          <a:xfrm>
            <a:off x="1001880" y="1198440"/>
            <a:ext cx="8062920" cy="1974960"/>
          </a:xfrm>
          <a:prstGeom prst="rect">
            <a:avLst/>
          </a:prstGeom>
          <a:gradFill rotWithShape="0">
            <a:gsLst>
              <a:gs pos="0">
                <a:srgbClr val="7dffdd"/>
              </a:gs>
              <a:gs pos="100000">
                <a:srgbClr val="ebff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0"/>
          <p:cNvSpPr/>
          <p:nvPr/>
        </p:nvSpPr>
        <p:spPr>
          <a:xfrm>
            <a:off x="1265400" y="3081240"/>
            <a:ext cx="4036680" cy="2965680"/>
          </a:xfrm>
          <a:custGeom>
            <a:avLst/>
            <a:gdLst>
              <a:gd name="textAreaLeft" fmla="*/ 0 w 4036680"/>
              <a:gd name="textAreaRight" fmla="*/ 4037040 w 4036680"/>
              <a:gd name="textAreaTop" fmla="*/ 0 h 2965680"/>
              <a:gd name="textAreaBottom" fmla="*/ 2966040 h 2965680"/>
            </a:gdLst>
            <a:ahLst/>
            <a:rect l="textAreaLeft" t="textAreaTop" r="textAreaRight" b="textAreaBottom"/>
            <a:pathLst>
              <a:path w="2543" h="1839">
                <a:moveTo>
                  <a:pt x="777" y="0"/>
                </a:moveTo>
                <a:lnTo>
                  <a:pt x="766" y="134"/>
                </a:lnTo>
                <a:lnTo>
                  <a:pt x="869" y="360"/>
                </a:lnTo>
                <a:lnTo>
                  <a:pt x="668" y="427"/>
                </a:lnTo>
                <a:lnTo>
                  <a:pt x="673" y="436"/>
                </a:lnTo>
                <a:lnTo>
                  <a:pt x="683" y="446"/>
                </a:lnTo>
                <a:lnTo>
                  <a:pt x="688" y="460"/>
                </a:lnTo>
                <a:lnTo>
                  <a:pt x="693" y="465"/>
                </a:lnTo>
                <a:lnTo>
                  <a:pt x="693" y="474"/>
                </a:lnTo>
                <a:lnTo>
                  <a:pt x="693" y="484"/>
                </a:lnTo>
                <a:lnTo>
                  <a:pt x="698" y="489"/>
                </a:lnTo>
                <a:lnTo>
                  <a:pt x="698" y="498"/>
                </a:lnTo>
                <a:lnTo>
                  <a:pt x="693" y="507"/>
                </a:lnTo>
                <a:lnTo>
                  <a:pt x="693" y="517"/>
                </a:lnTo>
                <a:lnTo>
                  <a:pt x="688" y="526"/>
                </a:lnTo>
                <a:lnTo>
                  <a:pt x="678" y="550"/>
                </a:lnTo>
                <a:lnTo>
                  <a:pt x="663" y="575"/>
                </a:lnTo>
                <a:lnTo>
                  <a:pt x="627" y="622"/>
                </a:lnTo>
                <a:lnTo>
                  <a:pt x="596" y="665"/>
                </a:lnTo>
                <a:lnTo>
                  <a:pt x="586" y="679"/>
                </a:lnTo>
                <a:lnTo>
                  <a:pt x="586" y="684"/>
                </a:lnTo>
                <a:lnTo>
                  <a:pt x="581" y="684"/>
                </a:lnTo>
                <a:lnTo>
                  <a:pt x="581" y="689"/>
                </a:lnTo>
                <a:lnTo>
                  <a:pt x="576" y="684"/>
                </a:lnTo>
                <a:lnTo>
                  <a:pt x="571" y="684"/>
                </a:lnTo>
                <a:lnTo>
                  <a:pt x="555" y="679"/>
                </a:lnTo>
                <a:lnTo>
                  <a:pt x="545" y="670"/>
                </a:lnTo>
                <a:lnTo>
                  <a:pt x="505" y="641"/>
                </a:lnTo>
                <a:lnTo>
                  <a:pt x="499" y="599"/>
                </a:lnTo>
                <a:lnTo>
                  <a:pt x="489" y="618"/>
                </a:lnTo>
                <a:lnTo>
                  <a:pt x="296" y="823"/>
                </a:lnTo>
                <a:lnTo>
                  <a:pt x="321" y="1100"/>
                </a:lnTo>
                <a:lnTo>
                  <a:pt x="158" y="1204"/>
                </a:lnTo>
                <a:lnTo>
                  <a:pt x="10" y="1467"/>
                </a:lnTo>
                <a:lnTo>
                  <a:pt x="0" y="1620"/>
                </a:lnTo>
                <a:lnTo>
                  <a:pt x="158" y="1700"/>
                </a:lnTo>
                <a:lnTo>
                  <a:pt x="555" y="1839"/>
                </a:lnTo>
                <a:lnTo>
                  <a:pt x="861" y="1811"/>
                </a:lnTo>
                <a:lnTo>
                  <a:pt x="1315" y="1792"/>
                </a:lnTo>
                <a:lnTo>
                  <a:pt x="1478" y="1700"/>
                </a:lnTo>
                <a:lnTo>
                  <a:pt x="1534" y="1768"/>
                </a:lnTo>
                <a:lnTo>
                  <a:pt x="1977" y="1825"/>
                </a:lnTo>
                <a:lnTo>
                  <a:pt x="2166" y="1677"/>
                </a:lnTo>
                <a:lnTo>
                  <a:pt x="2309" y="1743"/>
                </a:lnTo>
                <a:lnTo>
                  <a:pt x="2472" y="1629"/>
                </a:lnTo>
                <a:lnTo>
                  <a:pt x="2543" y="1538"/>
                </a:lnTo>
                <a:lnTo>
                  <a:pt x="2298" y="1195"/>
                </a:lnTo>
                <a:lnTo>
                  <a:pt x="2258" y="1147"/>
                </a:lnTo>
                <a:lnTo>
                  <a:pt x="2196" y="1066"/>
                </a:lnTo>
                <a:lnTo>
                  <a:pt x="2222" y="952"/>
                </a:lnTo>
                <a:lnTo>
                  <a:pt x="2186" y="880"/>
                </a:lnTo>
                <a:lnTo>
                  <a:pt x="2186" y="875"/>
                </a:lnTo>
                <a:lnTo>
                  <a:pt x="2181" y="875"/>
                </a:lnTo>
                <a:lnTo>
                  <a:pt x="2176" y="870"/>
                </a:lnTo>
                <a:lnTo>
                  <a:pt x="2171" y="870"/>
                </a:lnTo>
                <a:lnTo>
                  <a:pt x="2166" y="861"/>
                </a:lnTo>
                <a:lnTo>
                  <a:pt x="2156" y="851"/>
                </a:lnTo>
                <a:lnTo>
                  <a:pt x="2151" y="842"/>
                </a:lnTo>
                <a:lnTo>
                  <a:pt x="2145" y="832"/>
                </a:lnTo>
                <a:lnTo>
                  <a:pt x="2140" y="813"/>
                </a:lnTo>
                <a:lnTo>
                  <a:pt x="2130" y="794"/>
                </a:lnTo>
                <a:lnTo>
                  <a:pt x="2130" y="785"/>
                </a:lnTo>
                <a:lnTo>
                  <a:pt x="2125" y="775"/>
                </a:lnTo>
                <a:lnTo>
                  <a:pt x="2120" y="766"/>
                </a:lnTo>
                <a:lnTo>
                  <a:pt x="2115" y="761"/>
                </a:lnTo>
                <a:lnTo>
                  <a:pt x="2110" y="761"/>
                </a:lnTo>
                <a:lnTo>
                  <a:pt x="2105" y="756"/>
                </a:lnTo>
                <a:lnTo>
                  <a:pt x="2100" y="751"/>
                </a:lnTo>
                <a:lnTo>
                  <a:pt x="2038" y="861"/>
                </a:lnTo>
                <a:lnTo>
                  <a:pt x="1865" y="823"/>
                </a:lnTo>
                <a:lnTo>
                  <a:pt x="1799" y="646"/>
                </a:lnTo>
                <a:lnTo>
                  <a:pt x="1819" y="417"/>
                </a:lnTo>
                <a:lnTo>
                  <a:pt x="1682" y="550"/>
                </a:lnTo>
                <a:lnTo>
                  <a:pt x="1738" y="307"/>
                </a:lnTo>
                <a:lnTo>
                  <a:pt x="1697" y="293"/>
                </a:lnTo>
                <a:lnTo>
                  <a:pt x="1710" y="6"/>
                </a:lnTo>
                <a:lnTo>
                  <a:pt x="777" y="0"/>
                </a:lnTo>
                <a:close/>
              </a:path>
            </a:pathLst>
          </a:cu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8"/>
          <p:cNvSpPr/>
          <p:nvPr/>
        </p:nvSpPr>
        <p:spPr>
          <a:xfrm>
            <a:off x="2058840" y="3357720"/>
            <a:ext cx="671760" cy="955440"/>
          </a:xfrm>
          <a:custGeom>
            <a:avLst/>
            <a:gdLst>
              <a:gd name="textAreaLeft" fmla="*/ 0 w 671760"/>
              <a:gd name="textAreaRight" fmla="*/ 672120 w 671760"/>
              <a:gd name="textAreaTop" fmla="*/ 0 h 955440"/>
              <a:gd name="textAreaBottom" fmla="*/ 955800 h 955440"/>
            </a:gdLst>
            <a:ahLst/>
            <a:rect l="textAreaLeft" t="textAreaTop" r="textAreaRight" b="textAreaBottom"/>
            <a:pathLst>
              <a:path w="83" h="131">
                <a:moveTo>
                  <a:pt x="17" y="128"/>
                </a:moveTo>
                <a:cubicBezTo>
                  <a:pt x="17" y="125"/>
                  <a:pt x="32" y="106"/>
                  <a:pt x="37" y="95"/>
                </a:cubicBezTo>
                <a:cubicBezTo>
                  <a:pt x="43" y="85"/>
                  <a:pt x="71" y="115"/>
                  <a:pt x="71" y="115"/>
                </a:cubicBezTo>
                <a:lnTo>
                  <a:pt x="83" y="38"/>
                </a:lnTo>
                <a:lnTo>
                  <a:pt x="54" y="0"/>
                </a:lnTo>
                <a:lnTo>
                  <a:pt x="54" y="10"/>
                </a:lnTo>
                <a:lnTo>
                  <a:pt x="53" y="49"/>
                </a:lnTo>
                <a:lnTo>
                  <a:pt x="26" y="53"/>
                </a:lnTo>
                <a:lnTo>
                  <a:pt x="0" y="110"/>
                </a:lnTo>
                <a:lnTo>
                  <a:pt x="1" y="119"/>
                </a:lnTo>
                <a:cubicBezTo>
                  <a:pt x="1" y="119"/>
                  <a:pt x="17" y="131"/>
                  <a:pt x="17" y="128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9"/>
          <p:cNvSpPr/>
          <p:nvPr/>
        </p:nvSpPr>
        <p:spPr>
          <a:xfrm>
            <a:off x="2503440" y="3467160"/>
            <a:ext cx="566640" cy="1515960"/>
          </a:xfrm>
          <a:custGeom>
            <a:avLst/>
            <a:gdLst>
              <a:gd name="textAreaLeft" fmla="*/ 0 w 566640"/>
              <a:gd name="textAreaRight" fmla="*/ 567000 w 56664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70" h="208">
                <a:moveTo>
                  <a:pt x="47" y="17"/>
                </a:moveTo>
                <a:lnTo>
                  <a:pt x="47" y="58"/>
                </a:lnTo>
                <a:lnTo>
                  <a:pt x="23" y="99"/>
                </a:lnTo>
                <a:lnTo>
                  <a:pt x="20" y="138"/>
                </a:lnTo>
                <a:lnTo>
                  <a:pt x="0" y="163"/>
                </a:lnTo>
                <a:lnTo>
                  <a:pt x="23" y="208"/>
                </a:lnTo>
                <a:lnTo>
                  <a:pt x="6" y="163"/>
                </a:lnTo>
                <a:lnTo>
                  <a:pt x="31" y="137"/>
                </a:lnTo>
                <a:lnTo>
                  <a:pt x="33" y="102"/>
                </a:lnTo>
                <a:lnTo>
                  <a:pt x="70" y="65"/>
                </a:lnTo>
                <a:lnTo>
                  <a:pt x="55" y="22"/>
                </a:lnTo>
                <a:lnTo>
                  <a:pt x="68" y="0"/>
                </a:lnTo>
                <a:lnTo>
                  <a:pt x="67" y="0"/>
                </a:lnTo>
                <a:lnTo>
                  <a:pt x="47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84"/>
          <p:cNvSpPr/>
          <p:nvPr/>
        </p:nvSpPr>
        <p:spPr>
          <a:xfrm>
            <a:off x="1403280" y="4495680"/>
            <a:ext cx="897120" cy="968400"/>
          </a:xfrm>
          <a:custGeom>
            <a:avLst/>
            <a:gdLst>
              <a:gd name="textAreaLeft" fmla="*/ 0 w 897120"/>
              <a:gd name="textAreaRight" fmla="*/ 897480 w 8971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11" h="133">
                <a:moveTo>
                  <a:pt x="58" y="78"/>
                </a:moveTo>
                <a:lnTo>
                  <a:pt x="46" y="57"/>
                </a:lnTo>
                <a:lnTo>
                  <a:pt x="12" y="79"/>
                </a:lnTo>
                <a:lnTo>
                  <a:pt x="0" y="133"/>
                </a:lnTo>
                <a:lnTo>
                  <a:pt x="63" y="90"/>
                </a:lnTo>
                <a:lnTo>
                  <a:pt x="101" y="87"/>
                </a:lnTo>
                <a:lnTo>
                  <a:pt x="111" y="0"/>
                </a:lnTo>
                <a:cubicBezTo>
                  <a:pt x="111" y="0"/>
                  <a:pt x="86" y="75"/>
                  <a:pt x="86" y="73"/>
                </a:cubicBezTo>
                <a:cubicBezTo>
                  <a:pt x="86" y="71"/>
                  <a:pt x="72" y="29"/>
                  <a:pt x="72" y="29"/>
                </a:cubicBezTo>
                <a:lnTo>
                  <a:pt x="58" y="7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7"/>
          <p:cNvSpPr/>
          <p:nvPr/>
        </p:nvSpPr>
        <p:spPr>
          <a:xfrm>
            <a:off x="2300400" y="4946760"/>
            <a:ext cx="866520" cy="1077840"/>
          </a:xfrm>
          <a:custGeom>
            <a:avLst/>
            <a:gdLst>
              <a:gd name="textAreaLeft" fmla="*/ 0 w 866520"/>
              <a:gd name="textAreaRight" fmla="*/ 866880 w 866520"/>
              <a:gd name="textAreaTop" fmla="*/ 0 h 1077840"/>
              <a:gd name="textAreaBottom" fmla="*/ 1078200 h 1077840"/>
            </a:gdLst>
            <a:ahLst/>
            <a:rect l="textAreaLeft" t="textAreaTop" r="textAreaRight" b="textAreaBottom"/>
            <a:pathLst>
              <a:path w="107" h="148">
                <a:moveTo>
                  <a:pt x="81" y="0"/>
                </a:moveTo>
                <a:lnTo>
                  <a:pt x="39" y="40"/>
                </a:lnTo>
                <a:lnTo>
                  <a:pt x="51" y="71"/>
                </a:lnTo>
                <a:lnTo>
                  <a:pt x="0" y="102"/>
                </a:lnTo>
                <a:lnTo>
                  <a:pt x="3" y="148"/>
                </a:lnTo>
                <a:lnTo>
                  <a:pt x="45" y="143"/>
                </a:lnTo>
                <a:lnTo>
                  <a:pt x="13" y="109"/>
                </a:lnTo>
                <a:lnTo>
                  <a:pt x="58" y="79"/>
                </a:lnTo>
                <a:lnTo>
                  <a:pt x="107" y="50"/>
                </a:lnTo>
                <a:lnTo>
                  <a:pt x="65" y="63"/>
                </a:lnTo>
                <a:lnTo>
                  <a:pt x="51" y="36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89"/>
          <p:cNvSpPr/>
          <p:nvPr/>
        </p:nvSpPr>
        <p:spPr>
          <a:xfrm>
            <a:off x="990720" y="5595840"/>
            <a:ext cx="1157040" cy="57492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143" h="79">
                <a:moveTo>
                  <a:pt x="46" y="0"/>
                </a:moveTo>
                <a:lnTo>
                  <a:pt x="0" y="43"/>
                </a:lnTo>
                <a:lnTo>
                  <a:pt x="42" y="36"/>
                </a:lnTo>
                <a:lnTo>
                  <a:pt x="71" y="79"/>
                </a:lnTo>
                <a:lnTo>
                  <a:pt x="104" y="55"/>
                </a:lnTo>
                <a:lnTo>
                  <a:pt x="143" y="62"/>
                </a:lnTo>
                <a:lnTo>
                  <a:pt x="65" y="33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94"/>
          <p:cNvSpPr/>
          <p:nvPr/>
        </p:nvSpPr>
        <p:spPr>
          <a:xfrm>
            <a:off x="2058840" y="3343320"/>
            <a:ext cx="436680" cy="815760"/>
          </a:xfrm>
          <a:custGeom>
            <a:avLst/>
            <a:gdLst>
              <a:gd name="textAreaLeft" fmla="*/ 0 w 436680"/>
              <a:gd name="textAreaRight" fmla="*/ 437040 w 436680"/>
              <a:gd name="textAreaTop" fmla="*/ 0 h 815760"/>
              <a:gd name="textAreaBottom" fmla="*/ 816120 h 815760"/>
            </a:gdLst>
            <a:ahLst/>
            <a:rect l="textAreaLeft" t="textAreaTop" r="textAreaRight" b="textAreaBottom"/>
            <a:pathLst>
              <a:path w="54" h="112">
                <a:moveTo>
                  <a:pt x="54" y="0"/>
                </a:moveTo>
                <a:lnTo>
                  <a:pt x="53" y="51"/>
                </a:lnTo>
                <a:lnTo>
                  <a:pt x="25" y="55"/>
                </a:lnTo>
                <a:lnTo>
                  <a:pt x="0" y="112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2"/>
          <p:cNvSpPr/>
          <p:nvPr/>
        </p:nvSpPr>
        <p:spPr>
          <a:xfrm>
            <a:off x="2489040" y="1944720"/>
            <a:ext cx="1519560" cy="1274760"/>
          </a:xfrm>
          <a:custGeom>
            <a:avLst/>
            <a:gdLst>
              <a:gd name="textAreaLeft" fmla="*/ 0 w 1519560"/>
              <a:gd name="textAreaRight" fmla="*/ 1519920 w 1519560"/>
              <a:gd name="textAreaTop" fmla="*/ 0 h 1274760"/>
              <a:gd name="textAreaBottom" fmla="*/ 1274760 h 1274760"/>
            </a:gdLst>
            <a:ahLst/>
            <a:rect l="textAreaLeft" t="textAreaTop" r="textAreaRight" b="textAreaBottom"/>
            <a:pathLst>
              <a:path w="957" h="693">
                <a:moveTo>
                  <a:pt x="957" y="693"/>
                </a:moveTo>
                <a:lnTo>
                  <a:pt x="947" y="611"/>
                </a:lnTo>
                <a:lnTo>
                  <a:pt x="947" y="596"/>
                </a:lnTo>
                <a:lnTo>
                  <a:pt x="850" y="554"/>
                </a:lnTo>
                <a:lnTo>
                  <a:pt x="677" y="459"/>
                </a:lnTo>
                <a:lnTo>
                  <a:pt x="728" y="287"/>
                </a:lnTo>
                <a:lnTo>
                  <a:pt x="575" y="206"/>
                </a:lnTo>
                <a:lnTo>
                  <a:pt x="498" y="195"/>
                </a:lnTo>
                <a:lnTo>
                  <a:pt x="504" y="92"/>
                </a:lnTo>
                <a:lnTo>
                  <a:pt x="447" y="0"/>
                </a:lnTo>
                <a:lnTo>
                  <a:pt x="177" y="256"/>
                </a:lnTo>
                <a:lnTo>
                  <a:pt x="198" y="367"/>
                </a:lnTo>
                <a:lnTo>
                  <a:pt x="111" y="558"/>
                </a:lnTo>
                <a:lnTo>
                  <a:pt x="4" y="596"/>
                </a:lnTo>
                <a:lnTo>
                  <a:pt x="4" y="623"/>
                </a:lnTo>
                <a:lnTo>
                  <a:pt x="0" y="687"/>
                </a:lnTo>
                <a:lnTo>
                  <a:pt x="957" y="693"/>
                </a:ln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53"/>
          <p:cNvGrpSpPr/>
          <p:nvPr/>
        </p:nvGrpSpPr>
        <p:grpSpPr>
          <a:xfrm>
            <a:off x="2889360" y="2392200"/>
            <a:ext cx="685800" cy="3324600"/>
            <a:chOff x="2889360" y="2392200"/>
            <a:chExt cx="685800" cy="3324600"/>
          </a:xfrm>
        </p:grpSpPr>
        <p:sp>
          <p:nvSpPr>
            <p:cNvPr id="205" name="Text Box 5"/>
            <p:cNvSpPr/>
            <p:nvPr/>
          </p:nvSpPr>
          <p:spPr>
            <a:xfrm>
              <a:off x="3080160" y="239220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6"/>
            <p:cNvSpPr/>
            <p:nvPr/>
          </p:nvSpPr>
          <p:spPr>
            <a:xfrm>
              <a:off x="2889360" y="32148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2889360" y="39164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2889360" y="46782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889360" y="54403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Freeform 74"/>
          <p:cNvSpPr/>
          <p:nvPr/>
        </p:nvSpPr>
        <p:spPr>
          <a:xfrm>
            <a:off x="3927600" y="3708360"/>
            <a:ext cx="663480" cy="852480"/>
          </a:xfrm>
          <a:custGeom>
            <a:avLst/>
            <a:gdLst>
              <a:gd name="textAreaLeft" fmla="*/ 0 w 663480"/>
              <a:gd name="textAreaRight" fmla="*/ 663840 w 6634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82" h="117">
                <a:moveTo>
                  <a:pt x="23" y="31"/>
                </a:moveTo>
                <a:lnTo>
                  <a:pt x="19" y="92"/>
                </a:lnTo>
                <a:lnTo>
                  <a:pt x="36" y="109"/>
                </a:lnTo>
                <a:lnTo>
                  <a:pt x="70" y="117"/>
                </a:lnTo>
                <a:lnTo>
                  <a:pt x="82" y="94"/>
                </a:lnTo>
                <a:cubicBezTo>
                  <a:pt x="67" y="89"/>
                  <a:pt x="56" y="88"/>
                  <a:pt x="56" y="88"/>
                </a:cubicBezTo>
                <a:lnTo>
                  <a:pt x="55" y="45"/>
                </a:lnTo>
                <a:lnTo>
                  <a:pt x="56" y="19"/>
                </a:lnTo>
                <a:lnTo>
                  <a:pt x="11" y="0"/>
                </a:lnTo>
                <a:lnTo>
                  <a:pt x="0" y="51"/>
                </a:lnTo>
                <a:lnTo>
                  <a:pt x="23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6"/>
          <p:cNvSpPr/>
          <p:nvPr/>
        </p:nvSpPr>
        <p:spPr>
          <a:xfrm>
            <a:off x="3481560" y="5114880"/>
            <a:ext cx="299880" cy="407880"/>
          </a:xfrm>
          <a:custGeom>
            <a:avLst/>
            <a:gdLst>
              <a:gd name="textAreaLeft" fmla="*/ 0 w 299880"/>
              <a:gd name="textAreaRight" fmla="*/ 300240 w 29988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37" h="56">
                <a:moveTo>
                  <a:pt x="21" y="0"/>
                </a:moveTo>
                <a:lnTo>
                  <a:pt x="0" y="30"/>
                </a:lnTo>
                <a:lnTo>
                  <a:pt x="37" y="56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7"/>
          <p:cNvSpPr/>
          <p:nvPr/>
        </p:nvSpPr>
        <p:spPr>
          <a:xfrm>
            <a:off x="4695840" y="4940280"/>
            <a:ext cx="817560" cy="968400"/>
          </a:xfrm>
          <a:custGeom>
            <a:avLst/>
            <a:gdLst>
              <a:gd name="textAreaLeft" fmla="*/ 0 w 817560"/>
              <a:gd name="textAreaRight" fmla="*/ 817920 w 8175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01" h="133">
                <a:moveTo>
                  <a:pt x="31" y="49"/>
                </a:moveTo>
                <a:lnTo>
                  <a:pt x="0" y="80"/>
                </a:lnTo>
                <a:lnTo>
                  <a:pt x="34" y="96"/>
                </a:lnTo>
                <a:lnTo>
                  <a:pt x="34" y="126"/>
                </a:lnTo>
                <a:lnTo>
                  <a:pt x="101" y="133"/>
                </a:lnTo>
                <a:lnTo>
                  <a:pt x="14" y="0"/>
                </a:lnTo>
                <a:lnTo>
                  <a:pt x="31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0"/>
          <p:cNvSpPr/>
          <p:nvPr/>
        </p:nvSpPr>
        <p:spPr>
          <a:xfrm>
            <a:off x="3287880" y="3227400"/>
            <a:ext cx="420480" cy="655560"/>
          </a:xfrm>
          <a:custGeom>
            <a:avLst/>
            <a:gdLst>
              <a:gd name="textAreaLeft" fmla="*/ 0 w 420480"/>
              <a:gd name="textAreaRight" fmla="*/ 420840 w 42048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52" h="90">
                <a:moveTo>
                  <a:pt x="22" y="16"/>
                </a:moveTo>
                <a:lnTo>
                  <a:pt x="23" y="40"/>
                </a:lnTo>
                <a:lnTo>
                  <a:pt x="47" y="58"/>
                </a:lnTo>
                <a:lnTo>
                  <a:pt x="30" y="90"/>
                </a:lnTo>
                <a:lnTo>
                  <a:pt x="52" y="59"/>
                </a:lnTo>
                <a:lnTo>
                  <a:pt x="34" y="41"/>
                </a:lnTo>
                <a:lnTo>
                  <a:pt x="30" y="14"/>
                </a:lnTo>
                <a:lnTo>
                  <a:pt x="20" y="0"/>
                </a:lnTo>
                <a:lnTo>
                  <a:pt x="0" y="0"/>
                </a:lnTo>
                <a:lnTo>
                  <a:pt x="2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2"/>
          <p:cNvSpPr/>
          <p:nvPr/>
        </p:nvSpPr>
        <p:spPr>
          <a:xfrm>
            <a:off x="3433680" y="3933720"/>
            <a:ext cx="598680" cy="911160"/>
          </a:xfrm>
          <a:custGeom>
            <a:avLst/>
            <a:gdLst>
              <a:gd name="textAreaLeft" fmla="*/ 0 w 598680"/>
              <a:gd name="textAreaRight" fmla="*/ 599040 w 59868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74" h="125">
                <a:moveTo>
                  <a:pt x="7" y="125"/>
                </a:moveTo>
                <a:lnTo>
                  <a:pt x="0" y="86"/>
                </a:lnTo>
                <a:lnTo>
                  <a:pt x="35" y="70"/>
                </a:lnTo>
                <a:lnTo>
                  <a:pt x="4" y="36"/>
                </a:lnTo>
                <a:lnTo>
                  <a:pt x="6" y="0"/>
                </a:lnTo>
                <a:lnTo>
                  <a:pt x="15" y="30"/>
                </a:lnTo>
                <a:lnTo>
                  <a:pt x="74" y="67"/>
                </a:lnTo>
                <a:lnTo>
                  <a:pt x="20" y="94"/>
                </a:lnTo>
                <a:lnTo>
                  <a:pt x="7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3"/>
          <p:cNvSpPr/>
          <p:nvPr/>
        </p:nvSpPr>
        <p:spPr>
          <a:xfrm>
            <a:off x="3975120" y="4670280"/>
            <a:ext cx="720720" cy="909720"/>
          </a:xfrm>
          <a:custGeom>
            <a:avLst/>
            <a:gdLst>
              <a:gd name="textAreaLeft" fmla="*/ 0 w 720720"/>
              <a:gd name="textAreaRight" fmla="*/ 721080 w 72072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89" h="125">
                <a:moveTo>
                  <a:pt x="50" y="125"/>
                </a:moveTo>
                <a:lnTo>
                  <a:pt x="58" y="86"/>
                </a:lnTo>
                <a:lnTo>
                  <a:pt x="23" y="70"/>
                </a:lnTo>
                <a:lnTo>
                  <a:pt x="89" y="32"/>
                </a:lnTo>
                <a:lnTo>
                  <a:pt x="52" y="0"/>
                </a:lnTo>
                <a:lnTo>
                  <a:pt x="58" y="29"/>
                </a:lnTo>
                <a:lnTo>
                  <a:pt x="0" y="71"/>
                </a:lnTo>
                <a:lnTo>
                  <a:pt x="70" y="87"/>
                </a:lnTo>
                <a:lnTo>
                  <a:pt x="50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88"/>
          <p:cNvSpPr/>
          <p:nvPr/>
        </p:nvSpPr>
        <p:spPr>
          <a:xfrm>
            <a:off x="3441600" y="5143680"/>
            <a:ext cx="865440" cy="793440"/>
          </a:xfrm>
          <a:custGeom>
            <a:avLst/>
            <a:gdLst>
              <a:gd name="textAreaLeft" fmla="*/ 0 w 865440"/>
              <a:gd name="textAreaRight" fmla="*/ 865800 w 865440"/>
              <a:gd name="textAreaTop" fmla="*/ 0 h 793440"/>
              <a:gd name="textAreaBottom" fmla="*/ 793800 h 793440"/>
            </a:gdLst>
            <a:ahLst/>
            <a:rect l="textAreaLeft" t="textAreaTop" r="textAreaRight" b="textAreaBottom"/>
            <a:pathLst>
              <a:path w="107" h="109">
                <a:moveTo>
                  <a:pt x="0" y="109"/>
                </a:moveTo>
                <a:lnTo>
                  <a:pt x="34" y="109"/>
                </a:lnTo>
                <a:lnTo>
                  <a:pt x="66" y="88"/>
                </a:lnTo>
                <a:lnTo>
                  <a:pt x="77" y="103"/>
                </a:lnTo>
                <a:lnTo>
                  <a:pt x="107" y="99"/>
                </a:lnTo>
                <a:cubicBezTo>
                  <a:pt x="107" y="99"/>
                  <a:pt x="77" y="81"/>
                  <a:pt x="78" y="73"/>
                </a:cubicBezTo>
                <a:cubicBezTo>
                  <a:pt x="80" y="64"/>
                  <a:pt x="85" y="23"/>
                  <a:pt x="85" y="23"/>
                </a:cubicBezTo>
                <a:lnTo>
                  <a:pt x="48" y="0"/>
                </a:lnTo>
                <a:lnTo>
                  <a:pt x="65" y="31"/>
                </a:lnTo>
                <a:lnTo>
                  <a:pt x="54" y="93"/>
                </a:lnTo>
                <a:lnTo>
                  <a:pt x="33" y="95"/>
                </a:lnTo>
                <a:lnTo>
                  <a:pt x="19" y="97"/>
                </a:lnTo>
                <a:lnTo>
                  <a:pt x="0" y="10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5"/>
          <p:cNvSpPr/>
          <p:nvPr/>
        </p:nvSpPr>
        <p:spPr>
          <a:xfrm>
            <a:off x="3975120" y="3686040"/>
            <a:ext cx="615960" cy="706680"/>
          </a:xfrm>
          <a:custGeom>
            <a:avLst/>
            <a:gdLst>
              <a:gd name="textAreaLeft" fmla="*/ 0 w 615960"/>
              <a:gd name="textAreaRight" fmla="*/ 616320 w 61596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76" h="97">
                <a:moveTo>
                  <a:pt x="0" y="0"/>
                </a:moveTo>
                <a:lnTo>
                  <a:pt x="49" y="22"/>
                </a:lnTo>
                <a:lnTo>
                  <a:pt x="50" y="91"/>
                </a:lnTo>
                <a:lnTo>
                  <a:pt x="76" y="97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8"/>
          <p:cNvSpPr/>
          <p:nvPr/>
        </p:nvSpPr>
        <p:spPr>
          <a:xfrm>
            <a:off x="1000080" y="3154320"/>
            <a:ext cx="806472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F1C4-1BCF-4CE9-BE3F-5D3E0B13721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347480"/>
            <a:ext cx="7772400" cy="4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OORZAKEN/GEVOLGENREEK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741C-04B1-4369-B6BE-19127BA0D39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afb2_4"/>
          <p:cNvPicPr/>
          <p:nvPr/>
        </p:nvPicPr>
        <p:blipFill>
          <a:blip r:embed="rId1"/>
          <a:stretch/>
        </p:blipFill>
        <p:spPr>
          <a:xfrm>
            <a:off x="979560" y="2743200"/>
            <a:ext cx="8164440" cy="3743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1384200" y="2989440"/>
            <a:ext cx="6531120" cy="23540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02AF-6CD9-4FF7-B58D-243952D399E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120672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722040" y="14158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PREVE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966960" y="2278080"/>
            <a:ext cx="56368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/incidenten voorkomen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. taak- of werkomschrijving,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e en voo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tretch/>
        </p:blipFill>
        <p:spPr>
          <a:xfrm>
            <a:off x="6404040" y="2805120"/>
            <a:ext cx="2495520" cy="37814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11764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OLGEN ONGEVALSTHEORIE</a:t>
            </a:r>
            <a:r>
              <a:rPr b="1" lang="en-US" sz="2400" spc="-1" strike="noStrike">
                <a:solidFill>
                  <a:srgbClr val="860038"/>
                </a:solidFill>
                <a:latin typeface="Arial"/>
                <a:ea typeface="Arial"/>
              </a:rPr>
              <a:t>Ë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 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19160" y="2052360"/>
            <a:ext cx="77724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Jsbergtheorie: rol leidinggevende bij voorkomen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/gevolgenree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/incidenten hebben verscheidene oorz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Conclus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 een structureel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in spelen direct leidinggevenden en management een 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6756-B5ED-4940-BF00-7557B3490D9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8424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AKEN VAN MANAGEMENT BETREFFENDE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27080" y="2001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reren van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legeren van taken en bevoegdheden (aan leidinggeven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aken direct Leidinggev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van voorlichting en instru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stematisch rapporteren van (bijna)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geven van gesignaleerde problemen en klachte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B11A-3EC2-4D57-ABC9-2D0BCB953F2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30320" y="1316160"/>
            <a:ext cx="8067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ONDERZOEK EN -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33560" y="209880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en ongevallen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factoren zijn oorzaak ongev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voorkomen ongeva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melden a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dracht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recte ch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 SZW  (ernstige ongeval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6960" indent="-340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tuatie niet wijz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763F-AC36-4A49-92E0-5A23075A7E1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179360"/>
            <a:ext cx="777240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PECTEN ONGEVALLEN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359000" y="1874520"/>
            <a:ext cx="65577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Onderzoek ter plekke van onge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Bewijsmateriaal bew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Interviewen getuigen/betrokk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Analyse onderzoeksresult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Eindrapport (conclusies/aanbevel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2B91-0239-4D86-953B-6DE63B7CBE3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961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25360" y="1476000"/>
            <a:ext cx="627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leggen gegevens voor 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wettelijke e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ongevallen te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scheid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vé-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0692-FB6F-4B0A-90F0-B1F74DEB72E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42236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OK REGISTRATIE VA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689200" y="186984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-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/explo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A2CE-F46F-4BE9-A47F-07FC40AC97E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C709-E273-49DB-BCD6-2E95763DA67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kstvak 3"/>
          <p:cNvSpPr/>
          <p:nvPr/>
        </p:nvSpPr>
        <p:spPr>
          <a:xfrm>
            <a:off x="1015920" y="1535040"/>
            <a:ext cx="75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 Risico Analyse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RI&amp;E op projectniv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kstvak 4"/>
          <p:cNvSpPr/>
          <p:nvPr/>
        </p:nvSpPr>
        <p:spPr>
          <a:xfrm>
            <a:off x="928800" y="2054160"/>
            <a:ext cx="79754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 werkvoorberei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e van de geva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uitvoering van risicovolle taken of   bij werken in risicovolle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en de gezondheid van werkne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te analyseren en te evalue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preken van juiste beheers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993600" y="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23760" y="82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WIJZE BIJ TAAK - RISICOANALYS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865160" y="1701720"/>
            <a:ext cx="5981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PALEN VAN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LIMINEREN OF VERVANGEN VAN HOOG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VOORBERE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PSTELLEN TAAK - RISICO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OMMUNI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B75E-629F-43FC-A5EB-0ECF542796E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380960" y="189216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380960" y="247320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380960" y="305424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380960" y="3635280"/>
            <a:ext cx="6782040" cy="365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1380960" y="4216320"/>
            <a:ext cx="6782040" cy="365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1380960" y="479916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1380960" y="538020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1380960" y="596124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1"/>
          <p:cNvGrpSpPr/>
          <p:nvPr/>
        </p:nvGrpSpPr>
        <p:grpSpPr>
          <a:xfrm>
            <a:off x="3875040" y="2268360"/>
            <a:ext cx="1749600" cy="3664080"/>
            <a:chOff x="3875040" y="2268360"/>
            <a:chExt cx="1749600" cy="3664080"/>
          </a:xfrm>
        </p:grpSpPr>
        <p:sp>
          <p:nvSpPr>
            <p:cNvPr id="290" name="AutoShape 22"/>
            <p:cNvSpPr/>
            <p:nvPr/>
          </p:nvSpPr>
          <p:spPr>
            <a:xfrm>
              <a:off x="3887640" y="226836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24"/>
            <p:cNvSpPr/>
            <p:nvPr/>
          </p:nvSpPr>
          <p:spPr>
            <a:xfrm>
              <a:off x="3884760" y="285120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25"/>
            <p:cNvSpPr/>
            <p:nvPr/>
          </p:nvSpPr>
          <p:spPr>
            <a:xfrm>
              <a:off x="3892680" y="342252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26"/>
            <p:cNvSpPr/>
            <p:nvPr/>
          </p:nvSpPr>
          <p:spPr>
            <a:xfrm>
              <a:off x="3887640" y="401148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27"/>
            <p:cNvSpPr/>
            <p:nvPr/>
          </p:nvSpPr>
          <p:spPr>
            <a:xfrm>
              <a:off x="3892680" y="459108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28"/>
            <p:cNvSpPr/>
            <p:nvPr/>
          </p:nvSpPr>
          <p:spPr>
            <a:xfrm>
              <a:off x="3875040" y="517032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29"/>
            <p:cNvSpPr/>
            <p:nvPr/>
          </p:nvSpPr>
          <p:spPr>
            <a:xfrm>
              <a:off x="3894120" y="574992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4320" y="923760"/>
            <a:ext cx="621972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RONDBEGINSELEN 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5920" y="1844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goed mogelij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nadelige invloed vanuit arbeid, an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bij bro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che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elijkerwijs haal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ganisator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866F-D693-4AA2-91DD-0BF71B72FC6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65200" y="995040"/>
            <a:ext cx="5911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AJECT RISICOBEHEERS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514160" y="1401840"/>
            <a:ext cx="10666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245F-05AA-4D54-9093-AFEF1D53058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1252440" y="1319040"/>
            <a:ext cx="1579680" cy="53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1162080" y="289872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1173240" y="383688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1149480" y="470376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1157400" y="5977080"/>
            <a:ext cx="18288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045200" y="5653080"/>
            <a:ext cx="167652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4084560" y="5477040"/>
            <a:ext cx="2665440" cy="6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13032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delen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aakstap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1338120" y="306396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heerst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cedu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1333440" y="401940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p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1351080" y="48578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analy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4162320" y="5502240"/>
            <a:ext cx="2535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mmunicatie van risico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n beheersmaatrege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1141560" y="5986440"/>
            <a:ext cx="183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roverwe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7002360" y="5654520"/>
            <a:ext cx="177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2862360" y="47689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2862360" y="3889440"/>
            <a:ext cx="622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2897280" y="29624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2089080" y="35686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2100240" y="4470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1098720" y="5560920"/>
            <a:ext cx="221904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 niet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0"/>
          <p:cNvSpPr/>
          <p:nvPr/>
        </p:nvSpPr>
        <p:spPr>
          <a:xfrm>
            <a:off x="6762600" y="581832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1"/>
          <p:cNvSpPr/>
          <p:nvPr/>
        </p:nvSpPr>
        <p:spPr>
          <a:xfrm flipH="1">
            <a:off x="5306760" y="3262320"/>
            <a:ext cx="11160" cy="2225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3"/>
          <p:cNvSpPr/>
          <p:nvPr/>
        </p:nvSpPr>
        <p:spPr>
          <a:xfrm>
            <a:off x="2879640" y="3241800"/>
            <a:ext cx="2438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4"/>
          <p:cNvSpPr/>
          <p:nvPr/>
        </p:nvSpPr>
        <p:spPr>
          <a:xfrm>
            <a:off x="2867040" y="418140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5"/>
          <p:cNvSpPr/>
          <p:nvPr/>
        </p:nvSpPr>
        <p:spPr>
          <a:xfrm>
            <a:off x="2890800" y="504504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7"/>
          <p:cNvSpPr/>
          <p:nvPr/>
        </p:nvSpPr>
        <p:spPr>
          <a:xfrm>
            <a:off x="1917720" y="5853240"/>
            <a:ext cx="130320" cy="17784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9"/>
          <p:cNvSpPr/>
          <p:nvPr/>
        </p:nvSpPr>
        <p:spPr>
          <a:xfrm>
            <a:off x="1251000" y="2089080"/>
            <a:ext cx="1579680" cy="53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0"/>
          <p:cNvSpPr/>
          <p:nvPr/>
        </p:nvSpPr>
        <p:spPr>
          <a:xfrm flipV="1">
            <a:off x="1990800" y="5783400"/>
            <a:ext cx="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2"/>
          <p:cNvGrpSpPr/>
          <p:nvPr/>
        </p:nvGrpSpPr>
        <p:grpSpPr>
          <a:xfrm>
            <a:off x="1976400" y="1780920"/>
            <a:ext cx="141120" cy="352800"/>
            <a:chOff x="1976400" y="1780920"/>
            <a:chExt cx="141120" cy="352800"/>
          </a:xfrm>
        </p:grpSpPr>
        <p:sp>
          <p:nvSpPr>
            <p:cNvPr id="331" name="AutoShape 44"/>
            <p:cNvSpPr/>
            <p:nvPr/>
          </p:nvSpPr>
          <p:spPr>
            <a:xfrm>
              <a:off x="1976400" y="195624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51"/>
            <p:cNvSpPr/>
            <p:nvPr/>
          </p:nvSpPr>
          <p:spPr>
            <a:xfrm flipV="1">
              <a:off x="2049480" y="178092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53"/>
          <p:cNvGrpSpPr/>
          <p:nvPr/>
        </p:nvGrpSpPr>
        <p:grpSpPr>
          <a:xfrm>
            <a:off x="1973160" y="2622240"/>
            <a:ext cx="141120" cy="352800"/>
            <a:chOff x="1973160" y="2622240"/>
            <a:chExt cx="141120" cy="352800"/>
          </a:xfrm>
        </p:grpSpPr>
        <p:sp>
          <p:nvSpPr>
            <p:cNvPr id="334" name="AutoShape 54"/>
            <p:cNvSpPr/>
            <p:nvPr/>
          </p:nvSpPr>
          <p:spPr>
            <a:xfrm>
              <a:off x="1973160" y="2797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55"/>
            <p:cNvSpPr/>
            <p:nvPr/>
          </p:nvSpPr>
          <p:spPr>
            <a:xfrm flipV="1">
              <a:off x="2046240" y="2622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56"/>
          <p:cNvGrpSpPr/>
          <p:nvPr/>
        </p:nvGrpSpPr>
        <p:grpSpPr>
          <a:xfrm>
            <a:off x="1962000" y="3549240"/>
            <a:ext cx="141120" cy="352800"/>
            <a:chOff x="1962000" y="3549240"/>
            <a:chExt cx="141120" cy="352800"/>
          </a:xfrm>
        </p:grpSpPr>
        <p:sp>
          <p:nvSpPr>
            <p:cNvPr id="337" name="AutoShape 57"/>
            <p:cNvSpPr/>
            <p:nvPr/>
          </p:nvSpPr>
          <p:spPr>
            <a:xfrm>
              <a:off x="1962000" y="3724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58"/>
            <p:cNvSpPr/>
            <p:nvPr/>
          </p:nvSpPr>
          <p:spPr>
            <a:xfrm flipV="1">
              <a:off x="2035080" y="3549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59"/>
          <p:cNvGrpSpPr/>
          <p:nvPr/>
        </p:nvGrpSpPr>
        <p:grpSpPr>
          <a:xfrm>
            <a:off x="1962000" y="4462200"/>
            <a:ext cx="141120" cy="352800"/>
            <a:chOff x="1962000" y="4462200"/>
            <a:chExt cx="141120" cy="352800"/>
          </a:xfrm>
        </p:grpSpPr>
        <p:sp>
          <p:nvSpPr>
            <p:cNvPr id="340" name="AutoShape 60"/>
            <p:cNvSpPr/>
            <p:nvPr/>
          </p:nvSpPr>
          <p:spPr>
            <a:xfrm>
              <a:off x="1962000" y="463752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61"/>
            <p:cNvSpPr/>
            <p:nvPr/>
          </p:nvSpPr>
          <p:spPr>
            <a:xfrm flipV="1">
              <a:off x="2035080" y="446220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Line 62"/>
          <p:cNvSpPr/>
          <p:nvPr/>
        </p:nvSpPr>
        <p:spPr>
          <a:xfrm>
            <a:off x="2001960" y="5391000"/>
            <a:ext cx="0" cy="19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0DE1-31DF-494A-8CED-7F3953B6681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kstvak 4"/>
          <p:cNvSpPr/>
          <p:nvPr/>
        </p:nvSpPr>
        <p:spPr>
          <a:xfrm>
            <a:off x="1015920" y="2147760"/>
            <a:ext cx="60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 (LM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863640" y="3005280"/>
            <a:ext cx="52135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MRA  of Start Werk Analy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voeren voor je echt aan het werk g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rte risico controle en “zelf che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 denken dan pas do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993600" y="0"/>
            <a:ext cx="8077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7760" y="8316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30320" y="1490400"/>
            <a:ext cx="79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preken van risico’s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óó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aanvang van h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kick-off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gehele werk (risico’s, beheersmaatregelen, interac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rtwerk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 leidinggevenden, gericht op komende werk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hiftoverdr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ploegendien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werkpl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. toolbox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799A-7869-4E67-AF5D-359F7A82F60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223880" y="2265480"/>
            <a:ext cx="403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ïnvloeding van gedr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5971-69E2-48F6-BF9F-02FC849A3D3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afb3_1"/>
          <p:cNvPicPr/>
          <p:nvPr/>
        </p:nvPicPr>
        <p:blipFill>
          <a:blip r:embed="rId1"/>
          <a:stretch/>
        </p:blipFill>
        <p:spPr>
          <a:xfrm>
            <a:off x="993600" y="1144440"/>
            <a:ext cx="8150400" cy="53625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900000" y="1144440"/>
            <a:ext cx="77724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CHEMATISCHE VOORSTELLING VAN DE VIER STRATEGIE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638360" y="234144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4 strategie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1427040" y="3273480"/>
            <a:ext cx="2740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M.b.t. 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857240" y="366552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Benadruk succes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Verminder nadelen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1413000" y="4827600"/>
            <a:ext cx="2971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aeaea"/>
                </a:solidFill>
                <a:latin typeface="Arial"/>
              </a:rPr>
              <a:t>M.b.t. </a:t>
            </a: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on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1857240" y="521964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 Verduidelijk gevolg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Bemoeilijk mogelijkhed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EGELS EN PROCEDUR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824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 = richtlijn voor gedrag en han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cedure = chronologisch stappenplan met acties/ handelingen en beslismoment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sequent, Veilig en Efficiënt uit te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reven in handboeken, beschikbaar voor ieder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ndeld in voorlichting en Instructieprogramma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3F6B-24B1-48F1-B29E-DEFEAB171D9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3824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gehele organis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/afm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sre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 ongeval, brand en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te handelen bij alarm en evacu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 een werkvergunning vereis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52F4-2888-4399-A022-C7A1E523F6E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2120" y="1133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11240" y="1677600"/>
            <a:ext cx="8067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taken, functies en werkzaamheden m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aanvullende 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bijzonder(e) gereedschap/apparatuur en 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atsen afscherming, markering en gebruik beveilig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6181-9DC0-44C1-AC86-5898E1EF304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74720" y="1270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OEL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11240" y="2292120"/>
            <a:ext cx="8067600" cy="27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reiden op nood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cidente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voorkomen en bep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hel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nemers maar ook bezoekers moeten op de hoogte 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B174-04D5-4C01-9ACA-188D3B16042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11240" y="1928880"/>
            <a:ext cx="80676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en voorzieningen om de effecten van een calamiteit te minimaliseren en te bestr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asis van ingeschatte calamiteiten c.q. 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soort inc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v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7FA5-04E7-496E-BB8B-F3A9221179E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96400" y="1654200"/>
            <a:ext cx="80679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drijfsnoodplan om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ttegro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a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efen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gnemen oorza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 hulpdien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het plan kan ook het aanvalsplan zijn toegevoe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C76F-6688-42EF-B43D-B9798B9BA33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4C30-1BE7-40EA-A8FF-5F123505AD7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89160" y="228600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351080" y="1047600"/>
            <a:ext cx="72342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voorschri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beslui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lpmiddel bij overheidstoezicht en – hand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catalogus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werkgever 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opgest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che brochur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pectie SZW*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se regelgeving is opgenomen in nationale wet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 Voorheen Arbeidsinspe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57160" y="1199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SORGANIS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85720" y="1810800"/>
            <a:ext cx="6802200" cy="45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bedrijfshulpverleningsorganis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van iedere 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tstandkoming/inrichting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waarschuwings- en alarmerings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uele alarmeringslij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erings- en Communicatiesys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6D3D-6C73-4CFB-B774-8E44473D974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9224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VULLING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50840" y="1574280"/>
            <a:ext cx="777240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edrijfshulpverlening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t in ieder organisatie geregeld en gewaarborg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HV-ers moeten voldoende opgelei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een vastgesteld takenpak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1D55-BD42-4A80-9333-EFE06FC893C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5"/>
          <p:cNvSpPr/>
          <p:nvPr/>
        </p:nvSpPr>
        <p:spPr>
          <a:xfrm>
            <a:off x="1084320" y="3267000"/>
            <a:ext cx="7454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van de BHV-er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enen 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trijden beginnende bra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acu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municatie met hulpdiens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vent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1544760" y="5315040"/>
            <a:ext cx="6761160" cy="1326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Elke leidinggevende moet op de hoogte zijn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de alarmeringsprocedures en zijn/haar tak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tijdens een calam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23960" y="1171440"/>
            <a:ext cx="5105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FAS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70000" y="2224080"/>
            <a:ext cx="73548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/antw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ssering van incident bekend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/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ppen met werken, telefoon niet gebrui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schakelen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r verzamelplaats en melden bij coö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ëindiging incident en sporen oorzaak incident veilig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2FD4-7251-4233-A42C-C563E7D3025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vluchtroute"/>
          <p:cNvPicPr/>
          <p:nvPr/>
        </p:nvPicPr>
        <p:blipFill>
          <a:blip r:embed="rId1"/>
          <a:stretch/>
        </p:blipFill>
        <p:spPr>
          <a:xfrm>
            <a:off x="6248520" y="1190520"/>
            <a:ext cx="2114280" cy="113040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92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PLEIDING, OEFENING, HERH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90080" y="2147400"/>
            <a:ext cx="735516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 voor testen va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medewerkers en BHV-ers voor te bereiden op inciden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feningen/herhaling van bedrijfshulpverleningsplan/gemeentelijke rampenbestrijdingsplan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combin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n minste eenmaal per jaar een ontruimings-oef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B6B9-33DE-45F2-8683-B4EEFBF8958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brandblusser"/>
          <p:cNvPicPr/>
          <p:nvPr/>
        </p:nvPicPr>
        <p:blipFill>
          <a:blip r:embed="rId1"/>
          <a:stretch/>
        </p:blipFill>
        <p:spPr>
          <a:xfrm>
            <a:off x="7257960" y="3386160"/>
            <a:ext cx="1447920" cy="144144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1200" y="10857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011240" y="1992240"/>
            <a:ext cx="8067600" cy="47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verpl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lk bedrijf voldoende bedrijfshulpverlener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hulpverlening geregeld hebben met bv. buur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 op basis van RI&amp;E wordt invulling BHV-organisatie bep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van deskundigheid BHV-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ruimingsoefening ten minste eenm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2B7A-3D66-4C96-86F0-D3D75BDC95D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4" descr="ehbo"/>
          <p:cNvPicPr/>
          <p:nvPr/>
        </p:nvPicPr>
        <p:blipFill>
          <a:blip r:embed="rId1"/>
          <a:stretch/>
        </p:blipFill>
        <p:spPr>
          <a:xfrm>
            <a:off x="7189920" y="4378320"/>
            <a:ext cx="1542960" cy="1549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50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11240" y="198396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 leidinggevenden belangrijk voor de 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houders/directe chef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bben informatie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dewe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pro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alen hoe werk moet worden uitgevoe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F513-CC0B-4D4C-ACDB-2CB8EDED49F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801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038240" y="145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ddelen, Mogelijkheden en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 heeft voorbeeld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bevorderen door goede motiv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oordeel objectief en geef uw mening aan betreffende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 iemand in zijn waarde als mens/vakman bij corre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l niet alleen hoe maar ook waa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34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1647-CCCB-490C-8849-09DAE4C55E2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009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SOBSERVATI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328760" y="1779480"/>
            <a:ext cx="7267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leidinggevenden (objecti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icht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gen veiligheidsbewustzijn 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n komen op 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jgen inzicht in de werkplek e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k jaarplan observ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6463-B16F-492D-8077-159E94A1165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828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CA** EN VCA*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076400" y="1447560"/>
            <a:ext cx="8067600" cy="48942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*</a:t>
            </a:r>
            <a:r>
              <a:rPr b="0" lang="nl-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Algemene goedkeu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oor bedrijven met 35 of meer medewerkers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aan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- Beperkte goedkeuring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met minder dan 35 werk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petrochemie  - aanvullende eisen op VCA**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die risicovolle werkzaamheden in de     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petrochemische industrie uitvo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goedkeuring voor detachering- en uitzendbure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voor opdrachtgevers van VCA-/VCU gecertificeerd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bedrij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6FA8-3B92-45F1-9398-795E24E3366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27000" y="755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OLBOX/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203480" y="1415880"/>
            <a:ext cx="6959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e vergadering over veiligheid in informele sf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met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veren va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voor een goede VGM-bijeenkom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idelijke vastgelegde afspra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ts of de boodschappen zijn begr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1A9B-B0E2-410E-8BF4-C25F05868EE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6313-FC02-4699-99D8-2D546B5F44E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vak 4"/>
          <p:cNvSpPr/>
          <p:nvPr/>
        </p:nvSpPr>
        <p:spPr>
          <a:xfrm>
            <a:off x="1020600" y="2054160"/>
            <a:ext cx="785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werk en rusttij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werktijd per dag en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uren werken en hoeveel uren 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werknemer zijn zorgtaken in gez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444680" y="1019160"/>
            <a:ext cx="62197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A5A5-A942-41E8-9F44-5ED5B736024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96960" y="1273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XICOLOG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14300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ologie = de leer van de inwerking van schadelijke stoffen op levende we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itei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= giftigheid (eigenschap van een sto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iftig voor alle levende organis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ividuele gevoelighe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nne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1C40-AAC7-4DEE-8A83-DAAEFE9CF70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04480" y="762120"/>
            <a:ext cx="8039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vaarlijke stoffen en leidinggeve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eidinggevende maakt en houdt de medewerker bewust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geva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 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voorkomen van risico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bep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 de br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e, collectieve en organisatoris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F41B-8EDE-48FC-B09E-30323DC64D91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kstvak 5"/>
          <p:cNvSpPr/>
          <p:nvPr/>
        </p:nvSpPr>
        <p:spPr>
          <a:xfrm>
            <a:off x="7518240" y="6396120"/>
            <a:ext cx="11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Blz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YSTEEM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00980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in bloed heeft effect op bepaalde organen, bijvoorbeeld aantasting door oplos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nuwstels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ver/n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elvera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felijke eigenschappen (muta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 voor ongeboren kind (terat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 (carcin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diverse stoffen zijn niet alle eigenschappen be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8FFE-7138-4C97-B89D-814441E4A20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98400" y="1297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CONTACT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009800" y="204804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ing van stof op huid, ogen, slijmvliezen, neus/keel en luchtw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en te lange blootstelling of allergisch zijn voor 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z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 lucht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91F9-9D63-4CBF-A345-035F874431A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09600" y="1015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 OF ASPECIFIEK EFFEC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076400" y="2265120"/>
            <a:ext cx="806760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effecten kunnen worden veroorzaakt door één stof (asbest/ka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pecifieke effecten kunnen worden veroorzaakt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eidene stoffen (schoonmaakmiddelen/suf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0201-83E7-4B80-9599-BFC3B2B2B7C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54080" y="707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BES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09800" y="1714680"/>
            <a:ext cx="77724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 veroorzaakt ernstige gezondheidsaandoen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ose (incubatietijd 15-25 jaa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longkank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sotheli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bepalingen bij asbes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ventarisatie van aanwezige asbest verplic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nieuw toepassen en verwerken van asbest is verbo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houdend afval schei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 asbest lab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werkzaamheden met asbest melden aan de Inspectie SZ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F02F-D088-40D2-9C97-28D90BEFA60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77840" y="982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ATSEN  WAAR ASBEST ANGETROFFEN KAN WORD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266480" y="1579320"/>
            <a:ext cx="65660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warmte-isolat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lenzen en afdicht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construc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ornuiz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solatie in elektrische apparatuu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deke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mvoer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o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afdichtingmateri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k- en wandbepla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rbedek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F61C-A215-4A10-8E9B-CC8BA8883E1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2" descr="Asbestwaarschuw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78800" y="1905120"/>
            <a:ext cx="21254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478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TTELIJKE BEPA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299960" y="1814400"/>
            <a:ext cx="74372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- en bewerken asbest verbo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oepsmatig omgaan asbest all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slopen/verwij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houd/repa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stelling/onthef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 procescertifica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TA =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asbestverwij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C30F-1427-470A-B81B-FDF4E32435D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04480" y="758880"/>
            <a:ext cx="8039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HOE TE HANDELEN, WANNEER MATERIAAL “ASBESTVERDACHT” I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00080" y="158760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ster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emen door onafhankelijk laborato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zaamheden alleen door deskundig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(D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-procescertificaat asbest verwijderen voor aan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werkers asbestsaneringswerkzaamheden volgens schriftelijk plan oplei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lk werk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meld bij Inspectie SZ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plan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TA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488F-685E-4C8E-AC8F-943ED89A48D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160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LEID VOEREN IS STRUCTURELE AANPAK</a:t>
            </a:r>
            <a:br>
              <a:rPr sz="2000"/>
            </a:br>
            <a:r>
              <a:rPr b="0" lang="nl-NL" sz="28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3300"/>
                </a:solidFill>
                <a:latin typeface="Arial"/>
              </a:rPr>
              <a:t>Verplicht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oor elke onderneming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360" y="2447640"/>
            <a:ext cx="81262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vermi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realiseren, Plan van Aan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kteverzuim beleid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en bevoegdheden vastleg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toetsen en aanp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0E78-D4F9-4485-9273-E3FC5C7D329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77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1011240" y="2046240"/>
            <a:ext cx="80676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urcodering op schouder van ci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rrect opsl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ventilatie van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opslaan in of bij kelders,putten en sleu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flessen gescheiden houden van flessen met brandbare g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paste blusmidd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 als koelmiddel bij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20E2-1055-4980-848E-A325FDA82D5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71640" y="1177920"/>
            <a:ext cx="803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DUSTRIËLE GASCILI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46320" y="742680"/>
            <a:ext cx="52308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925560" y="1863720"/>
            <a:ext cx="81532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pslagvaten en tanks regelmatig op lek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bedrijfsinstallaties zoals leidingen, filters, afsluiters en verdeelstukken op lekk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voldoende lekbak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kte producten zo snel mogelijk oprui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CC8B-9D07-4117-A47C-79B279047AE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34640" y="1551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23400" y="2412720"/>
            <a:ext cx="80679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werken met biologische agentia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mogelijke eerst de bronaanp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regels voor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enge hygiënische voorschrif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en onderr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en informatie over mogelijke gevol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legion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5692-8521-4BC7-BD5A-22B3CA7D2A5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1123920"/>
            <a:ext cx="7696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3000" y="933120"/>
            <a:ext cx="769608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94D8-8C93-4806-B043-1791E80A60C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kstvak 4"/>
          <p:cNvSpPr/>
          <p:nvPr/>
        </p:nvSpPr>
        <p:spPr>
          <a:xfrm>
            <a:off x="985680" y="1974960"/>
            <a:ext cx="8158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en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gestelde werknemers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ur blootstelling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de kled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dcrème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gbescherm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werk en bij pauze de handen en gezicht w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076400" y="885960"/>
            <a:ext cx="80676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tende stoffen tasten bij contact je huid, ogen, longen en kleding 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 kunnen ontstekingen aan je huid en slijmvliezen veroorza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sen, kleurmiddelen, sommige verven, metaalbehandelings- middelen kunnen een gevoelige huid veroorzaken en heftige allergische reacties opro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fk’s en bepaalde pesticiden zijn gevaarlijk voor mens, dier en mili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878E-CAE3-4048-A025-B25870F7D4B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B545-6CB1-48EA-BB4F-D7CE68D2F9C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hthoek 3"/>
          <p:cNvSpPr/>
          <p:nvPr/>
        </p:nvSpPr>
        <p:spPr>
          <a:xfrm>
            <a:off x="1143000" y="2610000"/>
            <a:ext cx="7518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 met gevaarlijke stoffen moet de leidinggevende extra toezicht houden. Hij let daarbij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nigingen gereedschap en andere middel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voeren af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itel 1"/>
          <p:cNvSpPr/>
          <p:nvPr/>
        </p:nvSpPr>
        <p:spPr>
          <a:xfrm>
            <a:off x="1054080" y="990720"/>
            <a:ext cx="74674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ROL VAN DE LEIDINGGEV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34640" y="219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011240" y="1526760"/>
            <a:ext cx="806760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noeg energie om bestraalde materiaal te veran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sterkte, dosis en blootstelling schadelijk voor mens en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geneeskunde, kerncentrales, meet/detectieapparatuur, aardgaswinning en ertsverwe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-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van invloed op materiaalstruc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ge dosis / langdurige blootstelling wel schadelijk (lets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zonlicht, ultraviolet/infrarood straling, laserstralen, radio- of microgo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7F96-BFFB-4EE8-BEAE-80EB8685AAF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990720" y="8510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38240" y="20664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van radioactieve straling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Je hoort, ziet, voelt en ruikt nie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 nummer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ver mogelijk er vandaan (de stralingssterkte neemt af met het kwadraat van de afstand)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fstand 4 x groter          stralingsdosis 16 x kle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4B6B-8569-46E1-8F15-FB0E8AC7AFC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radioactief"/>
          <p:cNvPicPr/>
          <p:nvPr/>
        </p:nvPicPr>
        <p:blipFill>
          <a:blip r:embed="rId1"/>
          <a:stretch/>
        </p:blipFill>
        <p:spPr>
          <a:xfrm>
            <a:off x="6172200" y="2209680"/>
            <a:ext cx="1771560" cy="15303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7760" y="8251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52640" y="1346040"/>
            <a:ext cx="77724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het werken met straling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hou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pakkingen van de materialen niet beschadi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ied rond de bron afzet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bm’s gebrui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 plaats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manent m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zijn verplicht 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rsoonlijke dosis straling te laten me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keurig alle voorschriften te vol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medische keuring te onderga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FF81-F573-41B2-B03A-9BCB4BF4F2B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90560" y="10188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119240" y="1790280"/>
            <a:ext cx="73548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plicht aanwezige stralingsdeskundi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toezicht op de stralingsveiligheid en -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ert medewerkers en materiaal op besmet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t zonodig extra 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 werkzaamheden stilleg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-ioniserende straling gelden de volgende veiligheids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tructie en informatie op toestel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en volgens de instruc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t langer dan toegestaan doorwer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afst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9183-F996-4FD5-9668-527601CB3BF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N VAN AANPA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12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n voor verbeteren van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at o.a. plannen o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 voor risico-vermindering en ter voorko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crete uitvoering maatregelen: Verantwoordelijkheden, middelen, werkwijze, eindlim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rapp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heid leidinggevenden belangr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1768-5E13-406D-B378-D809B9A23E4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HYGIËNISCH 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19160" y="20098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iënterend werkplek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er kans op blootstelling aan een bepaalde sto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rd van de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veel mensen hebben kans op blootstel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ft antwoord op mogelijke risico’s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ito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ingen en registr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aten vergelijken m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en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gen bedrijf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gezondheidsbeheersing op werkp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374C-D90E-4E64-82B3-5E066298F74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 - GEZONDHEID WERKNEM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076400" y="1902960"/>
            <a:ext cx="806760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werknemers in de gelegenheid stellen zich periodiek medisch te laten onderzo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vrijwillige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ig schade onderkennen en beperken/weg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ms verplicht (bv bij werken met asbest, straling en bestrijdingsmiddelen, gebruik ademluchtapparatuu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gezondheidsonderzoek voorafgaand aan specifieke werkzaamheden (functiekeuring) verplicht (bv ademluchtapparatuur, werken met onderdruk of overdruk</a:t>
            </a:r>
            <a:r>
              <a:rPr b="0" lang="nl-NL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8BFC-9CE3-43FF-95F5-66477749B9E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D48A-0732-418B-B39A-7C72DD91370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/ETIKETT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942840" y="203796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 van gevaar op de werkvlo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aanbrengen, dat deze wordt opgem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vormen, dat de betekenis duidelijk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min mogelijk tek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tering van gevaarlijke stoff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verscheidenheid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inschatten om juiste maatregelen te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1E5B-314F-4B3C-B696-F6B1DFE05D8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explosief"/>
          <p:cNvPicPr/>
          <p:nvPr/>
        </p:nvPicPr>
        <p:blipFill>
          <a:blip r:embed="rId1"/>
          <a:stretch/>
        </p:blipFill>
        <p:spPr>
          <a:xfrm>
            <a:off x="7334280" y="2963880"/>
            <a:ext cx="1447920" cy="12556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nooduitgang"/>
          <p:cNvPicPr/>
          <p:nvPr/>
        </p:nvPicPr>
        <p:blipFill>
          <a:blip r:embed="rId2"/>
          <a:stretch/>
        </p:blipFill>
        <p:spPr>
          <a:xfrm>
            <a:off x="7248600" y="1952640"/>
            <a:ext cx="1600200" cy="85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5" name="Object 9"/>
          <p:cNvGraphicFramePr/>
          <p:nvPr/>
        </p:nvGraphicFramePr>
        <p:xfrm>
          <a:off x="7461360" y="4459320"/>
          <a:ext cx="1243080" cy="12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1360" y="4459320"/>
                    <a:ext cx="12430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LKE STOF IN EEN CATEGOR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19160" y="171936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zicht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 lees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t Ned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uid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st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ssymbool/symbo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zondere gev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aanbev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MS: kleinverpak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er: vervoerscodering (ADN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3AB6-0520-482E-80DB-1B70277D829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8"/>
          <p:cNvGraphicFramePr/>
          <p:nvPr/>
        </p:nvGraphicFramePr>
        <p:xfrm>
          <a:off x="6727680" y="2043000"/>
          <a:ext cx="1243080" cy="12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7680" y="2043000"/>
                    <a:ext cx="124308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4" name="Group 257"/>
          <p:cNvGrpSpPr/>
          <p:nvPr/>
        </p:nvGrpSpPr>
        <p:grpSpPr>
          <a:xfrm>
            <a:off x="6465960" y="3965400"/>
            <a:ext cx="1669680" cy="1671480"/>
            <a:chOff x="6465960" y="3965400"/>
            <a:chExt cx="1669680" cy="1671480"/>
          </a:xfrm>
        </p:grpSpPr>
        <p:sp>
          <p:nvSpPr>
            <p:cNvPr id="585" name="Freeform 10"/>
            <p:cNvSpPr/>
            <p:nvPr/>
          </p:nvSpPr>
          <p:spPr>
            <a:xfrm>
              <a:off x="6465960" y="3965400"/>
              <a:ext cx="1669680" cy="167148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1671480"/>
                <a:gd name="textAreaBottom" fmla="*/ 1671840 h 1671480"/>
              </a:gdLst>
              <a:ahLst/>
              <a:rect l="textAreaLeft" t="textAreaTop" r="textAreaRight" b="textAreaBottom"/>
              <a:pathLst>
                <a:path w="2358" h="2359">
                  <a:moveTo>
                    <a:pt x="1180" y="2359"/>
                  </a:moveTo>
                  <a:lnTo>
                    <a:pt x="0" y="1180"/>
                  </a:lnTo>
                  <a:lnTo>
                    <a:pt x="1180" y="0"/>
                  </a:lnTo>
                  <a:lnTo>
                    <a:pt x="2358" y="1180"/>
                  </a:lnTo>
                  <a:lnTo>
                    <a:pt x="1180" y="235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1"/>
            <p:cNvSpPr/>
            <p:nvPr/>
          </p:nvSpPr>
          <p:spPr>
            <a:xfrm>
              <a:off x="6465960" y="4800960"/>
              <a:ext cx="1669680" cy="83556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835560"/>
                <a:gd name="textAreaBottom" fmla="*/ 835920 h 835560"/>
              </a:gdLst>
              <a:ahLst/>
              <a:rect l="textAreaLeft" t="textAreaTop" r="textAreaRight" b="textAreaBottom"/>
              <a:pathLst>
                <a:path w="2358" h="1179">
                  <a:moveTo>
                    <a:pt x="1180" y="1179"/>
                  </a:moveTo>
                  <a:lnTo>
                    <a:pt x="2358" y="0"/>
                  </a:lnTo>
                  <a:lnTo>
                    <a:pt x="0" y="0"/>
                  </a:lnTo>
                  <a:lnTo>
                    <a:pt x="1180" y="117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2"/>
            <p:cNvSpPr/>
            <p:nvPr/>
          </p:nvSpPr>
          <p:spPr>
            <a:xfrm>
              <a:off x="6577560" y="4076640"/>
              <a:ext cx="1446480" cy="1448640"/>
            </a:xfrm>
            <a:custGeom>
              <a:avLst/>
              <a:gdLst>
                <a:gd name="textAreaLeft" fmla="*/ 0 w 1446480"/>
                <a:gd name="textAreaRight" fmla="*/ 1446840 w 1446480"/>
                <a:gd name="textAreaTop" fmla="*/ 0 h 1448640"/>
                <a:gd name="textAreaBottom" fmla="*/ 1449000 h 1448640"/>
              </a:gdLst>
              <a:ahLst/>
              <a:rect l="textAreaLeft" t="textAreaTop" r="textAreaRight" b="textAreaBottom"/>
              <a:pathLst>
                <a:path w="2043" h="2045">
                  <a:moveTo>
                    <a:pt x="1022" y="0"/>
                  </a:moveTo>
                  <a:lnTo>
                    <a:pt x="0" y="1022"/>
                  </a:lnTo>
                  <a:lnTo>
                    <a:pt x="1022" y="2045"/>
                  </a:lnTo>
                  <a:lnTo>
                    <a:pt x="2043" y="1022"/>
                  </a:lnTo>
                  <a:lnTo>
                    <a:pt x="102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3"/>
            <p:cNvSpPr/>
            <p:nvPr/>
          </p:nvSpPr>
          <p:spPr>
            <a:xfrm>
              <a:off x="7133400" y="4689360"/>
              <a:ext cx="334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4"/>
            <p:cNvSpPr/>
            <p:nvPr/>
          </p:nvSpPr>
          <p:spPr>
            <a:xfrm>
              <a:off x="7122600" y="4179240"/>
              <a:ext cx="361080" cy="46944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511" h="663">
                  <a:moveTo>
                    <a:pt x="356" y="233"/>
                  </a:moveTo>
                  <a:lnTo>
                    <a:pt x="367" y="263"/>
                  </a:lnTo>
                  <a:lnTo>
                    <a:pt x="371" y="274"/>
                  </a:lnTo>
                  <a:lnTo>
                    <a:pt x="376" y="288"/>
                  </a:lnTo>
                  <a:lnTo>
                    <a:pt x="380" y="304"/>
                  </a:lnTo>
                  <a:lnTo>
                    <a:pt x="383" y="322"/>
                  </a:lnTo>
                  <a:lnTo>
                    <a:pt x="385" y="341"/>
                  </a:lnTo>
                  <a:lnTo>
                    <a:pt x="386" y="360"/>
                  </a:lnTo>
                  <a:lnTo>
                    <a:pt x="386" y="379"/>
                  </a:lnTo>
                  <a:lnTo>
                    <a:pt x="385" y="396"/>
                  </a:lnTo>
                  <a:lnTo>
                    <a:pt x="372" y="431"/>
                  </a:lnTo>
                  <a:lnTo>
                    <a:pt x="367" y="469"/>
                  </a:lnTo>
                  <a:lnTo>
                    <a:pt x="393" y="427"/>
                  </a:lnTo>
                  <a:lnTo>
                    <a:pt x="427" y="391"/>
                  </a:lnTo>
                  <a:lnTo>
                    <a:pt x="434" y="384"/>
                  </a:lnTo>
                  <a:lnTo>
                    <a:pt x="440" y="376"/>
                  </a:lnTo>
                  <a:lnTo>
                    <a:pt x="445" y="366"/>
                  </a:lnTo>
                  <a:lnTo>
                    <a:pt x="449" y="355"/>
                  </a:lnTo>
                  <a:lnTo>
                    <a:pt x="452" y="344"/>
                  </a:lnTo>
                  <a:lnTo>
                    <a:pt x="454" y="333"/>
                  </a:lnTo>
                  <a:lnTo>
                    <a:pt x="454" y="322"/>
                  </a:lnTo>
                  <a:lnTo>
                    <a:pt x="452" y="312"/>
                  </a:lnTo>
                  <a:lnTo>
                    <a:pt x="462" y="322"/>
                  </a:lnTo>
                  <a:lnTo>
                    <a:pt x="469" y="336"/>
                  </a:lnTo>
                  <a:lnTo>
                    <a:pt x="474" y="351"/>
                  </a:lnTo>
                  <a:lnTo>
                    <a:pt x="477" y="368"/>
                  </a:lnTo>
                  <a:lnTo>
                    <a:pt x="478" y="385"/>
                  </a:lnTo>
                  <a:lnTo>
                    <a:pt x="475" y="402"/>
                  </a:lnTo>
                  <a:lnTo>
                    <a:pt x="471" y="419"/>
                  </a:lnTo>
                  <a:lnTo>
                    <a:pt x="464" y="434"/>
                  </a:lnTo>
                  <a:lnTo>
                    <a:pt x="451" y="465"/>
                  </a:lnTo>
                  <a:lnTo>
                    <a:pt x="442" y="498"/>
                  </a:lnTo>
                  <a:lnTo>
                    <a:pt x="441" y="503"/>
                  </a:lnTo>
                  <a:lnTo>
                    <a:pt x="441" y="508"/>
                  </a:lnTo>
                  <a:lnTo>
                    <a:pt x="442" y="515"/>
                  </a:lnTo>
                  <a:lnTo>
                    <a:pt x="443" y="521"/>
                  </a:lnTo>
                  <a:lnTo>
                    <a:pt x="445" y="528"/>
                  </a:lnTo>
                  <a:lnTo>
                    <a:pt x="447" y="535"/>
                  </a:lnTo>
                  <a:lnTo>
                    <a:pt x="450" y="541"/>
                  </a:lnTo>
                  <a:lnTo>
                    <a:pt x="452" y="547"/>
                  </a:lnTo>
                  <a:lnTo>
                    <a:pt x="467" y="516"/>
                  </a:lnTo>
                  <a:lnTo>
                    <a:pt x="487" y="488"/>
                  </a:lnTo>
                  <a:lnTo>
                    <a:pt x="491" y="482"/>
                  </a:lnTo>
                  <a:lnTo>
                    <a:pt x="494" y="476"/>
                  </a:lnTo>
                  <a:lnTo>
                    <a:pt x="496" y="468"/>
                  </a:lnTo>
                  <a:lnTo>
                    <a:pt x="498" y="461"/>
                  </a:lnTo>
                  <a:lnTo>
                    <a:pt x="499" y="453"/>
                  </a:lnTo>
                  <a:lnTo>
                    <a:pt x="499" y="444"/>
                  </a:lnTo>
                  <a:lnTo>
                    <a:pt x="498" y="437"/>
                  </a:lnTo>
                  <a:lnTo>
                    <a:pt x="496" y="429"/>
                  </a:lnTo>
                  <a:lnTo>
                    <a:pt x="504" y="446"/>
                  </a:lnTo>
                  <a:lnTo>
                    <a:pt x="509" y="464"/>
                  </a:lnTo>
                  <a:lnTo>
                    <a:pt x="511" y="484"/>
                  </a:lnTo>
                  <a:lnTo>
                    <a:pt x="510" y="506"/>
                  </a:lnTo>
                  <a:lnTo>
                    <a:pt x="506" y="528"/>
                  </a:lnTo>
                  <a:lnTo>
                    <a:pt x="498" y="549"/>
                  </a:lnTo>
                  <a:lnTo>
                    <a:pt x="487" y="568"/>
                  </a:lnTo>
                  <a:lnTo>
                    <a:pt x="474" y="585"/>
                  </a:lnTo>
                  <a:lnTo>
                    <a:pt x="443" y="614"/>
                  </a:lnTo>
                  <a:lnTo>
                    <a:pt x="407" y="637"/>
                  </a:lnTo>
                  <a:lnTo>
                    <a:pt x="368" y="653"/>
                  </a:lnTo>
                  <a:lnTo>
                    <a:pt x="325" y="662"/>
                  </a:lnTo>
                  <a:lnTo>
                    <a:pt x="281" y="663"/>
                  </a:lnTo>
                  <a:lnTo>
                    <a:pt x="216" y="663"/>
                  </a:lnTo>
                  <a:lnTo>
                    <a:pt x="168" y="652"/>
                  </a:lnTo>
                  <a:lnTo>
                    <a:pt x="125" y="633"/>
                  </a:lnTo>
                  <a:lnTo>
                    <a:pt x="87" y="607"/>
                  </a:lnTo>
                  <a:lnTo>
                    <a:pt x="55" y="575"/>
                  </a:lnTo>
                  <a:lnTo>
                    <a:pt x="31" y="537"/>
                  </a:lnTo>
                  <a:lnTo>
                    <a:pt x="26" y="513"/>
                  </a:lnTo>
                  <a:lnTo>
                    <a:pt x="16" y="490"/>
                  </a:lnTo>
                  <a:lnTo>
                    <a:pt x="0" y="469"/>
                  </a:lnTo>
                  <a:lnTo>
                    <a:pt x="22" y="476"/>
                  </a:lnTo>
                  <a:lnTo>
                    <a:pt x="42" y="487"/>
                  </a:lnTo>
                  <a:lnTo>
                    <a:pt x="60" y="501"/>
                  </a:lnTo>
                  <a:lnTo>
                    <a:pt x="74" y="518"/>
                  </a:lnTo>
                  <a:lnTo>
                    <a:pt x="83" y="492"/>
                  </a:lnTo>
                  <a:lnTo>
                    <a:pt x="96" y="469"/>
                  </a:lnTo>
                  <a:lnTo>
                    <a:pt x="103" y="453"/>
                  </a:lnTo>
                  <a:lnTo>
                    <a:pt x="106" y="436"/>
                  </a:lnTo>
                  <a:lnTo>
                    <a:pt x="106" y="418"/>
                  </a:lnTo>
                  <a:lnTo>
                    <a:pt x="101" y="401"/>
                  </a:lnTo>
                  <a:lnTo>
                    <a:pt x="94" y="386"/>
                  </a:lnTo>
                  <a:lnTo>
                    <a:pt x="83" y="372"/>
                  </a:lnTo>
                  <a:lnTo>
                    <a:pt x="69" y="360"/>
                  </a:lnTo>
                  <a:lnTo>
                    <a:pt x="53" y="351"/>
                  </a:lnTo>
                  <a:lnTo>
                    <a:pt x="75" y="358"/>
                  </a:lnTo>
                  <a:lnTo>
                    <a:pt x="96" y="368"/>
                  </a:lnTo>
                  <a:lnTo>
                    <a:pt x="114" y="383"/>
                  </a:lnTo>
                  <a:lnTo>
                    <a:pt x="128" y="400"/>
                  </a:lnTo>
                  <a:lnTo>
                    <a:pt x="137" y="368"/>
                  </a:lnTo>
                  <a:lnTo>
                    <a:pt x="150" y="339"/>
                  </a:lnTo>
                  <a:lnTo>
                    <a:pt x="157" y="324"/>
                  </a:lnTo>
                  <a:lnTo>
                    <a:pt x="161" y="308"/>
                  </a:lnTo>
                  <a:lnTo>
                    <a:pt x="163" y="292"/>
                  </a:lnTo>
                  <a:lnTo>
                    <a:pt x="161" y="276"/>
                  </a:lnTo>
                  <a:lnTo>
                    <a:pt x="157" y="260"/>
                  </a:lnTo>
                  <a:lnTo>
                    <a:pt x="149" y="246"/>
                  </a:lnTo>
                  <a:lnTo>
                    <a:pt x="140" y="234"/>
                  </a:lnTo>
                  <a:lnTo>
                    <a:pt x="128" y="224"/>
                  </a:lnTo>
                  <a:lnTo>
                    <a:pt x="119" y="215"/>
                  </a:lnTo>
                  <a:lnTo>
                    <a:pt x="112" y="205"/>
                  </a:lnTo>
                  <a:lnTo>
                    <a:pt x="107" y="194"/>
                  </a:lnTo>
                  <a:lnTo>
                    <a:pt x="116" y="203"/>
                  </a:lnTo>
                  <a:lnTo>
                    <a:pt x="127" y="209"/>
                  </a:lnTo>
                  <a:lnTo>
                    <a:pt x="139" y="214"/>
                  </a:lnTo>
                  <a:lnTo>
                    <a:pt x="178" y="241"/>
                  </a:lnTo>
                  <a:lnTo>
                    <a:pt x="211" y="274"/>
                  </a:lnTo>
                  <a:lnTo>
                    <a:pt x="237" y="312"/>
                  </a:lnTo>
                  <a:lnTo>
                    <a:pt x="241" y="294"/>
                  </a:lnTo>
                  <a:lnTo>
                    <a:pt x="243" y="275"/>
                  </a:lnTo>
                  <a:lnTo>
                    <a:pt x="241" y="256"/>
                  </a:lnTo>
                  <a:lnTo>
                    <a:pt x="238" y="238"/>
                  </a:lnTo>
                  <a:lnTo>
                    <a:pt x="232" y="221"/>
                  </a:lnTo>
                  <a:lnTo>
                    <a:pt x="224" y="205"/>
                  </a:lnTo>
                  <a:lnTo>
                    <a:pt x="214" y="192"/>
                  </a:lnTo>
                  <a:lnTo>
                    <a:pt x="203" y="182"/>
                  </a:lnTo>
                  <a:lnTo>
                    <a:pt x="196" y="158"/>
                  </a:lnTo>
                  <a:lnTo>
                    <a:pt x="192" y="132"/>
                  </a:lnTo>
                  <a:lnTo>
                    <a:pt x="192" y="106"/>
                  </a:lnTo>
                  <a:lnTo>
                    <a:pt x="195" y="81"/>
                  </a:lnTo>
                  <a:lnTo>
                    <a:pt x="201" y="56"/>
                  </a:lnTo>
                  <a:lnTo>
                    <a:pt x="211" y="34"/>
                  </a:lnTo>
                  <a:lnTo>
                    <a:pt x="223" y="15"/>
                  </a:lnTo>
                  <a:lnTo>
                    <a:pt x="237" y="0"/>
                  </a:lnTo>
                  <a:lnTo>
                    <a:pt x="233" y="15"/>
                  </a:lnTo>
                  <a:lnTo>
                    <a:pt x="232" y="32"/>
                  </a:lnTo>
                  <a:lnTo>
                    <a:pt x="233" y="50"/>
                  </a:lnTo>
                  <a:lnTo>
                    <a:pt x="238" y="69"/>
                  </a:lnTo>
                  <a:lnTo>
                    <a:pt x="245" y="88"/>
                  </a:lnTo>
                  <a:lnTo>
                    <a:pt x="255" y="105"/>
                  </a:lnTo>
                  <a:lnTo>
                    <a:pt x="267" y="121"/>
                  </a:lnTo>
                  <a:lnTo>
                    <a:pt x="281" y="136"/>
                  </a:lnTo>
                  <a:lnTo>
                    <a:pt x="293" y="148"/>
                  </a:lnTo>
                  <a:lnTo>
                    <a:pt x="304" y="164"/>
                  </a:lnTo>
                  <a:lnTo>
                    <a:pt x="313" y="183"/>
                  </a:lnTo>
                  <a:lnTo>
                    <a:pt x="320" y="203"/>
                  </a:lnTo>
                  <a:lnTo>
                    <a:pt x="325" y="226"/>
                  </a:lnTo>
                  <a:lnTo>
                    <a:pt x="327" y="248"/>
                  </a:lnTo>
                  <a:lnTo>
                    <a:pt x="327" y="271"/>
                  </a:lnTo>
                  <a:lnTo>
                    <a:pt x="324" y="292"/>
                  </a:lnTo>
                  <a:lnTo>
                    <a:pt x="328" y="288"/>
                  </a:lnTo>
                  <a:lnTo>
                    <a:pt x="333" y="282"/>
                  </a:lnTo>
                  <a:lnTo>
                    <a:pt x="338" y="275"/>
                  </a:lnTo>
                  <a:lnTo>
                    <a:pt x="343" y="268"/>
                  </a:lnTo>
                  <a:lnTo>
                    <a:pt x="347" y="259"/>
                  </a:lnTo>
                  <a:lnTo>
                    <a:pt x="351" y="250"/>
                  </a:lnTo>
                  <a:lnTo>
                    <a:pt x="354" y="241"/>
                  </a:lnTo>
                  <a:lnTo>
                    <a:pt x="356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5"/>
            <p:cNvSpPr/>
            <p:nvPr/>
          </p:nvSpPr>
          <p:spPr>
            <a:xfrm>
              <a:off x="7383240" y="436536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6"/>
            <p:cNvSpPr/>
            <p:nvPr/>
          </p:nvSpPr>
          <p:spPr>
            <a:xfrm>
              <a:off x="7385040" y="437256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7"/>
            <p:cNvSpPr/>
            <p:nvPr/>
          </p:nvSpPr>
          <p:spPr>
            <a:xfrm>
              <a:off x="7388640" y="438300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8"/>
            <p:cNvSpPr/>
            <p:nvPr/>
          </p:nvSpPr>
          <p:spPr>
            <a:xfrm>
              <a:off x="7392240" y="43938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7393680" y="440784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>
              <a:off x="7395480" y="44204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>
              <a:off x="7395480" y="44344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>
              <a:off x="7395480" y="44467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3"/>
            <p:cNvSpPr/>
            <p:nvPr/>
          </p:nvSpPr>
          <p:spPr>
            <a:xfrm flipH="1">
              <a:off x="7386480" y="4459320"/>
              <a:ext cx="8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4"/>
            <p:cNvSpPr/>
            <p:nvPr/>
          </p:nvSpPr>
          <p:spPr>
            <a:xfrm flipH="1">
              <a:off x="7383240" y="4484160"/>
              <a:ext cx="28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25"/>
            <p:cNvSpPr/>
            <p:nvPr/>
          </p:nvSpPr>
          <p:spPr>
            <a:xfrm flipV="1">
              <a:off x="7383240" y="4482000"/>
              <a:ext cx="17640" cy="29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6"/>
            <p:cNvSpPr/>
            <p:nvPr/>
          </p:nvSpPr>
          <p:spPr>
            <a:xfrm flipV="1">
              <a:off x="7400880" y="4455360"/>
              <a:ext cx="2448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27"/>
            <p:cNvSpPr/>
            <p:nvPr/>
          </p:nvSpPr>
          <p:spPr>
            <a:xfrm flipV="1">
              <a:off x="7425360" y="445032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8"/>
            <p:cNvSpPr/>
            <p:nvPr/>
          </p:nvSpPr>
          <p:spPr>
            <a:xfrm flipV="1">
              <a:off x="7431120" y="4445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29"/>
            <p:cNvSpPr/>
            <p:nvPr/>
          </p:nvSpPr>
          <p:spPr>
            <a:xfrm flipV="1">
              <a:off x="7434360" y="44380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30"/>
            <p:cNvSpPr/>
            <p:nvPr/>
          </p:nvSpPr>
          <p:spPr>
            <a:xfrm flipV="1">
              <a:off x="7437960" y="44308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31"/>
            <p:cNvSpPr/>
            <p:nvPr/>
          </p:nvSpPr>
          <p:spPr>
            <a:xfrm flipV="1">
              <a:off x="7441560" y="44218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32"/>
            <p:cNvSpPr/>
            <p:nvPr/>
          </p:nvSpPr>
          <p:spPr>
            <a:xfrm flipV="1">
              <a:off x="7443360" y="4415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33"/>
            <p:cNvSpPr/>
            <p:nvPr/>
          </p:nvSpPr>
          <p:spPr>
            <a:xfrm flipV="1">
              <a:off x="7445160" y="440784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34"/>
            <p:cNvSpPr/>
            <p:nvPr/>
          </p:nvSpPr>
          <p:spPr>
            <a:xfrm flipH="1" flipV="1">
              <a:off x="7443360" y="440064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35"/>
            <p:cNvSpPr/>
            <p:nvPr/>
          </p:nvSpPr>
          <p:spPr>
            <a:xfrm>
              <a:off x="7443360" y="440064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36"/>
            <p:cNvSpPr/>
            <p:nvPr/>
          </p:nvSpPr>
          <p:spPr>
            <a:xfrm>
              <a:off x="7450200" y="440784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37"/>
            <p:cNvSpPr/>
            <p:nvPr/>
          </p:nvSpPr>
          <p:spPr>
            <a:xfrm>
              <a:off x="7455600" y="441684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38"/>
            <p:cNvSpPr/>
            <p:nvPr/>
          </p:nvSpPr>
          <p:spPr>
            <a:xfrm>
              <a:off x="7459200" y="44272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39"/>
            <p:cNvSpPr/>
            <p:nvPr/>
          </p:nvSpPr>
          <p:spPr>
            <a:xfrm>
              <a:off x="7461360" y="44395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40"/>
            <p:cNvSpPr/>
            <p:nvPr/>
          </p:nvSpPr>
          <p:spPr>
            <a:xfrm flipH="1">
              <a:off x="7458840" y="44521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41"/>
            <p:cNvSpPr/>
            <p:nvPr/>
          </p:nvSpPr>
          <p:spPr>
            <a:xfrm flipH="1">
              <a:off x="7455600" y="44643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42"/>
            <p:cNvSpPr/>
            <p:nvPr/>
          </p:nvSpPr>
          <p:spPr>
            <a:xfrm flipH="1">
              <a:off x="7452360" y="4475520"/>
              <a:ext cx="28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3"/>
            <p:cNvSpPr/>
            <p:nvPr/>
          </p:nvSpPr>
          <p:spPr>
            <a:xfrm flipH="1">
              <a:off x="7441560" y="4485960"/>
              <a:ext cx="1080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4"/>
            <p:cNvSpPr/>
            <p:nvPr/>
          </p:nvSpPr>
          <p:spPr>
            <a:xfrm flipH="1">
              <a:off x="7436160" y="4508640"/>
              <a:ext cx="5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5"/>
            <p:cNvSpPr/>
            <p:nvPr/>
          </p:nvSpPr>
          <p:spPr>
            <a:xfrm flipH="1">
              <a:off x="7434000" y="4532040"/>
              <a:ext cx="18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6"/>
            <p:cNvSpPr/>
            <p:nvPr/>
          </p:nvSpPr>
          <p:spPr>
            <a:xfrm>
              <a:off x="7434360" y="453528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7"/>
            <p:cNvSpPr/>
            <p:nvPr/>
          </p:nvSpPr>
          <p:spPr>
            <a:xfrm>
              <a:off x="7434360" y="45388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8"/>
            <p:cNvSpPr/>
            <p:nvPr/>
          </p:nvSpPr>
          <p:spPr>
            <a:xfrm>
              <a:off x="7436160" y="4544280"/>
              <a:ext cx="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9"/>
            <p:cNvSpPr/>
            <p:nvPr/>
          </p:nvSpPr>
          <p:spPr>
            <a:xfrm>
              <a:off x="7436160" y="4547520"/>
              <a:ext cx="14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50"/>
            <p:cNvSpPr/>
            <p:nvPr/>
          </p:nvSpPr>
          <p:spPr>
            <a:xfrm>
              <a:off x="7437960" y="4553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51"/>
            <p:cNvSpPr/>
            <p:nvPr/>
          </p:nvSpPr>
          <p:spPr>
            <a:xfrm>
              <a:off x="7439760" y="455868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52"/>
            <p:cNvSpPr/>
            <p:nvPr/>
          </p:nvSpPr>
          <p:spPr>
            <a:xfrm>
              <a:off x="7441560" y="4562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53"/>
            <p:cNvSpPr/>
            <p:nvPr/>
          </p:nvSpPr>
          <p:spPr>
            <a:xfrm flipV="1">
              <a:off x="7443360" y="4543920"/>
              <a:ext cx="1044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54"/>
            <p:cNvSpPr/>
            <p:nvPr/>
          </p:nvSpPr>
          <p:spPr>
            <a:xfrm flipV="1">
              <a:off x="7453800" y="4524840"/>
              <a:ext cx="1404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55"/>
            <p:cNvSpPr/>
            <p:nvPr/>
          </p:nvSpPr>
          <p:spPr>
            <a:xfrm flipV="1">
              <a:off x="7468200" y="45212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56"/>
            <p:cNvSpPr/>
            <p:nvPr/>
          </p:nvSpPr>
          <p:spPr>
            <a:xfrm flipV="1">
              <a:off x="7470000" y="451584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57"/>
            <p:cNvSpPr/>
            <p:nvPr/>
          </p:nvSpPr>
          <p:spPr>
            <a:xfrm flipV="1">
              <a:off x="7473240" y="451080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58"/>
            <p:cNvSpPr/>
            <p:nvPr/>
          </p:nvSpPr>
          <p:spPr>
            <a:xfrm flipV="1">
              <a:off x="7473240" y="45046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59"/>
            <p:cNvSpPr/>
            <p:nvPr/>
          </p:nvSpPr>
          <p:spPr>
            <a:xfrm flipV="1">
              <a:off x="7475400" y="45000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60"/>
            <p:cNvSpPr/>
            <p:nvPr/>
          </p:nvSpPr>
          <p:spPr>
            <a:xfrm flipV="1">
              <a:off x="7476840" y="4493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1"/>
            <p:cNvSpPr/>
            <p:nvPr/>
          </p:nvSpPr>
          <p:spPr>
            <a:xfrm flipH="1" flipV="1">
              <a:off x="7475400" y="448956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62"/>
            <p:cNvSpPr/>
            <p:nvPr/>
          </p:nvSpPr>
          <p:spPr>
            <a:xfrm flipH="1" flipV="1">
              <a:off x="7472880" y="448236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63"/>
            <p:cNvSpPr/>
            <p:nvPr/>
          </p:nvSpPr>
          <p:spPr>
            <a:xfrm>
              <a:off x="7473240" y="448236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64"/>
            <p:cNvSpPr/>
            <p:nvPr/>
          </p:nvSpPr>
          <p:spPr>
            <a:xfrm>
              <a:off x="7480440" y="4494600"/>
              <a:ext cx="36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65"/>
            <p:cNvSpPr/>
            <p:nvPr/>
          </p:nvSpPr>
          <p:spPr>
            <a:xfrm>
              <a:off x="7484040" y="4508640"/>
              <a:ext cx="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66"/>
            <p:cNvSpPr/>
            <p:nvPr/>
          </p:nvSpPr>
          <p:spPr>
            <a:xfrm>
              <a:off x="7484040" y="45230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67"/>
            <p:cNvSpPr/>
            <p:nvPr/>
          </p:nvSpPr>
          <p:spPr>
            <a:xfrm flipH="1">
              <a:off x="7480440" y="45370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68"/>
            <p:cNvSpPr/>
            <p:nvPr/>
          </p:nvSpPr>
          <p:spPr>
            <a:xfrm flipH="1">
              <a:off x="7475400" y="4553280"/>
              <a:ext cx="504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69"/>
            <p:cNvSpPr/>
            <p:nvPr/>
          </p:nvSpPr>
          <p:spPr>
            <a:xfrm flipH="1">
              <a:off x="7468200" y="456912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70"/>
            <p:cNvSpPr/>
            <p:nvPr/>
          </p:nvSpPr>
          <p:spPr>
            <a:xfrm flipH="1">
              <a:off x="7459200" y="458136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71"/>
            <p:cNvSpPr/>
            <p:nvPr/>
          </p:nvSpPr>
          <p:spPr>
            <a:xfrm flipH="1">
              <a:off x="7435800" y="4593960"/>
              <a:ext cx="226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72"/>
            <p:cNvSpPr/>
            <p:nvPr/>
          </p:nvSpPr>
          <p:spPr>
            <a:xfrm flipH="1">
              <a:off x="7410960" y="4615200"/>
              <a:ext cx="248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73"/>
            <p:cNvSpPr/>
            <p:nvPr/>
          </p:nvSpPr>
          <p:spPr>
            <a:xfrm flipH="1">
              <a:off x="7383240" y="4631040"/>
              <a:ext cx="280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74"/>
            <p:cNvSpPr/>
            <p:nvPr/>
          </p:nvSpPr>
          <p:spPr>
            <a:xfrm flipH="1">
              <a:off x="7353000" y="4641480"/>
              <a:ext cx="298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75"/>
            <p:cNvSpPr/>
            <p:nvPr/>
          </p:nvSpPr>
          <p:spPr>
            <a:xfrm flipH="1">
              <a:off x="7320600" y="4649040"/>
              <a:ext cx="32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76"/>
            <p:cNvSpPr/>
            <p:nvPr/>
          </p:nvSpPr>
          <p:spPr>
            <a:xfrm flipH="1">
              <a:off x="7274880" y="4649040"/>
              <a:ext cx="45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77"/>
            <p:cNvSpPr/>
            <p:nvPr/>
          </p:nvSpPr>
          <p:spPr>
            <a:xfrm flipH="1" flipV="1">
              <a:off x="7241040" y="4641480"/>
              <a:ext cx="33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78"/>
            <p:cNvSpPr/>
            <p:nvPr/>
          </p:nvSpPr>
          <p:spPr>
            <a:xfrm flipH="1" flipV="1">
              <a:off x="7211160" y="4627080"/>
              <a:ext cx="2988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79"/>
            <p:cNvSpPr/>
            <p:nvPr/>
          </p:nvSpPr>
          <p:spPr>
            <a:xfrm flipH="1" flipV="1">
              <a:off x="7184520" y="4609440"/>
              <a:ext cx="262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80"/>
            <p:cNvSpPr/>
            <p:nvPr/>
          </p:nvSpPr>
          <p:spPr>
            <a:xfrm flipH="1" flipV="1">
              <a:off x="7161480" y="45867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81"/>
            <p:cNvSpPr/>
            <p:nvPr/>
          </p:nvSpPr>
          <p:spPr>
            <a:xfrm flipH="1" flipV="1">
              <a:off x="7143480" y="4559760"/>
              <a:ext cx="176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82"/>
            <p:cNvSpPr/>
            <p:nvPr/>
          </p:nvSpPr>
          <p:spPr>
            <a:xfrm flipH="1" flipV="1">
              <a:off x="7140240" y="454212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83"/>
            <p:cNvSpPr/>
            <p:nvPr/>
          </p:nvSpPr>
          <p:spPr>
            <a:xfrm flipH="1" flipV="1">
              <a:off x="7133400" y="4526280"/>
              <a:ext cx="648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84"/>
            <p:cNvSpPr/>
            <p:nvPr/>
          </p:nvSpPr>
          <p:spPr>
            <a:xfrm flipH="1" flipV="1">
              <a:off x="7122600" y="451188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85"/>
            <p:cNvSpPr/>
            <p:nvPr/>
          </p:nvSpPr>
          <p:spPr>
            <a:xfrm>
              <a:off x="7122600" y="4512240"/>
              <a:ext cx="158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86"/>
            <p:cNvSpPr/>
            <p:nvPr/>
          </p:nvSpPr>
          <p:spPr>
            <a:xfrm>
              <a:off x="7138800" y="4515840"/>
              <a:ext cx="14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87"/>
            <p:cNvSpPr/>
            <p:nvPr/>
          </p:nvSpPr>
          <p:spPr>
            <a:xfrm>
              <a:off x="7152840" y="45248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88"/>
            <p:cNvSpPr/>
            <p:nvPr/>
          </p:nvSpPr>
          <p:spPr>
            <a:xfrm>
              <a:off x="7165440" y="453348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89"/>
            <p:cNvSpPr/>
            <p:nvPr/>
          </p:nvSpPr>
          <p:spPr>
            <a:xfrm flipV="1">
              <a:off x="7174080" y="4528080"/>
              <a:ext cx="72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90"/>
            <p:cNvSpPr/>
            <p:nvPr/>
          </p:nvSpPr>
          <p:spPr>
            <a:xfrm flipV="1">
              <a:off x="7181280" y="4512240"/>
              <a:ext cx="8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91"/>
            <p:cNvSpPr/>
            <p:nvPr/>
          </p:nvSpPr>
          <p:spPr>
            <a:xfrm flipV="1">
              <a:off x="7190280" y="4500000"/>
              <a:ext cx="50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92"/>
            <p:cNvSpPr/>
            <p:nvPr/>
          </p:nvSpPr>
          <p:spPr>
            <a:xfrm flipV="1">
              <a:off x="7195320" y="4487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93"/>
            <p:cNvSpPr/>
            <p:nvPr/>
          </p:nvSpPr>
          <p:spPr>
            <a:xfrm flipV="1">
              <a:off x="7197480" y="4475160"/>
              <a:ext cx="14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94"/>
            <p:cNvSpPr/>
            <p:nvPr/>
          </p:nvSpPr>
          <p:spPr>
            <a:xfrm flipH="1" flipV="1">
              <a:off x="7193880" y="44629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95"/>
            <p:cNvSpPr/>
            <p:nvPr/>
          </p:nvSpPr>
          <p:spPr>
            <a:xfrm flipH="1" flipV="1">
              <a:off x="7188480" y="4452120"/>
              <a:ext cx="50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96"/>
            <p:cNvSpPr/>
            <p:nvPr/>
          </p:nvSpPr>
          <p:spPr>
            <a:xfrm flipH="1" flipV="1">
              <a:off x="7181280" y="44431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7"/>
            <p:cNvSpPr/>
            <p:nvPr/>
          </p:nvSpPr>
          <p:spPr>
            <a:xfrm flipH="1" flipV="1">
              <a:off x="7170480" y="4434480"/>
              <a:ext cx="10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98"/>
            <p:cNvSpPr/>
            <p:nvPr/>
          </p:nvSpPr>
          <p:spPr>
            <a:xfrm flipH="1" flipV="1">
              <a:off x="7159680" y="4427280"/>
              <a:ext cx="10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99"/>
            <p:cNvSpPr/>
            <p:nvPr/>
          </p:nvSpPr>
          <p:spPr>
            <a:xfrm>
              <a:off x="7160040" y="4427280"/>
              <a:ext cx="158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00"/>
            <p:cNvSpPr/>
            <p:nvPr/>
          </p:nvSpPr>
          <p:spPr>
            <a:xfrm>
              <a:off x="7176240" y="4432680"/>
              <a:ext cx="14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01"/>
            <p:cNvSpPr/>
            <p:nvPr/>
          </p:nvSpPr>
          <p:spPr>
            <a:xfrm>
              <a:off x="7190280" y="4439520"/>
              <a:ext cx="122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02"/>
            <p:cNvSpPr/>
            <p:nvPr/>
          </p:nvSpPr>
          <p:spPr>
            <a:xfrm>
              <a:off x="7202520" y="4450320"/>
              <a:ext cx="10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03"/>
            <p:cNvSpPr/>
            <p:nvPr/>
          </p:nvSpPr>
          <p:spPr>
            <a:xfrm flipV="1">
              <a:off x="7212960" y="4439520"/>
              <a:ext cx="720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04"/>
            <p:cNvSpPr/>
            <p:nvPr/>
          </p:nvSpPr>
          <p:spPr>
            <a:xfrm flipV="1">
              <a:off x="7220160" y="441792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05"/>
            <p:cNvSpPr/>
            <p:nvPr/>
          </p:nvSpPr>
          <p:spPr>
            <a:xfrm flipV="1">
              <a:off x="7229160" y="440748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06"/>
            <p:cNvSpPr/>
            <p:nvPr/>
          </p:nvSpPr>
          <p:spPr>
            <a:xfrm flipV="1">
              <a:off x="7234200" y="439704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07"/>
            <p:cNvSpPr/>
            <p:nvPr/>
          </p:nvSpPr>
          <p:spPr>
            <a:xfrm flipV="1">
              <a:off x="7236360" y="438660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08"/>
            <p:cNvSpPr/>
            <p:nvPr/>
          </p:nvSpPr>
          <p:spPr>
            <a:xfrm flipH="1" flipV="1">
              <a:off x="723636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09"/>
            <p:cNvSpPr/>
            <p:nvPr/>
          </p:nvSpPr>
          <p:spPr>
            <a:xfrm flipH="1" flipV="1">
              <a:off x="7233840" y="436320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10"/>
            <p:cNvSpPr/>
            <p:nvPr/>
          </p:nvSpPr>
          <p:spPr>
            <a:xfrm flipH="1" flipV="1">
              <a:off x="7227360" y="4352760"/>
              <a:ext cx="648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11"/>
            <p:cNvSpPr/>
            <p:nvPr/>
          </p:nvSpPr>
          <p:spPr>
            <a:xfrm flipH="1" flipV="1">
              <a:off x="7221600" y="4344120"/>
              <a:ext cx="54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12"/>
            <p:cNvSpPr/>
            <p:nvPr/>
          </p:nvSpPr>
          <p:spPr>
            <a:xfrm flipH="1" flipV="1">
              <a:off x="7212960" y="4337280"/>
              <a:ext cx="86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13"/>
            <p:cNvSpPr/>
            <p:nvPr/>
          </p:nvSpPr>
          <p:spPr>
            <a:xfrm flipH="1" flipV="1">
              <a:off x="7206120" y="4331160"/>
              <a:ext cx="64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14"/>
            <p:cNvSpPr/>
            <p:nvPr/>
          </p:nvSpPr>
          <p:spPr>
            <a:xfrm flipH="1" flipV="1">
              <a:off x="7202520" y="4324680"/>
              <a:ext cx="36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5"/>
            <p:cNvSpPr/>
            <p:nvPr/>
          </p:nvSpPr>
          <p:spPr>
            <a:xfrm flipH="1" flipV="1">
              <a:off x="7198920" y="431604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16"/>
            <p:cNvSpPr/>
            <p:nvPr/>
          </p:nvSpPr>
          <p:spPr>
            <a:xfrm>
              <a:off x="7198920" y="4316040"/>
              <a:ext cx="5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17"/>
            <p:cNvSpPr/>
            <p:nvPr/>
          </p:nvSpPr>
          <p:spPr>
            <a:xfrm>
              <a:off x="7204320" y="4322880"/>
              <a:ext cx="86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18"/>
            <p:cNvSpPr/>
            <p:nvPr/>
          </p:nvSpPr>
          <p:spPr>
            <a:xfrm>
              <a:off x="7212960" y="4326480"/>
              <a:ext cx="72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19"/>
            <p:cNvSpPr/>
            <p:nvPr/>
          </p:nvSpPr>
          <p:spPr>
            <a:xfrm>
              <a:off x="7220160" y="4330080"/>
              <a:ext cx="2808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120"/>
            <p:cNvSpPr/>
            <p:nvPr/>
          </p:nvSpPr>
          <p:spPr>
            <a:xfrm>
              <a:off x="7248240" y="43491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121"/>
            <p:cNvSpPr/>
            <p:nvPr/>
          </p:nvSpPr>
          <p:spPr>
            <a:xfrm>
              <a:off x="7271640" y="4372560"/>
              <a:ext cx="190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122"/>
            <p:cNvSpPr/>
            <p:nvPr/>
          </p:nvSpPr>
          <p:spPr>
            <a:xfrm flipV="1">
              <a:off x="7291080" y="438624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123"/>
            <p:cNvSpPr/>
            <p:nvPr/>
          </p:nvSpPr>
          <p:spPr>
            <a:xfrm flipV="1">
              <a:off x="729288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24"/>
            <p:cNvSpPr/>
            <p:nvPr/>
          </p:nvSpPr>
          <p:spPr>
            <a:xfrm flipH="1" flipV="1">
              <a:off x="7292880" y="43596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25"/>
            <p:cNvSpPr/>
            <p:nvPr/>
          </p:nvSpPr>
          <p:spPr>
            <a:xfrm flipH="1" flipV="1">
              <a:off x="7290720" y="43477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26"/>
            <p:cNvSpPr/>
            <p:nvPr/>
          </p:nvSpPr>
          <p:spPr>
            <a:xfrm flipH="1" flipV="1">
              <a:off x="7287480" y="4335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27"/>
            <p:cNvSpPr/>
            <p:nvPr/>
          </p:nvSpPr>
          <p:spPr>
            <a:xfrm flipH="1" flipV="1">
              <a:off x="7280640" y="4324320"/>
              <a:ext cx="64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28"/>
            <p:cNvSpPr/>
            <p:nvPr/>
          </p:nvSpPr>
          <p:spPr>
            <a:xfrm flipH="1" flipV="1">
              <a:off x="7273440" y="431604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29"/>
            <p:cNvSpPr/>
            <p:nvPr/>
          </p:nvSpPr>
          <p:spPr>
            <a:xfrm flipH="1" flipV="1">
              <a:off x="7266600" y="430848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30"/>
            <p:cNvSpPr/>
            <p:nvPr/>
          </p:nvSpPr>
          <p:spPr>
            <a:xfrm flipH="1" flipV="1">
              <a:off x="7260480" y="4290480"/>
              <a:ext cx="54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31"/>
            <p:cNvSpPr/>
            <p:nvPr/>
          </p:nvSpPr>
          <p:spPr>
            <a:xfrm flipH="1" flipV="1">
              <a:off x="7259400" y="427284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32"/>
            <p:cNvSpPr/>
            <p:nvPr/>
          </p:nvSpPr>
          <p:spPr>
            <a:xfrm flipV="1">
              <a:off x="7259400" y="4253760"/>
              <a:ext cx="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33"/>
            <p:cNvSpPr/>
            <p:nvPr/>
          </p:nvSpPr>
          <p:spPr>
            <a:xfrm flipV="1">
              <a:off x="7259400" y="423576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34"/>
            <p:cNvSpPr/>
            <p:nvPr/>
          </p:nvSpPr>
          <p:spPr>
            <a:xfrm flipV="1">
              <a:off x="7260840" y="421776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35"/>
            <p:cNvSpPr/>
            <p:nvPr/>
          </p:nvSpPr>
          <p:spPr>
            <a:xfrm flipV="1">
              <a:off x="7264440" y="4202280"/>
              <a:ext cx="72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36"/>
            <p:cNvSpPr/>
            <p:nvPr/>
          </p:nvSpPr>
          <p:spPr>
            <a:xfrm flipV="1">
              <a:off x="7271640" y="4189680"/>
              <a:ext cx="86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37"/>
            <p:cNvSpPr/>
            <p:nvPr/>
          </p:nvSpPr>
          <p:spPr>
            <a:xfrm flipV="1">
              <a:off x="7280640" y="4179240"/>
              <a:ext cx="10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8"/>
            <p:cNvSpPr/>
            <p:nvPr/>
          </p:nvSpPr>
          <p:spPr>
            <a:xfrm flipH="1">
              <a:off x="7287480" y="41792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39"/>
            <p:cNvSpPr/>
            <p:nvPr/>
          </p:nvSpPr>
          <p:spPr>
            <a:xfrm>
              <a:off x="7287480" y="4190040"/>
              <a:ext cx="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40"/>
            <p:cNvSpPr/>
            <p:nvPr/>
          </p:nvSpPr>
          <p:spPr>
            <a:xfrm>
              <a:off x="7287480" y="420228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41"/>
            <p:cNvSpPr/>
            <p:nvPr/>
          </p:nvSpPr>
          <p:spPr>
            <a:xfrm>
              <a:off x="7287480" y="42145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42"/>
            <p:cNvSpPr/>
            <p:nvPr/>
          </p:nvSpPr>
          <p:spPr>
            <a:xfrm>
              <a:off x="7291080" y="4227120"/>
              <a:ext cx="54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43"/>
            <p:cNvSpPr/>
            <p:nvPr/>
          </p:nvSpPr>
          <p:spPr>
            <a:xfrm>
              <a:off x="7296480" y="4241160"/>
              <a:ext cx="648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44"/>
            <p:cNvSpPr/>
            <p:nvPr/>
          </p:nvSpPr>
          <p:spPr>
            <a:xfrm>
              <a:off x="7303320" y="425376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45"/>
            <p:cNvSpPr/>
            <p:nvPr/>
          </p:nvSpPr>
          <p:spPr>
            <a:xfrm>
              <a:off x="7312320" y="4264560"/>
              <a:ext cx="8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46"/>
            <p:cNvSpPr/>
            <p:nvPr/>
          </p:nvSpPr>
          <p:spPr>
            <a:xfrm>
              <a:off x="7320960" y="4275000"/>
              <a:ext cx="86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147"/>
            <p:cNvSpPr/>
            <p:nvPr/>
          </p:nvSpPr>
          <p:spPr>
            <a:xfrm>
              <a:off x="7329960" y="4283640"/>
              <a:ext cx="72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48"/>
            <p:cNvSpPr/>
            <p:nvPr/>
          </p:nvSpPr>
          <p:spPr>
            <a:xfrm>
              <a:off x="7337160" y="4294440"/>
              <a:ext cx="72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149"/>
            <p:cNvSpPr/>
            <p:nvPr/>
          </p:nvSpPr>
          <p:spPr>
            <a:xfrm>
              <a:off x="7344360" y="430848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50"/>
            <p:cNvSpPr/>
            <p:nvPr/>
          </p:nvSpPr>
          <p:spPr>
            <a:xfrm>
              <a:off x="7349400" y="43228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151"/>
            <p:cNvSpPr/>
            <p:nvPr/>
          </p:nvSpPr>
          <p:spPr>
            <a:xfrm>
              <a:off x="7353360" y="433872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52"/>
            <p:cNvSpPr/>
            <p:nvPr/>
          </p:nvSpPr>
          <p:spPr>
            <a:xfrm>
              <a:off x="7354800" y="4354920"/>
              <a:ext cx="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53"/>
            <p:cNvSpPr/>
            <p:nvPr/>
          </p:nvSpPr>
          <p:spPr>
            <a:xfrm flipH="1">
              <a:off x="7351200" y="437040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54"/>
            <p:cNvSpPr/>
            <p:nvPr/>
          </p:nvSpPr>
          <p:spPr>
            <a:xfrm flipV="1">
              <a:off x="7351200" y="43830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55"/>
            <p:cNvSpPr/>
            <p:nvPr/>
          </p:nvSpPr>
          <p:spPr>
            <a:xfrm flipV="1">
              <a:off x="7354800" y="43794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56"/>
            <p:cNvSpPr/>
            <p:nvPr/>
          </p:nvSpPr>
          <p:spPr>
            <a:xfrm flipV="1">
              <a:off x="7358400" y="43740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57"/>
            <p:cNvSpPr/>
            <p:nvPr/>
          </p:nvSpPr>
          <p:spPr>
            <a:xfrm flipV="1">
              <a:off x="7362000" y="436896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58"/>
            <p:cNvSpPr/>
            <p:nvPr/>
          </p:nvSpPr>
          <p:spPr>
            <a:xfrm flipV="1">
              <a:off x="7365240" y="43617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59"/>
            <p:cNvSpPr/>
            <p:nvPr/>
          </p:nvSpPr>
          <p:spPr>
            <a:xfrm flipV="1">
              <a:off x="7368840" y="435636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60"/>
            <p:cNvSpPr/>
            <p:nvPr/>
          </p:nvSpPr>
          <p:spPr>
            <a:xfrm flipV="1">
              <a:off x="7371000" y="43491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161"/>
            <p:cNvSpPr/>
            <p:nvPr/>
          </p:nvSpPr>
          <p:spPr>
            <a:xfrm flipV="1">
              <a:off x="7374600" y="434412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162"/>
            <p:cNvSpPr/>
            <p:nvPr/>
          </p:nvSpPr>
          <p:spPr>
            <a:xfrm flipH="1" flipV="1">
              <a:off x="7374600" y="434376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63"/>
            <p:cNvSpPr/>
            <p:nvPr/>
          </p:nvSpPr>
          <p:spPr>
            <a:xfrm>
              <a:off x="7212960" y="4427280"/>
              <a:ext cx="178920" cy="2214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250" h="311">
                  <a:moveTo>
                    <a:pt x="154" y="311"/>
                  </a:moveTo>
                  <a:lnTo>
                    <a:pt x="123" y="311"/>
                  </a:lnTo>
                  <a:lnTo>
                    <a:pt x="94" y="298"/>
                  </a:lnTo>
                  <a:lnTo>
                    <a:pt x="77" y="286"/>
                  </a:lnTo>
                  <a:lnTo>
                    <a:pt x="63" y="271"/>
                  </a:lnTo>
                  <a:lnTo>
                    <a:pt x="50" y="252"/>
                  </a:lnTo>
                  <a:lnTo>
                    <a:pt x="42" y="231"/>
                  </a:lnTo>
                  <a:lnTo>
                    <a:pt x="37" y="222"/>
                  </a:lnTo>
                  <a:lnTo>
                    <a:pt x="30" y="213"/>
                  </a:lnTo>
                  <a:lnTo>
                    <a:pt x="21" y="206"/>
                  </a:lnTo>
                  <a:lnTo>
                    <a:pt x="11" y="200"/>
                  </a:lnTo>
                  <a:lnTo>
                    <a:pt x="0" y="197"/>
                  </a:lnTo>
                  <a:lnTo>
                    <a:pt x="9" y="193"/>
                  </a:lnTo>
                  <a:lnTo>
                    <a:pt x="19" y="191"/>
                  </a:lnTo>
                  <a:lnTo>
                    <a:pt x="29" y="191"/>
                  </a:lnTo>
                  <a:lnTo>
                    <a:pt x="39" y="193"/>
                  </a:lnTo>
                  <a:lnTo>
                    <a:pt x="49" y="197"/>
                  </a:lnTo>
                  <a:lnTo>
                    <a:pt x="43" y="189"/>
                  </a:lnTo>
                  <a:lnTo>
                    <a:pt x="40" y="181"/>
                  </a:lnTo>
                  <a:lnTo>
                    <a:pt x="37" y="172"/>
                  </a:lnTo>
                  <a:lnTo>
                    <a:pt x="37" y="163"/>
                  </a:lnTo>
                  <a:lnTo>
                    <a:pt x="38" y="154"/>
                  </a:lnTo>
                  <a:lnTo>
                    <a:pt x="37" y="145"/>
                  </a:lnTo>
                  <a:lnTo>
                    <a:pt x="34" y="136"/>
                  </a:lnTo>
                  <a:lnTo>
                    <a:pt x="29" y="128"/>
                  </a:lnTo>
                  <a:lnTo>
                    <a:pt x="36" y="130"/>
                  </a:lnTo>
                  <a:lnTo>
                    <a:pt x="42" y="133"/>
                  </a:lnTo>
                  <a:lnTo>
                    <a:pt x="48" y="137"/>
                  </a:lnTo>
                  <a:lnTo>
                    <a:pt x="53" y="142"/>
                  </a:lnTo>
                  <a:lnTo>
                    <a:pt x="57" y="147"/>
                  </a:lnTo>
                  <a:lnTo>
                    <a:pt x="61" y="153"/>
                  </a:lnTo>
                  <a:lnTo>
                    <a:pt x="64" y="161"/>
                  </a:lnTo>
                  <a:lnTo>
                    <a:pt x="67" y="169"/>
                  </a:lnTo>
                  <a:lnTo>
                    <a:pt x="69" y="177"/>
                  </a:lnTo>
                  <a:lnTo>
                    <a:pt x="73" y="191"/>
                  </a:lnTo>
                  <a:lnTo>
                    <a:pt x="80" y="204"/>
                  </a:lnTo>
                  <a:lnTo>
                    <a:pt x="89" y="216"/>
                  </a:lnTo>
                  <a:lnTo>
                    <a:pt x="100" y="226"/>
                  </a:lnTo>
                  <a:lnTo>
                    <a:pt x="99" y="226"/>
                  </a:lnTo>
                  <a:lnTo>
                    <a:pt x="93" y="212"/>
                  </a:lnTo>
                  <a:lnTo>
                    <a:pt x="89" y="198"/>
                  </a:lnTo>
                  <a:lnTo>
                    <a:pt x="87" y="183"/>
                  </a:lnTo>
                  <a:lnTo>
                    <a:pt x="86" y="168"/>
                  </a:lnTo>
                  <a:lnTo>
                    <a:pt x="87" y="153"/>
                  </a:lnTo>
                  <a:lnTo>
                    <a:pt x="86" y="138"/>
                  </a:lnTo>
                  <a:lnTo>
                    <a:pt x="84" y="123"/>
                  </a:lnTo>
                  <a:lnTo>
                    <a:pt x="79" y="109"/>
                  </a:lnTo>
                  <a:lnTo>
                    <a:pt x="74" y="100"/>
                  </a:lnTo>
                  <a:lnTo>
                    <a:pt x="70" y="90"/>
                  </a:lnTo>
                  <a:lnTo>
                    <a:pt x="69" y="79"/>
                  </a:lnTo>
                  <a:lnTo>
                    <a:pt x="69" y="69"/>
                  </a:lnTo>
                  <a:lnTo>
                    <a:pt x="73" y="76"/>
                  </a:lnTo>
                  <a:lnTo>
                    <a:pt x="79" y="83"/>
                  </a:lnTo>
                  <a:lnTo>
                    <a:pt x="86" y="90"/>
                  </a:lnTo>
                  <a:lnTo>
                    <a:pt x="93" y="95"/>
                  </a:lnTo>
                  <a:lnTo>
                    <a:pt x="101" y="99"/>
                  </a:lnTo>
                  <a:lnTo>
                    <a:pt x="108" y="104"/>
                  </a:lnTo>
                  <a:lnTo>
                    <a:pt x="114" y="111"/>
                  </a:lnTo>
                  <a:lnTo>
                    <a:pt x="118" y="118"/>
                  </a:lnTo>
                  <a:lnTo>
                    <a:pt x="124" y="106"/>
                  </a:lnTo>
                  <a:lnTo>
                    <a:pt x="127" y="90"/>
                  </a:lnTo>
                  <a:lnTo>
                    <a:pt x="128" y="71"/>
                  </a:lnTo>
                  <a:lnTo>
                    <a:pt x="126" y="51"/>
                  </a:lnTo>
                  <a:lnTo>
                    <a:pt x="122" y="35"/>
                  </a:lnTo>
                  <a:lnTo>
                    <a:pt x="121" y="21"/>
                  </a:lnTo>
                  <a:lnTo>
                    <a:pt x="123" y="9"/>
                  </a:lnTo>
                  <a:lnTo>
                    <a:pt x="128" y="0"/>
                  </a:lnTo>
                  <a:lnTo>
                    <a:pt x="127" y="11"/>
                  </a:lnTo>
                  <a:lnTo>
                    <a:pt x="130" y="24"/>
                  </a:lnTo>
                  <a:lnTo>
                    <a:pt x="136" y="38"/>
                  </a:lnTo>
                  <a:lnTo>
                    <a:pt x="144" y="53"/>
                  </a:lnTo>
                  <a:lnTo>
                    <a:pt x="159" y="90"/>
                  </a:lnTo>
                  <a:lnTo>
                    <a:pt x="161" y="124"/>
                  </a:lnTo>
                  <a:lnTo>
                    <a:pt x="152" y="153"/>
                  </a:lnTo>
                  <a:lnTo>
                    <a:pt x="132" y="177"/>
                  </a:lnTo>
                  <a:lnTo>
                    <a:pt x="163" y="170"/>
                  </a:lnTo>
                  <a:lnTo>
                    <a:pt x="188" y="153"/>
                  </a:lnTo>
                  <a:lnTo>
                    <a:pt x="206" y="124"/>
                  </a:lnTo>
                  <a:lnTo>
                    <a:pt x="205" y="158"/>
                  </a:lnTo>
                  <a:lnTo>
                    <a:pt x="193" y="186"/>
                  </a:lnTo>
                  <a:lnTo>
                    <a:pt x="170" y="208"/>
                  </a:lnTo>
                  <a:lnTo>
                    <a:pt x="201" y="201"/>
                  </a:lnTo>
                  <a:lnTo>
                    <a:pt x="226" y="183"/>
                  </a:lnTo>
                  <a:lnTo>
                    <a:pt x="243" y="155"/>
                  </a:lnTo>
                  <a:lnTo>
                    <a:pt x="250" y="200"/>
                  </a:lnTo>
                  <a:lnTo>
                    <a:pt x="241" y="239"/>
                  </a:lnTo>
                  <a:lnTo>
                    <a:pt x="216" y="274"/>
                  </a:lnTo>
                  <a:lnTo>
                    <a:pt x="185" y="298"/>
                  </a:lnTo>
                  <a:lnTo>
                    <a:pt x="154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64"/>
            <p:cNvSpPr/>
            <p:nvPr/>
          </p:nvSpPr>
          <p:spPr>
            <a:xfrm flipH="1">
              <a:off x="7301520" y="4649040"/>
              <a:ext cx="212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65"/>
            <p:cNvSpPr/>
            <p:nvPr/>
          </p:nvSpPr>
          <p:spPr>
            <a:xfrm flipH="1" flipV="1">
              <a:off x="728028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166"/>
            <p:cNvSpPr/>
            <p:nvPr/>
          </p:nvSpPr>
          <p:spPr>
            <a:xfrm flipH="1" flipV="1">
              <a:off x="7268040" y="46310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167"/>
            <p:cNvSpPr/>
            <p:nvPr/>
          </p:nvSpPr>
          <p:spPr>
            <a:xfrm flipH="1" flipV="1">
              <a:off x="7259400" y="462024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168"/>
            <p:cNvSpPr/>
            <p:nvPr/>
          </p:nvSpPr>
          <p:spPr>
            <a:xfrm flipH="1" flipV="1">
              <a:off x="7248240" y="460584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169"/>
            <p:cNvSpPr/>
            <p:nvPr/>
          </p:nvSpPr>
          <p:spPr>
            <a:xfrm flipH="1" flipV="1">
              <a:off x="7243200" y="459180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170"/>
            <p:cNvSpPr/>
            <p:nvPr/>
          </p:nvSpPr>
          <p:spPr>
            <a:xfrm flipH="1" flipV="1">
              <a:off x="7239600" y="45849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171"/>
            <p:cNvSpPr/>
            <p:nvPr/>
          </p:nvSpPr>
          <p:spPr>
            <a:xfrm flipH="1" flipV="1">
              <a:off x="7234200" y="4579920"/>
              <a:ext cx="50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172"/>
            <p:cNvSpPr/>
            <p:nvPr/>
          </p:nvSpPr>
          <p:spPr>
            <a:xfrm flipH="1" flipV="1">
              <a:off x="7229160" y="4573800"/>
              <a:ext cx="50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173"/>
            <p:cNvSpPr/>
            <p:nvPr/>
          </p:nvSpPr>
          <p:spPr>
            <a:xfrm flipH="1" flipV="1">
              <a:off x="7221960" y="4569120"/>
              <a:ext cx="72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74"/>
            <p:cNvSpPr/>
            <p:nvPr/>
          </p:nvSpPr>
          <p:spPr>
            <a:xfrm flipH="1" flipV="1">
              <a:off x="7212960" y="4567320"/>
              <a:ext cx="8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75"/>
            <p:cNvSpPr/>
            <p:nvPr/>
          </p:nvSpPr>
          <p:spPr>
            <a:xfrm flipV="1">
              <a:off x="7212960" y="4564800"/>
              <a:ext cx="7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76"/>
            <p:cNvSpPr/>
            <p:nvPr/>
          </p:nvSpPr>
          <p:spPr>
            <a:xfrm flipV="1">
              <a:off x="722016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77"/>
            <p:cNvSpPr/>
            <p:nvPr/>
          </p:nvSpPr>
          <p:spPr>
            <a:xfrm>
              <a:off x="7227360" y="4563720"/>
              <a:ext cx="64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78"/>
            <p:cNvSpPr/>
            <p:nvPr/>
          </p:nvSpPr>
          <p:spPr>
            <a:xfrm>
              <a:off x="723420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79"/>
            <p:cNvSpPr/>
            <p:nvPr/>
          </p:nvSpPr>
          <p:spPr>
            <a:xfrm>
              <a:off x="7241400" y="456516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80"/>
            <p:cNvSpPr/>
            <p:nvPr/>
          </p:nvSpPr>
          <p:spPr>
            <a:xfrm flipH="1" flipV="1">
              <a:off x="7245000" y="4562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81"/>
            <p:cNvSpPr/>
            <p:nvPr/>
          </p:nvSpPr>
          <p:spPr>
            <a:xfrm flipH="1" flipV="1">
              <a:off x="7241400" y="4556160"/>
              <a:ext cx="36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82"/>
            <p:cNvSpPr/>
            <p:nvPr/>
          </p:nvSpPr>
          <p:spPr>
            <a:xfrm flipH="1" flipV="1">
              <a:off x="7239240" y="454968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83"/>
            <p:cNvSpPr/>
            <p:nvPr/>
          </p:nvSpPr>
          <p:spPr>
            <a:xfrm flipV="1">
              <a:off x="7239600" y="4544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84"/>
            <p:cNvSpPr/>
            <p:nvPr/>
          </p:nvSpPr>
          <p:spPr>
            <a:xfrm flipV="1">
              <a:off x="7239600" y="45370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85"/>
            <p:cNvSpPr/>
            <p:nvPr/>
          </p:nvSpPr>
          <p:spPr>
            <a:xfrm flipH="1" flipV="1">
              <a:off x="7239240" y="45298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86"/>
            <p:cNvSpPr/>
            <p:nvPr/>
          </p:nvSpPr>
          <p:spPr>
            <a:xfrm flipH="1" flipV="1">
              <a:off x="7237800" y="452484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87"/>
            <p:cNvSpPr/>
            <p:nvPr/>
          </p:nvSpPr>
          <p:spPr>
            <a:xfrm flipH="1" flipV="1">
              <a:off x="7234200" y="45194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188"/>
            <p:cNvSpPr/>
            <p:nvPr/>
          </p:nvSpPr>
          <p:spPr>
            <a:xfrm>
              <a:off x="7234200" y="4519440"/>
              <a:ext cx="5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89"/>
            <p:cNvSpPr/>
            <p:nvPr/>
          </p:nvSpPr>
          <p:spPr>
            <a:xfrm>
              <a:off x="7239600" y="45194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90"/>
            <p:cNvSpPr/>
            <p:nvPr/>
          </p:nvSpPr>
          <p:spPr>
            <a:xfrm>
              <a:off x="7243200" y="452304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91"/>
            <p:cNvSpPr/>
            <p:nvPr/>
          </p:nvSpPr>
          <p:spPr>
            <a:xfrm>
              <a:off x="7248240" y="45248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92"/>
            <p:cNvSpPr/>
            <p:nvPr/>
          </p:nvSpPr>
          <p:spPr>
            <a:xfrm>
              <a:off x="7251840" y="45284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93"/>
            <p:cNvSpPr/>
            <p:nvPr/>
          </p:nvSpPr>
          <p:spPr>
            <a:xfrm>
              <a:off x="7254000" y="45320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194"/>
            <p:cNvSpPr/>
            <p:nvPr/>
          </p:nvSpPr>
          <p:spPr>
            <a:xfrm>
              <a:off x="7257600" y="45370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195"/>
            <p:cNvSpPr/>
            <p:nvPr/>
          </p:nvSpPr>
          <p:spPr>
            <a:xfrm>
              <a:off x="7259400" y="45424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196"/>
            <p:cNvSpPr/>
            <p:nvPr/>
          </p:nvSpPr>
          <p:spPr>
            <a:xfrm>
              <a:off x="7260840" y="454752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97"/>
            <p:cNvSpPr/>
            <p:nvPr/>
          </p:nvSpPr>
          <p:spPr>
            <a:xfrm>
              <a:off x="7263000" y="455328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98"/>
            <p:cNvSpPr/>
            <p:nvPr/>
          </p:nvSpPr>
          <p:spPr>
            <a:xfrm>
              <a:off x="7266600" y="4563720"/>
              <a:ext cx="288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99"/>
            <p:cNvSpPr/>
            <p:nvPr/>
          </p:nvSpPr>
          <p:spPr>
            <a:xfrm>
              <a:off x="7269840" y="45727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200"/>
            <p:cNvSpPr/>
            <p:nvPr/>
          </p:nvSpPr>
          <p:spPr>
            <a:xfrm>
              <a:off x="7277040" y="4581360"/>
              <a:ext cx="72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01"/>
            <p:cNvSpPr/>
            <p:nvPr/>
          </p:nvSpPr>
          <p:spPr>
            <a:xfrm flipH="1" flipV="1">
              <a:off x="7280640" y="45777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202"/>
            <p:cNvSpPr/>
            <p:nvPr/>
          </p:nvSpPr>
          <p:spPr>
            <a:xfrm flipH="1" flipV="1">
              <a:off x="7277040" y="456912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203"/>
            <p:cNvSpPr/>
            <p:nvPr/>
          </p:nvSpPr>
          <p:spPr>
            <a:xfrm flipH="1" flipV="1">
              <a:off x="7275240" y="4558320"/>
              <a:ext cx="14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204"/>
            <p:cNvSpPr/>
            <p:nvPr/>
          </p:nvSpPr>
          <p:spPr>
            <a:xfrm flipV="1">
              <a:off x="7275240" y="454752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205"/>
            <p:cNvSpPr/>
            <p:nvPr/>
          </p:nvSpPr>
          <p:spPr>
            <a:xfrm flipV="1">
              <a:off x="7275240" y="4536720"/>
              <a:ext cx="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206"/>
            <p:cNvSpPr/>
            <p:nvPr/>
          </p:nvSpPr>
          <p:spPr>
            <a:xfrm flipV="1">
              <a:off x="7275240" y="452628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207"/>
            <p:cNvSpPr/>
            <p:nvPr/>
          </p:nvSpPr>
          <p:spPr>
            <a:xfrm flipH="1" flipV="1">
              <a:off x="7273080" y="451548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208"/>
            <p:cNvSpPr/>
            <p:nvPr/>
          </p:nvSpPr>
          <p:spPr>
            <a:xfrm flipH="1" flipV="1">
              <a:off x="7269840" y="45050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09"/>
            <p:cNvSpPr/>
            <p:nvPr/>
          </p:nvSpPr>
          <p:spPr>
            <a:xfrm flipH="1" flipV="1">
              <a:off x="7266600" y="4498200"/>
              <a:ext cx="288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10"/>
            <p:cNvSpPr/>
            <p:nvPr/>
          </p:nvSpPr>
          <p:spPr>
            <a:xfrm flipH="1" flipV="1">
              <a:off x="7263000" y="449100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211"/>
            <p:cNvSpPr/>
            <p:nvPr/>
          </p:nvSpPr>
          <p:spPr>
            <a:xfrm flipV="1">
              <a:off x="7263000" y="4484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212"/>
            <p:cNvSpPr/>
            <p:nvPr/>
          </p:nvSpPr>
          <p:spPr>
            <a:xfrm flipV="1">
              <a:off x="7263000" y="447696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213"/>
            <p:cNvSpPr/>
            <p:nvPr/>
          </p:nvSpPr>
          <p:spPr>
            <a:xfrm>
              <a:off x="7263000" y="447696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214"/>
            <p:cNvSpPr/>
            <p:nvPr/>
          </p:nvSpPr>
          <p:spPr>
            <a:xfrm>
              <a:off x="7266600" y="4482360"/>
              <a:ext cx="288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215"/>
            <p:cNvSpPr/>
            <p:nvPr/>
          </p:nvSpPr>
          <p:spPr>
            <a:xfrm>
              <a:off x="7269840" y="448596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216"/>
            <p:cNvSpPr/>
            <p:nvPr/>
          </p:nvSpPr>
          <p:spPr>
            <a:xfrm>
              <a:off x="7275240" y="44910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217"/>
            <p:cNvSpPr/>
            <p:nvPr/>
          </p:nvSpPr>
          <p:spPr>
            <a:xfrm>
              <a:off x="7280640" y="44946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218"/>
            <p:cNvSpPr/>
            <p:nvPr/>
          </p:nvSpPr>
          <p:spPr>
            <a:xfrm>
              <a:off x="7285680" y="44982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19"/>
            <p:cNvSpPr/>
            <p:nvPr/>
          </p:nvSpPr>
          <p:spPr>
            <a:xfrm>
              <a:off x="7291080" y="45018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220"/>
            <p:cNvSpPr/>
            <p:nvPr/>
          </p:nvSpPr>
          <p:spPr>
            <a:xfrm>
              <a:off x="7294680" y="45072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221"/>
            <p:cNvSpPr/>
            <p:nvPr/>
          </p:nvSpPr>
          <p:spPr>
            <a:xfrm flipV="1">
              <a:off x="7298280" y="450360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222"/>
            <p:cNvSpPr/>
            <p:nvPr/>
          </p:nvSpPr>
          <p:spPr>
            <a:xfrm flipV="1">
              <a:off x="7301880" y="4491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23"/>
            <p:cNvSpPr/>
            <p:nvPr/>
          </p:nvSpPr>
          <p:spPr>
            <a:xfrm flipV="1">
              <a:off x="7303320" y="4478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24"/>
            <p:cNvSpPr/>
            <p:nvPr/>
          </p:nvSpPr>
          <p:spPr>
            <a:xfrm flipH="1" flipV="1">
              <a:off x="7302960" y="446400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25"/>
            <p:cNvSpPr/>
            <p:nvPr/>
          </p:nvSpPr>
          <p:spPr>
            <a:xfrm flipH="1" flipV="1">
              <a:off x="7299720" y="4452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26"/>
            <p:cNvSpPr/>
            <p:nvPr/>
          </p:nvSpPr>
          <p:spPr>
            <a:xfrm flipV="1">
              <a:off x="7299720" y="4443120"/>
              <a:ext cx="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27"/>
            <p:cNvSpPr/>
            <p:nvPr/>
          </p:nvSpPr>
          <p:spPr>
            <a:xfrm flipV="1">
              <a:off x="7299720" y="44344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28"/>
            <p:cNvSpPr/>
            <p:nvPr/>
          </p:nvSpPr>
          <p:spPr>
            <a:xfrm flipV="1">
              <a:off x="7301880" y="44272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29"/>
            <p:cNvSpPr/>
            <p:nvPr/>
          </p:nvSpPr>
          <p:spPr>
            <a:xfrm flipH="1">
              <a:off x="7302960" y="4427280"/>
              <a:ext cx="1800" cy="9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230"/>
            <p:cNvSpPr/>
            <p:nvPr/>
          </p:nvSpPr>
          <p:spPr>
            <a:xfrm>
              <a:off x="7303320" y="44362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231"/>
            <p:cNvSpPr/>
            <p:nvPr/>
          </p:nvSpPr>
          <p:spPr>
            <a:xfrm>
              <a:off x="7305480" y="444528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232"/>
            <p:cNvSpPr/>
            <p:nvPr/>
          </p:nvSpPr>
          <p:spPr>
            <a:xfrm>
              <a:off x="7310520" y="445392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33"/>
            <p:cNvSpPr/>
            <p:nvPr/>
          </p:nvSpPr>
          <p:spPr>
            <a:xfrm>
              <a:off x="7315920" y="4464360"/>
              <a:ext cx="104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34"/>
            <p:cNvSpPr/>
            <p:nvPr/>
          </p:nvSpPr>
          <p:spPr>
            <a:xfrm>
              <a:off x="7326360" y="4491000"/>
              <a:ext cx="180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35"/>
            <p:cNvSpPr/>
            <p:nvPr/>
          </p:nvSpPr>
          <p:spPr>
            <a:xfrm flipH="1">
              <a:off x="7320960" y="4515840"/>
              <a:ext cx="720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36"/>
            <p:cNvSpPr/>
            <p:nvPr/>
          </p:nvSpPr>
          <p:spPr>
            <a:xfrm flipH="1">
              <a:off x="7306560" y="4537080"/>
              <a:ext cx="140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37"/>
            <p:cNvSpPr/>
            <p:nvPr/>
          </p:nvSpPr>
          <p:spPr>
            <a:xfrm flipV="1">
              <a:off x="7306920" y="4547160"/>
              <a:ext cx="226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38"/>
            <p:cNvSpPr/>
            <p:nvPr/>
          </p:nvSpPr>
          <p:spPr>
            <a:xfrm flipV="1">
              <a:off x="7329960" y="4536720"/>
              <a:ext cx="17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39"/>
            <p:cNvSpPr/>
            <p:nvPr/>
          </p:nvSpPr>
          <p:spPr>
            <a:xfrm flipV="1">
              <a:off x="7347600" y="4515480"/>
              <a:ext cx="122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240"/>
            <p:cNvSpPr/>
            <p:nvPr/>
          </p:nvSpPr>
          <p:spPr>
            <a:xfrm>
              <a:off x="7359840" y="4515840"/>
              <a:ext cx="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241"/>
            <p:cNvSpPr/>
            <p:nvPr/>
          </p:nvSpPr>
          <p:spPr>
            <a:xfrm flipH="1">
              <a:off x="7351200" y="4540680"/>
              <a:ext cx="864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242"/>
            <p:cNvSpPr/>
            <p:nvPr/>
          </p:nvSpPr>
          <p:spPr>
            <a:xfrm flipH="1">
              <a:off x="7333200" y="4560120"/>
              <a:ext cx="17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243"/>
            <p:cNvSpPr/>
            <p:nvPr/>
          </p:nvSpPr>
          <p:spPr>
            <a:xfrm flipV="1">
              <a:off x="7333560" y="4570920"/>
              <a:ext cx="226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244"/>
            <p:cNvSpPr/>
            <p:nvPr/>
          </p:nvSpPr>
          <p:spPr>
            <a:xfrm flipV="1">
              <a:off x="7356240" y="4558680"/>
              <a:ext cx="180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245"/>
            <p:cNvSpPr/>
            <p:nvPr/>
          </p:nvSpPr>
          <p:spPr>
            <a:xfrm flipV="1">
              <a:off x="7374600" y="4536720"/>
              <a:ext cx="118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246"/>
            <p:cNvSpPr/>
            <p:nvPr/>
          </p:nvSpPr>
          <p:spPr>
            <a:xfrm>
              <a:off x="7386480" y="4537080"/>
              <a:ext cx="5400" cy="3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247"/>
            <p:cNvSpPr/>
            <p:nvPr/>
          </p:nvSpPr>
          <p:spPr>
            <a:xfrm flipH="1">
              <a:off x="7385040" y="4569120"/>
              <a:ext cx="7200" cy="28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248"/>
            <p:cNvSpPr/>
            <p:nvPr/>
          </p:nvSpPr>
          <p:spPr>
            <a:xfrm flipH="1">
              <a:off x="7367040" y="4597560"/>
              <a:ext cx="17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249"/>
            <p:cNvSpPr/>
            <p:nvPr/>
          </p:nvSpPr>
          <p:spPr>
            <a:xfrm flipH="1">
              <a:off x="7344000" y="4622400"/>
              <a:ext cx="226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50"/>
            <p:cNvSpPr/>
            <p:nvPr/>
          </p:nvSpPr>
          <p:spPr>
            <a:xfrm flipH="1">
              <a:off x="732276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51"/>
            <p:cNvSpPr/>
            <p:nvPr/>
          </p:nvSpPr>
          <p:spPr>
            <a:xfrm>
              <a:off x="7312320" y="4351320"/>
              <a:ext cx="14040" cy="615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1" h="88">
                  <a:moveTo>
                    <a:pt x="19" y="88"/>
                  </a:moveTo>
                  <a:lnTo>
                    <a:pt x="0" y="69"/>
                  </a:lnTo>
                  <a:lnTo>
                    <a:pt x="5" y="52"/>
                  </a:lnTo>
                  <a:lnTo>
                    <a:pt x="7" y="34"/>
                  </a:lnTo>
                  <a:lnTo>
                    <a:pt x="5" y="17"/>
                  </a:lnTo>
                  <a:lnTo>
                    <a:pt x="0" y="0"/>
                  </a:lnTo>
                  <a:lnTo>
                    <a:pt x="11" y="20"/>
                  </a:lnTo>
                  <a:lnTo>
                    <a:pt x="18" y="42"/>
                  </a:lnTo>
                  <a:lnTo>
                    <a:pt x="21" y="65"/>
                  </a:lnTo>
                  <a:lnTo>
                    <a:pt x="19" y="8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Footer Placeholder 6"/>
          <p:cNvSpPr/>
          <p:nvPr/>
        </p:nvSpPr>
        <p:spPr>
          <a:xfrm>
            <a:off x="2171880" y="6581880"/>
            <a:ext cx="38480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ijdelijke aanduiding voor dianummer 3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10B0-230C-422A-9F08-3A76A422A40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7" descr="flamme"/>
          <p:cNvPicPr/>
          <p:nvPr/>
        </p:nvPicPr>
        <p:blipFill>
          <a:blip r:embed="rId1"/>
          <a:stretch/>
        </p:blipFill>
        <p:spPr>
          <a:xfrm>
            <a:off x="216000" y="2022480"/>
            <a:ext cx="765000" cy="8269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30" descr="explos"/>
          <p:cNvPicPr/>
          <p:nvPr/>
        </p:nvPicPr>
        <p:blipFill>
          <a:blip r:embed="rId2"/>
          <a:stretch/>
        </p:blipFill>
        <p:spPr>
          <a:xfrm>
            <a:off x="216000" y="963720"/>
            <a:ext cx="774720" cy="8269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33" descr="acide"/>
          <p:cNvPicPr/>
          <p:nvPr/>
        </p:nvPicPr>
        <p:blipFill>
          <a:blip r:embed="rId3"/>
          <a:stretch/>
        </p:blipFill>
        <p:spPr>
          <a:xfrm>
            <a:off x="7913520" y="3179880"/>
            <a:ext cx="870120" cy="9381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36" descr="rondflam"/>
          <p:cNvPicPr/>
          <p:nvPr/>
        </p:nvPicPr>
        <p:blipFill>
          <a:blip r:embed="rId4"/>
          <a:stretch/>
        </p:blipFill>
        <p:spPr>
          <a:xfrm>
            <a:off x="216000" y="3011400"/>
            <a:ext cx="817560" cy="82872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4"/>
          <p:cNvSpPr/>
          <p:nvPr/>
        </p:nvSpPr>
        <p:spPr>
          <a:xfrm>
            <a:off x="1072080" y="2716200"/>
            <a:ext cx="1836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6" name="Object 5"/>
          <p:cNvGraphicFramePr/>
          <p:nvPr/>
        </p:nvGraphicFramePr>
        <p:xfrm>
          <a:off x="1163520" y="1978200"/>
          <a:ext cx="760680" cy="77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3520" y="1978200"/>
                    <a:ext cx="76068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6"/>
          <p:cNvGraphicFramePr/>
          <p:nvPr/>
        </p:nvGraphicFramePr>
        <p:xfrm>
          <a:off x="1160640" y="1011240"/>
          <a:ext cx="747360" cy="83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60640" y="1011240"/>
                    <a:ext cx="7473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7"/>
          <p:cNvGraphicFramePr/>
          <p:nvPr/>
        </p:nvGraphicFramePr>
        <p:xfrm>
          <a:off x="5533920" y="3328920"/>
          <a:ext cx="857520" cy="85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33920" y="3328920"/>
                    <a:ext cx="85752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8"/>
          <p:cNvGraphicFramePr/>
          <p:nvPr/>
        </p:nvGraphicFramePr>
        <p:xfrm>
          <a:off x="1163520" y="5059440"/>
          <a:ext cx="801720" cy="86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63520" y="5059440"/>
                    <a:ext cx="80172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9"/>
          <p:cNvGraphicFramePr/>
          <p:nvPr/>
        </p:nvGraphicFramePr>
        <p:xfrm>
          <a:off x="5535720" y="4443480"/>
          <a:ext cx="866520" cy="89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5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35720" y="4443480"/>
                    <a:ext cx="86652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10"/>
          <p:cNvGraphicFramePr/>
          <p:nvPr/>
        </p:nvGraphicFramePr>
        <p:xfrm>
          <a:off x="5495760" y="1042920"/>
          <a:ext cx="843120" cy="860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7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95760" y="1042920"/>
                    <a:ext cx="8431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Text Box 11"/>
          <p:cNvSpPr/>
          <p:nvPr/>
        </p:nvSpPr>
        <p:spPr>
          <a:xfrm>
            <a:off x="2016000" y="1957320"/>
            <a:ext cx="14209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(zeer) lich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ntvlamb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1906920" y="1022400"/>
            <a:ext cx="1098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expl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3"/>
          <p:cNvSpPr/>
          <p:nvPr/>
        </p:nvSpPr>
        <p:spPr>
          <a:xfrm>
            <a:off x="6461280" y="3330720"/>
            <a:ext cx="1081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corr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2050920" y="2924280"/>
            <a:ext cx="1258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xid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1797120" y="5033880"/>
            <a:ext cx="1873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f irrit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6"/>
          <p:cNvSpPr/>
          <p:nvPr/>
        </p:nvSpPr>
        <p:spPr>
          <a:xfrm>
            <a:off x="6417720" y="4329000"/>
            <a:ext cx="1352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zeer) gift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7"/>
          <p:cNvSpPr/>
          <p:nvPr/>
        </p:nvSpPr>
        <p:spPr>
          <a:xfrm>
            <a:off x="6272280" y="1001880"/>
            <a:ext cx="1843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milieu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5" name="Object 18"/>
          <p:cNvGraphicFramePr/>
          <p:nvPr/>
        </p:nvGraphicFramePr>
        <p:xfrm>
          <a:off x="1143000" y="2892600"/>
          <a:ext cx="793800" cy="860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56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2892600"/>
                    <a:ext cx="7938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7" name="Group 19"/>
          <p:cNvGrpSpPr/>
          <p:nvPr/>
        </p:nvGrpSpPr>
        <p:grpSpPr>
          <a:xfrm>
            <a:off x="5526000" y="5784840"/>
            <a:ext cx="777960" cy="836640"/>
            <a:chOff x="5526000" y="5784840"/>
            <a:chExt cx="777960" cy="836640"/>
          </a:xfrm>
        </p:grpSpPr>
        <p:pic>
          <p:nvPicPr>
            <p:cNvPr id="858" name="Picture 20" descr=""/>
            <p:cNvPicPr/>
            <p:nvPr/>
          </p:nvPicPr>
          <p:blipFill>
            <a:blip r:embed="rId19"/>
            <a:srcRect l="40807" t="28118" r="39742" b="62122"/>
            <a:stretch/>
          </p:blipFill>
          <p:spPr>
            <a:xfrm>
              <a:off x="5526000" y="5784840"/>
              <a:ext cx="7167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Line 21"/>
            <p:cNvSpPr/>
            <p:nvPr/>
          </p:nvSpPr>
          <p:spPr>
            <a:xfrm>
              <a:off x="5530680" y="583920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22"/>
            <p:cNvSpPr/>
            <p:nvPr/>
          </p:nvSpPr>
          <p:spPr>
            <a:xfrm>
              <a:off x="5530680" y="5851800"/>
              <a:ext cx="0" cy="74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23"/>
            <p:cNvSpPr/>
            <p:nvPr/>
          </p:nvSpPr>
          <p:spPr>
            <a:xfrm>
              <a:off x="6289200" y="5839200"/>
              <a:ext cx="0" cy="75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24"/>
            <p:cNvSpPr/>
            <p:nvPr/>
          </p:nvSpPr>
          <p:spPr>
            <a:xfrm>
              <a:off x="5545080" y="6596280"/>
              <a:ext cx="7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Text Box 25"/>
          <p:cNvSpPr/>
          <p:nvPr/>
        </p:nvSpPr>
        <p:spPr>
          <a:xfrm>
            <a:off x="6446880" y="5992920"/>
            <a:ext cx="255276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klein chemisch af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 geen GHS klas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41" descr="pollu"/>
          <p:cNvPicPr/>
          <p:nvPr/>
        </p:nvPicPr>
        <p:blipFill>
          <a:blip r:embed="rId20"/>
          <a:stretch/>
        </p:blipFill>
        <p:spPr>
          <a:xfrm>
            <a:off x="7899480" y="1014480"/>
            <a:ext cx="893520" cy="89208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43" descr="exclam"/>
          <p:cNvPicPr/>
          <p:nvPr/>
        </p:nvPicPr>
        <p:blipFill>
          <a:blip r:embed="rId21"/>
          <a:stretch/>
        </p:blipFill>
        <p:spPr>
          <a:xfrm>
            <a:off x="3419640" y="5143680"/>
            <a:ext cx="814320" cy="8143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45" descr="silouete"/>
          <p:cNvPicPr/>
          <p:nvPr/>
        </p:nvPicPr>
        <p:blipFill>
          <a:blip r:embed="rId22"/>
          <a:stretch/>
        </p:blipFill>
        <p:spPr>
          <a:xfrm>
            <a:off x="7939080" y="2077920"/>
            <a:ext cx="884160" cy="882720"/>
          </a:xfrm>
          <a:prstGeom prst="rect">
            <a:avLst/>
          </a:prstGeom>
          <a:ln w="0">
            <a:noFill/>
          </a:ln>
        </p:spPr>
      </p:pic>
      <p:sp>
        <p:nvSpPr>
          <p:cNvPr id="867" name="Picture 47"/>
          <p:cNvSpPr/>
          <p:nvPr/>
        </p:nvSpPr>
        <p:spPr>
          <a:xfrm>
            <a:off x="6329520" y="2720880"/>
            <a:ext cx="733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86"/>
              </a:spcBef>
              <a:spcAft>
                <a:spcPts val="575"/>
              </a:spcAft>
              <a:buClr>
                <a:srgbClr val="000000"/>
              </a:buClr>
              <a:buSzPct val="50000"/>
              <a:buFont typeface="CommonBulle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48"/>
          <p:cNvSpPr/>
          <p:nvPr/>
        </p:nvSpPr>
        <p:spPr>
          <a:xfrm>
            <a:off x="5384520" y="2073240"/>
            <a:ext cx="25516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400" spc="-1" strike="noStrike">
                <a:solidFill>
                  <a:srgbClr val="c00000"/>
                </a:solidFill>
                <a:latin typeface="Zurich BT"/>
              </a:rPr>
              <a:t>nieuw;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nge termijn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zondheidsschadelij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(kankerverwekkende, 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mutagene en/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reprotoxische stoff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49"/>
          <p:cNvSpPr/>
          <p:nvPr/>
        </p:nvSpPr>
        <p:spPr>
          <a:xfrm>
            <a:off x="1136520" y="120600"/>
            <a:ext cx="7615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TIKETTERING VOLGENS HET 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(GLOBAL HARMONIZED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48" descr="skull"/>
          <p:cNvPicPr/>
          <p:nvPr/>
        </p:nvPicPr>
        <p:blipFill>
          <a:blip r:embed="rId23"/>
          <a:stretch/>
        </p:blipFill>
        <p:spPr>
          <a:xfrm>
            <a:off x="7916760" y="437040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48" descr="C:\Users\peter\Desktop\Cap_2x.jpg"/>
          <p:cNvPicPr/>
          <p:nvPr/>
        </p:nvPicPr>
        <p:blipFill>
          <a:blip r:embed="rId24"/>
          <a:stretch/>
        </p:blipFill>
        <p:spPr>
          <a:xfrm>
            <a:off x="3357720" y="4064040"/>
            <a:ext cx="961920" cy="914400"/>
          </a:xfrm>
          <a:prstGeom prst="rect">
            <a:avLst/>
          </a:prstGeom>
          <a:ln w="0">
            <a:noFill/>
          </a:ln>
        </p:spPr>
      </p:pic>
      <p:sp>
        <p:nvSpPr>
          <p:cNvPr id="872" name="Tekstvak 47"/>
          <p:cNvSpPr/>
          <p:nvPr/>
        </p:nvSpPr>
        <p:spPr>
          <a:xfrm>
            <a:off x="1103400" y="4032360"/>
            <a:ext cx="1908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c00000"/>
                </a:solidFill>
                <a:latin typeface="Zurich BT"/>
              </a:rPr>
              <a:t>nieuw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gassen</a:t>
            </a: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 onder dr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kstvak 1"/>
          <p:cNvSpPr/>
          <p:nvPr/>
        </p:nvSpPr>
        <p:spPr>
          <a:xfrm>
            <a:off x="1054080" y="6130800"/>
            <a:ext cx="424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Nieuwe etiketten 2010 ingevoe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en vanaf 2017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IEUWE SYMBOLEN VOOR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00008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rcinogeen (kankerverwekk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atogeen (functiestoornissen ongeboren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utageen (erfelijke eigenschappen verande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A9CA-9F6C-40D4-96F0-5E96D92426F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8"/>
          <p:cNvGrpSpPr/>
          <p:nvPr/>
        </p:nvGrpSpPr>
        <p:grpSpPr>
          <a:xfrm>
            <a:off x="2716200" y="2153520"/>
            <a:ext cx="3400200" cy="3400560"/>
            <a:chOff x="2716200" y="2153520"/>
            <a:chExt cx="3400200" cy="3400560"/>
          </a:xfrm>
        </p:grpSpPr>
        <p:sp>
          <p:nvSpPr>
            <p:cNvPr id="880" name="Rectangle 9"/>
            <p:cNvSpPr/>
            <p:nvPr/>
          </p:nvSpPr>
          <p:spPr>
            <a:xfrm rot="18906000">
              <a:off x="2968200" y="3244680"/>
              <a:ext cx="1218960" cy="121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0"/>
            <p:cNvSpPr/>
            <p:nvPr/>
          </p:nvSpPr>
          <p:spPr>
            <a:xfrm rot="18906000">
              <a:off x="3836520" y="2393640"/>
              <a:ext cx="1184040" cy="1218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1"/>
            <p:cNvSpPr/>
            <p:nvPr/>
          </p:nvSpPr>
          <p:spPr>
            <a:xfrm rot="18906000">
              <a:off x="4644360" y="3244320"/>
              <a:ext cx="1219320" cy="121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2"/>
            <p:cNvSpPr/>
            <p:nvPr/>
          </p:nvSpPr>
          <p:spPr>
            <a:xfrm rot="18906000">
              <a:off x="3806640" y="4082400"/>
              <a:ext cx="121932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860038"/>
                </a:solidFill>
                <a:latin typeface="Arial"/>
              </a:rPr>
              <a:t>Etikettering en signalering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85" name="Text Box 2"/>
          <p:cNvSpPr/>
          <p:nvPr/>
        </p:nvSpPr>
        <p:spPr>
          <a:xfrm>
            <a:off x="979560" y="25146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1577160" y="1095480"/>
            <a:ext cx="60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GEVARENDIAMANT (grootverpakking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4"/>
          <p:cNvSpPr/>
          <p:nvPr/>
        </p:nvSpPr>
        <p:spPr>
          <a:xfrm>
            <a:off x="6292800" y="3651120"/>
            <a:ext cx="215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reactivitei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instabi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5"/>
          <p:cNvSpPr/>
          <p:nvPr/>
        </p:nvSpPr>
        <p:spPr>
          <a:xfrm>
            <a:off x="3306600" y="1600200"/>
            <a:ext cx="23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rand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6"/>
          <p:cNvSpPr/>
          <p:nvPr/>
        </p:nvSpPr>
        <p:spPr>
          <a:xfrm>
            <a:off x="323280" y="3247920"/>
            <a:ext cx="243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zondhei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7"/>
          <p:cNvSpPr/>
          <p:nvPr/>
        </p:nvSpPr>
        <p:spPr>
          <a:xfrm>
            <a:off x="3143160" y="5433840"/>
            <a:ext cx="430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ijzondere aandu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3"/>
          <p:cNvSpPr/>
          <p:nvPr/>
        </p:nvSpPr>
        <p:spPr>
          <a:xfrm>
            <a:off x="3323520" y="3654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4"/>
          <p:cNvSpPr/>
          <p:nvPr/>
        </p:nvSpPr>
        <p:spPr>
          <a:xfrm>
            <a:off x="4263480" y="2728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5"/>
          <p:cNvSpPr/>
          <p:nvPr/>
        </p:nvSpPr>
        <p:spPr>
          <a:xfrm>
            <a:off x="5168880" y="3733920"/>
            <a:ext cx="2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6"/>
          <p:cNvSpPr/>
          <p:nvPr/>
        </p:nvSpPr>
        <p:spPr>
          <a:xfrm>
            <a:off x="4242960" y="4572000"/>
            <a:ext cx="5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7"/>
          <p:cNvSpPr/>
          <p:nvPr/>
        </p:nvSpPr>
        <p:spPr>
          <a:xfrm>
            <a:off x="4330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041480" y="6980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1019160" y="1460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 op werkvloer, geregeld in Arbowet/be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jf groe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Tijdelijke mark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EBA5-DB35-449E-B3DE-21AB4C67C05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Picture 4" descr="obstakel"/>
          <p:cNvPicPr/>
          <p:nvPr/>
        </p:nvPicPr>
        <p:blipFill>
          <a:blip r:embed="rId1"/>
          <a:stretch/>
        </p:blipFill>
        <p:spPr>
          <a:xfrm>
            <a:off x="6153120" y="5678640"/>
            <a:ext cx="2552760" cy="4600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DF31-62DB-4CD1-BA2C-AD58CE6DEAA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lektriciteit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LICHTING EN ONDERRICHT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35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erplicht te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verplicht te 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alleen schrif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 en tijdelijk person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5F94-4D0D-4699-81E3-9F7144AAD25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BIJ GEBRUIK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009800" y="2190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oomdoorgang door menselijk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wonding door v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 van val ten gevolge van 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/explo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b050"/>
                </a:solidFill>
                <a:latin typeface="Arial"/>
              </a:rPr>
              <a:t>VEILIGE INSTALL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als gevaren er niet zijn of</a:t>
            </a:r>
            <a:br>
              <a:rPr sz="2000"/>
            </a:b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tot een minimum worden bep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1E48-9490-4E7C-A91B-E693B90CE07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2630520" y="4462560"/>
            <a:ext cx="4710240" cy="1339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DOOR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028520" y="209520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an installaties/machines/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gereedscha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in orde/verkeerd behand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fecte en ondeugdelijke machines/toestellen/lei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of ontbrekende aardverbin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utieve aanleg of mo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willekeurige aanraking onder spanning staande 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A316-3515-4AE6-834D-789F584D66A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4" descr="elektriciteit"/>
          <p:cNvPicPr/>
          <p:nvPr/>
        </p:nvPicPr>
        <p:blipFill>
          <a:blip r:embed="rId1"/>
          <a:stretch/>
        </p:blipFill>
        <p:spPr>
          <a:xfrm>
            <a:off x="6400800" y="220968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918" name="Text Box 5"/>
          <p:cNvSpPr/>
          <p:nvPr/>
        </p:nvSpPr>
        <p:spPr>
          <a:xfrm>
            <a:off x="1562040" y="2160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B39D-8739-4BB5-BB5F-26EE20B6E58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"/>
          <p:cNvSpPr/>
          <p:nvPr/>
        </p:nvSpPr>
        <p:spPr>
          <a:xfrm>
            <a:off x="996840" y="1438200"/>
            <a:ext cx="8002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VEILIGHEIDSMAATREGEL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4"/>
          <p:cNvSpPr/>
          <p:nvPr/>
        </p:nvSpPr>
        <p:spPr>
          <a:xfrm>
            <a:off x="1046160" y="2066760"/>
            <a:ext cx="7953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handelingen door deskun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P = voldoende onderricht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in besloten ruimte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van uitwendig metalen omhuls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steig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ouwwerken aardlekschakelaar in elektrisch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ding (aanspreekstroom 30 m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metalen werkplaats- en opslagcontain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ugdelijke kabels (mechanische bescherm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AD0A-64B3-4326-9FDF-9FD923081A6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12B1-8A30-4F31-9210-4C882ADE434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1222200" y="2476440"/>
            <a:ext cx="7027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092240" y="952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ISICOBRONNEN EN WERKVERGU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952560" y="1612440"/>
            <a:ext cx="819144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werk, het gereedschap, het materi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sen (inhoud/so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 door werken volgens voorwaarden verg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werkzaamheden op uw om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omgeving op uw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el van werkvergunning: goede voorbereiding van risicovol 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erkvergunning is e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drijfsreg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geen wettelijke verp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96C8-4E7D-4900-8C53-4FF11236B62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E631-C9C4-493E-A065-2FFAEE67CEC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2"/>
          <p:cNvSpPr/>
          <p:nvPr/>
        </p:nvSpPr>
        <p:spPr>
          <a:xfrm>
            <a:off x="10191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"/>
          <p:cNvSpPr/>
          <p:nvPr/>
        </p:nvSpPr>
        <p:spPr>
          <a:xfrm>
            <a:off x="51339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1006920" y="1219320"/>
            <a:ext cx="293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1019160" y="1523880"/>
            <a:ext cx="3809880" cy="48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Locatie / equipment nr.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mschrijving van het wer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monteren/demonter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akken/bo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penen installati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slij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etreden besloten ruimt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ogedruk spui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anden/gutsen/las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itstr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öntgen/stralingswerk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ven handmatig/machina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ij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strumentatie/Electr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6"/>
          <p:cNvSpPr/>
          <p:nvPr/>
        </p:nvSpPr>
        <p:spPr>
          <a:xfrm>
            <a:off x="5167440" y="1523880"/>
            <a:ext cx="373356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gereedschapp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voertuigen / equip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 aantal uitvoerend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perso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begin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eind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tijd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             van                       t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ijzondere vergunningen van toepass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ottap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afvergu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lugla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7"/>
          <p:cNvSpPr/>
          <p:nvPr/>
        </p:nvSpPr>
        <p:spPr>
          <a:xfrm>
            <a:off x="10954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8"/>
          <p:cNvSpPr/>
          <p:nvPr/>
        </p:nvSpPr>
        <p:spPr>
          <a:xfrm>
            <a:off x="10954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9"/>
          <p:cNvSpPr/>
          <p:nvPr/>
        </p:nvSpPr>
        <p:spPr>
          <a:xfrm>
            <a:off x="1095480" y="3505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0"/>
          <p:cNvSpPr/>
          <p:nvPr/>
        </p:nvSpPr>
        <p:spPr>
          <a:xfrm>
            <a:off x="1095480" y="3733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1"/>
          <p:cNvSpPr/>
          <p:nvPr/>
        </p:nvSpPr>
        <p:spPr>
          <a:xfrm>
            <a:off x="1095480" y="3962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2"/>
          <p:cNvSpPr/>
          <p:nvPr/>
        </p:nvSpPr>
        <p:spPr>
          <a:xfrm>
            <a:off x="1095480" y="4191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3"/>
          <p:cNvSpPr/>
          <p:nvPr/>
        </p:nvSpPr>
        <p:spPr>
          <a:xfrm>
            <a:off x="1095480" y="4419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4"/>
          <p:cNvSpPr/>
          <p:nvPr/>
        </p:nvSpPr>
        <p:spPr>
          <a:xfrm>
            <a:off x="1095480" y="4648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"/>
          <p:cNvSpPr/>
          <p:nvPr/>
        </p:nvSpPr>
        <p:spPr>
          <a:xfrm>
            <a:off x="1095480" y="4876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6"/>
          <p:cNvSpPr/>
          <p:nvPr/>
        </p:nvSpPr>
        <p:spPr>
          <a:xfrm>
            <a:off x="1628640" y="2379600"/>
            <a:ext cx="3200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7"/>
          <p:cNvSpPr/>
          <p:nvPr/>
        </p:nvSpPr>
        <p:spPr>
          <a:xfrm>
            <a:off x="2467080" y="2158920"/>
            <a:ext cx="23619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8"/>
          <p:cNvSpPr/>
          <p:nvPr/>
        </p:nvSpPr>
        <p:spPr>
          <a:xfrm>
            <a:off x="52102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9"/>
          <p:cNvSpPr/>
          <p:nvPr/>
        </p:nvSpPr>
        <p:spPr>
          <a:xfrm>
            <a:off x="5210280" y="2819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20"/>
          <p:cNvSpPr/>
          <p:nvPr/>
        </p:nvSpPr>
        <p:spPr>
          <a:xfrm>
            <a:off x="5210280" y="2362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21"/>
          <p:cNvSpPr/>
          <p:nvPr/>
        </p:nvSpPr>
        <p:spPr>
          <a:xfrm>
            <a:off x="5210280" y="2133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22"/>
          <p:cNvSpPr/>
          <p:nvPr/>
        </p:nvSpPr>
        <p:spPr>
          <a:xfrm>
            <a:off x="5210280" y="1905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23"/>
          <p:cNvSpPr/>
          <p:nvPr/>
        </p:nvSpPr>
        <p:spPr>
          <a:xfrm>
            <a:off x="52102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24"/>
          <p:cNvSpPr/>
          <p:nvPr/>
        </p:nvSpPr>
        <p:spPr>
          <a:xfrm>
            <a:off x="7191360" y="375300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5"/>
          <p:cNvSpPr/>
          <p:nvPr/>
        </p:nvSpPr>
        <p:spPr>
          <a:xfrm>
            <a:off x="7191360" y="39942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26"/>
          <p:cNvSpPr/>
          <p:nvPr/>
        </p:nvSpPr>
        <p:spPr>
          <a:xfrm>
            <a:off x="7191360" y="42210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27"/>
          <p:cNvSpPr/>
          <p:nvPr/>
        </p:nvSpPr>
        <p:spPr>
          <a:xfrm flipH="1">
            <a:off x="71910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28"/>
          <p:cNvSpPr/>
          <p:nvPr/>
        </p:nvSpPr>
        <p:spPr>
          <a:xfrm flipH="1">
            <a:off x="81054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29"/>
          <p:cNvSpPr/>
          <p:nvPr/>
        </p:nvSpPr>
        <p:spPr>
          <a:xfrm>
            <a:off x="7267680" y="5111640"/>
            <a:ext cx="15238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3E3B-E875-4B37-885A-1E0E131FCB6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2"/>
          <p:cNvSpPr/>
          <p:nvPr/>
        </p:nvSpPr>
        <p:spPr>
          <a:xfrm>
            <a:off x="10288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3"/>
          <p:cNvSpPr/>
          <p:nvPr/>
        </p:nvSpPr>
        <p:spPr>
          <a:xfrm>
            <a:off x="51436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4"/>
          <p:cNvSpPr/>
          <p:nvPr/>
        </p:nvSpPr>
        <p:spPr>
          <a:xfrm>
            <a:off x="1028880" y="121932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VERSTREKKENDE AF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1028880" y="1752480"/>
            <a:ext cx="3809880" cy="44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verstrekker/area operat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lk product bevat of heeft de apparatuur/leiding bev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vloed van naburige werkzaamhed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Nodig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Ger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lenzen lab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po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tapp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to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inblok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ste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kopp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druk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product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tox. en/of agress. stoff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brandbaar materia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blokker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vrijschakel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mechanisch blokkeren (hoe?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6"/>
          <p:cNvSpPr/>
          <p:nvPr/>
        </p:nvSpPr>
        <p:spPr>
          <a:xfrm>
            <a:off x="5183280" y="1295280"/>
            <a:ext cx="373356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loten ruimte conditierapport (nr.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zamelpla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ilieueschermende maatreg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Speciale operationele aandachtspunt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Mogelijke risico’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GASMETING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7"/>
          <p:cNvSpPr/>
          <p:nvPr/>
        </p:nvSpPr>
        <p:spPr>
          <a:xfrm>
            <a:off x="514368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8"/>
          <p:cNvSpPr/>
          <p:nvPr/>
        </p:nvSpPr>
        <p:spPr>
          <a:xfrm>
            <a:off x="56768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9"/>
          <p:cNvSpPr/>
          <p:nvPr/>
        </p:nvSpPr>
        <p:spPr>
          <a:xfrm>
            <a:off x="63626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10"/>
          <p:cNvSpPr/>
          <p:nvPr/>
        </p:nvSpPr>
        <p:spPr>
          <a:xfrm>
            <a:off x="8344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1"/>
          <p:cNvSpPr/>
          <p:nvPr/>
        </p:nvSpPr>
        <p:spPr>
          <a:xfrm>
            <a:off x="76582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12"/>
          <p:cNvSpPr/>
          <p:nvPr/>
        </p:nvSpPr>
        <p:spPr>
          <a:xfrm>
            <a:off x="514368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3"/>
          <p:cNvSpPr/>
          <p:nvPr/>
        </p:nvSpPr>
        <p:spPr>
          <a:xfrm>
            <a:off x="514368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4"/>
          <p:cNvSpPr/>
          <p:nvPr/>
        </p:nvSpPr>
        <p:spPr>
          <a:xfrm>
            <a:off x="514368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5"/>
          <p:cNvSpPr/>
          <p:nvPr/>
        </p:nvSpPr>
        <p:spPr>
          <a:xfrm>
            <a:off x="514368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6"/>
          <p:cNvSpPr/>
          <p:nvPr/>
        </p:nvSpPr>
        <p:spPr>
          <a:xfrm>
            <a:off x="887724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17"/>
          <p:cNvSpPr/>
          <p:nvPr/>
        </p:nvSpPr>
        <p:spPr>
          <a:xfrm>
            <a:off x="803916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8"/>
          <p:cNvSpPr/>
          <p:nvPr/>
        </p:nvSpPr>
        <p:spPr>
          <a:xfrm>
            <a:off x="5338800" y="4705200"/>
            <a:ext cx="83808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9"/>
          <p:cNvSpPr/>
          <p:nvPr/>
        </p:nvSpPr>
        <p:spPr>
          <a:xfrm>
            <a:off x="5219640" y="4275000"/>
            <a:ext cx="110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contin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odi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0"/>
          <p:cNvSpPr/>
          <p:nvPr/>
        </p:nvSpPr>
        <p:spPr>
          <a:xfrm>
            <a:off x="6321600" y="4156200"/>
            <a:ext cx="1517400" cy="22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ij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Zuursto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O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Explosiviteit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L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oxische stoffen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ype 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21"/>
          <p:cNvSpPr/>
          <p:nvPr/>
        </p:nvSpPr>
        <p:spPr>
          <a:xfrm>
            <a:off x="7048440" y="596268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22"/>
          <p:cNvSpPr/>
          <p:nvPr/>
        </p:nvSpPr>
        <p:spPr>
          <a:xfrm>
            <a:off x="6362640" y="44956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23"/>
          <p:cNvSpPr/>
          <p:nvPr/>
        </p:nvSpPr>
        <p:spPr>
          <a:xfrm>
            <a:off x="529596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4"/>
          <p:cNvSpPr/>
          <p:nvPr/>
        </p:nvSpPr>
        <p:spPr>
          <a:xfrm>
            <a:off x="529596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5"/>
          <p:cNvSpPr/>
          <p:nvPr/>
        </p:nvSpPr>
        <p:spPr>
          <a:xfrm>
            <a:off x="529596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26"/>
          <p:cNvSpPr/>
          <p:nvPr/>
        </p:nvSpPr>
        <p:spPr>
          <a:xfrm>
            <a:off x="3390840" y="5772240"/>
            <a:ext cx="1219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7"/>
          <p:cNvSpPr/>
          <p:nvPr/>
        </p:nvSpPr>
        <p:spPr>
          <a:xfrm>
            <a:off x="529596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28"/>
          <p:cNvSpPr/>
          <p:nvPr/>
        </p:nvSpPr>
        <p:spPr>
          <a:xfrm>
            <a:off x="5295960" y="29718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9"/>
          <p:cNvSpPr/>
          <p:nvPr/>
        </p:nvSpPr>
        <p:spPr>
          <a:xfrm>
            <a:off x="5518080" y="220824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30"/>
          <p:cNvSpPr/>
          <p:nvPr/>
        </p:nvSpPr>
        <p:spPr>
          <a:xfrm>
            <a:off x="5981760" y="1774800"/>
            <a:ext cx="26510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31"/>
          <p:cNvSpPr/>
          <p:nvPr/>
        </p:nvSpPr>
        <p:spPr>
          <a:xfrm>
            <a:off x="6896160" y="1498680"/>
            <a:ext cx="1736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32"/>
          <p:cNvSpPr/>
          <p:nvPr/>
        </p:nvSpPr>
        <p:spPr>
          <a:xfrm>
            <a:off x="1144440" y="266688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33"/>
          <p:cNvSpPr/>
          <p:nvPr/>
        </p:nvSpPr>
        <p:spPr>
          <a:xfrm>
            <a:off x="3543480" y="597204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34"/>
          <p:cNvSpPr/>
          <p:nvPr/>
        </p:nvSpPr>
        <p:spPr>
          <a:xfrm>
            <a:off x="2952720" y="6162840"/>
            <a:ext cx="16574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5"/>
          <p:cNvSpPr/>
          <p:nvPr/>
        </p:nvSpPr>
        <p:spPr>
          <a:xfrm>
            <a:off x="114444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EDFA-3D3C-4159-AFE8-7ECF66B7C83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10476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3"/>
          <p:cNvSpPr/>
          <p:nvPr/>
        </p:nvSpPr>
        <p:spPr>
          <a:xfrm>
            <a:off x="51624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4"/>
          <p:cNvSpPr/>
          <p:nvPr/>
        </p:nvSpPr>
        <p:spPr>
          <a:xfrm>
            <a:off x="1047600" y="121932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HOU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1047600" y="1752480"/>
            <a:ext cx="3810240" cy="45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Te nemen voorzorgsmaatreg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utten goten en/of riolen afdekken binnen 30 m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onkafscherming plaat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af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ngat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terslang gereed met straalpij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vullende brandblusmiddelen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en/of werkstuk nat hou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beveiligen tegen valgeva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Aanvullende persoonlijke beschermingsmidd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ruimzicht/zuurbr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laatsche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al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and/arm bescherm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chermende kled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luchtmasker binnen handberei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6"/>
          <p:cNvSpPr/>
          <p:nvPr/>
        </p:nvSpPr>
        <p:spPr>
          <a:xfrm>
            <a:off x="5202360" y="1295280"/>
            <a:ext cx="373356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oonlijke gasalarmer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bruik adem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iltermasker (type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e lucht k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luchtmas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24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Extra eisen (in te vullen door verstrekker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7"/>
          <p:cNvSpPr/>
          <p:nvPr/>
        </p:nvSpPr>
        <p:spPr>
          <a:xfrm>
            <a:off x="516240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8"/>
          <p:cNvSpPr/>
          <p:nvPr/>
        </p:nvSpPr>
        <p:spPr>
          <a:xfrm>
            <a:off x="569592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9"/>
          <p:cNvSpPr/>
          <p:nvPr/>
        </p:nvSpPr>
        <p:spPr>
          <a:xfrm>
            <a:off x="61340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0"/>
          <p:cNvSpPr/>
          <p:nvPr/>
        </p:nvSpPr>
        <p:spPr>
          <a:xfrm>
            <a:off x="812016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1"/>
          <p:cNvSpPr/>
          <p:nvPr/>
        </p:nvSpPr>
        <p:spPr>
          <a:xfrm>
            <a:off x="7201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12"/>
          <p:cNvSpPr/>
          <p:nvPr/>
        </p:nvSpPr>
        <p:spPr>
          <a:xfrm>
            <a:off x="516240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13"/>
          <p:cNvSpPr/>
          <p:nvPr/>
        </p:nvSpPr>
        <p:spPr>
          <a:xfrm>
            <a:off x="516240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4"/>
          <p:cNvSpPr/>
          <p:nvPr/>
        </p:nvSpPr>
        <p:spPr>
          <a:xfrm>
            <a:off x="516240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5"/>
          <p:cNvSpPr/>
          <p:nvPr/>
        </p:nvSpPr>
        <p:spPr>
          <a:xfrm>
            <a:off x="516240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6"/>
          <p:cNvSpPr/>
          <p:nvPr/>
        </p:nvSpPr>
        <p:spPr>
          <a:xfrm>
            <a:off x="85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7"/>
          <p:cNvSpPr/>
          <p:nvPr/>
        </p:nvSpPr>
        <p:spPr>
          <a:xfrm>
            <a:off x="76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18"/>
          <p:cNvSpPr/>
          <p:nvPr/>
        </p:nvSpPr>
        <p:spPr>
          <a:xfrm>
            <a:off x="531504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19"/>
          <p:cNvSpPr/>
          <p:nvPr/>
        </p:nvSpPr>
        <p:spPr>
          <a:xfrm>
            <a:off x="531504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0"/>
          <p:cNvSpPr/>
          <p:nvPr/>
        </p:nvSpPr>
        <p:spPr>
          <a:xfrm>
            <a:off x="531504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21"/>
          <p:cNvSpPr/>
          <p:nvPr/>
        </p:nvSpPr>
        <p:spPr>
          <a:xfrm>
            <a:off x="5537160" y="281952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22"/>
          <p:cNvSpPr/>
          <p:nvPr/>
        </p:nvSpPr>
        <p:spPr>
          <a:xfrm>
            <a:off x="6321600" y="2057400"/>
            <a:ext cx="2346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3"/>
          <p:cNvSpPr/>
          <p:nvPr/>
        </p:nvSpPr>
        <p:spPr>
          <a:xfrm>
            <a:off x="6778800" y="1498680"/>
            <a:ext cx="1888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4"/>
          <p:cNvSpPr/>
          <p:nvPr/>
        </p:nvSpPr>
        <p:spPr>
          <a:xfrm>
            <a:off x="1163520" y="4821120"/>
            <a:ext cx="3541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25"/>
          <p:cNvSpPr/>
          <p:nvPr/>
        </p:nvSpPr>
        <p:spPr>
          <a:xfrm>
            <a:off x="2428920" y="606744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26"/>
          <p:cNvSpPr/>
          <p:nvPr/>
        </p:nvSpPr>
        <p:spPr>
          <a:xfrm>
            <a:off x="2419200" y="589752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27"/>
          <p:cNvSpPr/>
          <p:nvPr/>
        </p:nvSpPr>
        <p:spPr>
          <a:xfrm>
            <a:off x="1352520" y="4419720"/>
            <a:ext cx="3267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28"/>
          <p:cNvSpPr/>
          <p:nvPr/>
        </p:nvSpPr>
        <p:spPr>
          <a:xfrm>
            <a:off x="2800440" y="3822840"/>
            <a:ext cx="18190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29"/>
          <p:cNvSpPr/>
          <p:nvPr/>
        </p:nvSpPr>
        <p:spPr>
          <a:xfrm flipH="1">
            <a:off x="5162040" y="4495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30"/>
          <p:cNvSpPr/>
          <p:nvPr/>
        </p:nvSpPr>
        <p:spPr>
          <a:xfrm>
            <a:off x="523872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31"/>
          <p:cNvSpPr/>
          <p:nvPr/>
        </p:nvSpPr>
        <p:spPr>
          <a:xfrm>
            <a:off x="66960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E93B-0A1C-448A-8611-CBAB58758CE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0382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3"/>
          <p:cNvSpPr/>
          <p:nvPr/>
        </p:nvSpPr>
        <p:spPr>
          <a:xfrm>
            <a:off x="51530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1038240" y="12193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KRACHT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1038240" y="1523880"/>
            <a:ext cx="380988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Categori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analyse (nr.            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De kolommen “Aanvraag werkzaamheden” en “Maatregelen te nemen door houder” zijn juist ingevuld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Aanvr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Telefo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Principe toestemming bijzondere werkzaamheden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Operationeel beheer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mede beoordeel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Mede ondertekena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is voorberei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gunning voorberei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6"/>
          <p:cNvSpPr/>
          <p:nvPr/>
        </p:nvSpPr>
        <p:spPr>
          <a:xfrm>
            <a:off x="5192640" y="1295280"/>
            <a:ext cx="373392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Het werk kan veilig uitgevoerd worden en beheersmaatregelen zijn doorgesproken met vergunninghouder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strekk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Akkoord met opgelegde eisen en draagt zorg voor uitvoering volgens de vergunningsvoorwaarde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 na overdrac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7"/>
          <p:cNvSpPr/>
          <p:nvPr/>
        </p:nvSpPr>
        <p:spPr>
          <a:xfrm>
            <a:off x="515304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"/>
          <p:cNvSpPr/>
          <p:nvPr/>
        </p:nvSpPr>
        <p:spPr>
          <a:xfrm>
            <a:off x="59151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9"/>
          <p:cNvSpPr/>
          <p:nvPr/>
        </p:nvSpPr>
        <p:spPr>
          <a:xfrm>
            <a:off x="69055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0"/>
          <p:cNvSpPr/>
          <p:nvPr/>
        </p:nvSpPr>
        <p:spPr>
          <a:xfrm>
            <a:off x="85057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11"/>
          <p:cNvSpPr/>
          <p:nvPr/>
        </p:nvSpPr>
        <p:spPr>
          <a:xfrm>
            <a:off x="515304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12"/>
          <p:cNvSpPr/>
          <p:nvPr/>
        </p:nvSpPr>
        <p:spPr>
          <a:xfrm>
            <a:off x="5153040" y="4952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13"/>
          <p:cNvSpPr/>
          <p:nvPr/>
        </p:nvSpPr>
        <p:spPr>
          <a:xfrm>
            <a:off x="5153040" y="617220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14"/>
          <p:cNvSpPr/>
          <p:nvPr/>
        </p:nvSpPr>
        <p:spPr>
          <a:xfrm>
            <a:off x="7524720" y="41148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15"/>
          <p:cNvSpPr/>
          <p:nvPr/>
        </p:nvSpPr>
        <p:spPr>
          <a:xfrm flipH="1">
            <a:off x="5152680" y="4419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16"/>
          <p:cNvSpPr/>
          <p:nvPr/>
        </p:nvSpPr>
        <p:spPr>
          <a:xfrm>
            <a:off x="75153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5181480" y="4197240"/>
            <a:ext cx="35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erlenging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ximaal 1 week geld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8"/>
          <p:cNvSpPr/>
          <p:nvPr/>
        </p:nvSpPr>
        <p:spPr>
          <a:xfrm>
            <a:off x="2333520" y="1523880"/>
            <a:ext cx="221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oog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La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9"/>
          <p:cNvSpPr/>
          <p:nvPr/>
        </p:nvSpPr>
        <p:spPr>
          <a:xfrm>
            <a:off x="5610240" y="4114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20"/>
          <p:cNvSpPr/>
          <p:nvPr/>
        </p:nvSpPr>
        <p:spPr>
          <a:xfrm>
            <a:off x="5610240" y="38862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21"/>
          <p:cNvSpPr/>
          <p:nvPr/>
        </p:nvSpPr>
        <p:spPr>
          <a:xfrm>
            <a:off x="7896240" y="38862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22"/>
          <p:cNvSpPr/>
          <p:nvPr/>
        </p:nvSpPr>
        <p:spPr>
          <a:xfrm>
            <a:off x="7896240" y="32004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23"/>
          <p:cNvSpPr/>
          <p:nvPr/>
        </p:nvSpPr>
        <p:spPr>
          <a:xfrm>
            <a:off x="7524720" y="34290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24"/>
          <p:cNvSpPr/>
          <p:nvPr/>
        </p:nvSpPr>
        <p:spPr>
          <a:xfrm>
            <a:off x="5610240" y="34290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25"/>
          <p:cNvSpPr/>
          <p:nvPr/>
        </p:nvSpPr>
        <p:spPr>
          <a:xfrm>
            <a:off x="5610240" y="32004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6"/>
          <p:cNvSpPr/>
          <p:nvPr/>
        </p:nvSpPr>
        <p:spPr>
          <a:xfrm>
            <a:off x="7591320" y="23400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7"/>
          <p:cNvSpPr/>
          <p:nvPr/>
        </p:nvSpPr>
        <p:spPr>
          <a:xfrm>
            <a:off x="5637240" y="2340000"/>
            <a:ext cx="11332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8"/>
          <p:cNvSpPr/>
          <p:nvPr/>
        </p:nvSpPr>
        <p:spPr>
          <a:xfrm>
            <a:off x="5610240" y="211932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29"/>
          <p:cNvSpPr/>
          <p:nvPr/>
        </p:nvSpPr>
        <p:spPr>
          <a:xfrm>
            <a:off x="3400560" y="6324480"/>
            <a:ext cx="1371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30"/>
          <p:cNvSpPr/>
          <p:nvPr/>
        </p:nvSpPr>
        <p:spPr>
          <a:xfrm>
            <a:off x="1495440" y="6324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31"/>
          <p:cNvSpPr/>
          <p:nvPr/>
        </p:nvSpPr>
        <p:spPr>
          <a:xfrm>
            <a:off x="1495440" y="608184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32"/>
          <p:cNvSpPr/>
          <p:nvPr/>
        </p:nvSpPr>
        <p:spPr>
          <a:xfrm>
            <a:off x="3857760" y="5105520"/>
            <a:ext cx="914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33"/>
          <p:cNvSpPr/>
          <p:nvPr/>
        </p:nvSpPr>
        <p:spPr>
          <a:xfrm>
            <a:off x="3409920" y="534204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34"/>
          <p:cNvSpPr/>
          <p:nvPr/>
        </p:nvSpPr>
        <p:spPr>
          <a:xfrm>
            <a:off x="1495440" y="534204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35"/>
          <p:cNvSpPr/>
          <p:nvPr/>
        </p:nvSpPr>
        <p:spPr>
          <a:xfrm>
            <a:off x="1495440" y="510552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36"/>
          <p:cNvSpPr/>
          <p:nvPr/>
        </p:nvSpPr>
        <p:spPr>
          <a:xfrm>
            <a:off x="3781440" y="289548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37"/>
          <p:cNvSpPr/>
          <p:nvPr/>
        </p:nvSpPr>
        <p:spPr>
          <a:xfrm>
            <a:off x="3409920" y="338148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38"/>
          <p:cNvSpPr/>
          <p:nvPr/>
        </p:nvSpPr>
        <p:spPr>
          <a:xfrm>
            <a:off x="1495440" y="3381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39"/>
          <p:cNvSpPr/>
          <p:nvPr/>
        </p:nvSpPr>
        <p:spPr>
          <a:xfrm>
            <a:off x="1495440" y="289548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40"/>
          <p:cNvSpPr/>
          <p:nvPr/>
        </p:nvSpPr>
        <p:spPr>
          <a:xfrm>
            <a:off x="3476520" y="43578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41"/>
          <p:cNvSpPr/>
          <p:nvPr/>
        </p:nvSpPr>
        <p:spPr>
          <a:xfrm>
            <a:off x="1495440" y="4357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42"/>
          <p:cNvSpPr/>
          <p:nvPr/>
        </p:nvSpPr>
        <p:spPr>
          <a:xfrm>
            <a:off x="1495440" y="411480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43"/>
          <p:cNvSpPr/>
          <p:nvPr/>
        </p:nvSpPr>
        <p:spPr>
          <a:xfrm>
            <a:off x="2104920" y="196200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44"/>
          <p:cNvSpPr/>
          <p:nvPr/>
        </p:nvSpPr>
        <p:spPr>
          <a:xfrm flipH="1">
            <a:off x="5152680" y="35053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45"/>
          <p:cNvSpPr/>
          <p:nvPr/>
        </p:nvSpPr>
        <p:spPr>
          <a:xfrm flipH="1">
            <a:off x="1037880" y="2057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46"/>
          <p:cNvSpPr/>
          <p:nvPr/>
        </p:nvSpPr>
        <p:spPr>
          <a:xfrm flipH="1">
            <a:off x="1037880" y="1523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47"/>
          <p:cNvSpPr/>
          <p:nvPr/>
        </p:nvSpPr>
        <p:spPr>
          <a:xfrm flipH="1">
            <a:off x="1037880" y="3432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48"/>
          <p:cNvSpPr/>
          <p:nvPr/>
        </p:nvSpPr>
        <p:spPr>
          <a:xfrm flipH="1">
            <a:off x="1037880" y="4683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49"/>
          <p:cNvSpPr/>
          <p:nvPr/>
        </p:nvSpPr>
        <p:spPr>
          <a:xfrm flipH="1">
            <a:off x="1037880" y="56721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50"/>
          <p:cNvSpPr/>
          <p:nvPr/>
        </p:nvSpPr>
        <p:spPr>
          <a:xfrm>
            <a:off x="5153040" y="4419720"/>
            <a:ext cx="3886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trekker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51"/>
          <p:cNvSpPr/>
          <p:nvPr/>
        </p:nvSpPr>
        <p:spPr>
          <a:xfrm>
            <a:off x="5153040" y="46148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52"/>
          <p:cNvSpPr/>
          <p:nvPr/>
        </p:nvSpPr>
        <p:spPr>
          <a:xfrm>
            <a:off x="515304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53"/>
          <p:cNvSpPr/>
          <p:nvPr/>
        </p:nvSpPr>
        <p:spPr>
          <a:xfrm>
            <a:off x="5153040" y="5257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54"/>
          <p:cNvSpPr/>
          <p:nvPr/>
        </p:nvSpPr>
        <p:spPr>
          <a:xfrm>
            <a:off x="5153040" y="5410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55"/>
          <p:cNvSpPr/>
          <p:nvPr/>
        </p:nvSpPr>
        <p:spPr>
          <a:xfrm>
            <a:off x="5153040" y="5562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56"/>
          <p:cNvSpPr/>
          <p:nvPr/>
        </p:nvSpPr>
        <p:spPr>
          <a:xfrm>
            <a:off x="5153040" y="57150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57"/>
          <p:cNvSpPr/>
          <p:nvPr/>
        </p:nvSpPr>
        <p:spPr>
          <a:xfrm>
            <a:off x="5153040" y="5867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58"/>
          <p:cNvSpPr/>
          <p:nvPr/>
        </p:nvSpPr>
        <p:spPr>
          <a:xfrm>
            <a:off x="5153040" y="6019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28880" y="971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OVERLE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90080" y="1898640"/>
            <a:ext cx="616932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ing en overleg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nemingsra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delingswerkoverl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kenm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indt regelmatig pla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groepsactiv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ïnvloeding van “onderaf” (werkvlo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DF36-3F29-4F6F-9257-4832EF5B91B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4F16-877F-4294-BADC-8B12574CB67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09224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FINITIE ERGONOM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1028880" y="14526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gonomie volgens Arbow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l gericht op het welzijn van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 van medewerkers beschermen door stellen van ergonomische rand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voorwer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gevingsfactoren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54D3-2123-479F-9BED-0F1E8729366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058760" y="75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1011240" y="1797120"/>
            <a:ext cx="806760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eidssituatie en ta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passen a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schappen v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niet anders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9FBB-8B30-4D20-A5D2-738C675B952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722160" y="10872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ENS-MACHINESYSTEEM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102384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 is combinatie van twee z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, gereedschappen, gebruiksvoorwerpen en werkplek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mstandighed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aaromh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met zijn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m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hou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D379-1E64-4802-B471-872A7A6D01D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41520" y="107424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7 FACTOREN, DIE ERGONOMIE WERKPLEK BEPA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1765080" y="2523600"/>
            <a:ext cx="61275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Ti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 Zitten en s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 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.  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.  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.  Lichamelijke en mental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EC22-E820-486F-8C5D-DEFA4FBD476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015920" y="888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1015920" y="173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de factor in veel ber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ste belas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 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sa boven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praktij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len last vóór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stbaarheid spier/skeletsysteem individueel verschille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ef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l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traindhe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ustwording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instr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6845-7756-4CAC-B867-010844C4345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INSTRUC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1371600" y="5740200"/>
            <a:ext cx="137160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n ma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939C-1B3E-4A3E-80D5-E216EE46D79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Picture 4" descr="tillen"/>
          <p:cNvPicPr/>
          <p:nvPr/>
        </p:nvPicPr>
        <p:blipFill>
          <a:blip r:embed="rId1"/>
          <a:stretch/>
        </p:blipFill>
        <p:spPr>
          <a:xfrm>
            <a:off x="1693800" y="2286000"/>
            <a:ext cx="5754600" cy="3378240"/>
          </a:xfrm>
          <a:prstGeom prst="rect">
            <a:avLst/>
          </a:prstGeom>
          <a:ln w="0">
            <a:noFill/>
          </a:ln>
        </p:spPr>
      </p:pic>
      <p:sp>
        <p:nvSpPr>
          <p:cNvPr id="1135" name="Rectangle 5"/>
          <p:cNvSpPr/>
          <p:nvPr/>
        </p:nvSpPr>
        <p:spPr>
          <a:xfrm>
            <a:off x="2971800" y="571500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nen in spreid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stand, voeten 4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aden naar bu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4952880" y="57150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nieën buig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ug recht hou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6324480" y="5715000"/>
            <a:ext cx="1905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uit staande posi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ginnen met l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113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R BEPERKING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AN TILBELAS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1801800" y="2311560"/>
            <a:ext cx="49831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ering/hulp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 gew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ganisatie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me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zittend ti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tilhoog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verplaatsings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FB09-7482-4D3E-90AE-85190EF32D0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ZITT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1015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ngdurig zitten is belas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ische belasting van bekken, wervelkolom, schouder, gor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sseling voorkomt 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pen/staan/zitten/verschillende zit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imale zitho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ondersteuning b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stand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ing schou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kiez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dere 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F4EA-D800-402D-A861-CCA80347FC6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003320" y="939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TA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1170000" y="1592280"/>
            <a:ext cx="719784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, indi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oldoende beenruimte om te z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reiken (hoog, laag, 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cheiden werkplekken (vaak heen en weer lo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rwaartse krachten (verpakkingswerkzaamh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ste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gt 60% lichaamsgewicht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 benen/vo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46EB-FEC9-4E55-84EB-D04D2498453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9T06:00:50Z</dcterms:created>
  <dc:creator>Servicedesk</dc:creator>
  <dc:description/>
  <dc:language>en-US</dc:language>
  <cp:lastModifiedBy>Johan Schuppert</cp:lastModifiedBy>
  <cp:lastPrinted>2002-10-03T14:29:02Z</cp:lastPrinted>
  <dcterms:modified xsi:type="dcterms:W3CDTF">2015-10-27T08:56:37Z</dcterms:modified>
  <cp:revision>260</cp:revision>
  <dc:subject/>
  <dc:title>Geen diatitel</dc:title>
</cp:coreProperties>
</file>