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4.wmf" ContentType="image/x-wmf"/>
  <Override PartName="/ppt/media/image28.png" ContentType="image/png"/>
  <Override PartName="/ppt/media/image10.jpeg" ContentType="image/jpeg"/>
  <Override PartName="/ppt/media/image13.wmf" ContentType="image/x-wmf"/>
  <Override PartName="/ppt/media/image9.wmf" ContentType="image/x-wmf"/>
  <Override PartName="/ppt/media/image31.png" ContentType="image/png"/>
  <Override PartName="/ppt/media/image33.png" ContentType="image/png"/>
  <Override PartName="/ppt/media/image34.png" ContentType="image/png"/>
  <Override PartName="/ppt/media/image36.wmf" ContentType="image/x-wmf"/>
  <Override PartName="/ppt/media/image38.wmf" ContentType="image/x-wmf"/>
  <Override PartName="/ppt/media/image8.wmf" ContentType="image/x-wmf"/>
  <Override PartName="/ppt/media/image37.wmf" ContentType="image/x-wmf"/>
  <Override PartName="/ppt/media/image39.jpeg" ContentType="image/jpeg"/>
  <Override PartName="/ppt/media/image41.jpeg" ContentType="image/jpeg"/>
  <Override PartName="/ppt/media/image11.wmf" ContentType="image/x-wmf"/>
  <Override PartName="/ppt/media/image26.png" ContentType="image/png"/>
  <Override PartName="/ppt/media/image40.wmf" ContentType="image/x-wmf"/>
  <Override PartName="/ppt/media/image7.png" ContentType="image/png"/>
  <Override PartName="/ppt/media/image35.jpeg" ContentType="image/jpeg"/>
  <Override PartName="/ppt/media/image1.jpeg" ContentType="image/jpeg"/>
  <Override PartName="/ppt/media/image12.wmf" ContentType="image/x-wmf"/>
  <Override PartName="/ppt/media/image27.png" ContentType="image/png"/>
  <Override PartName="/ppt/media/image6.jpeg" ContentType="image/jpeg"/>
  <Override PartName="/ppt/media/image5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402696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003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9634320"/>
            <a:ext cx="3071880" cy="547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lstStyle>
            <a:lvl1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4026960" y="9634320"/>
            <a:ext cx="3071880" cy="547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lstStyle>
            <a:lvl1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8E4BB2B0-AF4B-44B4-9F1F-1F71835AC22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754D856C-70D6-4F59-BD85-DBAFE63E2FF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525F03FD-BE6C-444A-A47A-4276AF58DD9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208D892A-7B8C-4355-9388-DE530159D27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D5FD49CF-C3D7-434C-8FDF-27CCAD5CE5A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6349F57F-84CB-4DC7-A8D3-3940686D01B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C47E767A-CCCE-45C2-904F-AE881618C70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B11226F9-79CC-4421-A06E-6B1C45AA375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819000" y="768240"/>
            <a:ext cx="5461200" cy="409752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45840" y="5118120"/>
            <a:ext cx="5807160" cy="38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ijdelijke aanduiding voor dianummer 3"/>
          <p:cNvSpPr/>
          <p:nvPr/>
        </p:nvSpPr>
        <p:spPr>
          <a:xfrm>
            <a:off x="6453360" y="9053640"/>
            <a:ext cx="645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89BBC47-99E4-4636-A479-F0E9B132BD61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22B6DA83-0D57-49B9-862F-284456FE5D2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D6694-49DF-4BA5-869F-58F40309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47221-3F5A-4B10-9BF2-4F003FCE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106F6-DFC0-4CE7-A617-F4B040E4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896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6668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1124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896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6668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E1F0F-7EB9-478E-A99A-E57F005E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34640" y="-360"/>
            <a:ext cx="80391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A3638-215F-4442-937B-58C9BDF0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3896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6668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124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3896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6668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DE106-1ECD-4A88-8D93-49C727C1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79974-4A1B-4162-A1C6-9CE21EC6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A9BD3-5294-4149-88DF-B3892D35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34640" y="-360"/>
            <a:ext cx="80391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0303E-4B02-4458-99D1-72842190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566D9-B042-4F1F-BFED-8DA84323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0E992-6C8C-493F-A398-87E527B8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147F7-60EE-489A-BC95-FF0DD1FC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83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003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48240" y="66384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619440" y="66384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434A-C1EB-4293-A1EF-3FF16A271A8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-14400" y="6683040"/>
            <a:ext cx="121464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14324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0" y="0"/>
            <a:ext cx="194328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" descr="PBNA kl"/>
          <p:cNvPicPr/>
          <p:nvPr/>
        </p:nvPicPr>
        <p:blipFill>
          <a:blip r:embed="rId3"/>
          <a:stretch/>
        </p:blipFill>
        <p:spPr>
          <a:xfrm>
            <a:off x="171360" y="181080"/>
            <a:ext cx="162252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987920" y="6485040"/>
            <a:ext cx="8884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|</a:t>
            </a:r>
            <a:r>
              <a:rPr b="1" lang="nl-NL" sz="11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 </a:t>
            </a:r>
            <a:fld id="{A3F48800-A443-4C11-A2D1-A23CA90D194C}" type="slidenum">
              <a:rPr b="1" lang="nl-NL" sz="9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&lt;number&gt;</a:t>
            </a:fld>
            <a:r>
              <a:rPr b="1" lang="nl-NL" sz="11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 </a:t>
            </a:r>
            <a:r>
              <a:rPr b="1" lang="nl-NL" sz="11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|</a:t>
            </a:r>
            <a:r>
              <a:rPr b="1" lang="nl-NL" sz="11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4"/>
          <p:cNvSpPr/>
          <p:nvPr/>
        </p:nvSpPr>
        <p:spPr>
          <a:xfrm>
            <a:off x="-9360" y="954000"/>
            <a:ext cx="9175680" cy="1800"/>
          </a:xfrm>
          <a:prstGeom prst="line">
            <a:avLst/>
          </a:prstGeom>
          <a:ln w="1908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840" y="70920"/>
            <a:ext cx="864396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85840" y="1214280"/>
            <a:ext cx="857232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3"/>
          <p:cNvSpPr/>
          <p:nvPr/>
        </p:nvSpPr>
        <p:spPr>
          <a:xfrm>
            <a:off x="-9360" y="6330960"/>
            <a:ext cx="9144000" cy="1440"/>
          </a:xfrm>
          <a:prstGeom prst="line">
            <a:avLst/>
          </a:prstGeom>
          <a:ln w="1908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jdelijke aanduiding voor voettekst 3"/>
          <p:cNvSpPr/>
          <p:nvPr/>
        </p:nvSpPr>
        <p:spPr>
          <a:xfrm>
            <a:off x="2228760" y="6481800"/>
            <a:ext cx="67723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VOL-VCA versie 4.7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© Koninklijke PBNA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not for general distribution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fbeelding 8" descr=""/>
          <p:cNvPicPr/>
          <p:nvPr/>
        </p:nvPicPr>
        <p:blipFill>
          <a:blip r:embed="rId2"/>
          <a:stretch/>
        </p:blipFill>
        <p:spPr>
          <a:xfrm>
            <a:off x="128520" y="6394320"/>
            <a:ext cx="1366920" cy="36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esign.hsdev.com/main.php?g2_itemId=1733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6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7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28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4.png"/><Relationship Id="rId24" Type="http://schemas.openxmlformats.org/officeDocument/2006/relationships/image" Target="../media/image35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2D0B-BDAE-4D8F-9B5B-B2D1E5864BA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87240" y="2019240"/>
            <a:ext cx="6255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OL-VCA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ersie 4.7 alleen extra she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Veilighe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voor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Operatione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Leidinggev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11240" y="12664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wijzen toezichthoudende taken aan leidinggeven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eigen pers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personeel van andere leidinggeve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bedrijf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di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en van bevoegdheden en 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riftelijk toewijz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02320" indent="-330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én leidinggev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2320" indent="-330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én zelfde t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pers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middelen en w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1159-6CD9-45D2-8469-24D64F43530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1294920" y="22096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effec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hoogde bloeddr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toorde ademh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toorde stofwiss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gere bloedcircu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gere spijsver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p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pannen sp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e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waakzaam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0261-3449-44B8-BFF0-DEBFBE87ABB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762120" y="8748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6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1011240" y="1447920"/>
            <a:ext cx="806760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rootte van het blijvende gehoorverlies is afhankelijk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tale blootstellings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ur van blootst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ur van rustperiode tussen blootstelling (beschadiging in het begin omkeerba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rkte van het lawa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requentiespectrum van het lawaai (hoge tonen schadelijker dan l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inuïteit van het 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84AE-7FA1-4BE4-9567-92DD13AE96B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875880" y="774720"/>
            <a:ext cx="803916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</a:t>
            </a:r>
            <a:r>
              <a:rPr b="1" lang="nl-NL" sz="1600" spc="-1" strike="noStrike">
                <a:solidFill>
                  <a:srgbClr val="860038"/>
                </a:solidFill>
                <a:latin typeface="Arial"/>
              </a:rPr>
              <a:t>VERVOLG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1011240" y="1422360"/>
            <a:ext cx="8067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ellen van twee geluidsbro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erdubbeling van de afstand tot de geluidsbron geeft een vermindering van 6 dB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DDA2-475B-4FCF-9951-A1AF9ADAB628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5" descr=""/>
          <p:cNvPicPr/>
          <p:nvPr/>
        </p:nvPicPr>
        <p:blipFill>
          <a:blip r:embed="rId1"/>
          <a:stretch/>
        </p:blipFill>
        <p:spPr>
          <a:xfrm>
            <a:off x="2195640" y="2295360"/>
            <a:ext cx="4676760" cy="2286000"/>
          </a:xfrm>
          <a:prstGeom prst="rect">
            <a:avLst/>
          </a:prstGeom>
          <a:ln w="0">
            <a:noFill/>
          </a:ln>
        </p:spPr>
      </p:pic>
      <p:sp>
        <p:nvSpPr>
          <p:cNvPr id="116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104480" y="28224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1076400" y="2298240"/>
            <a:ext cx="80676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geluidhinder te voorkomen in volgorde van priorite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veau van de geluidsbron verla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uidsbron afscherm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uidtrillingen demp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gehoorbescher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82AC-C216-4254-861D-68627872B51E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2"/>
          <p:cNvSpPr/>
          <p:nvPr/>
        </p:nvSpPr>
        <p:spPr>
          <a:xfrm>
            <a:off x="939960" y="1020600"/>
            <a:ext cx="803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Verdana"/>
              </a:rPr>
              <a:t>(VERVOLG</a:t>
            </a:r>
            <a:r>
              <a:rPr b="1" lang="nl-NL" sz="1800" spc="-1" strike="noStrike">
                <a:solidFill>
                  <a:srgbClr val="86003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034640" y="187200"/>
            <a:ext cx="8039160" cy="4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1011240" y="2023560"/>
            <a:ext cx="806760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moet tegen geluid de volgende maatregelen nem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35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af 80 dB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gelijkheid tot gehooronderzo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hoorbescherming uitrei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35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af 85 dB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pl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treg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0300-DD26-424A-A4FC-9986CE8CE10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2"/>
          <p:cNvSpPr/>
          <p:nvPr/>
        </p:nvSpPr>
        <p:spPr>
          <a:xfrm>
            <a:off x="939960" y="1384200"/>
            <a:ext cx="803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Verdana"/>
              </a:rPr>
              <a:t>(VERVOL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10396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oorzaken stotende verplaatsingen van het gehele lichaam of gedeelten daar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te van verplaatsing bepaalt he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4C6B-9B58-438E-A45A-9618D57059A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 (vervolg)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920880" y="415260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224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 -   9 Hz: algemeen onwel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3 - 20 Hz: hoofdpij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4 - 14 Hz: buik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C315-9617-4796-AE7A-5121BDBF625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"/>
          <p:cNvSpPr/>
          <p:nvPr/>
        </p:nvSpPr>
        <p:spPr>
          <a:xfrm>
            <a:off x="977760" y="2019240"/>
            <a:ext cx="798840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nd- en armtrillingen bij gebruik handgereedscha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amstrillingen door een voertuig, installatie of bewegend vlo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774360" y="965160"/>
            <a:ext cx="803916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 (vervolg)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011240" y="1498680"/>
            <a:ext cx="8067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chten door hand- en arm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adiging bloedvaten en gewri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oelloze vingertopp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tte vinger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2d2d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chten door lichaam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gkla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gkla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oeid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concentr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oeningen evenwichtsorg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88AE-0DCF-4798-B9D1-F136C23BB74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966960" y="936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AATREGELEN TEGEN BLOOTSTELLING AAN TRIL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1326960" y="2023560"/>
            <a:ext cx="75754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tegen 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acht bij aanschaf machin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brengen van dempers of isol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passen alternatieve technie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erken van blootstellingduu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imaat op de werkplek wordt bepaal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gevingstemperatuu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alingswarm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uchtvochtig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nderlijke luchtbeweg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7113-E5CF-4FF0-88FA-224E8BBC5A6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KLIMAAT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en, zodat we ons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behaaglijk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voel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en optimale prestaties kunnen lev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e factoren bepalen een comfortabel klima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an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fvoer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chtigheid (relatieve luchtvochtigheid 40-6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mper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uchtsnelheid (‘s winters &lt; 0,15 m/s en ‘s zomers &lt; 0,25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097C-B87D-4856-AD6B-47DD06C23E7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03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VAAR VOOR ANDERE PERSONEN ZO VEEL MOGELIJK VOOR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van andere werkge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veranciers goe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oekers, voorbijgangers en omwon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bevoegden, die zich toegang kunnen ver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F35A-FFA3-4ABC-8517-23635EC76E3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hoofddeksel"/>
          <p:cNvPicPr/>
          <p:nvPr/>
        </p:nvPicPr>
        <p:blipFill>
          <a:blip r:embed="rId1"/>
          <a:stretch/>
        </p:blipFill>
        <p:spPr>
          <a:xfrm>
            <a:off x="7440480" y="2514600"/>
            <a:ext cx="1344600" cy="1344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veiligheidspak"/>
          <p:cNvPicPr/>
          <p:nvPr/>
        </p:nvPicPr>
        <p:blipFill>
          <a:blip r:embed="rId2"/>
          <a:stretch/>
        </p:blipFill>
        <p:spPr>
          <a:xfrm>
            <a:off x="7516800" y="4021200"/>
            <a:ext cx="1301760" cy="1307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 txBox="1"/>
          <p:nvPr/>
        </p:nvSpPr>
        <p:spPr>
          <a:xfrm>
            <a:off x="1011240" y="2730600"/>
            <a:ext cx="8067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het werkcomfort te verbeteren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mperatuur behaaglijk en gelijkwaardig en aangepast aan de fysieke inspanning te hou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hinderlijke luchtbeweg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rekken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balans ruimte op peil hou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A76E-4D0E-4678-873D-CAA33790B7A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2"/>
          <p:cNvSpPr/>
          <p:nvPr/>
        </p:nvSpPr>
        <p:spPr>
          <a:xfrm>
            <a:off x="1041480" y="15876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KLIMAAT (vervolg)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RLICH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1066680" y="2286000"/>
            <a:ext cx="745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nemen kleine details vereist hogere verlichtingsster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chtingssterkte in 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mpen gaan minder licht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vervu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verou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en hebben meer licht nodig dan jong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ast niet te groot (verhouding licht : don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5EEF-70A5-4331-9AB8-BD871A4F7B2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04148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RLICH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1011240" y="2235240"/>
            <a:ext cx="8067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verlichting op de werkplek rekening houden 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kleiner de voorwerpen waarmee wordt gewerkt, hoe meer l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e werknemers hebben meer licht nodi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asten mogen niet te groot zij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erspiegeling moet voorkomen wor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uwe lampen geven meer l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tsterkte moet voldoen aan de wetge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6991-D069-4327-B842-9133705165A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041480" y="80460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1027080" y="1338120"/>
            <a:ext cx="7772400" cy="46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 en/of gees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stperiode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rstel spieren/bloedsom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tdurend aanspannen van de spieren belemmert doorbloeding blessures, let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ynamische over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en regelmatig spannen/ontspannen vraagt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ne lichamelijke vermoei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ale over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stelijke sp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druk en persoonlijke capacite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55BF-CAF1-4627-8EA8-ABDBCDEC62C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034640" y="7272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olle werkomstandigheden die lichamelijk klachten veroorzaken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lange duur van de inspann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ngdurig zitten of sta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keerde hou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ootstelling aan trill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rugkerende handel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matige inspa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belasting veroorza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doorbloe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 of kr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ronische vermoeidhe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D666-3AF6-4C3E-82CA-8EC40C7A586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2"/>
          <p:cNvSpPr/>
          <p:nvPr/>
        </p:nvSpPr>
        <p:spPr>
          <a:xfrm>
            <a:off x="1041480" y="86508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034640" y="1548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3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CE18-2EE2-4EF5-AB41-D3A0ACA1F47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ijdelijke aanduiding voor voettekst 2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"/>
          <p:cNvSpPr/>
          <p:nvPr/>
        </p:nvSpPr>
        <p:spPr>
          <a:xfrm>
            <a:off x="914400" y="1587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ynamische belasting is minder slecht dan statische belasting, maar kan toch de volgende gevolgen hebb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oeid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s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ale belasting wordt veroorzaakt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dru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ak versus capacitei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e met collega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ërarchische rel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ysische arbeidsomstandighe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(on)zeker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frastructuur en uitru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2"/>
          <p:cNvSpPr/>
          <p:nvPr/>
        </p:nvSpPr>
        <p:spPr>
          <a:xfrm>
            <a:off x="1041480" y="88884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506F-9C76-4C49-A312-28ACC023FA1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Hijs- en hefwerktu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Hijs- en hefwerktuig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8793-62B8-406B-AAD0-CCEEEB7888B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A273-4A07-464C-B048-FD40C6895CF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3"/>
          <p:cNvSpPr/>
          <p:nvPr/>
        </p:nvSpPr>
        <p:spPr>
          <a:xfrm>
            <a:off x="898560" y="1211400"/>
            <a:ext cx="77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SCHUINE EN PLATTE DAKEN,  GATEN IN VLOEREN EN WA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0" name="Object 4" descr=""/>
          <p:cNvPicPr/>
          <p:nvPr/>
        </p:nvPicPr>
        <p:blipFill>
          <a:blip r:embed="rId1"/>
          <a:stretch/>
        </p:blipFill>
        <p:spPr>
          <a:xfrm>
            <a:off x="4876920" y="2216160"/>
            <a:ext cx="3311280" cy="1303200"/>
          </a:xfrm>
          <a:prstGeom prst="rect">
            <a:avLst/>
          </a:prstGeom>
          <a:ln w="0">
            <a:noFill/>
          </a:ln>
        </p:spPr>
      </p:pic>
      <p:sp>
        <p:nvSpPr>
          <p:cNvPr id="1251" name="Text Box 5"/>
          <p:cNvSpPr/>
          <p:nvPr/>
        </p:nvSpPr>
        <p:spPr>
          <a:xfrm>
            <a:off x="1055520" y="2631960"/>
            <a:ext cx="25016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Risico op 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6"/>
          <p:cNvSpPr/>
          <p:nvPr/>
        </p:nvSpPr>
        <p:spPr>
          <a:xfrm>
            <a:off x="1172520" y="3689280"/>
            <a:ext cx="70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loopplanken (hellend d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individueel veiligheidsha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dakrandbeveiliging of vangnet (plat d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k gaten af met stevig materi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ng markering aan op gevaarlijke plaat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8396-5FDA-4F33-BB8F-25623C8FFE1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Handgereedsch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Handgereedschap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9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AMENWERKENDE WERKGEVER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382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werkgevers gelijktijdig op dezelfde locatie moeten samenwerken om de Arbowet na t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vooraf vastleggen in Arboprojectpl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jze van samen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treffen voorzien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nier van toez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vanuit en naar omgeving en te nemen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7404-9CEF-44C0-9160-FCB8F2708A5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3A5A-FDDA-4859-8B19-419B68D6F69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reedschaps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Gereedschapsmach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2C6D-AE8C-43CB-9E15-A3FC8F2DF7C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7"/>
          <p:cNvSpPr/>
          <p:nvPr/>
        </p:nvSpPr>
        <p:spPr>
          <a:xfrm>
            <a:off x="1222200" y="2476440"/>
            <a:ext cx="6934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Persoonlijke beschermingsmiddel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INDELING NAAR STOF- EN STOFFILTERKLASSE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058400" y="2057040"/>
            <a:ext cx="932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33cc"/>
                </a:solidFill>
                <a:latin typeface="Arial"/>
              </a:rPr>
              <a:t>Stof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33cc"/>
                </a:solidFill>
                <a:latin typeface="Arial"/>
              </a:rPr>
              <a:t>kla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036B-A6F0-4E4D-A963-096E9AFA0E6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2"/>
          <p:cNvSpPr/>
          <p:nvPr/>
        </p:nvSpPr>
        <p:spPr>
          <a:xfrm>
            <a:off x="1143000" y="1981080"/>
            <a:ext cx="7696080" cy="434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5"/>
          <p:cNvSpPr/>
          <p:nvPr/>
        </p:nvSpPr>
        <p:spPr>
          <a:xfrm>
            <a:off x="2057400" y="2057400"/>
            <a:ext cx="342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Omschrij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ert zwevend stof met een gren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 van 10 mg/m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ehal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sb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chadelijke stof met een gren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 van 0,1 tot 10 mg/m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halve asb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iftige stof met een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&lt; 0,1 mg/m3, waaro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sbest, carcinogene stoff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poren, virussen, bacterië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oteolytische enzymen en b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uit aangewezen sto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6"/>
          <p:cNvSpPr/>
          <p:nvPr/>
        </p:nvSpPr>
        <p:spPr>
          <a:xfrm>
            <a:off x="5191200" y="2057400"/>
            <a:ext cx="990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7"/>
          <p:cNvSpPr/>
          <p:nvPr/>
        </p:nvSpPr>
        <p:spPr>
          <a:xfrm>
            <a:off x="6181560" y="2057400"/>
            <a:ext cx="2819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Maxi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concentra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5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nuit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0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alfmask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2 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laatsmask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6 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en samen met vol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laatsmasker inzet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200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8"/>
          <p:cNvSpPr/>
          <p:nvPr/>
        </p:nvSpPr>
        <p:spPr>
          <a:xfrm flipV="1">
            <a:off x="205740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9"/>
          <p:cNvSpPr/>
          <p:nvPr/>
        </p:nvSpPr>
        <p:spPr>
          <a:xfrm flipV="1">
            <a:off x="1125360" y="2514240"/>
            <a:ext cx="77137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0"/>
          <p:cNvSpPr/>
          <p:nvPr/>
        </p:nvSpPr>
        <p:spPr>
          <a:xfrm flipV="1">
            <a:off x="525780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1"/>
          <p:cNvSpPr/>
          <p:nvPr/>
        </p:nvSpPr>
        <p:spPr>
          <a:xfrm flipV="1">
            <a:off x="624852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2"/>
          <p:cNvSpPr/>
          <p:nvPr/>
        </p:nvSpPr>
        <p:spPr>
          <a:xfrm>
            <a:off x="1147680" y="3265560"/>
            <a:ext cx="76914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3"/>
          <p:cNvSpPr/>
          <p:nvPr/>
        </p:nvSpPr>
        <p:spPr>
          <a:xfrm flipV="1">
            <a:off x="1149480" y="4800240"/>
            <a:ext cx="76896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dembesche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13840" y="70920"/>
            <a:ext cx="864396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ersoonlijke beschermingsmiddel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285840" y="1214280"/>
            <a:ext cx="85723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00000"/>
                </a:solidFill>
                <a:latin typeface="Arial"/>
              </a:rPr>
              <a:t>INDELING GASFILTERTY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2"/>
          <p:cNvSpPr/>
          <p:nvPr/>
        </p:nvSpPr>
        <p:spPr>
          <a:xfrm>
            <a:off x="1125360" y="1693800"/>
            <a:ext cx="7010640" cy="434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3"/>
          <p:cNvSpPr/>
          <p:nvPr/>
        </p:nvSpPr>
        <p:spPr>
          <a:xfrm>
            <a:off x="1125360" y="3903840"/>
            <a:ext cx="7010640" cy="38088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6"/>
          <p:cNvSpPr/>
          <p:nvPr/>
        </p:nvSpPr>
        <p:spPr>
          <a:xfrm flipV="1">
            <a:off x="2192400" y="42847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7"/>
          <p:cNvSpPr/>
          <p:nvPr/>
        </p:nvSpPr>
        <p:spPr>
          <a:xfrm flipV="1">
            <a:off x="3411360" y="42847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8"/>
          <p:cNvSpPr/>
          <p:nvPr/>
        </p:nvSpPr>
        <p:spPr>
          <a:xfrm flipV="1">
            <a:off x="2192400" y="16934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9"/>
          <p:cNvSpPr/>
          <p:nvPr/>
        </p:nvSpPr>
        <p:spPr>
          <a:xfrm flipV="1">
            <a:off x="3411360" y="16934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0"/>
          <p:cNvSpPr/>
          <p:nvPr/>
        </p:nvSpPr>
        <p:spPr>
          <a:xfrm>
            <a:off x="1125360" y="55800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Line 11"/>
          <p:cNvSpPr/>
          <p:nvPr/>
        </p:nvSpPr>
        <p:spPr>
          <a:xfrm>
            <a:off x="1125360" y="51228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12"/>
          <p:cNvSpPr/>
          <p:nvPr/>
        </p:nvSpPr>
        <p:spPr>
          <a:xfrm>
            <a:off x="1125360" y="46656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13"/>
          <p:cNvSpPr/>
          <p:nvPr/>
        </p:nvSpPr>
        <p:spPr>
          <a:xfrm>
            <a:off x="1125360" y="344664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14"/>
          <p:cNvSpPr/>
          <p:nvPr/>
        </p:nvSpPr>
        <p:spPr>
          <a:xfrm>
            <a:off x="1125360" y="30654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Line 15"/>
          <p:cNvSpPr/>
          <p:nvPr/>
        </p:nvSpPr>
        <p:spPr>
          <a:xfrm>
            <a:off x="1125360" y="26082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Line 16"/>
          <p:cNvSpPr/>
          <p:nvPr/>
        </p:nvSpPr>
        <p:spPr>
          <a:xfrm>
            <a:off x="1125360" y="21510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20"/>
          <p:cNvSpPr/>
          <p:nvPr/>
        </p:nvSpPr>
        <p:spPr>
          <a:xfrm>
            <a:off x="2190600" y="2141640"/>
            <a:ext cx="1211400" cy="4521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21"/>
          <p:cNvSpPr/>
          <p:nvPr/>
        </p:nvSpPr>
        <p:spPr>
          <a:xfrm>
            <a:off x="2187720" y="2602080"/>
            <a:ext cx="1211040" cy="4521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22"/>
          <p:cNvSpPr/>
          <p:nvPr/>
        </p:nvSpPr>
        <p:spPr>
          <a:xfrm>
            <a:off x="2201760" y="3433680"/>
            <a:ext cx="1211400" cy="452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23"/>
          <p:cNvSpPr/>
          <p:nvPr/>
        </p:nvSpPr>
        <p:spPr>
          <a:xfrm>
            <a:off x="2200320" y="4297320"/>
            <a:ext cx="1211040" cy="35892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24"/>
          <p:cNvSpPr/>
          <p:nvPr/>
        </p:nvSpPr>
        <p:spPr>
          <a:xfrm>
            <a:off x="2195640" y="4676760"/>
            <a:ext cx="1211040" cy="452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25"/>
          <p:cNvSpPr/>
          <p:nvPr/>
        </p:nvSpPr>
        <p:spPr>
          <a:xfrm>
            <a:off x="2195640" y="5114880"/>
            <a:ext cx="1211040" cy="4525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26"/>
          <p:cNvSpPr/>
          <p:nvPr/>
        </p:nvSpPr>
        <p:spPr>
          <a:xfrm>
            <a:off x="2203560" y="5575320"/>
            <a:ext cx="1211040" cy="452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27"/>
          <p:cNvSpPr/>
          <p:nvPr/>
        </p:nvSpPr>
        <p:spPr>
          <a:xfrm>
            <a:off x="2189160" y="3054240"/>
            <a:ext cx="1211400" cy="370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1139760" y="1704960"/>
            <a:ext cx="6934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Type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Kleur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Beschermt te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rui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rganische dampen en oplo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ij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ure gassen, zoals Cl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, H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 en HC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eeece1"/>
                </a:solidFill>
                <a:latin typeface="Arial"/>
                <a:ea typeface="Arial"/>
              </a:rPr>
              <a:t>Ge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waveldi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o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mmoni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peciale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Zwar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oolstofmon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Roo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wik(da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lau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itreuze da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Oranj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actorfilter, radioactief jo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CA7D-3BEB-42A6-90E5-74BB77CFF36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18E7-33E7-461D-9CB0-C8C6BE3AEA5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kstvak 2"/>
          <p:cNvSpPr/>
          <p:nvPr/>
        </p:nvSpPr>
        <p:spPr>
          <a:xfrm>
            <a:off x="1131840" y="992160"/>
            <a:ext cx="5335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het examen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 vragen goed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ies het meest juiste antwo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of je alle vragen goed hebt beantwo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0 vragen waarvan er 21 fout mogen zij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5 minuten de tij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Rectangle 8"/>
          <p:cNvSpPr/>
          <p:nvPr/>
        </p:nvSpPr>
        <p:spPr>
          <a:xfrm>
            <a:off x="993600" y="0"/>
            <a:ext cx="80773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Picture 5" descr=""/>
          <p:cNvPicPr/>
          <p:nvPr/>
        </p:nvPicPr>
        <p:blipFill>
          <a:blip r:embed="rId1"/>
          <a:stretch/>
        </p:blipFill>
        <p:spPr>
          <a:xfrm>
            <a:off x="6110280" y="2120760"/>
            <a:ext cx="2635200" cy="2635560"/>
          </a:xfrm>
          <a:prstGeom prst="rect">
            <a:avLst/>
          </a:prstGeom>
          <a:ln w="0">
            <a:noFill/>
          </a:ln>
        </p:spPr>
      </p:pic>
      <p:sp>
        <p:nvSpPr>
          <p:cNvPr id="1314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6516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- EN UITLENEN VAN PERSONEEL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08000" y="206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m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geeft instruc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zorgt voorlichting en onderri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strekt PB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en gest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geeft aanwijzin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houdt toezi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strekt middel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personen zijn verantwoordelijk voor de naleving va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s leidinggevende vertegenwoordigt u uw werkgever, dus: medeverantwoordel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3033-F121-46B0-92D9-1A91CA4C7D2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EZICHT DOOR INSPECTIE SZW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191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andelijke Werkwijze handhavings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e Fase: Inspectie SZW maakt afspraken om tekortkomingen op te he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e Fase: Afspraak niet nakomen: Officiële waarschu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e Fase: Officiële waarschuwing niet nagekomen: Proces verb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85B5-F567-4D77-B845-0CA056E3099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0378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EZICHT DOOR INSPECTIE SZW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47760" y="1885680"/>
            <a:ext cx="751536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Bij ernstige overtredingen (dus bij direct ernstig gevaar voor </a:t>
            </a:r>
            <a:r>
              <a:rPr b="1" i="1" lang="nl-NL" sz="2400" spc="-1" strike="noStrike">
                <a:solidFill>
                  <a:srgbClr val="ff3300"/>
                </a:solidFill>
                <a:latin typeface="Arial"/>
              </a:rPr>
              <a:t>personen</a:t>
            </a: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willig stilleggen werk en afspraken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heffen tekortkoming voor beginnen me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wil om afspraken te maken of na t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le stillegging werk en opmaken proces-verb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A78C-1A0B-4F54-8AB7-A699423482D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799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DESKUNDIG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270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ne Arbodeskund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entueel externe Arbodeskund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&amp;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zoeken naar geluidsbelasting, klimaat, fysieke belasting en gevaarlijk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iek gezondheidskundig onderz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geleiding van zieke werk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sche keuringen (voor sommige functies verpl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BA5F-41D3-46F4-A429-176781CB032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DE9D-B058-4AB1-B258-9BBF0381002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6198-B97C-460E-BB09-8EA79BA95BD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774800" y="1600200"/>
            <a:ext cx="53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BRONNEN VAN RISIC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hthoek 3"/>
          <p:cNvSpPr/>
          <p:nvPr/>
        </p:nvSpPr>
        <p:spPr>
          <a:xfrm>
            <a:off x="1143000" y="2141640"/>
            <a:ext cx="764532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we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 en erv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plek z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ent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99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99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 = bewust nem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anvaard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ri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6305400" y="1751040"/>
            <a:ext cx="2332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20600" y="1152360"/>
            <a:ext cx="7772400" cy="7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IJSBERG MET VERHOUDING TUSSEN </a:t>
            </a:r>
            <a:br>
              <a:rPr sz="2000"/>
            </a:b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VERSCHILLENDE SOORTEN ONGEVALL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184640" y="2565000"/>
            <a:ext cx="4780080" cy="35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 met dodelijke afloop of zeer ernstig let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 met ernstig letsel met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len met letsel met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bijna) ongevallen met ge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etsel / EHBO zonder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varen als gevolg van onveili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andelingen en/of situa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16D5-115B-47B8-A88D-E8145A06C60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6"/>
          <p:cNvSpPr/>
          <p:nvPr/>
        </p:nvSpPr>
        <p:spPr>
          <a:xfrm>
            <a:off x="1000080" y="3116160"/>
            <a:ext cx="8064720" cy="336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2" descr=""/>
          <p:cNvPicPr/>
          <p:nvPr/>
        </p:nvPicPr>
        <p:blipFill>
          <a:blip r:embed="rId1"/>
          <a:stretch/>
        </p:blipFill>
        <p:spPr>
          <a:xfrm>
            <a:off x="998640" y="6370560"/>
            <a:ext cx="8066160" cy="98640"/>
          </a:xfrm>
          <a:prstGeom prst="rect">
            <a:avLst/>
          </a:prstGeom>
          <a:ln w="0">
            <a:noFill/>
          </a:ln>
        </p:spPr>
      </p:pic>
      <p:sp>
        <p:nvSpPr>
          <p:cNvPr id="191" name="Line 91"/>
          <p:cNvSpPr/>
          <p:nvPr/>
        </p:nvSpPr>
        <p:spPr>
          <a:xfrm>
            <a:off x="1003320" y="3635280"/>
            <a:ext cx="7794720" cy="792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2"/>
          <p:cNvSpPr/>
          <p:nvPr/>
        </p:nvSpPr>
        <p:spPr>
          <a:xfrm>
            <a:off x="1003320" y="4516560"/>
            <a:ext cx="7794720" cy="144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3"/>
          <p:cNvSpPr/>
          <p:nvPr/>
        </p:nvSpPr>
        <p:spPr>
          <a:xfrm>
            <a:off x="1009800" y="5398920"/>
            <a:ext cx="7788240" cy="180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7"/>
          <p:cNvSpPr/>
          <p:nvPr/>
        </p:nvSpPr>
        <p:spPr>
          <a:xfrm>
            <a:off x="1001880" y="1198440"/>
            <a:ext cx="8062920" cy="1974960"/>
          </a:xfrm>
          <a:prstGeom prst="rect">
            <a:avLst/>
          </a:prstGeom>
          <a:gradFill rotWithShape="0">
            <a:gsLst>
              <a:gs pos="0">
                <a:srgbClr val="7dffdd"/>
              </a:gs>
              <a:gs pos="100000">
                <a:srgbClr val="ebff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0"/>
          <p:cNvSpPr/>
          <p:nvPr/>
        </p:nvSpPr>
        <p:spPr>
          <a:xfrm>
            <a:off x="1265400" y="3081240"/>
            <a:ext cx="4036680" cy="2965680"/>
          </a:xfrm>
          <a:custGeom>
            <a:avLst/>
            <a:gdLst>
              <a:gd name="textAreaLeft" fmla="*/ 0 w 4036680"/>
              <a:gd name="textAreaRight" fmla="*/ 4037040 w 4036680"/>
              <a:gd name="textAreaTop" fmla="*/ 0 h 2965680"/>
              <a:gd name="textAreaBottom" fmla="*/ 2966040 h 2965680"/>
            </a:gdLst>
            <a:ahLst/>
            <a:rect l="textAreaLeft" t="textAreaTop" r="textAreaRight" b="textAreaBottom"/>
            <a:pathLst>
              <a:path w="2543" h="1839">
                <a:moveTo>
                  <a:pt x="777" y="0"/>
                </a:moveTo>
                <a:lnTo>
                  <a:pt x="766" y="134"/>
                </a:lnTo>
                <a:lnTo>
                  <a:pt x="869" y="360"/>
                </a:lnTo>
                <a:lnTo>
                  <a:pt x="668" y="427"/>
                </a:lnTo>
                <a:lnTo>
                  <a:pt x="673" y="436"/>
                </a:lnTo>
                <a:lnTo>
                  <a:pt x="683" y="446"/>
                </a:lnTo>
                <a:lnTo>
                  <a:pt x="688" y="460"/>
                </a:lnTo>
                <a:lnTo>
                  <a:pt x="693" y="465"/>
                </a:lnTo>
                <a:lnTo>
                  <a:pt x="693" y="474"/>
                </a:lnTo>
                <a:lnTo>
                  <a:pt x="693" y="484"/>
                </a:lnTo>
                <a:lnTo>
                  <a:pt x="698" y="489"/>
                </a:lnTo>
                <a:lnTo>
                  <a:pt x="698" y="498"/>
                </a:lnTo>
                <a:lnTo>
                  <a:pt x="693" y="507"/>
                </a:lnTo>
                <a:lnTo>
                  <a:pt x="693" y="517"/>
                </a:lnTo>
                <a:lnTo>
                  <a:pt x="688" y="526"/>
                </a:lnTo>
                <a:lnTo>
                  <a:pt x="678" y="550"/>
                </a:lnTo>
                <a:lnTo>
                  <a:pt x="663" y="575"/>
                </a:lnTo>
                <a:lnTo>
                  <a:pt x="627" y="622"/>
                </a:lnTo>
                <a:lnTo>
                  <a:pt x="596" y="665"/>
                </a:lnTo>
                <a:lnTo>
                  <a:pt x="586" y="679"/>
                </a:lnTo>
                <a:lnTo>
                  <a:pt x="586" y="684"/>
                </a:lnTo>
                <a:lnTo>
                  <a:pt x="581" y="684"/>
                </a:lnTo>
                <a:lnTo>
                  <a:pt x="581" y="689"/>
                </a:lnTo>
                <a:lnTo>
                  <a:pt x="576" y="684"/>
                </a:lnTo>
                <a:lnTo>
                  <a:pt x="571" y="684"/>
                </a:lnTo>
                <a:lnTo>
                  <a:pt x="555" y="679"/>
                </a:lnTo>
                <a:lnTo>
                  <a:pt x="545" y="670"/>
                </a:lnTo>
                <a:lnTo>
                  <a:pt x="505" y="641"/>
                </a:lnTo>
                <a:lnTo>
                  <a:pt x="499" y="599"/>
                </a:lnTo>
                <a:lnTo>
                  <a:pt x="489" y="618"/>
                </a:lnTo>
                <a:lnTo>
                  <a:pt x="296" y="823"/>
                </a:lnTo>
                <a:lnTo>
                  <a:pt x="321" y="1100"/>
                </a:lnTo>
                <a:lnTo>
                  <a:pt x="158" y="1204"/>
                </a:lnTo>
                <a:lnTo>
                  <a:pt x="10" y="1467"/>
                </a:lnTo>
                <a:lnTo>
                  <a:pt x="0" y="1620"/>
                </a:lnTo>
                <a:lnTo>
                  <a:pt x="158" y="1700"/>
                </a:lnTo>
                <a:lnTo>
                  <a:pt x="555" y="1839"/>
                </a:lnTo>
                <a:lnTo>
                  <a:pt x="861" y="1811"/>
                </a:lnTo>
                <a:lnTo>
                  <a:pt x="1315" y="1792"/>
                </a:lnTo>
                <a:lnTo>
                  <a:pt x="1478" y="1700"/>
                </a:lnTo>
                <a:lnTo>
                  <a:pt x="1534" y="1768"/>
                </a:lnTo>
                <a:lnTo>
                  <a:pt x="1977" y="1825"/>
                </a:lnTo>
                <a:lnTo>
                  <a:pt x="2166" y="1677"/>
                </a:lnTo>
                <a:lnTo>
                  <a:pt x="2309" y="1743"/>
                </a:lnTo>
                <a:lnTo>
                  <a:pt x="2472" y="1629"/>
                </a:lnTo>
                <a:lnTo>
                  <a:pt x="2543" y="1538"/>
                </a:lnTo>
                <a:lnTo>
                  <a:pt x="2298" y="1195"/>
                </a:lnTo>
                <a:lnTo>
                  <a:pt x="2258" y="1147"/>
                </a:lnTo>
                <a:lnTo>
                  <a:pt x="2196" y="1066"/>
                </a:lnTo>
                <a:lnTo>
                  <a:pt x="2222" y="952"/>
                </a:lnTo>
                <a:lnTo>
                  <a:pt x="2186" y="880"/>
                </a:lnTo>
                <a:lnTo>
                  <a:pt x="2186" y="875"/>
                </a:lnTo>
                <a:lnTo>
                  <a:pt x="2181" y="875"/>
                </a:lnTo>
                <a:lnTo>
                  <a:pt x="2176" y="870"/>
                </a:lnTo>
                <a:lnTo>
                  <a:pt x="2171" y="870"/>
                </a:lnTo>
                <a:lnTo>
                  <a:pt x="2166" y="861"/>
                </a:lnTo>
                <a:lnTo>
                  <a:pt x="2156" y="851"/>
                </a:lnTo>
                <a:lnTo>
                  <a:pt x="2151" y="842"/>
                </a:lnTo>
                <a:lnTo>
                  <a:pt x="2145" y="832"/>
                </a:lnTo>
                <a:lnTo>
                  <a:pt x="2140" y="813"/>
                </a:lnTo>
                <a:lnTo>
                  <a:pt x="2130" y="794"/>
                </a:lnTo>
                <a:lnTo>
                  <a:pt x="2130" y="785"/>
                </a:lnTo>
                <a:lnTo>
                  <a:pt x="2125" y="775"/>
                </a:lnTo>
                <a:lnTo>
                  <a:pt x="2120" y="766"/>
                </a:lnTo>
                <a:lnTo>
                  <a:pt x="2115" y="761"/>
                </a:lnTo>
                <a:lnTo>
                  <a:pt x="2110" y="761"/>
                </a:lnTo>
                <a:lnTo>
                  <a:pt x="2105" y="756"/>
                </a:lnTo>
                <a:lnTo>
                  <a:pt x="2100" y="751"/>
                </a:lnTo>
                <a:lnTo>
                  <a:pt x="2038" y="861"/>
                </a:lnTo>
                <a:lnTo>
                  <a:pt x="1865" y="823"/>
                </a:lnTo>
                <a:lnTo>
                  <a:pt x="1799" y="646"/>
                </a:lnTo>
                <a:lnTo>
                  <a:pt x="1819" y="417"/>
                </a:lnTo>
                <a:lnTo>
                  <a:pt x="1682" y="550"/>
                </a:lnTo>
                <a:lnTo>
                  <a:pt x="1738" y="307"/>
                </a:lnTo>
                <a:lnTo>
                  <a:pt x="1697" y="293"/>
                </a:lnTo>
                <a:lnTo>
                  <a:pt x="1710" y="6"/>
                </a:lnTo>
                <a:lnTo>
                  <a:pt x="777" y="0"/>
                </a:lnTo>
                <a:close/>
              </a:path>
            </a:pathLst>
          </a:custGeom>
          <a:solidFill>
            <a:srgbClr val="b2b2b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8"/>
          <p:cNvSpPr/>
          <p:nvPr/>
        </p:nvSpPr>
        <p:spPr>
          <a:xfrm>
            <a:off x="2058840" y="3357720"/>
            <a:ext cx="671760" cy="955440"/>
          </a:xfrm>
          <a:custGeom>
            <a:avLst/>
            <a:gdLst>
              <a:gd name="textAreaLeft" fmla="*/ 0 w 671760"/>
              <a:gd name="textAreaRight" fmla="*/ 672120 w 671760"/>
              <a:gd name="textAreaTop" fmla="*/ 0 h 955440"/>
              <a:gd name="textAreaBottom" fmla="*/ 955800 h 955440"/>
            </a:gdLst>
            <a:ahLst/>
            <a:rect l="textAreaLeft" t="textAreaTop" r="textAreaRight" b="textAreaBottom"/>
            <a:pathLst>
              <a:path w="83" h="131">
                <a:moveTo>
                  <a:pt x="17" y="128"/>
                </a:moveTo>
                <a:cubicBezTo>
                  <a:pt x="17" y="125"/>
                  <a:pt x="32" y="106"/>
                  <a:pt x="37" y="95"/>
                </a:cubicBezTo>
                <a:cubicBezTo>
                  <a:pt x="43" y="85"/>
                  <a:pt x="71" y="115"/>
                  <a:pt x="71" y="115"/>
                </a:cubicBezTo>
                <a:lnTo>
                  <a:pt x="83" y="38"/>
                </a:lnTo>
                <a:lnTo>
                  <a:pt x="54" y="0"/>
                </a:lnTo>
                <a:lnTo>
                  <a:pt x="54" y="10"/>
                </a:lnTo>
                <a:lnTo>
                  <a:pt x="53" y="49"/>
                </a:lnTo>
                <a:lnTo>
                  <a:pt x="26" y="53"/>
                </a:lnTo>
                <a:lnTo>
                  <a:pt x="0" y="110"/>
                </a:lnTo>
                <a:lnTo>
                  <a:pt x="1" y="119"/>
                </a:lnTo>
                <a:cubicBezTo>
                  <a:pt x="1" y="119"/>
                  <a:pt x="17" y="131"/>
                  <a:pt x="17" y="128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9"/>
          <p:cNvSpPr/>
          <p:nvPr/>
        </p:nvSpPr>
        <p:spPr>
          <a:xfrm>
            <a:off x="2503440" y="3467160"/>
            <a:ext cx="566640" cy="1515960"/>
          </a:xfrm>
          <a:custGeom>
            <a:avLst/>
            <a:gdLst>
              <a:gd name="textAreaLeft" fmla="*/ 0 w 566640"/>
              <a:gd name="textAreaRight" fmla="*/ 567000 w 56664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70" h="208">
                <a:moveTo>
                  <a:pt x="47" y="17"/>
                </a:moveTo>
                <a:lnTo>
                  <a:pt x="47" y="58"/>
                </a:lnTo>
                <a:lnTo>
                  <a:pt x="23" y="99"/>
                </a:lnTo>
                <a:lnTo>
                  <a:pt x="20" y="138"/>
                </a:lnTo>
                <a:lnTo>
                  <a:pt x="0" y="163"/>
                </a:lnTo>
                <a:lnTo>
                  <a:pt x="23" y="208"/>
                </a:lnTo>
                <a:lnTo>
                  <a:pt x="6" y="163"/>
                </a:lnTo>
                <a:lnTo>
                  <a:pt x="31" y="137"/>
                </a:lnTo>
                <a:lnTo>
                  <a:pt x="33" y="102"/>
                </a:lnTo>
                <a:lnTo>
                  <a:pt x="70" y="65"/>
                </a:lnTo>
                <a:lnTo>
                  <a:pt x="55" y="22"/>
                </a:lnTo>
                <a:lnTo>
                  <a:pt x="68" y="0"/>
                </a:lnTo>
                <a:lnTo>
                  <a:pt x="67" y="0"/>
                </a:lnTo>
                <a:lnTo>
                  <a:pt x="47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84"/>
          <p:cNvSpPr/>
          <p:nvPr/>
        </p:nvSpPr>
        <p:spPr>
          <a:xfrm>
            <a:off x="1403280" y="4495680"/>
            <a:ext cx="897120" cy="968400"/>
          </a:xfrm>
          <a:custGeom>
            <a:avLst/>
            <a:gdLst>
              <a:gd name="textAreaLeft" fmla="*/ 0 w 897120"/>
              <a:gd name="textAreaRight" fmla="*/ 897480 w 89712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11" h="133">
                <a:moveTo>
                  <a:pt x="58" y="78"/>
                </a:moveTo>
                <a:lnTo>
                  <a:pt x="46" y="57"/>
                </a:lnTo>
                <a:lnTo>
                  <a:pt x="12" y="79"/>
                </a:lnTo>
                <a:lnTo>
                  <a:pt x="0" y="133"/>
                </a:lnTo>
                <a:lnTo>
                  <a:pt x="63" y="90"/>
                </a:lnTo>
                <a:lnTo>
                  <a:pt x="101" y="87"/>
                </a:lnTo>
                <a:lnTo>
                  <a:pt x="111" y="0"/>
                </a:lnTo>
                <a:cubicBezTo>
                  <a:pt x="111" y="0"/>
                  <a:pt x="86" y="75"/>
                  <a:pt x="86" y="73"/>
                </a:cubicBezTo>
                <a:cubicBezTo>
                  <a:pt x="86" y="71"/>
                  <a:pt x="72" y="29"/>
                  <a:pt x="72" y="29"/>
                </a:cubicBezTo>
                <a:lnTo>
                  <a:pt x="58" y="7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87"/>
          <p:cNvSpPr/>
          <p:nvPr/>
        </p:nvSpPr>
        <p:spPr>
          <a:xfrm>
            <a:off x="2300400" y="4946760"/>
            <a:ext cx="866520" cy="1077840"/>
          </a:xfrm>
          <a:custGeom>
            <a:avLst/>
            <a:gdLst>
              <a:gd name="textAreaLeft" fmla="*/ 0 w 866520"/>
              <a:gd name="textAreaRight" fmla="*/ 866880 w 866520"/>
              <a:gd name="textAreaTop" fmla="*/ 0 h 1077840"/>
              <a:gd name="textAreaBottom" fmla="*/ 1078200 h 1077840"/>
            </a:gdLst>
            <a:ahLst/>
            <a:rect l="textAreaLeft" t="textAreaTop" r="textAreaRight" b="textAreaBottom"/>
            <a:pathLst>
              <a:path w="107" h="148">
                <a:moveTo>
                  <a:pt x="81" y="0"/>
                </a:moveTo>
                <a:lnTo>
                  <a:pt x="39" y="40"/>
                </a:lnTo>
                <a:lnTo>
                  <a:pt x="51" y="71"/>
                </a:lnTo>
                <a:lnTo>
                  <a:pt x="0" y="102"/>
                </a:lnTo>
                <a:lnTo>
                  <a:pt x="3" y="148"/>
                </a:lnTo>
                <a:lnTo>
                  <a:pt x="45" y="143"/>
                </a:lnTo>
                <a:lnTo>
                  <a:pt x="13" y="109"/>
                </a:lnTo>
                <a:lnTo>
                  <a:pt x="58" y="79"/>
                </a:lnTo>
                <a:lnTo>
                  <a:pt x="107" y="50"/>
                </a:lnTo>
                <a:lnTo>
                  <a:pt x="65" y="63"/>
                </a:lnTo>
                <a:lnTo>
                  <a:pt x="51" y="36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89"/>
          <p:cNvSpPr/>
          <p:nvPr/>
        </p:nvSpPr>
        <p:spPr>
          <a:xfrm>
            <a:off x="990720" y="5595840"/>
            <a:ext cx="1157040" cy="57492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143" h="79">
                <a:moveTo>
                  <a:pt x="46" y="0"/>
                </a:moveTo>
                <a:lnTo>
                  <a:pt x="0" y="43"/>
                </a:lnTo>
                <a:lnTo>
                  <a:pt x="42" y="36"/>
                </a:lnTo>
                <a:lnTo>
                  <a:pt x="71" y="79"/>
                </a:lnTo>
                <a:lnTo>
                  <a:pt x="104" y="55"/>
                </a:lnTo>
                <a:lnTo>
                  <a:pt x="143" y="62"/>
                </a:lnTo>
                <a:lnTo>
                  <a:pt x="65" y="33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94"/>
          <p:cNvSpPr/>
          <p:nvPr/>
        </p:nvSpPr>
        <p:spPr>
          <a:xfrm>
            <a:off x="2058840" y="3343320"/>
            <a:ext cx="436680" cy="815760"/>
          </a:xfrm>
          <a:custGeom>
            <a:avLst/>
            <a:gdLst>
              <a:gd name="textAreaLeft" fmla="*/ 0 w 436680"/>
              <a:gd name="textAreaRight" fmla="*/ 437040 w 436680"/>
              <a:gd name="textAreaTop" fmla="*/ 0 h 815760"/>
              <a:gd name="textAreaBottom" fmla="*/ 816120 h 815760"/>
            </a:gdLst>
            <a:ahLst/>
            <a:rect l="textAreaLeft" t="textAreaTop" r="textAreaRight" b="textAreaBottom"/>
            <a:pathLst>
              <a:path w="54" h="112">
                <a:moveTo>
                  <a:pt x="54" y="0"/>
                </a:moveTo>
                <a:lnTo>
                  <a:pt x="53" y="51"/>
                </a:lnTo>
                <a:lnTo>
                  <a:pt x="25" y="55"/>
                </a:lnTo>
                <a:lnTo>
                  <a:pt x="0" y="112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72"/>
          <p:cNvSpPr/>
          <p:nvPr/>
        </p:nvSpPr>
        <p:spPr>
          <a:xfrm>
            <a:off x="2489040" y="1944720"/>
            <a:ext cx="1519560" cy="1274760"/>
          </a:xfrm>
          <a:custGeom>
            <a:avLst/>
            <a:gdLst>
              <a:gd name="textAreaLeft" fmla="*/ 0 w 1519560"/>
              <a:gd name="textAreaRight" fmla="*/ 1519920 w 1519560"/>
              <a:gd name="textAreaTop" fmla="*/ 0 h 1274760"/>
              <a:gd name="textAreaBottom" fmla="*/ 1274760 h 1274760"/>
            </a:gdLst>
            <a:ahLst/>
            <a:rect l="textAreaLeft" t="textAreaTop" r="textAreaRight" b="textAreaBottom"/>
            <a:pathLst>
              <a:path w="957" h="693">
                <a:moveTo>
                  <a:pt x="957" y="693"/>
                </a:moveTo>
                <a:lnTo>
                  <a:pt x="947" y="611"/>
                </a:lnTo>
                <a:lnTo>
                  <a:pt x="947" y="596"/>
                </a:lnTo>
                <a:lnTo>
                  <a:pt x="850" y="554"/>
                </a:lnTo>
                <a:lnTo>
                  <a:pt x="677" y="459"/>
                </a:lnTo>
                <a:lnTo>
                  <a:pt x="728" y="287"/>
                </a:lnTo>
                <a:lnTo>
                  <a:pt x="575" y="206"/>
                </a:lnTo>
                <a:lnTo>
                  <a:pt x="498" y="195"/>
                </a:lnTo>
                <a:lnTo>
                  <a:pt x="504" y="92"/>
                </a:lnTo>
                <a:lnTo>
                  <a:pt x="447" y="0"/>
                </a:lnTo>
                <a:lnTo>
                  <a:pt x="177" y="256"/>
                </a:lnTo>
                <a:lnTo>
                  <a:pt x="198" y="367"/>
                </a:lnTo>
                <a:lnTo>
                  <a:pt x="111" y="558"/>
                </a:lnTo>
                <a:lnTo>
                  <a:pt x="4" y="596"/>
                </a:lnTo>
                <a:lnTo>
                  <a:pt x="4" y="623"/>
                </a:lnTo>
                <a:lnTo>
                  <a:pt x="0" y="687"/>
                </a:lnTo>
                <a:lnTo>
                  <a:pt x="957" y="693"/>
                </a:ln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53"/>
          <p:cNvGrpSpPr/>
          <p:nvPr/>
        </p:nvGrpSpPr>
        <p:grpSpPr>
          <a:xfrm>
            <a:off x="2889360" y="2392200"/>
            <a:ext cx="685800" cy="3324600"/>
            <a:chOff x="2889360" y="2392200"/>
            <a:chExt cx="685800" cy="3324600"/>
          </a:xfrm>
        </p:grpSpPr>
        <p:sp>
          <p:nvSpPr>
            <p:cNvPr id="205" name="Text Box 5"/>
            <p:cNvSpPr/>
            <p:nvPr/>
          </p:nvSpPr>
          <p:spPr>
            <a:xfrm>
              <a:off x="3080160" y="239220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6"/>
            <p:cNvSpPr/>
            <p:nvPr/>
          </p:nvSpPr>
          <p:spPr>
            <a:xfrm>
              <a:off x="2889360" y="32148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2889360" y="391644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2889360" y="46782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2889360" y="54403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Freeform 74"/>
          <p:cNvSpPr/>
          <p:nvPr/>
        </p:nvSpPr>
        <p:spPr>
          <a:xfrm>
            <a:off x="3927600" y="3708360"/>
            <a:ext cx="663480" cy="852480"/>
          </a:xfrm>
          <a:custGeom>
            <a:avLst/>
            <a:gdLst>
              <a:gd name="textAreaLeft" fmla="*/ 0 w 663480"/>
              <a:gd name="textAreaRight" fmla="*/ 663840 w 6634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82" h="117">
                <a:moveTo>
                  <a:pt x="23" y="31"/>
                </a:moveTo>
                <a:lnTo>
                  <a:pt x="19" y="92"/>
                </a:lnTo>
                <a:lnTo>
                  <a:pt x="36" y="109"/>
                </a:lnTo>
                <a:lnTo>
                  <a:pt x="70" y="117"/>
                </a:lnTo>
                <a:lnTo>
                  <a:pt x="82" y="94"/>
                </a:lnTo>
                <a:cubicBezTo>
                  <a:pt x="67" y="89"/>
                  <a:pt x="56" y="88"/>
                  <a:pt x="56" y="88"/>
                </a:cubicBezTo>
                <a:lnTo>
                  <a:pt x="55" y="45"/>
                </a:lnTo>
                <a:lnTo>
                  <a:pt x="56" y="19"/>
                </a:lnTo>
                <a:lnTo>
                  <a:pt x="11" y="0"/>
                </a:lnTo>
                <a:lnTo>
                  <a:pt x="0" y="51"/>
                </a:lnTo>
                <a:lnTo>
                  <a:pt x="23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6"/>
          <p:cNvSpPr/>
          <p:nvPr/>
        </p:nvSpPr>
        <p:spPr>
          <a:xfrm>
            <a:off x="3481560" y="5114880"/>
            <a:ext cx="299880" cy="407880"/>
          </a:xfrm>
          <a:custGeom>
            <a:avLst/>
            <a:gdLst>
              <a:gd name="textAreaLeft" fmla="*/ 0 w 299880"/>
              <a:gd name="textAreaRight" fmla="*/ 300240 w 29988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37" h="56">
                <a:moveTo>
                  <a:pt x="21" y="0"/>
                </a:moveTo>
                <a:lnTo>
                  <a:pt x="0" y="30"/>
                </a:lnTo>
                <a:lnTo>
                  <a:pt x="37" y="56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7"/>
          <p:cNvSpPr/>
          <p:nvPr/>
        </p:nvSpPr>
        <p:spPr>
          <a:xfrm>
            <a:off x="4695840" y="4940280"/>
            <a:ext cx="817560" cy="968400"/>
          </a:xfrm>
          <a:custGeom>
            <a:avLst/>
            <a:gdLst>
              <a:gd name="textAreaLeft" fmla="*/ 0 w 817560"/>
              <a:gd name="textAreaRight" fmla="*/ 817920 w 8175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01" h="133">
                <a:moveTo>
                  <a:pt x="31" y="49"/>
                </a:moveTo>
                <a:lnTo>
                  <a:pt x="0" y="80"/>
                </a:lnTo>
                <a:lnTo>
                  <a:pt x="34" y="96"/>
                </a:lnTo>
                <a:lnTo>
                  <a:pt x="34" y="126"/>
                </a:lnTo>
                <a:lnTo>
                  <a:pt x="101" y="133"/>
                </a:lnTo>
                <a:lnTo>
                  <a:pt x="14" y="0"/>
                </a:lnTo>
                <a:lnTo>
                  <a:pt x="31" y="4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0"/>
          <p:cNvSpPr/>
          <p:nvPr/>
        </p:nvSpPr>
        <p:spPr>
          <a:xfrm>
            <a:off x="3287880" y="3227400"/>
            <a:ext cx="420480" cy="655560"/>
          </a:xfrm>
          <a:custGeom>
            <a:avLst/>
            <a:gdLst>
              <a:gd name="textAreaLeft" fmla="*/ 0 w 420480"/>
              <a:gd name="textAreaRight" fmla="*/ 420840 w 42048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52" h="90">
                <a:moveTo>
                  <a:pt x="22" y="16"/>
                </a:moveTo>
                <a:lnTo>
                  <a:pt x="23" y="40"/>
                </a:lnTo>
                <a:lnTo>
                  <a:pt x="47" y="58"/>
                </a:lnTo>
                <a:lnTo>
                  <a:pt x="30" y="90"/>
                </a:lnTo>
                <a:lnTo>
                  <a:pt x="52" y="59"/>
                </a:lnTo>
                <a:lnTo>
                  <a:pt x="34" y="41"/>
                </a:lnTo>
                <a:lnTo>
                  <a:pt x="30" y="14"/>
                </a:lnTo>
                <a:lnTo>
                  <a:pt x="20" y="0"/>
                </a:lnTo>
                <a:lnTo>
                  <a:pt x="0" y="0"/>
                </a:lnTo>
                <a:lnTo>
                  <a:pt x="2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2"/>
          <p:cNvSpPr/>
          <p:nvPr/>
        </p:nvSpPr>
        <p:spPr>
          <a:xfrm>
            <a:off x="3433680" y="3933720"/>
            <a:ext cx="598680" cy="911160"/>
          </a:xfrm>
          <a:custGeom>
            <a:avLst/>
            <a:gdLst>
              <a:gd name="textAreaLeft" fmla="*/ 0 w 598680"/>
              <a:gd name="textAreaRight" fmla="*/ 599040 w 59868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74" h="125">
                <a:moveTo>
                  <a:pt x="7" y="125"/>
                </a:moveTo>
                <a:lnTo>
                  <a:pt x="0" y="86"/>
                </a:lnTo>
                <a:lnTo>
                  <a:pt x="35" y="70"/>
                </a:lnTo>
                <a:lnTo>
                  <a:pt x="4" y="36"/>
                </a:lnTo>
                <a:lnTo>
                  <a:pt x="6" y="0"/>
                </a:lnTo>
                <a:lnTo>
                  <a:pt x="15" y="30"/>
                </a:lnTo>
                <a:lnTo>
                  <a:pt x="74" y="67"/>
                </a:lnTo>
                <a:lnTo>
                  <a:pt x="20" y="94"/>
                </a:lnTo>
                <a:lnTo>
                  <a:pt x="7" y="1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83"/>
          <p:cNvSpPr/>
          <p:nvPr/>
        </p:nvSpPr>
        <p:spPr>
          <a:xfrm>
            <a:off x="3975120" y="4670280"/>
            <a:ext cx="720720" cy="909720"/>
          </a:xfrm>
          <a:custGeom>
            <a:avLst/>
            <a:gdLst>
              <a:gd name="textAreaLeft" fmla="*/ 0 w 720720"/>
              <a:gd name="textAreaRight" fmla="*/ 721080 w 72072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89" h="125">
                <a:moveTo>
                  <a:pt x="50" y="125"/>
                </a:moveTo>
                <a:lnTo>
                  <a:pt x="58" y="86"/>
                </a:lnTo>
                <a:lnTo>
                  <a:pt x="23" y="70"/>
                </a:lnTo>
                <a:lnTo>
                  <a:pt x="89" y="32"/>
                </a:lnTo>
                <a:lnTo>
                  <a:pt x="52" y="0"/>
                </a:lnTo>
                <a:lnTo>
                  <a:pt x="58" y="29"/>
                </a:lnTo>
                <a:lnTo>
                  <a:pt x="0" y="71"/>
                </a:lnTo>
                <a:lnTo>
                  <a:pt x="70" y="87"/>
                </a:lnTo>
                <a:lnTo>
                  <a:pt x="50" y="1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88"/>
          <p:cNvSpPr/>
          <p:nvPr/>
        </p:nvSpPr>
        <p:spPr>
          <a:xfrm>
            <a:off x="3441600" y="5143680"/>
            <a:ext cx="865440" cy="793440"/>
          </a:xfrm>
          <a:custGeom>
            <a:avLst/>
            <a:gdLst>
              <a:gd name="textAreaLeft" fmla="*/ 0 w 865440"/>
              <a:gd name="textAreaRight" fmla="*/ 865800 w 865440"/>
              <a:gd name="textAreaTop" fmla="*/ 0 h 793440"/>
              <a:gd name="textAreaBottom" fmla="*/ 793800 h 793440"/>
            </a:gdLst>
            <a:ahLst/>
            <a:rect l="textAreaLeft" t="textAreaTop" r="textAreaRight" b="textAreaBottom"/>
            <a:pathLst>
              <a:path w="107" h="109">
                <a:moveTo>
                  <a:pt x="0" y="109"/>
                </a:moveTo>
                <a:lnTo>
                  <a:pt x="34" y="109"/>
                </a:lnTo>
                <a:lnTo>
                  <a:pt x="66" y="88"/>
                </a:lnTo>
                <a:lnTo>
                  <a:pt x="77" y="103"/>
                </a:lnTo>
                <a:lnTo>
                  <a:pt x="107" y="99"/>
                </a:lnTo>
                <a:cubicBezTo>
                  <a:pt x="107" y="99"/>
                  <a:pt x="77" y="81"/>
                  <a:pt x="78" y="73"/>
                </a:cubicBezTo>
                <a:cubicBezTo>
                  <a:pt x="80" y="64"/>
                  <a:pt x="85" y="23"/>
                  <a:pt x="85" y="23"/>
                </a:cubicBezTo>
                <a:lnTo>
                  <a:pt x="48" y="0"/>
                </a:lnTo>
                <a:lnTo>
                  <a:pt x="65" y="31"/>
                </a:lnTo>
                <a:lnTo>
                  <a:pt x="54" y="93"/>
                </a:lnTo>
                <a:lnTo>
                  <a:pt x="33" y="95"/>
                </a:lnTo>
                <a:lnTo>
                  <a:pt x="19" y="97"/>
                </a:lnTo>
                <a:lnTo>
                  <a:pt x="0" y="10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5"/>
          <p:cNvSpPr/>
          <p:nvPr/>
        </p:nvSpPr>
        <p:spPr>
          <a:xfrm>
            <a:off x="3975120" y="3686040"/>
            <a:ext cx="615960" cy="706680"/>
          </a:xfrm>
          <a:custGeom>
            <a:avLst/>
            <a:gdLst>
              <a:gd name="textAreaLeft" fmla="*/ 0 w 615960"/>
              <a:gd name="textAreaRight" fmla="*/ 616320 w 615960"/>
              <a:gd name="textAreaTop" fmla="*/ 0 h 706680"/>
              <a:gd name="textAreaBottom" fmla="*/ 707040 h 706680"/>
            </a:gdLst>
            <a:ahLst/>
            <a:rect l="textAreaLeft" t="textAreaTop" r="textAreaRight" b="textAreaBottom"/>
            <a:pathLst>
              <a:path w="76" h="97">
                <a:moveTo>
                  <a:pt x="0" y="0"/>
                </a:moveTo>
                <a:lnTo>
                  <a:pt x="49" y="22"/>
                </a:lnTo>
                <a:lnTo>
                  <a:pt x="50" y="91"/>
                </a:lnTo>
                <a:lnTo>
                  <a:pt x="76" y="97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8"/>
          <p:cNvSpPr/>
          <p:nvPr/>
        </p:nvSpPr>
        <p:spPr>
          <a:xfrm>
            <a:off x="1000080" y="3154320"/>
            <a:ext cx="806472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EBCF-A6C3-4D3E-9645-6AA2F710D84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22200" y="2476440"/>
            <a:ext cx="6934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347480"/>
            <a:ext cx="7772400" cy="44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 OORZAKEN/GEVOLGENREEK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C4F1-794E-4CA0-B18C-A319463A349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afb2_4"/>
          <p:cNvPicPr/>
          <p:nvPr/>
        </p:nvPicPr>
        <p:blipFill>
          <a:blip r:embed="rId1"/>
          <a:stretch/>
        </p:blipFill>
        <p:spPr>
          <a:xfrm>
            <a:off x="979560" y="2743200"/>
            <a:ext cx="8164440" cy="3743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2"/>
          <a:stretch/>
        </p:blipFill>
        <p:spPr>
          <a:xfrm>
            <a:off x="1384200" y="2989440"/>
            <a:ext cx="6531120" cy="23540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2800440" y="228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562040" y="2541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4419-2998-43AD-B0A9-3D7D134A26B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120672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722040" y="14158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PREVE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966960" y="2278080"/>
            <a:ext cx="56368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/incidenten voorkomen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en va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en van 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v. taak- of werkomschrijving, toez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e en voo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99360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tretch/>
        </p:blipFill>
        <p:spPr>
          <a:xfrm>
            <a:off x="6404040" y="2805120"/>
            <a:ext cx="2495520" cy="37814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11764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OLGEN ONGEVALSTHEORIE</a:t>
            </a:r>
            <a:r>
              <a:rPr b="1" lang="en-US" sz="2400" spc="-1" strike="noStrike">
                <a:solidFill>
                  <a:srgbClr val="860038"/>
                </a:solidFill>
                <a:latin typeface="Arial"/>
                <a:ea typeface="Arial"/>
              </a:rPr>
              <a:t>Ë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N </a:t>
            </a:r>
            <a:br>
              <a:rPr sz="24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OOR ARBOBELE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19160" y="2052360"/>
            <a:ext cx="77724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Jsbergtheorie: rol leidinggevende bij voorkomen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/gevolgenree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vallen/incidenten hebben verscheidene oorz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Conclus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 een structureel Arbo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erin spelen direct leidinggevenden en management een 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E8C2-A621-41A9-9CF2-87B11F79C2E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800440" y="228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8424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AKEN VAN MANAGEMENT BETREFFENDE ARBOBELE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27080" y="2001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uctureren van Arbo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legeren van taken en bevoegdheden (aan leidinggeven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aken direct Leidinggev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en van voorlichting en instru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stematisch rapporteren van (bijna)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geven van gesignaleerde problemen en klachte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0FD4-3062-4717-AA64-A77CEB58243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30320" y="1316160"/>
            <a:ext cx="8067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NGEVALLENONDERZOEK EN -REGISTR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33560" y="209880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en ongevallen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factoren zijn oorzaak ongev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icht op voorkomen ongeva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 melden a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dracht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recte ch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 SZW  (ernstige ongeval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6960" indent="-340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tuatie niet wijz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4BCD-B120-482F-8732-3DBBF85C17D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179360"/>
            <a:ext cx="777240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SPECTEN ONGEVALLENONDERZOE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359000" y="1874520"/>
            <a:ext cx="65577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Onderzoek ter plekke van onge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Bewijsmateriaal bew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Interviewen getuigen/betrokk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Analyse onderzoeksresult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Eindrapport (conclusies/aanbeveli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31CC-A106-4D08-BE71-710BEBDCABA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961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NGEVALLENREGISTR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25360" y="1476000"/>
            <a:ext cx="6274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leggen gegevens voor 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 aan wettelijke e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ongevallen te voork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scheid ongeval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s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ivé-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F13F-A295-41F4-99F8-406940C7EC4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42236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OK REGISTRATIE VAN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689200" y="186984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-incid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/explo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708E-6E82-44CE-AFC0-EAD849462C5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4A52-C9EA-4C75-878D-008F96EC824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kstvak 3"/>
          <p:cNvSpPr/>
          <p:nvPr/>
        </p:nvSpPr>
        <p:spPr>
          <a:xfrm>
            <a:off x="1015920" y="1535040"/>
            <a:ext cx="75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 Risico Analyse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RI&amp;E op projectniv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kstvak 4"/>
          <p:cNvSpPr/>
          <p:nvPr/>
        </p:nvSpPr>
        <p:spPr>
          <a:xfrm>
            <a:off x="928800" y="2054160"/>
            <a:ext cx="79754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 werkvoorberei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e van de geva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uitvoering van risicovolle taken of   bij werken in risicovolle omg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 en de gezondheid van werkne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te analyseren en te evalue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preken van juiste beheers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kstvak 6"/>
          <p:cNvSpPr/>
          <p:nvPr/>
        </p:nvSpPr>
        <p:spPr>
          <a:xfrm>
            <a:off x="3604680" y="9144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TRA en LM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993600" y="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23760" y="82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WIJZE BIJ TAAK - RISICOANALYS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865160" y="1701720"/>
            <a:ext cx="5981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RK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PALEN VAN RI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LIMINEREN OF VERVANGEN VAN HOOG RI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RKVOORBERE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PSTELLEN TAAK - RISICOANALY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OMMUNI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UITVO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FC80-4AED-4C00-AD61-AA9B61EAE03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380960" y="189216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380960" y="247320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380960" y="305424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1380960" y="3635280"/>
            <a:ext cx="6782040" cy="365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1380960" y="4216320"/>
            <a:ext cx="6782040" cy="365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1380960" y="479916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1380960" y="538020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1380960" y="596124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1"/>
          <p:cNvGrpSpPr/>
          <p:nvPr/>
        </p:nvGrpSpPr>
        <p:grpSpPr>
          <a:xfrm>
            <a:off x="3875040" y="2268360"/>
            <a:ext cx="1749600" cy="3664080"/>
            <a:chOff x="3875040" y="2268360"/>
            <a:chExt cx="1749600" cy="3664080"/>
          </a:xfrm>
        </p:grpSpPr>
        <p:sp>
          <p:nvSpPr>
            <p:cNvPr id="290" name="AutoShape 22"/>
            <p:cNvSpPr/>
            <p:nvPr/>
          </p:nvSpPr>
          <p:spPr>
            <a:xfrm>
              <a:off x="3887640" y="2268360"/>
              <a:ext cx="1730520" cy="18288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24"/>
            <p:cNvSpPr/>
            <p:nvPr/>
          </p:nvSpPr>
          <p:spPr>
            <a:xfrm>
              <a:off x="3884760" y="285120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25"/>
            <p:cNvSpPr/>
            <p:nvPr/>
          </p:nvSpPr>
          <p:spPr>
            <a:xfrm>
              <a:off x="3892680" y="342252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26"/>
            <p:cNvSpPr/>
            <p:nvPr/>
          </p:nvSpPr>
          <p:spPr>
            <a:xfrm>
              <a:off x="3887640" y="4011480"/>
              <a:ext cx="173052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27"/>
            <p:cNvSpPr/>
            <p:nvPr/>
          </p:nvSpPr>
          <p:spPr>
            <a:xfrm>
              <a:off x="3892680" y="459108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28"/>
            <p:cNvSpPr/>
            <p:nvPr/>
          </p:nvSpPr>
          <p:spPr>
            <a:xfrm>
              <a:off x="3875040" y="5170320"/>
              <a:ext cx="1730520" cy="18288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29"/>
            <p:cNvSpPr/>
            <p:nvPr/>
          </p:nvSpPr>
          <p:spPr>
            <a:xfrm>
              <a:off x="3894120" y="5749920"/>
              <a:ext cx="173052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4320" y="923760"/>
            <a:ext cx="621972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RONDBEGINSELEN ARBOWE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5920" y="1844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goed mogelij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zij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nadelige invloed vanuit arbeid, an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 bij bron bestr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che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delijkerwijs haal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ganisator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onom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1C6A-2B2C-4D88-AE04-114BBF479AB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365200" y="995040"/>
            <a:ext cx="5911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AJECT RISICOBEHEERS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514160" y="1401840"/>
            <a:ext cx="10666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064B-EAA2-4040-9000-48EEB15A50D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1252440" y="1319040"/>
            <a:ext cx="1579680" cy="53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1162080" y="289872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1173240" y="383688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1149480" y="470376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1157400" y="5977080"/>
            <a:ext cx="182880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045200" y="5653080"/>
            <a:ext cx="167652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4084560" y="5477040"/>
            <a:ext cx="2665440" cy="6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13032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delen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taakstap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1338120" y="306396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heerst 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cedu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1333440" y="4019400"/>
            <a:ext cx="144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p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1351080" y="48578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-analy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4162320" y="5502240"/>
            <a:ext cx="2535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mmunicatie van risico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n beheersmaatrege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1141560" y="5986440"/>
            <a:ext cx="183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eroverwe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7002360" y="5654520"/>
            <a:ext cx="177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Uitvo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9"/>
          <p:cNvSpPr/>
          <p:nvPr/>
        </p:nvSpPr>
        <p:spPr>
          <a:xfrm>
            <a:off x="2862360" y="47689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’s beheers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0"/>
          <p:cNvSpPr/>
          <p:nvPr/>
        </p:nvSpPr>
        <p:spPr>
          <a:xfrm>
            <a:off x="2862360" y="3889440"/>
            <a:ext cx="622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1"/>
          <p:cNvSpPr/>
          <p:nvPr/>
        </p:nvSpPr>
        <p:spPr>
          <a:xfrm>
            <a:off x="2897280" y="29624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2"/>
          <p:cNvSpPr/>
          <p:nvPr/>
        </p:nvSpPr>
        <p:spPr>
          <a:xfrm>
            <a:off x="2089080" y="35686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2100240" y="4470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9"/>
          <p:cNvSpPr/>
          <p:nvPr/>
        </p:nvSpPr>
        <p:spPr>
          <a:xfrm>
            <a:off x="1098720" y="5560920"/>
            <a:ext cx="221904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’s  niet beheers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0"/>
          <p:cNvSpPr/>
          <p:nvPr/>
        </p:nvSpPr>
        <p:spPr>
          <a:xfrm>
            <a:off x="6762600" y="581832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1"/>
          <p:cNvSpPr/>
          <p:nvPr/>
        </p:nvSpPr>
        <p:spPr>
          <a:xfrm flipH="1">
            <a:off x="5306760" y="3262320"/>
            <a:ext cx="11160" cy="2225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3"/>
          <p:cNvSpPr/>
          <p:nvPr/>
        </p:nvSpPr>
        <p:spPr>
          <a:xfrm>
            <a:off x="2879640" y="3241800"/>
            <a:ext cx="2438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4"/>
          <p:cNvSpPr/>
          <p:nvPr/>
        </p:nvSpPr>
        <p:spPr>
          <a:xfrm>
            <a:off x="2867040" y="418140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5"/>
          <p:cNvSpPr/>
          <p:nvPr/>
        </p:nvSpPr>
        <p:spPr>
          <a:xfrm>
            <a:off x="2890800" y="504504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7"/>
          <p:cNvSpPr/>
          <p:nvPr/>
        </p:nvSpPr>
        <p:spPr>
          <a:xfrm>
            <a:off x="1917720" y="5853240"/>
            <a:ext cx="130320" cy="17784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9"/>
          <p:cNvSpPr/>
          <p:nvPr/>
        </p:nvSpPr>
        <p:spPr>
          <a:xfrm>
            <a:off x="1251000" y="2089080"/>
            <a:ext cx="1579680" cy="530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0"/>
          <p:cNvSpPr/>
          <p:nvPr/>
        </p:nvSpPr>
        <p:spPr>
          <a:xfrm flipV="1">
            <a:off x="1990800" y="5783400"/>
            <a:ext cx="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2"/>
          <p:cNvGrpSpPr/>
          <p:nvPr/>
        </p:nvGrpSpPr>
        <p:grpSpPr>
          <a:xfrm>
            <a:off x="1976400" y="1780920"/>
            <a:ext cx="141120" cy="352800"/>
            <a:chOff x="1976400" y="1780920"/>
            <a:chExt cx="141120" cy="352800"/>
          </a:xfrm>
        </p:grpSpPr>
        <p:sp>
          <p:nvSpPr>
            <p:cNvPr id="331" name="AutoShape 44"/>
            <p:cNvSpPr/>
            <p:nvPr/>
          </p:nvSpPr>
          <p:spPr>
            <a:xfrm>
              <a:off x="1976400" y="195624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51"/>
            <p:cNvSpPr/>
            <p:nvPr/>
          </p:nvSpPr>
          <p:spPr>
            <a:xfrm flipV="1">
              <a:off x="2049480" y="178092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53"/>
          <p:cNvGrpSpPr/>
          <p:nvPr/>
        </p:nvGrpSpPr>
        <p:grpSpPr>
          <a:xfrm>
            <a:off x="1973160" y="2622240"/>
            <a:ext cx="141120" cy="352800"/>
            <a:chOff x="1973160" y="2622240"/>
            <a:chExt cx="141120" cy="352800"/>
          </a:xfrm>
        </p:grpSpPr>
        <p:sp>
          <p:nvSpPr>
            <p:cNvPr id="334" name="AutoShape 54"/>
            <p:cNvSpPr/>
            <p:nvPr/>
          </p:nvSpPr>
          <p:spPr>
            <a:xfrm>
              <a:off x="1973160" y="279756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55"/>
            <p:cNvSpPr/>
            <p:nvPr/>
          </p:nvSpPr>
          <p:spPr>
            <a:xfrm flipV="1">
              <a:off x="2046240" y="262224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56"/>
          <p:cNvGrpSpPr/>
          <p:nvPr/>
        </p:nvGrpSpPr>
        <p:grpSpPr>
          <a:xfrm>
            <a:off x="1962000" y="3549240"/>
            <a:ext cx="141120" cy="352800"/>
            <a:chOff x="1962000" y="3549240"/>
            <a:chExt cx="141120" cy="352800"/>
          </a:xfrm>
        </p:grpSpPr>
        <p:sp>
          <p:nvSpPr>
            <p:cNvPr id="337" name="AutoShape 57"/>
            <p:cNvSpPr/>
            <p:nvPr/>
          </p:nvSpPr>
          <p:spPr>
            <a:xfrm>
              <a:off x="1962000" y="372456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58"/>
            <p:cNvSpPr/>
            <p:nvPr/>
          </p:nvSpPr>
          <p:spPr>
            <a:xfrm flipV="1">
              <a:off x="2035080" y="354924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59"/>
          <p:cNvGrpSpPr/>
          <p:nvPr/>
        </p:nvGrpSpPr>
        <p:grpSpPr>
          <a:xfrm>
            <a:off x="1962000" y="4462200"/>
            <a:ext cx="141120" cy="352800"/>
            <a:chOff x="1962000" y="4462200"/>
            <a:chExt cx="141120" cy="352800"/>
          </a:xfrm>
        </p:grpSpPr>
        <p:sp>
          <p:nvSpPr>
            <p:cNvPr id="340" name="AutoShape 60"/>
            <p:cNvSpPr/>
            <p:nvPr/>
          </p:nvSpPr>
          <p:spPr>
            <a:xfrm>
              <a:off x="1962000" y="463752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61"/>
            <p:cNvSpPr/>
            <p:nvPr/>
          </p:nvSpPr>
          <p:spPr>
            <a:xfrm flipV="1">
              <a:off x="2035080" y="446220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Line 62"/>
          <p:cNvSpPr/>
          <p:nvPr/>
        </p:nvSpPr>
        <p:spPr>
          <a:xfrm>
            <a:off x="2001960" y="5391000"/>
            <a:ext cx="0" cy="19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AAAC-7BFA-4D5F-8C57-0CF460FE93F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kstvak 4"/>
          <p:cNvSpPr/>
          <p:nvPr/>
        </p:nvSpPr>
        <p:spPr>
          <a:xfrm>
            <a:off x="1015920" y="2147760"/>
            <a:ext cx="60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 (LM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kstvak 6"/>
          <p:cNvSpPr/>
          <p:nvPr/>
        </p:nvSpPr>
        <p:spPr>
          <a:xfrm>
            <a:off x="863640" y="3005280"/>
            <a:ext cx="52135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LMRA  of Start Werk Analy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voeren voor je echt aan het werk g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rte risico controle en “zelf che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rst denken dan pas do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993600" y="0"/>
            <a:ext cx="8077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kstvak 6"/>
          <p:cNvSpPr/>
          <p:nvPr/>
        </p:nvSpPr>
        <p:spPr>
          <a:xfrm>
            <a:off x="3604680" y="9144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TRA en LM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7760" y="8316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LINE SAFETY MEE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30320" y="1490400"/>
            <a:ext cx="79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spreken van risico’s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óó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 aanvang van he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kick-off 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gehele werk (risico’s, beheersmaatregelen, interac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rtwerk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 leidinggevenden, gericht op komende werk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hiftoverdr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ploegendien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werkpl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v. toolbox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C620-4202-4F00-A313-10373EE6CB4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223880" y="2265480"/>
            <a:ext cx="403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ïnvloeding van gedr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5189-9A81-4222-ACFC-97AF161E611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afb3_1"/>
          <p:cNvPicPr/>
          <p:nvPr/>
        </p:nvPicPr>
        <p:blipFill>
          <a:blip r:embed="rId1"/>
          <a:stretch/>
        </p:blipFill>
        <p:spPr>
          <a:xfrm>
            <a:off x="993600" y="1144440"/>
            <a:ext cx="8150400" cy="53625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900000" y="1144440"/>
            <a:ext cx="77724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CHEMATISCHE VOORSTELLING VAN DE VIER STRATEGIE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638360" y="234144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4 strategieë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1427040" y="3273480"/>
            <a:ext cx="2740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eaeaea"/>
                </a:solidFill>
                <a:latin typeface="Arial"/>
              </a:rPr>
              <a:t>M.b.t. veilig wer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1857240" y="3665520"/>
            <a:ext cx="6865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Benadruk succes van veilig ge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Verminder nadelen van veilig ge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1413000" y="4827600"/>
            <a:ext cx="29718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eaeaea"/>
                </a:solidFill>
                <a:latin typeface="Arial"/>
              </a:rPr>
              <a:t>M.b.t. </a:t>
            </a:r>
            <a:r>
              <a:rPr b="1" lang="nl-NL" sz="1600" spc="-1" strike="noStrike">
                <a:solidFill>
                  <a:srgbClr val="eaeaea"/>
                </a:solidFill>
                <a:latin typeface="Arial"/>
              </a:rPr>
              <a:t>onveilig wer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1857240" y="5219640"/>
            <a:ext cx="6865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 Verduidelijk gevolgen van onveilig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Bemoeilijk mogelijkheden van onveilig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REGELS EN PROCEDURE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3824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 = richtlijn voor gedrag en han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cedure = chronologisch stappenplan met acties/ handelingen en beslismoment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sequent, Veilig en Efficiënt uit te 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reven in handboeken, beschikbaar voor ieder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andeld in voorlichting en Instructieprogramma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6140-FAB4-4402-94CC-6CC9B36BFE7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3824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gehele organis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gen pers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ff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/afm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keersre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 ongeval, brand en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te handelen bij alarm en evacu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 een werkvergunning vereis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7125-1CAE-4421-ABF9-6D9FA35A30B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2120" y="1133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11240" y="1677600"/>
            <a:ext cx="8067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taken, functies en werkzaamheden m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ogd ri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ff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aanvullende 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bijzonder(e) gereedschap/apparatuur en werktu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atsen afscherming, markering en gebruik beveilig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C860-141B-45F0-A750-5E1D48DEAFE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74720" y="1270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OEL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11240" y="2292120"/>
            <a:ext cx="8067600" cy="27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reiden op nood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cidenten bestr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chtoffers voorkomen en bep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chtoffers hel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nemers maar ook bezoekers moeten op de hoogte zij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E7B4-98C9-4F45-AAE6-5D11A0077C4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77760" y="7488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INHOUD BEDRIJFSHULPVERLENINGSPLAN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11240" y="1928880"/>
            <a:ext cx="806760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en voorzieningen om de effecten van een calamiteit te minimaliseren en te bestrij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asis van ingeschatte calamiteiten c.q. incid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soort incid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v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wezig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63D7-AB02-4BE5-A522-070D9B61A1E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77760" y="7488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HOUD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96400" y="1654200"/>
            <a:ext cx="806796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drijfsnoodplan om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ttegro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mid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a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efen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lpmid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rste hul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gnemen oorza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 hulpdiens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het plan kan ook het aanvalsplan zijn toegevoe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00DD-83FF-48CA-990A-1E028A984AD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625D-9F2C-4684-98BF-09CDEDDA101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289160" y="228600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99360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351080" y="1047600"/>
            <a:ext cx="72342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voorschri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beslui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lic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lpmiddel bij overheidstoezicht en – hand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catalogus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werkgever 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opgest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che brochur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e va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pectie SZW*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se regelgeving is opgenomen in nationale wet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 Voorheen Arbeidsinspe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57160" y="11998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DRIJFSHULPVERLENINGSORGANIS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85720" y="1810800"/>
            <a:ext cx="6802200" cy="45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bedrijfshulpverleningsorganis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antwoordelijkheden van iedere fun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tstandkoming/inrichting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waarschuwings- en alarmerings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uele alarmeringslij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armerings- en Communicatiesyst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F5A2-7430-4F16-87C6-91CFFDD8D40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9224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VULLING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50840" y="1574280"/>
            <a:ext cx="7772400" cy="24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bedrijfshulpverlening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et in ieder organisatie geregeld en gewaarborgd z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HV-ers moeten voldoende opgeleid z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is een vastgesteld takenpak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8363-D9F7-43E2-B574-18D41908BD6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5"/>
          <p:cNvSpPr/>
          <p:nvPr/>
        </p:nvSpPr>
        <p:spPr>
          <a:xfrm>
            <a:off x="1084320" y="3267000"/>
            <a:ext cx="7454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van de BHV-er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lenen eerste hul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trijden beginnende bra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acu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municatie met hulpdiens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vent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1544760" y="5315040"/>
            <a:ext cx="6761160" cy="1326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Elke leidinggevende moet op de hoogte zijn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de alarmeringsprocedures en zijn/haar tak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tijdens een calam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23960" y="1171440"/>
            <a:ext cx="5105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FAS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70000" y="2224080"/>
            <a:ext cx="73548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rste melding/antw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ssering van incident bekend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ingen/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oppen met werken, telefoon niet gebrui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schakelen 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r verzamelplaats en melden bij coö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ëindiging incident en sporen oorzaak incident veilig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0694-E65C-4656-A4D6-CEA7EE67DB8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vluchtroute"/>
          <p:cNvPicPr/>
          <p:nvPr/>
        </p:nvPicPr>
        <p:blipFill>
          <a:blip r:embed="rId1"/>
          <a:stretch/>
        </p:blipFill>
        <p:spPr>
          <a:xfrm>
            <a:off x="6248520" y="1190520"/>
            <a:ext cx="2114280" cy="113040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9200" y="1123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PLEIDING, OEFENING, HERHAL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90080" y="2147400"/>
            <a:ext cx="735516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dig voor testen van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medewerkers en BHV-ers voor te bereiden op inciden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efeningen/herhaling van bedrijfshulpverleningsplan/gemeentelijke rampenbestrijdingsplan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combin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n minste eenmaal per jaar een ontruimings-oef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14E6-7AD6-4D73-9F30-83D096B69EA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brandblusser"/>
          <p:cNvPicPr/>
          <p:nvPr/>
        </p:nvPicPr>
        <p:blipFill>
          <a:blip r:embed="rId1"/>
          <a:stretch/>
        </p:blipFill>
        <p:spPr>
          <a:xfrm>
            <a:off x="7257960" y="3386160"/>
            <a:ext cx="1447920" cy="144144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6"/>
          <p:cNvSpPr/>
          <p:nvPr/>
        </p:nvSpPr>
        <p:spPr>
          <a:xfrm>
            <a:off x="1562040" y="2541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81200" y="10857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DRIJFSHULPVERLE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011240" y="1992240"/>
            <a:ext cx="8067600" cy="47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verplich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elk bedrijf voldoende bedrijfshulpverlener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hulpverlening geregeld hebben met bv. buurbedrij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 op basis van RI&amp;E wordt invulling BHV-organisatie bepa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van deskundigheid BHV-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ruimingsoefening ten minste eenm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3720-4972-4D74-AE14-7E9F36CBD75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4" descr="ehbo"/>
          <p:cNvPicPr/>
          <p:nvPr/>
        </p:nvPicPr>
        <p:blipFill>
          <a:blip r:embed="rId1"/>
          <a:stretch/>
        </p:blipFill>
        <p:spPr>
          <a:xfrm>
            <a:off x="7189920" y="4378320"/>
            <a:ext cx="1542960" cy="1549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050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 DOOR LEIDINGGEV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011240" y="198396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 leidinggevenden belangrijk voor de veil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houders/directe chef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bben informatie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dewe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eidspro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eidsomstandigh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alen hoe werk moet worden uitgevoe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EBA0-76E3-47ED-AAB3-CB1D1D16D90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801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 DOOR LEIDINGGEV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038240" y="145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ddelen, Mogelijkheden en Ment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gevende heeft voorbeeldfun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bevorderen door goede motiv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oordeel objectief en geef uw mening aan betreffende per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 iemand in zijn waarde als mens/vakman bij corre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l niet alleen hoe maar ook waa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34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39AB-4B2D-430D-A5D7-0BCFB366641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009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SOBSERVATIE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328760" y="1779480"/>
            <a:ext cx="7267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leidinggevenden (objecti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icht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gen veiligheidsbewustzijn 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gevenden komen op 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ijgen inzicht in de werkplek en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k jaarplan observ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05A0-2686-4B6D-AA5F-D492ED44A44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828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CA** EN VCA*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076400" y="1447560"/>
            <a:ext cx="8067600" cy="48942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**</a:t>
            </a:r>
            <a:r>
              <a:rPr b="0" lang="nl-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Algemene goedkeu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oor bedrijven met 35 of meer medewerkers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aanne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- Beperkte goedkeuring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voor bedrijven met minder dan 35 werkne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 petrochemie  - aanvullende eisen op VCA**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voor bedrijven die risicovolle werkzaamheden in de                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petrochemische industrie uitvoe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U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goedkeuring voor detachering- en uitzendbure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voor opdrachtgevers van VCA-/VCU gecertificeerd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bedrij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91B1-E77B-4BAD-B788-94A73488B5F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27000" y="755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OLBOX/LINE SAFETY MEE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203480" y="1415880"/>
            <a:ext cx="6959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e vergadering over veiligheid in informele sf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 met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veren van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voor een goede VGM-bijeenkom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idelijke vastgelegde afspra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ts of de boodschappen zijn begre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0AD4-AF61-48C9-BA30-AB4DA66199C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203B-B7DF-42E0-9673-F499592EB46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vak 4"/>
          <p:cNvSpPr/>
          <p:nvPr/>
        </p:nvSpPr>
        <p:spPr>
          <a:xfrm>
            <a:off x="1020600" y="2054160"/>
            <a:ext cx="785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voor werk en rusttij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imale werktijd per dag en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uren werken en hoeveel uren 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werknemer zijn zorgtaken in gez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1444680" y="1019160"/>
            <a:ext cx="62197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EIDSTIJDEN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BDAC-618D-437C-9C39-0A596E37858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96960" y="1273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XICOLOG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14300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87480" indent="-18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xicologie = de leer van de inwerking van schadelijke stoffen op levende we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xicitei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= giftigheid (eigenschap van een sto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iftig voor alle levende organis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ividuele gevoelighe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elke so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nnen elke so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A8A1-0A7A-46C7-B9A2-9ECA7133B4E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04480" y="762120"/>
            <a:ext cx="8039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vaarlijke stoffen en leidinggeven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eidinggevende maakt en houdt de medewerker bewust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geva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 hygië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voorkomen van risico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risico’s te bep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 de br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e, collectieve en organisatoris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9CC8-8F58-41DA-8B8D-181C4098FE2C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kstvak 5"/>
          <p:cNvSpPr/>
          <p:nvPr/>
        </p:nvSpPr>
        <p:spPr>
          <a:xfrm>
            <a:off x="7518240" y="6396120"/>
            <a:ext cx="11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Calibri"/>
              </a:rPr>
              <a:t>Blz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YSTEEMWERK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009800" y="2018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 in bloed heeft effect op bepaalde organen, bijvoorbeeld aantasting door oplos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nuwstels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ver/n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elvera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felijke eigenschappen (muta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 voor ongeboren kind (terato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kerverwekkend (carcino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diverse stoffen zijn niet alle eigenschappen be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0486-8E8E-4267-BD49-5EFC619FD8D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98400" y="1297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CONTACTWERK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009800" y="204804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ing van stof op huid, ogen, slijmvliezen, neus/keel en luchtw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en te lange blootstelling of allergisch zijn voor 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z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oening luchtw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D9E4-38D3-41F3-8DBB-7C39CA6DBD1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09600" y="1015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PECIFIEK OF ASPECIFIEK EFFEC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076400" y="2265120"/>
            <a:ext cx="806760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effecten kunnen worden veroorzaakt door één stof (asbest/kan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pecifieke effecten kunnen worden veroorzaakt d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eidene stoffen (schoonmaakmiddelen/sufhe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48DB-E76F-430B-89BE-1E183974E6B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54080" y="707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SBES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09800" y="1714680"/>
            <a:ext cx="77724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best veroorzaakt ernstige gezondheidsaandoen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ose (incubatietijd 15-25 jaa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longkank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sotheli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bepalingen bij asbes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ventarisatie van aanwezige asbest verplic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nieuw toepassen en verwerken van asbest is verbo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houdend afval schei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wezig asbest lab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werkzaamheden met asbest melden aan de Inspectie SZ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F6AC-D0B6-4D5E-BEF0-21CBAADD615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77840" y="982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LAATSEN  WAAR ASBEST ANGETROFFEN KAN WORD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266480" y="1579320"/>
            <a:ext cx="65660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warmte-isolat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flenzen en afdicht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werende construc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fornuiz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solatie in elektrische apparatuu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werende deke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mvoer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oo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afdichtingmateri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k- en wandbepla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rbedek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5D5B-FAA4-474F-AB77-7EE4513663A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2" descr="Asbestwaarschuw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78800" y="1905120"/>
            <a:ext cx="212544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47800" y="1123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TTELIJKE BEPA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299960" y="1814400"/>
            <a:ext cx="74372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- en bewerken asbest verbo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oepsmatig omgaan asbest all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slopen/verwijd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houd/repa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stelling/ontheff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O procescertifica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TA =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 toezichthouder asbestverwij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6F78-80AE-4C1A-9D47-161B5ADF2B6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04480" y="758880"/>
            <a:ext cx="8039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HOE TE HANDELEN, WANNEER MATERIAAL “ASBESTVERDACHT” I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00080" y="158760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nster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emen door onafhankelijk laborato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zaamheden alleen door deskundig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 toezichthouder (D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O-procescertificaat asbest verwijderen voor aan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dewerkers asbestsaneringswerkzaamheden volgens schriftelijk plan oplei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lk werk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meld bij Inspectie SZ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plan aanwez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TA aanwez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9C72-B3EF-4E98-B36C-0044C26106B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160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LEID VOEREN IS STRUCTURELE AANPAK</a:t>
            </a:r>
            <a:br>
              <a:rPr sz="2000"/>
            </a:br>
            <a:r>
              <a:rPr b="0" lang="nl-NL" sz="2800" spc="-1" strike="noStrike">
                <a:solidFill>
                  <a:srgbClr val="860038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ff3300"/>
                </a:solidFill>
                <a:latin typeface="Arial"/>
              </a:rPr>
              <a:t>Verplicht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oor elke onderneming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360" y="2447640"/>
            <a:ext cx="81262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risico’s te vermi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 realiseren, Plan van Aanp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kteverzuim beleid 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antwoordelijkheden en bevoegdheden vastleg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 toetsen en aanp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A3A2-83C2-4BD3-BFB2-10D625235B8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77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1011240" y="2046240"/>
            <a:ext cx="80676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urcodering op schouder van cil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rrect opsl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de ventilatie van opslagruim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opslaan in of bij kelders,putten en sleu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flessen gescheiden houden van flessen met brandbare g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paste blusmidd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 als koelmiddel bij opslagruim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00EF-8010-4883-BF34-2AABA1D7278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71640" y="1177920"/>
            <a:ext cx="803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DUSTRIËLE GASCILI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46320" y="742680"/>
            <a:ext cx="52308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925560" y="1863720"/>
            <a:ext cx="815328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opslagvaten en tanks regelmatig op lek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bedrijfsinstallaties zoals leidingen, filters, afsluiters en verdeelstukken op lekk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voldoende lekbak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ekte producten zo snel mogelijk oprui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9BDC-4785-447C-9C79-20FABECD210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34640" y="15516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23400" y="2412720"/>
            <a:ext cx="806796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het werken met biologische agentia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mogelijke eerst de bronaanp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regels voor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enge hygiënische voorschrif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en onderr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en informatie over mogelijke gevol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legion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6A68-AE89-4AFE-A6F0-27066B35FBF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1123920"/>
            <a:ext cx="7696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 BIJ BIOLOGISCH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43000" y="933120"/>
            <a:ext cx="769608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 BIJ BIOLOGISCHE STOFF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27B7-47E7-4A0B-93D8-AD13F7791C9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kstvak 4"/>
          <p:cNvSpPr/>
          <p:nvPr/>
        </p:nvSpPr>
        <p:spPr>
          <a:xfrm>
            <a:off x="985680" y="1974960"/>
            <a:ext cx="8158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en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ootgestelde werknemers beper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ur blootstelling beper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de kleding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dcrème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gbescherming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het werk en bij pauze de handen en gezicht w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076400" y="885960"/>
            <a:ext cx="806760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tende stoffen tasten bij contact je huid, ogen, longen en kleding 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rriterende stoffen kunnen ontstekingen aan je huid en slijmvliezen veroorza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sen, kleurmiddelen, sommige verven, metaalbehandelings- middelen kunnen een gevoelige huid veroorzaken en heftige allergische reacties oproe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fk’s en bepaalde pesticiden zijn gevaarlijk voor mens, dier en mili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E3FF-D20B-40E6-BFCA-22E1E100ECB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36AD-4816-4DA1-84F9-938E6D08181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hthoek 3"/>
          <p:cNvSpPr/>
          <p:nvPr/>
        </p:nvSpPr>
        <p:spPr>
          <a:xfrm>
            <a:off x="1143000" y="2610000"/>
            <a:ext cx="7518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het werken met gevaarlijke stoffen moet de leidinggevende extra toezicht houden. Hij let daarbij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de en nethei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nigingen gereedschap en andere middel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voeren af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itel 1"/>
          <p:cNvSpPr/>
          <p:nvPr/>
        </p:nvSpPr>
        <p:spPr>
          <a:xfrm>
            <a:off x="1054080" y="990720"/>
            <a:ext cx="74674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 ROL VAN DE LEIDINGGEV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34640" y="2196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011240" y="1526760"/>
            <a:ext cx="806760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oniserende stra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noeg energie om bestraalde materiaal te verand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sterkte, dosis en blootstelling schadelijk voor mens en omg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v. geneeskunde, kerncentrales, meet/detectieapparatuur, aardgaswinning en ertsverwe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-ioniserende stra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van invloed op materiaalstruc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ge dosis / langdurige blootstelling wel schadelijk (lets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v. zonlicht, ultraviolet/infrarood straling, laserstralen, radio- of microgol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F285-15CE-4DAE-8F0E-E77CC3CD58E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990720" y="85104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038240" y="206640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 van radioactieve straling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“Je hoort, ziet, voelt en ruikt nie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 nummer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ver mogelijk er vandaan (de stralingssterkte neemt af met het kwadraat van de afstand)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fstand 4 x groter          stralingsdosis 16 x kle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BFFD-5A3D-4D93-A07E-C129DAFCA79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radioactief"/>
          <p:cNvPicPr/>
          <p:nvPr/>
        </p:nvPicPr>
        <p:blipFill>
          <a:blip r:embed="rId1"/>
          <a:stretch/>
        </p:blipFill>
        <p:spPr>
          <a:xfrm>
            <a:off x="6172200" y="2209680"/>
            <a:ext cx="1771560" cy="15303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77760" y="8251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52640" y="1346040"/>
            <a:ext cx="77724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het werken met straling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tand hou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pakkingen van de materialen niet beschadi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ied rond de bron afzet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bm’s gebrui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 plaats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manent m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werkers zijn verplicht 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ersoonlijke dosis straling te laten me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keurig alle voorschriften te vol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medische keuring te onderga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0F21-19AC-4C08-B289-FB313E1F7E1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90560" y="10188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119240" y="1790280"/>
            <a:ext cx="73548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plicht aanwezige stralingsdeskundi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t toezicht op de stralingsveiligheid en -hygië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roleert medewerkers en materiaal op besmet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emt zonodig extra maatreg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 werkzaamheden stilleg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niet-ioniserende straling gelden de volgende veiligheids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tructie en informatie op toestel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en volgens de instruc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t langer dan toegestaan doorwer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t afst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3B03-E152-4C46-BAA5-AA71168F11D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LAN VAN AANPA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12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n voor verbeteren van arbeids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at o.a. plannen o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tregelen voor risico-vermindering en ter voorko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crete uitvoering maatregelen: Verantwoordelijkheden, middelen, werkwijze, eindlim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jze van rapp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okkenheid leidinggevenden belangr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FEDF-A550-4B2C-B06D-322124BE424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EIDSHYGIËNISCH ONDERZOE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19160" y="20098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iënterend werkplek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er kans op blootstelling aan een bepaalde sto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rd van de blootst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veel mensen hebben kans op blootstel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ft antwoord op mogelijke risico’s en te nemen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nito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ingen en registr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aten vergelijken m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4600" indent="-261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ensw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74600" indent="-261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gen bedrijfsw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icht op gezondheidsbeheersing op werkp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3006-B2E0-47A7-9F1C-186EC88A8EF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WET - GEZONDHEID WERKNEMER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076400" y="1902960"/>
            <a:ext cx="806760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moet werknemers in de gelegenheid stellen zich periodiek medisch te laten onderzo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iek gezondheidskundig 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vrijwillige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jdig schade onderkennen en beperken/weg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ms verplicht (bv bij werken met asbest, straling en bestrijdingsmiddelen, gebruik ademluchtapparatuu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gezondheidsonderzoek voorafgaand aan specifieke werkzaamheden (functiekeuring) verplicht (bv ademluchtapparatuur, werken met onderdruk of overdruk</a:t>
            </a:r>
            <a:r>
              <a:rPr b="0" lang="nl-NL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1912-856C-4DA1-8C86-11D63E0B6AC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6CEE-865A-4049-914B-C66CC7550C5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IGNALERING/ETIKETT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942840" y="203796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 van gevaar op de werkvlo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danig aanbrengen, dat deze wordt opgem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danig vormen, dat de betekenis duidelijk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 min mogelijk tek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ikettering van gevaarlijke stoff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verscheidenheid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inschatten om juiste maatregelen te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428B-37B8-423E-BCF7-61B321379D6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" descr="explosief"/>
          <p:cNvPicPr/>
          <p:nvPr/>
        </p:nvPicPr>
        <p:blipFill>
          <a:blip r:embed="rId1"/>
          <a:stretch/>
        </p:blipFill>
        <p:spPr>
          <a:xfrm>
            <a:off x="7334280" y="2963880"/>
            <a:ext cx="1447920" cy="12556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nooduitgang"/>
          <p:cNvPicPr/>
          <p:nvPr/>
        </p:nvPicPr>
        <p:blipFill>
          <a:blip r:embed="rId2"/>
          <a:stretch/>
        </p:blipFill>
        <p:spPr>
          <a:xfrm>
            <a:off x="7248600" y="1952640"/>
            <a:ext cx="1600200" cy="85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5" name="Object 9"/>
          <p:cNvGraphicFramePr/>
          <p:nvPr/>
        </p:nvGraphicFramePr>
        <p:xfrm>
          <a:off x="7461360" y="4459320"/>
          <a:ext cx="1243080" cy="12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1360" y="4459320"/>
                    <a:ext cx="12430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8456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ELKE STOF IN EEN CATEGOR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19160" y="171936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i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zicht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makkelijk lees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t Ned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uid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st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ssymbool/symbo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zondere gev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aanbev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MS: kleinverpak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er: vervoerscodering (ADN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9CB9-B853-416F-8E6A-66664299405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8"/>
          <p:cNvGraphicFramePr/>
          <p:nvPr/>
        </p:nvGraphicFramePr>
        <p:xfrm>
          <a:off x="6727680" y="2043000"/>
          <a:ext cx="1243080" cy="12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27680" y="2043000"/>
                    <a:ext cx="124308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4" name="Group 257"/>
          <p:cNvGrpSpPr/>
          <p:nvPr/>
        </p:nvGrpSpPr>
        <p:grpSpPr>
          <a:xfrm>
            <a:off x="6465960" y="3965400"/>
            <a:ext cx="1669680" cy="1671480"/>
            <a:chOff x="6465960" y="3965400"/>
            <a:chExt cx="1669680" cy="1671480"/>
          </a:xfrm>
        </p:grpSpPr>
        <p:sp>
          <p:nvSpPr>
            <p:cNvPr id="585" name="Freeform 10"/>
            <p:cNvSpPr/>
            <p:nvPr/>
          </p:nvSpPr>
          <p:spPr>
            <a:xfrm>
              <a:off x="6465960" y="3965400"/>
              <a:ext cx="1669680" cy="1671480"/>
            </a:xfrm>
            <a:custGeom>
              <a:avLst/>
              <a:gdLst>
                <a:gd name="textAreaLeft" fmla="*/ 0 w 1669680"/>
                <a:gd name="textAreaRight" fmla="*/ 1670040 w 1669680"/>
                <a:gd name="textAreaTop" fmla="*/ 0 h 1671480"/>
                <a:gd name="textAreaBottom" fmla="*/ 1671840 h 1671480"/>
              </a:gdLst>
              <a:ahLst/>
              <a:rect l="textAreaLeft" t="textAreaTop" r="textAreaRight" b="textAreaBottom"/>
              <a:pathLst>
                <a:path w="2358" h="2359">
                  <a:moveTo>
                    <a:pt x="1180" y="2359"/>
                  </a:moveTo>
                  <a:lnTo>
                    <a:pt x="0" y="1180"/>
                  </a:lnTo>
                  <a:lnTo>
                    <a:pt x="1180" y="0"/>
                  </a:lnTo>
                  <a:lnTo>
                    <a:pt x="2358" y="1180"/>
                  </a:lnTo>
                  <a:lnTo>
                    <a:pt x="1180" y="235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1"/>
            <p:cNvSpPr/>
            <p:nvPr/>
          </p:nvSpPr>
          <p:spPr>
            <a:xfrm>
              <a:off x="6465960" y="4800960"/>
              <a:ext cx="1669680" cy="835560"/>
            </a:xfrm>
            <a:custGeom>
              <a:avLst/>
              <a:gdLst>
                <a:gd name="textAreaLeft" fmla="*/ 0 w 1669680"/>
                <a:gd name="textAreaRight" fmla="*/ 1670040 w 1669680"/>
                <a:gd name="textAreaTop" fmla="*/ 0 h 835560"/>
                <a:gd name="textAreaBottom" fmla="*/ 835920 h 835560"/>
              </a:gdLst>
              <a:ahLst/>
              <a:rect l="textAreaLeft" t="textAreaTop" r="textAreaRight" b="textAreaBottom"/>
              <a:pathLst>
                <a:path w="2358" h="1179">
                  <a:moveTo>
                    <a:pt x="1180" y="1179"/>
                  </a:moveTo>
                  <a:lnTo>
                    <a:pt x="2358" y="0"/>
                  </a:lnTo>
                  <a:lnTo>
                    <a:pt x="0" y="0"/>
                  </a:lnTo>
                  <a:lnTo>
                    <a:pt x="1180" y="117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2"/>
            <p:cNvSpPr/>
            <p:nvPr/>
          </p:nvSpPr>
          <p:spPr>
            <a:xfrm>
              <a:off x="6577560" y="4076640"/>
              <a:ext cx="1446480" cy="1448640"/>
            </a:xfrm>
            <a:custGeom>
              <a:avLst/>
              <a:gdLst>
                <a:gd name="textAreaLeft" fmla="*/ 0 w 1446480"/>
                <a:gd name="textAreaRight" fmla="*/ 1446840 w 1446480"/>
                <a:gd name="textAreaTop" fmla="*/ 0 h 1448640"/>
                <a:gd name="textAreaBottom" fmla="*/ 1449000 h 1448640"/>
              </a:gdLst>
              <a:ahLst/>
              <a:rect l="textAreaLeft" t="textAreaTop" r="textAreaRight" b="textAreaBottom"/>
              <a:pathLst>
                <a:path w="2043" h="2045">
                  <a:moveTo>
                    <a:pt x="1022" y="0"/>
                  </a:moveTo>
                  <a:lnTo>
                    <a:pt x="0" y="1022"/>
                  </a:lnTo>
                  <a:lnTo>
                    <a:pt x="1022" y="2045"/>
                  </a:lnTo>
                  <a:lnTo>
                    <a:pt x="2043" y="1022"/>
                  </a:lnTo>
                  <a:lnTo>
                    <a:pt x="102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3"/>
            <p:cNvSpPr/>
            <p:nvPr/>
          </p:nvSpPr>
          <p:spPr>
            <a:xfrm>
              <a:off x="7133400" y="4689360"/>
              <a:ext cx="334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4"/>
            <p:cNvSpPr/>
            <p:nvPr/>
          </p:nvSpPr>
          <p:spPr>
            <a:xfrm>
              <a:off x="7122600" y="4179240"/>
              <a:ext cx="361080" cy="46944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511" h="663">
                  <a:moveTo>
                    <a:pt x="356" y="233"/>
                  </a:moveTo>
                  <a:lnTo>
                    <a:pt x="367" y="263"/>
                  </a:lnTo>
                  <a:lnTo>
                    <a:pt x="371" y="274"/>
                  </a:lnTo>
                  <a:lnTo>
                    <a:pt x="376" y="288"/>
                  </a:lnTo>
                  <a:lnTo>
                    <a:pt x="380" y="304"/>
                  </a:lnTo>
                  <a:lnTo>
                    <a:pt x="383" y="322"/>
                  </a:lnTo>
                  <a:lnTo>
                    <a:pt x="385" y="341"/>
                  </a:lnTo>
                  <a:lnTo>
                    <a:pt x="386" y="360"/>
                  </a:lnTo>
                  <a:lnTo>
                    <a:pt x="386" y="379"/>
                  </a:lnTo>
                  <a:lnTo>
                    <a:pt x="385" y="396"/>
                  </a:lnTo>
                  <a:lnTo>
                    <a:pt x="372" y="431"/>
                  </a:lnTo>
                  <a:lnTo>
                    <a:pt x="367" y="469"/>
                  </a:lnTo>
                  <a:lnTo>
                    <a:pt x="393" y="427"/>
                  </a:lnTo>
                  <a:lnTo>
                    <a:pt x="427" y="391"/>
                  </a:lnTo>
                  <a:lnTo>
                    <a:pt x="434" y="384"/>
                  </a:lnTo>
                  <a:lnTo>
                    <a:pt x="440" y="376"/>
                  </a:lnTo>
                  <a:lnTo>
                    <a:pt x="445" y="366"/>
                  </a:lnTo>
                  <a:lnTo>
                    <a:pt x="449" y="355"/>
                  </a:lnTo>
                  <a:lnTo>
                    <a:pt x="452" y="344"/>
                  </a:lnTo>
                  <a:lnTo>
                    <a:pt x="454" y="333"/>
                  </a:lnTo>
                  <a:lnTo>
                    <a:pt x="454" y="322"/>
                  </a:lnTo>
                  <a:lnTo>
                    <a:pt x="452" y="312"/>
                  </a:lnTo>
                  <a:lnTo>
                    <a:pt x="462" y="322"/>
                  </a:lnTo>
                  <a:lnTo>
                    <a:pt x="469" y="336"/>
                  </a:lnTo>
                  <a:lnTo>
                    <a:pt x="474" y="351"/>
                  </a:lnTo>
                  <a:lnTo>
                    <a:pt x="477" y="368"/>
                  </a:lnTo>
                  <a:lnTo>
                    <a:pt x="478" y="385"/>
                  </a:lnTo>
                  <a:lnTo>
                    <a:pt x="475" y="402"/>
                  </a:lnTo>
                  <a:lnTo>
                    <a:pt x="471" y="419"/>
                  </a:lnTo>
                  <a:lnTo>
                    <a:pt x="464" y="434"/>
                  </a:lnTo>
                  <a:lnTo>
                    <a:pt x="451" y="465"/>
                  </a:lnTo>
                  <a:lnTo>
                    <a:pt x="442" y="498"/>
                  </a:lnTo>
                  <a:lnTo>
                    <a:pt x="441" y="503"/>
                  </a:lnTo>
                  <a:lnTo>
                    <a:pt x="441" y="508"/>
                  </a:lnTo>
                  <a:lnTo>
                    <a:pt x="442" y="515"/>
                  </a:lnTo>
                  <a:lnTo>
                    <a:pt x="443" y="521"/>
                  </a:lnTo>
                  <a:lnTo>
                    <a:pt x="445" y="528"/>
                  </a:lnTo>
                  <a:lnTo>
                    <a:pt x="447" y="535"/>
                  </a:lnTo>
                  <a:lnTo>
                    <a:pt x="450" y="541"/>
                  </a:lnTo>
                  <a:lnTo>
                    <a:pt x="452" y="547"/>
                  </a:lnTo>
                  <a:lnTo>
                    <a:pt x="467" y="516"/>
                  </a:lnTo>
                  <a:lnTo>
                    <a:pt x="487" y="488"/>
                  </a:lnTo>
                  <a:lnTo>
                    <a:pt x="491" y="482"/>
                  </a:lnTo>
                  <a:lnTo>
                    <a:pt x="494" y="476"/>
                  </a:lnTo>
                  <a:lnTo>
                    <a:pt x="496" y="468"/>
                  </a:lnTo>
                  <a:lnTo>
                    <a:pt x="498" y="461"/>
                  </a:lnTo>
                  <a:lnTo>
                    <a:pt x="499" y="453"/>
                  </a:lnTo>
                  <a:lnTo>
                    <a:pt x="499" y="444"/>
                  </a:lnTo>
                  <a:lnTo>
                    <a:pt x="498" y="437"/>
                  </a:lnTo>
                  <a:lnTo>
                    <a:pt x="496" y="429"/>
                  </a:lnTo>
                  <a:lnTo>
                    <a:pt x="504" y="446"/>
                  </a:lnTo>
                  <a:lnTo>
                    <a:pt x="509" y="464"/>
                  </a:lnTo>
                  <a:lnTo>
                    <a:pt x="511" y="484"/>
                  </a:lnTo>
                  <a:lnTo>
                    <a:pt x="510" y="506"/>
                  </a:lnTo>
                  <a:lnTo>
                    <a:pt x="506" y="528"/>
                  </a:lnTo>
                  <a:lnTo>
                    <a:pt x="498" y="549"/>
                  </a:lnTo>
                  <a:lnTo>
                    <a:pt x="487" y="568"/>
                  </a:lnTo>
                  <a:lnTo>
                    <a:pt x="474" y="585"/>
                  </a:lnTo>
                  <a:lnTo>
                    <a:pt x="443" y="614"/>
                  </a:lnTo>
                  <a:lnTo>
                    <a:pt x="407" y="637"/>
                  </a:lnTo>
                  <a:lnTo>
                    <a:pt x="368" y="653"/>
                  </a:lnTo>
                  <a:lnTo>
                    <a:pt x="325" y="662"/>
                  </a:lnTo>
                  <a:lnTo>
                    <a:pt x="281" y="663"/>
                  </a:lnTo>
                  <a:lnTo>
                    <a:pt x="216" y="663"/>
                  </a:lnTo>
                  <a:lnTo>
                    <a:pt x="168" y="652"/>
                  </a:lnTo>
                  <a:lnTo>
                    <a:pt x="125" y="633"/>
                  </a:lnTo>
                  <a:lnTo>
                    <a:pt x="87" y="607"/>
                  </a:lnTo>
                  <a:lnTo>
                    <a:pt x="55" y="575"/>
                  </a:lnTo>
                  <a:lnTo>
                    <a:pt x="31" y="537"/>
                  </a:lnTo>
                  <a:lnTo>
                    <a:pt x="26" y="513"/>
                  </a:lnTo>
                  <a:lnTo>
                    <a:pt x="16" y="490"/>
                  </a:lnTo>
                  <a:lnTo>
                    <a:pt x="0" y="469"/>
                  </a:lnTo>
                  <a:lnTo>
                    <a:pt x="22" y="476"/>
                  </a:lnTo>
                  <a:lnTo>
                    <a:pt x="42" y="487"/>
                  </a:lnTo>
                  <a:lnTo>
                    <a:pt x="60" y="501"/>
                  </a:lnTo>
                  <a:lnTo>
                    <a:pt x="74" y="518"/>
                  </a:lnTo>
                  <a:lnTo>
                    <a:pt x="83" y="492"/>
                  </a:lnTo>
                  <a:lnTo>
                    <a:pt x="96" y="469"/>
                  </a:lnTo>
                  <a:lnTo>
                    <a:pt x="103" y="453"/>
                  </a:lnTo>
                  <a:lnTo>
                    <a:pt x="106" y="436"/>
                  </a:lnTo>
                  <a:lnTo>
                    <a:pt x="106" y="418"/>
                  </a:lnTo>
                  <a:lnTo>
                    <a:pt x="101" y="401"/>
                  </a:lnTo>
                  <a:lnTo>
                    <a:pt x="94" y="386"/>
                  </a:lnTo>
                  <a:lnTo>
                    <a:pt x="83" y="372"/>
                  </a:lnTo>
                  <a:lnTo>
                    <a:pt x="69" y="360"/>
                  </a:lnTo>
                  <a:lnTo>
                    <a:pt x="53" y="351"/>
                  </a:lnTo>
                  <a:lnTo>
                    <a:pt x="75" y="358"/>
                  </a:lnTo>
                  <a:lnTo>
                    <a:pt x="96" y="368"/>
                  </a:lnTo>
                  <a:lnTo>
                    <a:pt x="114" y="383"/>
                  </a:lnTo>
                  <a:lnTo>
                    <a:pt x="128" y="400"/>
                  </a:lnTo>
                  <a:lnTo>
                    <a:pt x="137" y="368"/>
                  </a:lnTo>
                  <a:lnTo>
                    <a:pt x="150" y="339"/>
                  </a:lnTo>
                  <a:lnTo>
                    <a:pt x="157" y="324"/>
                  </a:lnTo>
                  <a:lnTo>
                    <a:pt x="161" y="308"/>
                  </a:lnTo>
                  <a:lnTo>
                    <a:pt x="163" y="292"/>
                  </a:lnTo>
                  <a:lnTo>
                    <a:pt x="161" y="276"/>
                  </a:lnTo>
                  <a:lnTo>
                    <a:pt x="157" y="260"/>
                  </a:lnTo>
                  <a:lnTo>
                    <a:pt x="149" y="246"/>
                  </a:lnTo>
                  <a:lnTo>
                    <a:pt x="140" y="234"/>
                  </a:lnTo>
                  <a:lnTo>
                    <a:pt x="128" y="224"/>
                  </a:lnTo>
                  <a:lnTo>
                    <a:pt x="119" y="215"/>
                  </a:lnTo>
                  <a:lnTo>
                    <a:pt x="112" y="205"/>
                  </a:lnTo>
                  <a:lnTo>
                    <a:pt x="107" y="194"/>
                  </a:lnTo>
                  <a:lnTo>
                    <a:pt x="116" y="203"/>
                  </a:lnTo>
                  <a:lnTo>
                    <a:pt x="127" y="209"/>
                  </a:lnTo>
                  <a:lnTo>
                    <a:pt x="139" y="214"/>
                  </a:lnTo>
                  <a:lnTo>
                    <a:pt x="178" y="241"/>
                  </a:lnTo>
                  <a:lnTo>
                    <a:pt x="211" y="274"/>
                  </a:lnTo>
                  <a:lnTo>
                    <a:pt x="237" y="312"/>
                  </a:lnTo>
                  <a:lnTo>
                    <a:pt x="241" y="294"/>
                  </a:lnTo>
                  <a:lnTo>
                    <a:pt x="243" y="275"/>
                  </a:lnTo>
                  <a:lnTo>
                    <a:pt x="241" y="256"/>
                  </a:lnTo>
                  <a:lnTo>
                    <a:pt x="238" y="238"/>
                  </a:lnTo>
                  <a:lnTo>
                    <a:pt x="232" y="221"/>
                  </a:lnTo>
                  <a:lnTo>
                    <a:pt x="224" y="205"/>
                  </a:lnTo>
                  <a:lnTo>
                    <a:pt x="214" y="192"/>
                  </a:lnTo>
                  <a:lnTo>
                    <a:pt x="203" y="182"/>
                  </a:lnTo>
                  <a:lnTo>
                    <a:pt x="196" y="158"/>
                  </a:lnTo>
                  <a:lnTo>
                    <a:pt x="192" y="132"/>
                  </a:lnTo>
                  <a:lnTo>
                    <a:pt x="192" y="106"/>
                  </a:lnTo>
                  <a:lnTo>
                    <a:pt x="195" y="81"/>
                  </a:lnTo>
                  <a:lnTo>
                    <a:pt x="201" y="56"/>
                  </a:lnTo>
                  <a:lnTo>
                    <a:pt x="211" y="34"/>
                  </a:lnTo>
                  <a:lnTo>
                    <a:pt x="223" y="15"/>
                  </a:lnTo>
                  <a:lnTo>
                    <a:pt x="237" y="0"/>
                  </a:lnTo>
                  <a:lnTo>
                    <a:pt x="233" y="15"/>
                  </a:lnTo>
                  <a:lnTo>
                    <a:pt x="232" y="32"/>
                  </a:lnTo>
                  <a:lnTo>
                    <a:pt x="233" y="50"/>
                  </a:lnTo>
                  <a:lnTo>
                    <a:pt x="238" y="69"/>
                  </a:lnTo>
                  <a:lnTo>
                    <a:pt x="245" y="88"/>
                  </a:lnTo>
                  <a:lnTo>
                    <a:pt x="255" y="105"/>
                  </a:lnTo>
                  <a:lnTo>
                    <a:pt x="267" y="121"/>
                  </a:lnTo>
                  <a:lnTo>
                    <a:pt x="281" y="136"/>
                  </a:lnTo>
                  <a:lnTo>
                    <a:pt x="293" y="148"/>
                  </a:lnTo>
                  <a:lnTo>
                    <a:pt x="304" y="164"/>
                  </a:lnTo>
                  <a:lnTo>
                    <a:pt x="313" y="183"/>
                  </a:lnTo>
                  <a:lnTo>
                    <a:pt x="320" y="203"/>
                  </a:lnTo>
                  <a:lnTo>
                    <a:pt x="325" y="226"/>
                  </a:lnTo>
                  <a:lnTo>
                    <a:pt x="327" y="248"/>
                  </a:lnTo>
                  <a:lnTo>
                    <a:pt x="327" y="271"/>
                  </a:lnTo>
                  <a:lnTo>
                    <a:pt x="324" y="292"/>
                  </a:lnTo>
                  <a:lnTo>
                    <a:pt x="328" y="288"/>
                  </a:lnTo>
                  <a:lnTo>
                    <a:pt x="333" y="282"/>
                  </a:lnTo>
                  <a:lnTo>
                    <a:pt x="338" y="275"/>
                  </a:lnTo>
                  <a:lnTo>
                    <a:pt x="343" y="268"/>
                  </a:lnTo>
                  <a:lnTo>
                    <a:pt x="347" y="259"/>
                  </a:lnTo>
                  <a:lnTo>
                    <a:pt x="351" y="250"/>
                  </a:lnTo>
                  <a:lnTo>
                    <a:pt x="354" y="241"/>
                  </a:lnTo>
                  <a:lnTo>
                    <a:pt x="356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5"/>
            <p:cNvSpPr/>
            <p:nvPr/>
          </p:nvSpPr>
          <p:spPr>
            <a:xfrm>
              <a:off x="7383240" y="4365360"/>
              <a:ext cx="1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6"/>
            <p:cNvSpPr/>
            <p:nvPr/>
          </p:nvSpPr>
          <p:spPr>
            <a:xfrm>
              <a:off x="7385040" y="437256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7"/>
            <p:cNvSpPr/>
            <p:nvPr/>
          </p:nvSpPr>
          <p:spPr>
            <a:xfrm>
              <a:off x="7388640" y="438300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8"/>
            <p:cNvSpPr/>
            <p:nvPr/>
          </p:nvSpPr>
          <p:spPr>
            <a:xfrm>
              <a:off x="7392240" y="4393800"/>
              <a:ext cx="14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>
              <a:off x="7393680" y="440784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>
              <a:off x="7395480" y="4420440"/>
              <a:ext cx="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1"/>
            <p:cNvSpPr/>
            <p:nvPr/>
          </p:nvSpPr>
          <p:spPr>
            <a:xfrm>
              <a:off x="7395480" y="443448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2"/>
            <p:cNvSpPr/>
            <p:nvPr/>
          </p:nvSpPr>
          <p:spPr>
            <a:xfrm>
              <a:off x="7395480" y="444672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3"/>
            <p:cNvSpPr/>
            <p:nvPr/>
          </p:nvSpPr>
          <p:spPr>
            <a:xfrm flipH="1">
              <a:off x="7386480" y="4459320"/>
              <a:ext cx="864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24"/>
            <p:cNvSpPr/>
            <p:nvPr/>
          </p:nvSpPr>
          <p:spPr>
            <a:xfrm flipH="1">
              <a:off x="7383240" y="4484160"/>
              <a:ext cx="2880" cy="28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25"/>
            <p:cNvSpPr/>
            <p:nvPr/>
          </p:nvSpPr>
          <p:spPr>
            <a:xfrm flipV="1">
              <a:off x="7383240" y="4482000"/>
              <a:ext cx="17640" cy="29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6"/>
            <p:cNvSpPr/>
            <p:nvPr/>
          </p:nvSpPr>
          <p:spPr>
            <a:xfrm flipV="1">
              <a:off x="7400880" y="4455360"/>
              <a:ext cx="2448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27"/>
            <p:cNvSpPr/>
            <p:nvPr/>
          </p:nvSpPr>
          <p:spPr>
            <a:xfrm flipV="1">
              <a:off x="7425360" y="4450320"/>
              <a:ext cx="54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28"/>
            <p:cNvSpPr/>
            <p:nvPr/>
          </p:nvSpPr>
          <p:spPr>
            <a:xfrm flipV="1">
              <a:off x="7431120" y="444528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29"/>
            <p:cNvSpPr/>
            <p:nvPr/>
          </p:nvSpPr>
          <p:spPr>
            <a:xfrm flipV="1">
              <a:off x="7434360" y="44380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30"/>
            <p:cNvSpPr/>
            <p:nvPr/>
          </p:nvSpPr>
          <p:spPr>
            <a:xfrm flipV="1">
              <a:off x="7437960" y="44308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31"/>
            <p:cNvSpPr/>
            <p:nvPr/>
          </p:nvSpPr>
          <p:spPr>
            <a:xfrm flipV="1">
              <a:off x="7441560" y="44218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32"/>
            <p:cNvSpPr/>
            <p:nvPr/>
          </p:nvSpPr>
          <p:spPr>
            <a:xfrm flipV="1">
              <a:off x="7443360" y="4415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33"/>
            <p:cNvSpPr/>
            <p:nvPr/>
          </p:nvSpPr>
          <p:spPr>
            <a:xfrm flipV="1">
              <a:off x="7445160" y="4407840"/>
              <a:ext cx="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34"/>
            <p:cNvSpPr/>
            <p:nvPr/>
          </p:nvSpPr>
          <p:spPr>
            <a:xfrm flipH="1" flipV="1">
              <a:off x="7443360" y="4400640"/>
              <a:ext cx="1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35"/>
            <p:cNvSpPr/>
            <p:nvPr/>
          </p:nvSpPr>
          <p:spPr>
            <a:xfrm>
              <a:off x="7443360" y="4400640"/>
              <a:ext cx="6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36"/>
            <p:cNvSpPr/>
            <p:nvPr/>
          </p:nvSpPr>
          <p:spPr>
            <a:xfrm>
              <a:off x="7450200" y="4407840"/>
              <a:ext cx="5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37"/>
            <p:cNvSpPr/>
            <p:nvPr/>
          </p:nvSpPr>
          <p:spPr>
            <a:xfrm>
              <a:off x="7455600" y="441684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38"/>
            <p:cNvSpPr/>
            <p:nvPr/>
          </p:nvSpPr>
          <p:spPr>
            <a:xfrm>
              <a:off x="7459200" y="442728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39"/>
            <p:cNvSpPr/>
            <p:nvPr/>
          </p:nvSpPr>
          <p:spPr>
            <a:xfrm>
              <a:off x="7461360" y="443952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40"/>
            <p:cNvSpPr/>
            <p:nvPr/>
          </p:nvSpPr>
          <p:spPr>
            <a:xfrm flipH="1">
              <a:off x="7458840" y="445212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41"/>
            <p:cNvSpPr/>
            <p:nvPr/>
          </p:nvSpPr>
          <p:spPr>
            <a:xfrm flipH="1">
              <a:off x="7455600" y="446436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42"/>
            <p:cNvSpPr/>
            <p:nvPr/>
          </p:nvSpPr>
          <p:spPr>
            <a:xfrm flipH="1">
              <a:off x="7452360" y="4475520"/>
              <a:ext cx="28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3"/>
            <p:cNvSpPr/>
            <p:nvPr/>
          </p:nvSpPr>
          <p:spPr>
            <a:xfrm flipH="1">
              <a:off x="7441560" y="4485960"/>
              <a:ext cx="10800" cy="22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4"/>
            <p:cNvSpPr/>
            <p:nvPr/>
          </p:nvSpPr>
          <p:spPr>
            <a:xfrm flipH="1">
              <a:off x="7436160" y="4508640"/>
              <a:ext cx="5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5"/>
            <p:cNvSpPr/>
            <p:nvPr/>
          </p:nvSpPr>
          <p:spPr>
            <a:xfrm flipH="1">
              <a:off x="7434000" y="4532040"/>
              <a:ext cx="180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6"/>
            <p:cNvSpPr/>
            <p:nvPr/>
          </p:nvSpPr>
          <p:spPr>
            <a:xfrm>
              <a:off x="7434360" y="453528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7"/>
            <p:cNvSpPr/>
            <p:nvPr/>
          </p:nvSpPr>
          <p:spPr>
            <a:xfrm>
              <a:off x="7434360" y="453888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8"/>
            <p:cNvSpPr/>
            <p:nvPr/>
          </p:nvSpPr>
          <p:spPr>
            <a:xfrm>
              <a:off x="7436160" y="4544280"/>
              <a:ext cx="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9"/>
            <p:cNvSpPr/>
            <p:nvPr/>
          </p:nvSpPr>
          <p:spPr>
            <a:xfrm>
              <a:off x="7436160" y="4547520"/>
              <a:ext cx="14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50"/>
            <p:cNvSpPr/>
            <p:nvPr/>
          </p:nvSpPr>
          <p:spPr>
            <a:xfrm>
              <a:off x="7437960" y="4553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51"/>
            <p:cNvSpPr/>
            <p:nvPr/>
          </p:nvSpPr>
          <p:spPr>
            <a:xfrm>
              <a:off x="7439760" y="4558680"/>
              <a:ext cx="14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52"/>
            <p:cNvSpPr/>
            <p:nvPr/>
          </p:nvSpPr>
          <p:spPr>
            <a:xfrm>
              <a:off x="7441560" y="4562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53"/>
            <p:cNvSpPr/>
            <p:nvPr/>
          </p:nvSpPr>
          <p:spPr>
            <a:xfrm flipV="1">
              <a:off x="7443360" y="4543920"/>
              <a:ext cx="10440" cy="22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54"/>
            <p:cNvSpPr/>
            <p:nvPr/>
          </p:nvSpPr>
          <p:spPr>
            <a:xfrm flipV="1">
              <a:off x="7453800" y="4524840"/>
              <a:ext cx="14040" cy="1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55"/>
            <p:cNvSpPr/>
            <p:nvPr/>
          </p:nvSpPr>
          <p:spPr>
            <a:xfrm flipV="1">
              <a:off x="7468200" y="452124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56"/>
            <p:cNvSpPr/>
            <p:nvPr/>
          </p:nvSpPr>
          <p:spPr>
            <a:xfrm flipV="1">
              <a:off x="7470000" y="451584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57"/>
            <p:cNvSpPr/>
            <p:nvPr/>
          </p:nvSpPr>
          <p:spPr>
            <a:xfrm flipV="1">
              <a:off x="7473240" y="4510800"/>
              <a:ext cx="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58"/>
            <p:cNvSpPr/>
            <p:nvPr/>
          </p:nvSpPr>
          <p:spPr>
            <a:xfrm flipV="1">
              <a:off x="7473240" y="450468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59"/>
            <p:cNvSpPr/>
            <p:nvPr/>
          </p:nvSpPr>
          <p:spPr>
            <a:xfrm flipV="1">
              <a:off x="7475400" y="45000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60"/>
            <p:cNvSpPr/>
            <p:nvPr/>
          </p:nvSpPr>
          <p:spPr>
            <a:xfrm flipV="1">
              <a:off x="7476840" y="4493160"/>
              <a:ext cx="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61"/>
            <p:cNvSpPr/>
            <p:nvPr/>
          </p:nvSpPr>
          <p:spPr>
            <a:xfrm flipH="1" flipV="1">
              <a:off x="7475400" y="4489560"/>
              <a:ext cx="14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62"/>
            <p:cNvSpPr/>
            <p:nvPr/>
          </p:nvSpPr>
          <p:spPr>
            <a:xfrm flipH="1" flipV="1">
              <a:off x="7472880" y="448236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63"/>
            <p:cNvSpPr/>
            <p:nvPr/>
          </p:nvSpPr>
          <p:spPr>
            <a:xfrm>
              <a:off x="7473240" y="4482360"/>
              <a:ext cx="72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64"/>
            <p:cNvSpPr/>
            <p:nvPr/>
          </p:nvSpPr>
          <p:spPr>
            <a:xfrm>
              <a:off x="7480440" y="4494600"/>
              <a:ext cx="36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65"/>
            <p:cNvSpPr/>
            <p:nvPr/>
          </p:nvSpPr>
          <p:spPr>
            <a:xfrm>
              <a:off x="7484040" y="4508640"/>
              <a:ext cx="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66"/>
            <p:cNvSpPr/>
            <p:nvPr/>
          </p:nvSpPr>
          <p:spPr>
            <a:xfrm>
              <a:off x="7484040" y="4523040"/>
              <a:ext cx="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67"/>
            <p:cNvSpPr/>
            <p:nvPr/>
          </p:nvSpPr>
          <p:spPr>
            <a:xfrm flipH="1">
              <a:off x="7480440" y="453708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68"/>
            <p:cNvSpPr/>
            <p:nvPr/>
          </p:nvSpPr>
          <p:spPr>
            <a:xfrm flipH="1">
              <a:off x="7475400" y="4553280"/>
              <a:ext cx="504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69"/>
            <p:cNvSpPr/>
            <p:nvPr/>
          </p:nvSpPr>
          <p:spPr>
            <a:xfrm flipH="1">
              <a:off x="7468200" y="4569120"/>
              <a:ext cx="72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70"/>
            <p:cNvSpPr/>
            <p:nvPr/>
          </p:nvSpPr>
          <p:spPr>
            <a:xfrm flipH="1">
              <a:off x="7459200" y="4581360"/>
              <a:ext cx="86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71"/>
            <p:cNvSpPr/>
            <p:nvPr/>
          </p:nvSpPr>
          <p:spPr>
            <a:xfrm flipH="1">
              <a:off x="7435800" y="4593960"/>
              <a:ext cx="226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72"/>
            <p:cNvSpPr/>
            <p:nvPr/>
          </p:nvSpPr>
          <p:spPr>
            <a:xfrm flipH="1">
              <a:off x="7410960" y="4615200"/>
              <a:ext cx="248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73"/>
            <p:cNvSpPr/>
            <p:nvPr/>
          </p:nvSpPr>
          <p:spPr>
            <a:xfrm flipH="1">
              <a:off x="7383240" y="4631040"/>
              <a:ext cx="280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74"/>
            <p:cNvSpPr/>
            <p:nvPr/>
          </p:nvSpPr>
          <p:spPr>
            <a:xfrm flipH="1">
              <a:off x="7353000" y="4641480"/>
              <a:ext cx="298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75"/>
            <p:cNvSpPr/>
            <p:nvPr/>
          </p:nvSpPr>
          <p:spPr>
            <a:xfrm flipH="1">
              <a:off x="7320600" y="4649040"/>
              <a:ext cx="320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76"/>
            <p:cNvSpPr/>
            <p:nvPr/>
          </p:nvSpPr>
          <p:spPr>
            <a:xfrm flipH="1">
              <a:off x="7274880" y="4649040"/>
              <a:ext cx="45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77"/>
            <p:cNvSpPr/>
            <p:nvPr/>
          </p:nvSpPr>
          <p:spPr>
            <a:xfrm flipH="1" flipV="1">
              <a:off x="7241040" y="4641480"/>
              <a:ext cx="33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78"/>
            <p:cNvSpPr/>
            <p:nvPr/>
          </p:nvSpPr>
          <p:spPr>
            <a:xfrm flipH="1" flipV="1">
              <a:off x="7211160" y="4627080"/>
              <a:ext cx="2988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79"/>
            <p:cNvSpPr/>
            <p:nvPr/>
          </p:nvSpPr>
          <p:spPr>
            <a:xfrm flipH="1" flipV="1">
              <a:off x="7184520" y="4609440"/>
              <a:ext cx="262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80"/>
            <p:cNvSpPr/>
            <p:nvPr/>
          </p:nvSpPr>
          <p:spPr>
            <a:xfrm flipH="1" flipV="1">
              <a:off x="7161480" y="4586760"/>
              <a:ext cx="23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81"/>
            <p:cNvSpPr/>
            <p:nvPr/>
          </p:nvSpPr>
          <p:spPr>
            <a:xfrm flipH="1" flipV="1">
              <a:off x="7143480" y="4559760"/>
              <a:ext cx="1764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82"/>
            <p:cNvSpPr/>
            <p:nvPr/>
          </p:nvSpPr>
          <p:spPr>
            <a:xfrm flipH="1" flipV="1">
              <a:off x="7140240" y="4542120"/>
              <a:ext cx="36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83"/>
            <p:cNvSpPr/>
            <p:nvPr/>
          </p:nvSpPr>
          <p:spPr>
            <a:xfrm flipH="1" flipV="1">
              <a:off x="7133400" y="4526280"/>
              <a:ext cx="648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84"/>
            <p:cNvSpPr/>
            <p:nvPr/>
          </p:nvSpPr>
          <p:spPr>
            <a:xfrm flipH="1" flipV="1">
              <a:off x="7122600" y="4511880"/>
              <a:ext cx="10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85"/>
            <p:cNvSpPr/>
            <p:nvPr/>
          </p:nvSpPr>
          <p:spPr>
            <a:xfrm>
              <a:off x="7122600" y="4512240"/>
              <a:ext cx="158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86"/>
            <p:cNvSpPr/>
            <p:nvPr/>
          </p:nvSpPr>
          <p:spPr>
            <a:xfrm>
              <a:off x="7138800" y="4515840"/>
              <a:ext cx="14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87"/>
            <p:cNvSpPr/>
            <p:nvPr/>
          </p:nvSpPr>
          <p:spPr>
            <a:xfrm>
              <a:off x="7152840" y="4524840"/>
              <a:ext cx="12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88"/>
            <p:cNvSpPr/>
            <p:nvPr/>
          </p:nvSpPr>
          <p:spPr>
            <a:xfrm>
              <a:off x="7165440" y="4533480"/>
              <a:ext cx="86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89"/>
            <p:cNvSpPr/>
            <p:nvPr/>
          </p:nvSpPr>
          <p:spPr>
            <a:xfrm flipV="1">
              <a:off x="7174080" y="4528080"/>
              <a:ext cx="72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90"/>
            <p:cNvSpPr/>
            <p:nvPr/>
          </p:nvSpPr>
          <p:spPr>
            <a:xfrm flipV="1">
              <a:off x="7181280" y="4512240"/>
              <a:ext cx="86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91"/>
            <p:cNvSpPr/>
            <p:nvPr/>
          </p:nvSpPr>
          <p:spPr>
            <a:xfrm flipV="1">
              <a:off x="7190280" y="4500000"/>
              <a:ext cx="50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92"/>
            <p:cNvSpPr/>
            <p:nvPr/>
          </p:nvSpPr>
          <p:spPr>
            <a:xfrm flipV="1">
              <a:off x="7195320" y="448740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93"/>
            <p:cNvSpPr/>
            <p:nvPr/>
          </p:nvSpPr>
          <p:spPr>
            <a:xfrm flipV="1">
              <a:off x="7197480" y="4475160"/>
              <a:ext cx="144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94"/>
            <p:cNvSpPr/>
            <p:nvPr/>
          </p:nvSpPr>
          <p:spPr>
            <a:xfrm flipH="1" flipV="1">
              <a:off x="7193880" y="44629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95"/>
            <p:cNvSpPr/>
            <p:nvPr/>
          </p:nvSpPr>
          <p:spPr>
            <a:xfrm flipH="1" flipV="1">
              <a:off x="7188480" y="4452120"/>
              <a:ext cx="50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96"/>
            <p:cNvSpPr/>
            <p:nvPr/>
          </p:nvSpPr>
          <p:spPr>
            <a:xfrm flipH="1" flipV="1">
              <a:off x="7181280" y="444312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7"/>
            <p:cNvSpPr/>
            <p:nvPr/>
          </p:nvSpPr>
          <p:spPr>
            <a:xfrm flipH="1" flipV="1">
              <a:off x="7170480" y="4434480"/>
              <a:ext cx="10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98"/>
            <p:cNvSpPr/>
            <p:nvPr/>
          </p:nvSpPr>
          <p:spPr>
            <a:xfrm flipH="1" flipV="1">
              <a:off x="7159680" y="4427280"/>
              <a:ext cx="10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99"/>
            <p:cNvSpPr/>
            <p:nvPr/>
          </p:nvSpPr>
          <p:spPr>
            <a:xfrm>
              <a:off x="7160040" y="4427280"/>
              <a:ext cx="158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100"/>
            <p:cNvSpPr/>
            <p:nvPr/>
          </p:nvSpPr>
          <p:spPr>
            <a:xfrm>
              <a:off x="7176240" y="4432680"/>
              <a:ext cx="140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01"/>
            <p:cNvSpPr/>
            <p:nvPr/>
          </p:nvSpPr>
          <p:spPr>
            <a:xfrm>
              <a:off x="7190280" y="4439520"/>
              <a:ext cx="122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02"/>
            <p:cNvSpPr/>
            <p:nvPr/>
          </p:nvSpPr>
          <p:spPr>
            <a:xfrm>
              <a:off x="7202520" y="4450320"/>
              <a:ext cx="10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103"/>
            <p:cNvSpPr/>
            <p:nvPr/>
          </p:nvSpPr>
          <p:spPr>
            <a:xfrm flipV="1">
              <a:off x="7212960" y="4439520"/>
              <a:ext cx="720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104"/>
            <p:cNvSpPr/>
            <p:nvPr/>
          </p:nvSpPr>
          <p:spPr>
            <a:xfrm flipV="1">
              <a:off x="7220160" y="4417920"/>
              <a:ext cx="86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05"/>
            <p:cNvSpPr/>
            <p:nvPr/>
          </p:nvSpPr>
          <p:spPr>
            <a:xfrm flipV="1">
              <a:off x="7229160" y="4407480"/>
              <a:ext cx="50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06"/>
            <p:cNvSpPr/>
            <p:nvPr/>
          </p:nvSpPr>
          <p:spPr>
            <a:xfrm flipV="1">
              <a:off x="7234200" y="439704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07"/>
            <p:cNvSpPr/>
            <p:nvPr/>
          </p:nvSpPr>
          <p:spPr>
            <a:xfrm flipV="1">
              <a:off x="7236360" y="438660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08"/>
            <p:cNvSpPr/>
            <p:nvPr/>
          </p:nvSpPr>
          <p:spPr>
            <a:xfrm flipH="1" flipV="1">
              <a:off x="7236360" y="4374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09"/>
            <p:cNvSpPr/>
            <p:nvPr/>
          </p:nvSpPr>
          <p:spPr>
            <a:xfrm flipH="1" flipV="1">
              <a:off x="7233840" y="436320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10"/>
            <p:cNvSpPr/>
            <p:nvPr/>
          </p:nvSpPr>
          <p:spPr>
            <a:xfrm flipH="1" flipV="1">
              <a:off x="7227360" y="4352760"/>
              <a:ext cx="648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111"/>
            <p:cNvSpPr/>
            <p:nvPr/>
          </p:nvSpPr>
          <p:spPr>
            <a:xfrm flipH="1" flipV="1">
              <a:off x="7221600" y="4344120"/>
              <a:ext cx="54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12"/>
            <p:cNvSpPr/>
            <p:nvPr/>
          </p:nvSpPr>
          <p:spPr>
            <a:xfrm flipH="1" flipV="1">
              <a:off x="7212960" y="4337280"/>
              <a:ext cx="86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113"/>
            <p:cNvSpPr/>
            <p:nvPr/>
          </p:nvSpPr>
          <p:spPr>
            <a:xfrm flipH="1" flipV="1">
              <a:off x="7206120" y="4331160"/>
              <a:ext cx="648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14"/>
            <p:cNvSpPr/>
            <p:nvPr/>
          </p:nvSpPr>
          <p:spPr>
            <a:xfrm flipH="1" flipV="1">
              <a:off x="7202520" y="4324680"/>
              <a:ext cx="36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5"/>
            <p:cNvSpPr/>
            <p:nvPr/>
          </p:nvSpPr>
          <p:spPr>
            <a:xfrm flipH="1" flipV="1">
              <a:off x="7198920" y="431604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16"/>
            <p:cNvSpPr/>
            <p:nvPr/>
          </p:nvSpPr>
          <p:spPr>
            <a:xfrm>
              <a:off x="7198920" y="4316040"/>
              <a:ext cx="50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117"/>
            <p:cNvSpPr/>
            <p:nvPr/>
          </p:nvSpPr>
          <p:spPr>
            <a:xfrm>
              <a:off x="7204320" y="4322880"/>
              <a:ext cx="86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18"/>
            <p:cNvSpPr/>
            <p:nvPr/>
          </p:nvSpPr>
          <p:spPr>
            <a:xfrm>
              <a:off x="7212960" y="4326480"/>
              <a:ext cx="72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119"/>
            <p:cNvSpPr/>
            <p:nvPr/>
          </p:nvSpPr>
          <p:spPr>
            <a:xfrm>
              <a:off x="7220160" y="4330080"/>
              <a:ext cx="2808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120"/>
            <p:cNvSpPr/>
            <p:nvPr/>
          </p:nvSpPr>
          <p:spPr>
            <a:xfrm>
              <a:off x="7248240" y="4349160"/>
              <a:ext cx="23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121"/>
            <p:cNvSpPr/>
            <p:nvPr/>
          </p:nvSpPr>
          <p:spPr>
            <a:xfrm>
              <a:off x="7271640" y="4372560"/>
              <a:ext cx="19080" cy="28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122"/>
            <p:cNvSpPr/>
            <p:nvPr/>
          </p:nvSpPr>
          <p:spPr>
            <a:xfrm flipV="1">
              <a:off x="7291080" y="4386240"/>
              <a:ext cx="1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123"/>
            <p:cNvSpPr/>
            <p:nvPr/>
          </p:nvSpPr>
          <p:spPr>
            <a:xfrm flipV="1">
              <a:off x="7292880" y="4374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124"/>
            <p:cNvSpPr/>
            <p:nvPr/>
          </p:nvSpPr>
          <p:spPr>
            <a:xfrm flipH="1" flipV="1">
              <a:off x="7292880" y="4359600"/>
              <a:ext cx="14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125"/>
            <p:cNvSpPr/>
            <p:nvPr/>
          </p:nvSpPr>
          <p:spPr>
            <a:xfrm flipH="1" flipV="1">
              <a:off x="7290720" y="434772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126"/>
            <p:cNvSpPr/>
            <p:nvPr/>
          </p:nvSpPr>
          <p:spPr>
            <a:xfrm flipH="1" flipV="1">
              <a:off x="7287480" y="43351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127"/>
            <p:cNvSpPr/>
            <p:nvPr/>
          </p:nvSpPr>
          <p:spPr>
            <a:xfrm flipH="1" flipV="1">
              <a:off x="7280640" y="4324320"/>
              <a:ext cx="64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28"/>
            <p:cNvSpPr/>
            <p:nvPr/>
          </p:nvSpPr>
          <p:spPr>
            <a:xfrm flipH="1" flipV="1">
              <a:off x="7273440" y="431604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29"/>
            <p:cNvSpPr/>
            <p:nvPr/>
          </p:nvSpPr>
          <p:spPr>
            <a:xfrm flipH="1" flipV="1">
              <a:off x="7266600" y="4308480"/>
              <a:ext cx="6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30"/>
            <p:cNvSpPr/>
            <p:nvPr/>
          </p:nvSpPr>
          <p:spPr>
            <a:xfrm flipH="1" flipV="1">
              <a:off x="7260480" y="4290480"/>
              <a:ext cx="54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31"/>
            <p:cNvSpPr/>
            <p:nvPr/>
          </p:nvSpPr>
          <p:spPr>
            <a:xfrm flipH="1" flipV="1">
              <a:off x="7259400" y="4272840"/>
              <a:ext cx="14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32"/>
            <p:cNvSpPr/>
            <p:nvPr/>
          </p:nvSpPr>
          <p:spPr>
            <a:xfrm flipV="1">
              <a:off x="7259400" y="4253760"/>
              <a:ext cx="0" cy="1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33"/>
            <p:cNvSpPr/>
            <p:nvPr/>
          </p:nvSpPr>
          <p:spPr>
            <a:xfrm flipV="1">
              <a:off x="7259400" y="4235760"/>
              <a:ext cx="14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34"/>
            <p:cNvSpPr/>
            <p:nvPr/>
          </p:nvSpPr>
          <p:spPr>
            <a:xfrm flipV="1">
              <a:off x="7260840" y="4217760"/>
              <a:ext cx="36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135"/>
            <p:cNvSpPr/>
            <p:nvPr/>
          </p:nvSpPr>
          <p:spPr>
            <a:xfrm flipV="1">
              <a:off x="7264440" y="4202280"/>
              <a:ext cx="72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36"/>
            <p:cNvSpPr/>
            <p:nvPr/>
          </p:nvSpPr>
          <p:spPr>
            <a:xfrm flipV="1">
              <a:off x="7271640" y="4189680"/>
              <a:ext cx="864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37"/>
            <p:cNvSpPr/>
            <p:nvPr/>
          </p:nvSpPr>
          <p:spPr>
            <a:xfrm flipV="1">
              <a:off x="7280640" y="4179240"/>
              <a:ext cx="10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8"/>
            <p:cNvSpPr/>
            <p:nvPr/>
          </p:nvSpPr>
          <p:spPr>
            <a:xfrm flipH="1">
              <a:off x="7287480" y="417924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39"/>
            <p:cNvSpPr/>
            <p:nvPr/>
          </p:nvSpPr>
          <p:spPr>
            <a:xfrm>
              <a:off x="7287480" y="4190040"/>
              <a:ext cx="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40"/>
            <p:cNvSpPr/>
            <p:nvPr/>
          </p:nvSpPr>
          <p:spPr>
            <a:xfrm>
              <a:off x="7287480" y="420228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41"/>
            <p:cNvSpPr/>
            <p:nvPr/>
          </p:nvSpPr>
          <p:spPr>
            <a:xfrm>
              <a:off x="7287480" y="42145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42"/>
            <p:cNvSpPr/>
            <p:nvPr/>
          </p:nvSpPr>
          <p:spPr>
            <a:xfrm>
              <a:off x="7291080" y="4227120"/>
              <a:ext cx="54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43"/>
            <p:cNvSpPr/>
            <p:nvPr/>
          </p:nvSpPr>
          <p:spPr>
            <a:xfrm>
              <a:off x="7296480" y="4241160"/>
              <a:ext cx="648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144"/>
            <p:cNvSpPr/>
            <p:nvPr/>
          </p:nvSpPr>
          <p:spPr>
            <a:xfrm>
              <a:off x="7303320" y="4253760"/>
              <a:ext cx="86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45"/>
            <p:cNvSpPr/>
            <p:nvPr/>
          </p:nvSpPr>
          <p:spPr>
            <a:xfrm>
              <a:off x="7312320" y="4264560"/>
              <a:ext cx="86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46"/>
            <p:cNvSpPr/>
            <p:nvPr/>
          </p:nvSpPr>
          <p:spPr>
            <a:xfrm>
              <a:off x="7320960" y="4275000"/>
              <a:ext cx="86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147"/>
            <p:cNvSpPr/>
            <p:nvPr/>
          </p:nvSpPr>
          <p:spPr>
            <a:xfrm>
              <a:off x="7329960" y="4283640"/>
              <a:ext cx="72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148"/>
            <p:cNvSpPr/>
            <p:nvPr/>
          </p:nvSpPr>
          <p:spPr>
            <a:xfrm>
              <a:off x="7337160" y="4294440"/>
              <a:ext cx="72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149"/>
            <p:cNvSpPr/>
            <p:nvPr/>
          </p:nvSpPr>
          <p:spPr>
            <a:xfrm>
              <a:off x="7344360" y="4308480"/>
              <a:ext cx="50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150"/>
            <p:cNvSpPr/>
            <p:nvPr/>
          </p:nvSpPr>
          <p:spPr>
            <a:xfrm>
              <a:off x="7349400" y="432288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151"/>
            <p:cNvSpPr/>
            <p:nvPr/>
          </p:nvSpPr>
          <p:spPr>
            <a:xfrm>
              <a:off x="7353360" y="433872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152"/>
            <p:cNvSpPr/>
            <p:nvPr/>
          </p:nvSpPr>
          <p:spPr>
            <a:xfrm>
              <a:off x="7354800" y="4354920"/>
              <a:ext cx="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53"/>
            <p:cNvSpPr/>
            <p:nvPr/>
          </p:nvSpPr>
          <p:spPr>
            <a:xfrm flipH="1">
              <a:off x="7351200" y="437040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54"/>
            <p:cNvSpPr/>
            <p:nvPr/>
          </p:nvSpPr>
          <p:spPr>
            <a:xfrm flipV="1">
              <a:off x="7351200" y="438300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55"/>
            <p:cNvSpPr/>
            <p:nvPr/>
          </p:nvSpPr>
          <p:spPr>
            <a:xfrm flipV="1">
              <a:off x="7354800" y="437940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156"/>
            <p:cNvSpPr/>
            <p:nvPr/>
          </p:nvSpPr>
          <p:spPr>
            <a:xfrm flipV="1">
              <a:off x="7358400" y="43740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157"/>
            <p:cNvSpPr/>
            <p:nvPr/>
          </p:nvSpPr>
          <p:spPr>
            <a:xfrm flipV="1">
              <a:off x="7362000" y="436896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58"/>
            <p:cNvSpPr/>
            <p:nvPr/>
          </p:nvSpPr>
          <p:spPr>
            <a:xfrm flipV="1">
              <a:off x="7365240" y="43617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59"/>
            <p:cNvSpPr/>
            <p:nvPr/>
          </p:nvSpPr>
          <p:spPr>
            <a:xfrm flipV="1">
              <a:off x="7368840" y="435636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60"/>
            <p:cNvSpPr/>
            <p:nvPr/>
          </p:nvSpPr>
          <p:spPr>
            <a:xfrm flipV="1">
              <a:off x="7371000" y="43491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161"/>
            <p:cNvSpPr/>
            <p:nvPr/>
          </p:nvSpPr>
          <p:spPr>
            <a:xfrm flipV="1">
              <a:off x="7374600" y="4344120"/>
              <a:ext cx="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162"/>
            <p:cNvSpPr/>
            <p:nvPr/>
          </p:nvSpPr>
          <p:spPr>
            <a:xfrm flipH="1" flipV="1">
              <a:off x="7374600" y="4343760"/>
              <a:ext cx="86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63"/>
            <p:cNvSpPr/>
            <p:nvPr/>
          </p:nvSpPr>
          <p:spPr>
            <a:xfrm>
              <a:off x="7212960" y="4427280"/>
              <a:ext cx="178920" cy="22140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250" h="311">
                  <a:moveTo>
                    <a:pt x="154" y="311"/>
                  </a:moveTo>
                  <a:lnTo>
                    <a:pt x="123" y="311"/>
                  </a:lnTo>
                  <a:lnTo>
                    <a:pt x="94" y="298"/>
                  </a:lnTo>
                  <a:lnTo>
                    <a:pt x="77" y="286"/>
                  </a:lnTo>
                  <a:lnTo>
                    <a:pt x="63" y="271"/>
                  </a:lnTo>
                  <a:lnTo>
                    <a:pt x="50" y="252"/>
                  </a:lnTo>
                  <a:lnTo>
                    <a:pt x="42" y="231"/>
                  </a:lnTo>
                  <a:lnTo>
                    <a:pt x="37" y="222"/>
                  </a:lnTo>
                  <a:lnTo>
                    <a:pt x="30" y="213"/>
                  </a:lnTo>
                  <a:lnTo>
                    <a:pt x="21" y="206"/>
                  </a:lnTo>
                  <a:lnTo>
                    <a:pt x="11" y="200"/>
                  </a:lnTo>
                  <a:lnTo>
                    <a:pt x="0" y="197"/>
                  </a:lnTo>
                  <a:lnTo>
                    <a:pt x="9" y="193"/>
                  </a:lnTo>
                  <a:lnTo>
                    <a:pt x="19" y="191"/>
                  </a:lnTo>
                  <a:lnTo>
                    <a:pt x="29" y="191"/>
                  </a:lnTo>
                  <a:lnTo>
                    <a:pt x="39" y="193"/>
                  </a:lnTo>
                  <a:lnTo>
                    <a:pt x="49" y="197"/>
                  </a:lnTo>
                  <a:lnTo>
                    <a:pt x="43" y="189"/>
                  </a:lnTo>
                  <a:lnTo>
                    <a:pt x="40" y="181"/>
                  </a:lnTo>
                  <a:lnTo>
                    <a:pt x="37" y="172"/>
                  </a:lnTo>
                  <a:lnTo>
                    <a:pt x="37" y="163"/>
                  </a:lnTo>
                  <a:lnTo>
                    <a:pt x="38" y="154"/>
                  </a:lnTo>
                  <a:lnTo>
                    <a:pt x="37" y="145"/>
                  </a:lnTo>
                  <a:lnTo>
                    <a:pt x="34" y="136"/>
                  </a:lnTo>
                  <a:lnTo>
                    <a:pt x="29" y="128"/>
                  </a:lnTo>
                  <a:lnTo>
                    <a:pt x="36" y="130"/>
                  </a:lnTo>
                  <a:lnTo>
                    <a:pt x="42" y="133"/>
                  </a:lnTo>
                  <a:lnTo>
                    <a:pt x="48" y="137"/>
                  </a:lnTo>
                  <a:lnTo>
                    <a:pt x="53" y="142"/>
                  </a:lnTo>
                  <a:lnTo>
                    <a:pt x="57" y="147"/>
                  </a:lnTo>
                  <a:lnTo>
                    <a:pt x="61" y="153"/>
                  </a:lnTo>
                  <a:lnTo>
                    <a:pt x="64" y="161"/>
                  </a:lnTo>
                  <a:lnTo>
                    <a:pt x="67" y="169"/>
                  </a:lnTo>
                  <a:lnTo>
                    <a:pt x="69" y="177"/>
                  </a:lnTo>
                  <a:lnTo>
                    <a:pt x="73" y="191"/>
                  </a:lnTo>
                  <a:lnTo>
                    <a:pt x="80" y="204"/>
                  </a:lnTo>
                  <a:lnTo>
                    <a:pt x="89" y="216"/>
                  </a:lnTo>
                  <a:lnTo>
                    <a:pt x="100" y="226"/>
                  </a:lnTo>
                  <a:lnTo>
                    <a:pt x="99" y="226"/>
                  </a:lnTo>
                  <a:lnTo>
                    <a:pt x="93" y="212"/>
                  </a:lnTo>
                  <a:lnTo>
                    <a:pt x="89" y="198"/>
                  </a:lnTo>
                  <a:lnTo>
                    <a:pt x="87" y="183"/>
                  </a:lnTo>
                  <a:lnTo>
                    <a:pt x="86" y="168"/>
                  </a:lnTo>
                  <a:lnTo>
                    <a:pt x="87" y="153"/>
                  </a:lnTo>
                  <a:lnTo>
                    <a:pt x="86" y="138"/>
                  </a:lnTo>
                  <a:lnTo>
                    <a:pt x="84" y="123"/>
                  </a:lnTo>
                  <a:lnTo>
                    <a:pt x="79" y="109"/>
                  </a:lnTo>
                  <a:lnTo>
                    <a:pt x="74" y="100"/>
                  </a:lnTo>
                  <a:lnTo>
                    <a:pt x="70" y="90"/>
                  </a:lnTo>
                  <a:lnTo>
                    <a:pt x="69" y="79"/>
                  </a:lnTo>
                  <a:lnTo>
                    <a:pt x="69" y="69"/>
                  </a:lnTo>
                  <a:lnTo>
                    <a:pt x="73" y="76"/>
                  </a:lnTo>
                  <a:lnTo>
                    <a:pt x="79" y="83"/>
                  </a:lnTo>
                  <a:lnTo>
                    <a:pt x="86" y="90"/>
                  </a:lnTo>
                  <a:lnTo>
                    <a:pt x="93" y="95"/>
                  </a:lnTo>
                  <a:lnTo>
                    <a:pt x="101" y="99"/>
                  </a:lnTo>
                  <a:lnTo>
                    <a:pt x="108" y="104"/>
                  </a:lnTo>
                  <a:lnTo>
                    <a:pt x="114" y="111"/>
                  </a:lnTo>
                  <a:lnTo>
                    <a:pt x="118" y="118"/>
                  </a:lnTo>
                  <a:lnTo>
                    <a:pt x="124" y="106"/>
                  </a:lnTo>
                  <a:lnTo>
                    <a:pt x="127" y="90"/>
                  </a:lnTo>
                  <a:lnTo>
                    <a:pt x="128" y="71"/>
                  </a:lnTo>
                  <a:lnTo>
                    <a:pt x="126" y="51"/>
                  </a:lnTo>
                  <a:lnTo>
                    <a:pt x="122" y="35"/>
                  </a:lnTo>
                  <a:lnTo>
                    <a:pt x="121" y="21"/>
                  </a:lnTo>
                  <a:lnTo>
                    <a:pt x="123" y="9"/>
                  </a:lnTo>
                  <a:lnTo>
                    <a:pt x="128" y="0"/>
                  </a:lnTo>
                  <a:lnTo>
                    <a:pt x="127" y="11"/>
                  </a:lnTo>
                  <a:lnTo>
                    <a:pt x="130" y="24"/>
                  </a:lnTo>
                  <a:lnTo>
                    <a:pt x="136" y="38"/>
                  </a:lnTo>
                  <a:lnTo>
                    <a:pt x="144" y="53"/>
                  </a:lnTo>
                  <a:lnTo>
                    <a:pt x="159" y="90"/>
                  </a:lnTo>
                  <a:lnTo>
                    <a:pt x="161" y="124"/>
                  </a:lnTo>
                  <a:lnTo>
                    <a:pt x="152" y="153"/>
                  </a:lnTo>
                  <a:lnTo>
                    <a:pt x="132" y="177"/>
                  </a:lnTo>
                  <a:lnTo>
                    <a:pt x="163" y="170"/>
                  </a:lnTo>
                  <a:lnTo>
                    <a:pt x="188" y="153"/>
                  </a:lnTo>
                  <a:lnTo>
                    <a:pt x="206" y="124"/>
                  </a:lnTo>
                  <a:lnTo>
                    <a:pt x="205" y="158"/>
                  </a:lnTo>
                  <a:lnTo>
                    <a:pt x="193" y="186"/>
                  </a:lnTo>
                  <a:lnTo>
                    <a:pt x="170" y="208"/>
                  </a:lnTo>
                  <a:lnTo>
                    <a:pt x="201" y="201"/>
                  </a:lnTo>
                  <a:lnTo>
                    <a:pt x="226" y="183"/>
                  </a:lnTo>
                  <a:lnTo>
                    <a:pt x="243" y="155"/>
                  </a:lnTo>
                  <a:lnTo>
                    <a:pt x="250" y="200"/>
                  </a:lnTo>
                  <a:lnTo>
                    <a:pt x="241" y="239"/>
                  </a:lnTo>
                  <a:lnTo>
                    <a:pt x="216" y="274"/>
                  </a:lnTo>
                  <a:lnTo>
                    <a:pt x="185" y="298"/>
                  </a:lnTo>
                  <a:lnTo>
                    <a:pt x="154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164"/>
            <p:cNvSpPr/>
            <p:nvPr/>
          </p:nvSpPr>
          <p:spPr>
            <a:xfrm flipH="1">
              <a:off x="7301520" y="4649040"/>
              <a:ext cx="212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165"/>
            <p:cNvSpPr/>
            <p:nvPr/>
          </p:nvSpPr>
          <p:spPr>
            <a:xfrm flipH="1" flipV="1">
              <a:off x="7280280" y="4640040"/>
              <a:ext cx="21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166"/>
            <p:cNvSpPr/>
            <p:nvPr/>
          </p:nvSpPr>
          <p:spPr>
            <a:xfrm flipH="1" flipV="1">
              <a:off x="7268040" y="4631040"/>
              <a:ext cx="12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167"/>
            <p:cNvSpPr/>
            <p:nvPr/>
          </p:nvSpPr>
          <p:spPr>
            <a:xfrm flipH="1" flipV="1">
              <a:off x="7259400" y="4620240"/>
              <a:ext cx="86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168"/>
            <p:cNvSpPr/>
            <p:nvPr/>
          </p:nvSpPr>
          <p:spPr>
            <a:xfrm flipH="1" flipV="1">
              <a:off x="7248240" y="4605840"/>
              <a:ext cx="10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169"/>
            <p:cNvSpPr/>
            <p:nvPr/>
          </p:nvSpPr>
          <p:spPr>
            <a:xfrm flipH="1" flipV="1">
              <a:off x="7243200" y="4591800"/>
              <a:ext cx="50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170"/>
            <p:cNvSpPr/>
            <p:nvPr/>
          </p:nvSpPr>
          <p:spPr>
            <a:xfrm flipH="1" flipV="1">
              <a:off x="7239600" y="45849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171"/>
            <p:cNvSpPr/>
            <p:nvPr/>
          </p:nvSpPr>
          <p:spPr>
            <a:xfrm flipH="1" flipV="1">
              <a:off x="7234200" y="4579920"/>
              <a:ext cx="50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172"/>
            <p:cNvSpPr/>
            <p:nvPr/>
          </p:nvSpPr>
          <p:spPr>
            <a:xfrm flipH="1" flipV="1">
              <a:off x="7229160" y="4573800"/>
              <a:ext cx="50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173"/>
            <p:cNvSpPr/>
            <p:nvPr/>
          </p:nvSpPr>
          <p:spPr>
            <a:xfrm flipH="1" flipV="1">
              <a:off x="7221960" y="4569120"/>
              <a:ext cx="72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174"/>
            <p:cNvSpPr/>
            <p:nvPr/>
          </p:nvSpPr>
          <p:spPr>
            <a:xfrm flipH="1" flipV="1">
              <a:off x="7212960" y="4567320"/>
              <a:ext cx="8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75"/>
            <p:cNvSpPr/>
            <p:nvPr/>
          </p:nvSpPr>
          <p:spPr>
            <a:xfrm flipV="1">
              <a:off x="7212960" y="4564800"/>
              <a:ext cx="7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176"/>
            <p:cNvSpPr/>
            <p:nvPr/>
          </p:nvSpPr>
          <p:spPr>
            <a:xfrm flipV="1">
              <a:off x="7220160" y="4563720"/>
              <a:ext cx="7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177"/>
            <p:cNvSpPr/>
            <p:nvPr/>
          </p:nvSpPr>
          <p:spPr>
            <a:xfrm>
              <a:off x="7227360" y="4563720"/>
              <a:ext cx="64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78"/>
            <p:cNvSpPr/>
            <p:nvPr/>
          </p:nvSpPr>
          <p:spPr>
            <a:xfrm>
              <a:off x="7234200" y="4563720"/>
              <a:ext cx="7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79"/>
            <p:cNvSpPr/>
            <p:nvPr/>
          </p:nvSpPr>
          <p:spPr>
            <a:xfrm>
              <a:off x="7241400" y="456516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80"/>
            <p:cNvSpPr/>
            <p:nvPr/>
          </p:nvSpPr>
          <p:spPr>
            <a:xfrm flipH="1" flipV="1">
              <a:off x="7245000" y="456228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81"/>
            <p:cNvSpPr/>
            <p:nvPr/>
          </p:nvSpPr>
          <p:spPr>
            <a:xfrm flipH="1" flipV="1">
              <a:off x="7241400" y="4556160"/>
              <a:ext cx="36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82"/>
            <p:cNvSpPr/>
            <p:nvPr/>
          </p:nvSpPr>
          <p:spPr>
            <a:xfrm flipH="1" flipV="1">
              <a:off x="7239240" y="454968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83"/>
            <p:cNvSpPr/>
            <p:nvPr/>
          </p:nvSpPr>
          <p:spPr>
            <a:xfrm flipV="1">
              <a:off x="7239600" y="4544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84"/>
            <p:cNvSpPr/>
            <p:nvPr/>
          </p:nvSpPr>
          <p:spPr>
            <a:xfrm flipV="1">
              <a:off x="7239600" y="453708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85"/>
            <p:cNvSpPr/>
            <p:nvPr/>
          </p:nvSpPr>
          <p:spPr>
            <a:xfrm flipH="1" flipV="1">
              <a:off x="7239240" y="452988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186"/>
            <p:cNvSpPr/>
            <p:nvPr/>
          </p:nvSpPr>
          <p:spPr>
            <a:xfrm flipH="1" flipV="1">
              <a:off x="7237800" y="452484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87"/>
            <p:cNvSpPr/>
            <p:nvPr/>
          </p:nvSpPr>
          <p:spPr>
            <a:xfrm flipH="1" flipV="1">
              <a:off x="7234200" y="451944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188"/>
            <p:cNvSpPr/>
            <p:nvPr/>
          </p:nvSpPr>
          <p:spPr>
            <a:xfrm>
              <a:off x="7234200" y="4519440"/>
              <a:ext cx="50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89"/>
            <p:cNvSpPr/>
            <p:nvPr/>
          </p:nvSpPr>
          <p:spPr>
            <a:xfrm>
              <a:off x="7239600" y="451944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90"/>
            <p:cNvSpPr/>
            <p:nvPr/>
          </p:nvSpPr>
          <p:spPr>
            <a:xfrm>
              <a:off x="7243200" y="452304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91"/>
            <p:cNvSpPr/>
            <p:nvPr/>
          </p:nvSpPr>
          <p:spPr>
            <a:xfrm>
              <a:off x="7248240" y="452484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192"/>
            <p:cNvSpPr/>
            <p:nvPr/>
          </p:nvSpPr>
          <p:spPr>
            <a:xfrm>
              <a:off x="7251840" y="452844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193"/>
            <p:cNvSpPr/>
            <p:nvPr/>
          </p:nvSpPr>
          <p:spPr>
            <a:xfrm>
              <a:off x="7254000" y="453204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194"/>
            <p:cNvSpPr/>
            <p:nvPr/>
          </p:nvSpPr>
          <p:spPr>
            <a:xfrm>
              <a:off x="7257600" y="453708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195"/>
            <p:cNvSpPr/>
            <p:nvPr/>
          </p:nvSpPr>
          <p:spPr>
            <a:xfrm>
              <a:off x="7259400" y="454248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196"/>
            <p:cNvSpPr/>
            <p:nvPr/>
          </p:nvSpPr>
          <p:spPr>
            <a:xfrm>
              <a:off x="7260840" y="454752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197"/>
            <p:cNvSpPr/>
            <p:nvPr/>
          </p:nvSpPr>
          <p:spPr>
            <a:xfrm>
              <a:off x="7263000" y="455328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198"/>
            <p:cNvSpPr/>
            <p:nvPr/>
          </p:nvSpPr>
          <p:spPr>
            <a:xfrm>
              <a:off x="7266600" y="4563720"/>
              <a:ext cx="288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99"/>
            <p:cNvSpPr/>
            <p:nvPr/>
          </p:nvSpPr>
          <p:spPr>
            <a:xfrm>
              <a:off x="7269840" y="457272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200"/>
            <p:cNvSpPr/>
            <p:nvPr/>
          </p:nvSpPr>
          <p:spPr>
            <a:xfrm>
              <a:off x="7277040" y="4581360"/>
              <a:ext cx="72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201"/>
            <p:cNvSpPr/>
            <p:nvPr/>
          </p:nvSpPr>
          <p:spPr>
            <a:xfrm flipH="1" flipV="1">
              <a:off x="7280640" y="457776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202"/>
            <p:cNvSpPr/>
            <p:nvPr/>
          </p:nvSpPr>
          <p:spPr>
            <a:xfrm flipH="1" flipV="1">
              <a:off x="7277040" y="456912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203"/>
            <p:cNvSpPr/>
            <p:nvPr/>
          </p:nvSpPr>
          <p:spPr>
            <a:xfrm flipH="1" flipV="1">
              <a:off x="7275240" y="4558320"/>
              <a:ext cx="14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204"/>
            <p:cNvSpPr/>
            <p:nvPr/>
          </p:nvSpPr>
          <p:spPr>
            <a:xfrm flipV="1">
              <a:off x="7275240" y="4547520"/>
              <a:ext cx="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205"/>
            <p:cNvSpPr/>
            <p:nvPr/>
          </p:nvSpPr>
          <p:spPr>
            <a:xfrm flipV="1">
              <a:off x="7275240" y="4536720"/>
              <a:ext cx="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206"/>
            <p:cNvSpPr/>
            <p:nvPr/>
          </p:nvSpPr>
          <p:spPr>
            <a:xfrm flipV="1">
              <a:off x="7275240" y="4526280"/>
              <a:ext cx="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207"/>
            <p:cNvSpPr/>
            <p:nvPr/>
          </p:nvSpPr>
          <p:spPr>
            <a:xfrm flipH="1" flipV="1">
              <a:off x="7273080" y="451548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208"/>
            <p:cNvSpPr/>
            <p:nvPr/>
          </p:nvSpPr>
          <p:spPr>
            <a:xfrm flipH="1" flipV="1">
              <a:off x="7269840" y="450504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209"/>
            <p:cNvSpPr/>
            <p:nvPr/>
          </p:nvSpPr>
          <p:spPr>
            <a:xfrm flipH="1" flipV="1">
              <a:off x="7266600" y="4498200"/>
              <a:ext cx="288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210"/>
            <p:cNvSpPr/>
            <p:nvPr/>
          </p:nvSpPr>
          <p:spPr>
            <a:xfrm flipH="1" flipV="1">
              <a:off x="7263000" y="449100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211"/>
            <p:cNvSpPr/>
            <p:nvPr/>
          </p:nvSpPr>
          <p:spPr>
            <a:xfrm flipV="1">
              <a:off x="7263000" y="4484160"/>
              <a:ext cx="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212"/>
            <p:cNvSpPr/>
            <p:nvPr/>
          </p:nvSpPr>
          <p:spPr>
            <a:xfrm flipV="1">
              <a:off x="7263000" y="4476960"/>
              <a:ext cx="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213"/>
            <p:cNvSpPr/>
            <p:nvPr/>
          </p:nvSpPr>
          <p:spPr>
            <a:xfrm>
              <a:off x="7263000" y="447696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214"/>
            <p:cNvSpPr/>
            <p:nvPr/>
          </p:nvSpPr>
          <p:spPr>
            <a:xfrm>
              <a:off x="7266600" y="4482360"/>
              <a:ext cx="288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215"/>
            <p:cNvSpPr/>
            <p:nvPr/>
          </p:nvSpPr>
          <p:spPr>
            <a:xfrm>
              <a:off x="7269840" y="4485960"/>
              <a:ext cx="54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216"/>
            <p:cNvSpPr/>
            <p:nvPr/>
          </p:nvSpPr>
          <p:spPr>
            <a:xfrm>
              <a:off x="7275240" y="44910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217"/>
            <p:cNvSpPr/>
            <p:nvPr/>
          </p:nvSpPr>
          <p:spPr>
            <a:xfrm>
              <a:off x="7280640" y="44946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218"/>
            <p:cNvSpPr/>
            <p:nvPr/>
          </p:nvSpPr>
          <p:spPr>
            <a:xfrm>
              <a:off x="7285680" y="44982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19"/>
            <p:cNvSpPr/>
            <p:nvPr/>
          </p:nvSpPr>
          <p:spPr>
            <a:xfrm>
              <a:off x="7291080" y="45018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220"/>
            <p:cNvSpPr/>
            <p:nvPr/>
          </p:nvSpPr>
          <p:spPr>
            <a:xfrm>
              <a:off x="7294680" y="45072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221"/>
            <p:cNvSpPr/>
            <p:nvPr/>
          </p:nvSpPr>
          <p:spPr>
            <a:xfrm flipV="1">
              <a:off x="7298280" y="450360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222"/>
            <p:cNvSpPr/>
            <p:nvPr/>
          </p:nvSpPr>
          <p:spPr>
            <a:xfrm flipV="1">
              <a:off x="7301880" y="4491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23"/>
            <p:cNvSpPr/>
            <p:nvPr/>
          </p:nvSpPr>
          <p:spPr>
            <a:xfrm flipV="1">
              <a:off x="7303320" y="447840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24"/>
            <p:cNvSpPr/>
            <p:nvPr/>
          </p:nvSpPr>
          <p:spPr>
            <a:xfrm flipH="1" flipV="1">
              <a:off x="7302960" y="4464000"/>
              <a:ext cx="1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25"/>
            <p:cNvSpPr/>
            <p:nvPr/>
          </p:nvSpPr>
          <p:spPr>
            <a:xfrm flipH="1" flipV="1">
              <a:off x="7299720" y="44521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26"/>
            <p:cNvSpPr/>
            <p:nvPr/>
          </p:nvSpPr>
          <p:spPr>
            <a:xfrm flipV="1">
              <a:off x="7299720" y="4443120"/>
              <a:ext cx="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27"/>
            <p:cNvSpPr/>
            <p:nvPr/>
          </p:nvSpPr>
          <p:spPr>
            <a:xfrm flipV="1">
              <a:off x="7299720" y="44344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28"/>
            <p:cNvSpPr/>
            <p:nvPr/>
          </p:nvSpPr>
          <p:spPr>
            <a:xfrm flipV="1">
              <a:off x="7301880" y="44272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29"/>
            <p:cNvSpPr/>
            <p:nvPr/>
          </p:nvSpPr>
          <p:spPr>
            <a:xfrm flipH="1">
              <a:off x="7302960" y="4427280"/>
              <a:ext cx="1800" cy="9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230"/>
            <p:cNvSpPr/>
            <p:nvPr/>
          </p:nvSpPr>
          <p:spPr>
            <a:xfrm>
              <a:off x="7303320" y="44362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231"/>
            <p:cNvSpPr/>
            <p:nvPr/>
          </p:nvSpPr>
          <p:spPr>
            <a:xfrm>
              <a:off x="7305480" y="4445280"/>
              <a:ext cx="5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232"/>
            <p:cNvSpPr/>
            <p:nvPr/>
          </p:nvSpPr>
          <p:spPr>
            <a:xfrm>
              <a:off x="7310520" y="4453920"/>
              <a:ext cx="50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233"/>
            <p:cNvSpPr/>
            <p:nvPr/>
          </p:nvSpPr>
          <p:spPr>
            <a:xfrm>
              <a:off x="7315920" y="4464360"/>
              <a:ext cx="1044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234"/>
            <p:cNvSpPr/>
            <p:nvPr/>
          </p:nvSpPr>
          <p:spPr>
            <a:xfrm>
              <a:off x="7326360" y="4491000"/>
              <a:ext cx="180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235"/>
            <p:cNvSpPr/>
            <p:nvPr/>
          </p:nvSpPr>
          <p:spPr>
            <a:xfrm flipH="1">
              <a:off x="7320960" y="4515840"/>
              <a:ext cx="720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36"/>
            <p:cNvSpPr/>
            <p:nvPr/>
          </p:nvSpPr>
          <p:spPr>
            <a:xfrm flipH="1">
              <a:off x="7306560" y="4537080"/>
              <a:ext cx="140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237"/>
            <p:cNvSpPr/>
            <p:nvPr/>
          </p:nvSpPr>
          <p:spPr>
            <a:xfrm flipV="1">
              <a:off x="7306920" y="4547160"/>
              <a:ext cx="2268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238"/>
            <p:cNvSpPr/>
            <p:nvPr/>
          </p:nvSpPr>
          <p:spPr>
            <a:xfrm flipV="1">
              <a:off x="7329960" y="4536720"/>
              <a:ext cx="176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39"/>
            <p:cNvSpPr/>
            <p:nvPr/>
          </p:nvSpPr>
          <p:spPr>
            <a:xfrm flipV="1">
              <a:off x="7347600" y="4515480"/>
              <a:ext cx="122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240"/>
            <p:cNvSpPr/>
            <p:nvPr/>
          </p:nvSpPr>
          <p:spPr>
            <a:xfrm>
              <a:off x="7359840" y="4515840"/>
              <a:ext cx="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241"/>
            <p:cNvSpPr/>
            <p:nvPr/>
          </p:nvSpPr>
          <p:spPr>
            <a:xfrm flipH="1">
              <a:off x="7351200" y="4540680"/>
              <a:ext cx="864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242"/>
            <p:cNvSpPr/>
            <p:nvPr/>
          </p:nvSpPr>
          <p:spPr>
            <a:xfrm flipH="1">
              <a:off x="7333200" y="4560120"/>
              <a:ext cx="176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243"/>
            <p:cNvSpPr/>
            <p:nvPr/>
          </p:nvSpPr>
          <p:spPr>
            <a:xfrm flipV="1">
              <a:off x="7333560" y="4570920"/>
              <a:ext cx="226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244"/>
            <p:cNvSpPr/>
            <p:nvPr/>
          </p:nvSpPr>
          <p:spPr>
            <a:xfrm flipV="1">
              <a:off x="7356240" y="4558680"/>
              <a:ext cx="180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245"/>
            <p:cNvSpPr/>
            <p:nvPr/>
          </p:nvSpPr>
          <p:spPr>
            <a:xfrm flipV="1">
              <a:off x="7374600" y="4536720"/>
              <a:ext cx="118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246"/>
            <p:cNvSpPr/>
            <p:nvPr/>
          </p:nvSpPr>
          <p:spPr>
            <a:xfrm>
              <a:off x="7386480" y="4537080"/>
              <a:ext cx="5400" cy="3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247"/>
            <p:cNvSpPr/>
            <p:nvPr/>
          </p:nvSpPr>
          <p:spPr>
            <a:xfrm flipH="1">
              <a:off x="7385040" y="4569120"/>
              <a:ext cx="7200" cy="28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248"/>
            <p:cNvSpPr/>
            <p:nvPr/>
          </p:nvSpPr>
          <p:spPr>
            <a:xfrm flipH="1">
              <a:off x="7367040" y="4597560"/>
              <a:ext cx="1764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249"/>
            <p:cNvSpPr/>
            <p:nvPr/>
          </p:nvSpPr>
          <p:spPr>
            <a:xfrm flipH="1">
              <a:off x="7344000" y="4622400"/>
              <a:ext cx="226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50"/>
            <p:cNvSpPr/>
            <p:nvPr/>
          </p:nvSpPr>
          <p:spPr>
            <a:xfrm flipH="1">
              <a:off x="7322760" y="4640040"/>
              <a:ext cx="21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51"/>
            <p:cNvSpPr/>
            <p:nvPr/>
          </p:nvSpPr>
          <p:spPr>
            <a:xfrm>
              <a:off x="7312320" y="4351320"/>
              <a:ext cx="14040" cy="615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1" h="88">
                  <a:moveTo>
                    <a:pt x="19" y="88"/>
                  </a:moveTo>
                  <a:lnTo>
                    <a:pt x="0" y="69"/>
                  </a:lnTo>
                  <a:lnTo>
                    <a:pt x="5" y="52"/>
                  </a:lnTo>
                  <a:lnTo>
                    <a:pt x="7" y="34"/>
                  </a:lnTo>
                  <a:lnTo>
                    <a:pt x="5" y="17"/>
                  </a:lnTo>
                  <a:lnTo>
                    <a:pt x="0" y="0"/>
                  </a:lnTo>
                  <a:lnTo>
                    <a:pt x="11" y="20"/>
                  </a:lnTo>
                  <a:lnTo>
                    <a:pt x="18" y="42"/>
                  </a:lnTo>
                  <a:lnTo>
                    <a:pt x="21" y="65"/>
                  </a:lnTo>
                  <a:lnTo>
                    <a:pt x="19" y="8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Footer Placeholder 6"/>
          <p:cNvSpPr/>
          <p:nvPr/>
        </p:nvSpPr>
        <p:spPr>
          <a:xfrm>
            <a:off x="2171880" y="6581880"/>
            <a:ext cx="38480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ijdelijke aanduiding voor dianummer 3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4CBD-2B48-478B-8686-C88E425386E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ijdelijke aanduiding voor voettekst 2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7" descr="flamme"/>
          <p:cNvPicPr/>
          <p:nvPr/>
        </p:nvPicPr>
        <p:blipFill>
          <a:blip r:embed="rId1"/>
          <a:stretch/>
        </p:blipFill>
        <p:spPr>
          <a:xfrm>
            <a:off x="216000" y="2022480"/>
            <a:ext cx="765000" cy="82692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30" descr="explos"/>
          <p:cNvPicPr/>
          <p:nvPr/>
        </p:nvPicPr>
        <p:blipFill>
          <a:blip r:embed="rId2"/>
          <a:stretch/>
        </p:blipFill>
        <p:spPr>
          <a:xfrm>
            <a:off x="216000" y="963720"/>
            <a:ext cx="774720" cy="82692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33" descr="acide"/>
          <p:cNvPicPr/>
          <p:nvPr/>
        </p:nvPicPr>
        <p:blipFill>
          <a:blip r:embed="rId3"/>
          <a:stretch/>
        </p:blipFill>
        <p:spPr>
          <a:xfrm>
            <a:off x="7913520" y="3179880"/>
            <a:ext cx="870120" cy="9381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36" descr="rondflam"/>
          <p:cNvPicPr/>
          <p:nvPr/>
        </p:nvPicPr>
        <p:blipFill>
          <a:blip r:embed="rId4"/>
          <a:stretch/>
        </p:blipFill>
        <p:spPr>
          <a:xfrm>
            <a:off x="216000" y="3011400"/>
            <a:ext cx="817560" cy="82872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4"/>
          <p:cNvSpPr/>
          <p:nvPr/>
        </p:nvSpPr>
        <p:spPr>
          <a:xfrm>
            <a:off x="1072080" y="2716200"/>
            <a:ext cx="1836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6" name="Object 5"/>
          <p:cNvGraphicFramePr/>
          <p:nvPr/>
        </p:nvGraphicFramePr>
        <p:xfrm>
          <a:off x="1163520" y="1978200"/>
          <a:ext cx="760680" cy="77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63520" y="1978200"/>
                    <a:ext cx="760680" cy="77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6"/>
          <p:cNvGraphicFramePr/>
          <p:nvPr/>
        </p:nvGraphicFramePr>
        <p:xfrm>
          <a:off x="1160640" y="1011240"/>
          <a:ext cx="747360" cy="83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60640" y="1011240"/>
                    <a:ext cx="74736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Object 7"/>
          <p:cNvGraphicFramePr/>
          <p:nvPr/>
        </p:nvGraphicFramePr>
        <p:xfrm>
          <a:off x="5533920" y="3328920"/>
          <a:ext cx="857520" cy="85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33920" y="3328920"/>
                    <a:ext cx="85752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8"/>
          <p:cNvGraphicFramePr/>
          <p:nvPr/>
        </p:nvGraphicFramePr>
        <p:xfrm>
          <a:off x="1163520" y="5059440"/>
          <a:ext cx="801720" cy="869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3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63520" y="5059440"/>
                    <a:ext cx="80172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9"/>
          <p:cNvGraphicFramePr/>
          <p:nvPr/>
        </p:nvGraphicFramePr>
        <p:xfrm>
          <a:off x="5535720" y="4443480"/>
          <a:ext cx="866520" cy="89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5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35720" y="4443480"/>
                    <a:ext cx="86652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10"/>
          <p:cNvGraphicFramePr/>
          <p:nvPr/>
        </p:nvGraphicFramePr>
        <p:xfrm>
          <a:off x="5495760" y="1042920"/>
          <a:ext cx="843120" cy="860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7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95760" y="1042920"/>
                    <a:ext cx="8431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Text Box 11"/>
          <p:cNvSpPr/>
          <p:nvPr/>
        </p:nvSpPr>
        <p:spPr>
          <a:xfrm>
            <a:off x="2016000" y="1957320"/>
            <a:ext cx="14209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(zeer) lich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ntvlamb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1906920" y="1022400"/>
            <a:ext cx="1098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explo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3"/>
          <p:cNvSpPr/>
          <p:nvPr/>
        </p:nvSpPr>
        <p:spPr>
          <a:xfrm>
            <a:off x="6461280" y="3330720"/>
            <a:ext cx="1081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corro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2050920" y="2924280"/>
            <a:ext cx="1258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xide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1797120" y="5033880"/>
            <a:ext cx="1873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Schadel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f irrite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6"/>
          <p:cNvSpPr/>
          <p:nvPr/>
        </p:nvSpPr>
        <p:spPr>
          <a:xfrm>
            <a:off x="6417720" y="4329000"/>
            <a:ext cx="1352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zeer) gift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7"/>
          <p:cNvSpPr/>
          <p:nvPr/>
        </p:nvSpPr>
        <p:spPr>
          <a:xfrm>
            <a:off x="6272280" y="1001880"/>
            <a:ext cx="1843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milieuschadel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5" name="Object 18"/>
          <p:cNvGraphicFramePr/>
          <p:nvPr/>
        </p:nvGraphicFramePr>
        <p:xfrm>
          <a:off x="1143000" y="2892600"/>
          <a:ext cx="793800" cy="860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56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43000" y="2892600"/>
                    <a:ext cx="7938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7" name="Group 19"/>
          <p:cNvGrpSpPr/>
          <p:nvPr/>
        </p:nvGrpSpPr>
        <p:grpSpPr>
          <a:xfrm>
            <a:off x="5526000" y="5784840"/>
            <a:ext cx="777960" cy="836640"/>
            <a:chOff x="5526000" y="5784840"/>
            <a:chExt cx="777960" cy="836640"/>
          </a:xfrm>
        </p:grpSpPr>
        <p:pic>
          <p:nvPicPr>
            <p:cNvPr id="858" name="Picture 20" descr=""/>
            <p:cNvPicPr/>
            <p:nvPr/>
          </p:nvPicPr>
          <p:blipFill>
            <a:blip r:embed="rId19"/>
            <a:srcRect l="40807" t="28118" r="39742" b="62122"/>
            <a:stretch/>
          </p:blipFill>
          <p:spPr>
            <a:xfrm>
              <a:off x="5526000" y="5784840"/>
              <a:ext cx="7167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Line 21"/>
            <p:cNvSpPr/>
            <p:nvPr/>
          </p:nvSpPr>
          <p:spPr>
            <a:xfrm>
              <a:off x="5530680" y="5839200"/>
              <a:ext cx="7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22"/>
            <p:cNvSpPr/>
            <p:nvPr/>
          </p:nvSpPr>
          <p:spPr>
            <a:xfrm>
              <a:off x="5530680" y="5851800"/>
              <a:ext cx="0" cy="74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23"/>
            <p:cNvSpPr/>
            <p:nvPr/>
          </p:nvSpPr>
          <p:spPr>
            <a:xfrm>
              <a:off x="6289200" y="5839200"/>
              <a:ext cx="0" cy="75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24"/>
            <p:cNvSpPr/>
            <p:nvPr/>
          </p:nvSpPr>
          <p:spPr>
            <a:xfrm>
              <a:off x="5545080" y="6596280"/>
              <a:ext cx="7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Text Box 25"/>
          <p:cNvSpPr/>
          <p:nvPr/>
        </p:nvSpPr>
        <p:spPr>
          <a:xfrm>
            <a:off x="6446880" y="5992920"/>
            <a:ext cx="255276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klein chemisch af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 geen GHS klas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41" descr="pollu"/>
          <p:cNvPicPr/>
          <p:nvPr/>
        </p:nvPicPr>
        <p:blipFill>
          <a:blip r:embed="rId20"/>
          <a:stretch/>
        </p:blipFill>
        <p:spPr>
          <a:xfrm>
            <a:off x="7899480" y="1014480"/>
            <a:ext cx="893520" cy="89208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43" descr="exclam"/>
          <p:cNvPicPr/>
          <p:nvPr/>
        </p:nvPicPr>
        <p:blipFill>
          <a:blip r:embed="rId21"/>
          <a:stretch/>
        </p:blipFill>
        <p:spPr>
          <a:xfrm>
            <a:off x="3419640" y="5143680"/>
            <a:ext cx="814320" cy="81432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45" descr="silouete"/>
          <p:cNvPicPr/>
          <p:nvPr/>
        </p:nvPicPr>
        <p:blipFill>
          <a:blip r:embed="rId22"/>
          <a:stretch/>
        </p:blipFill>
        <p:spPr>
          <a:xfrm>
            <a:off x="7939080" y="2077920"/>
            <a:ext cx="884160" cy="882720"/>
          </a:xfrm>
          <a:prstGeom prst="rect">
            <a:avLst/>
          </a:prstGeom>
          <a:ln w="0">
            <a:noFill/>
          </a:ln>
        </p:spPr>
      </p:pic>
      <p:sp>
        <p:nvSpPr>
          <p:cNvPr id="867" name="Picture 47"/>
          <p:cNvSpPr/>
          <p:nvPr/>
        </p:nvSpPr>
        <p:spPr>
          <a:xfrm>
            <a:off x="6329520" y="2720880"/>
            <a:ext cx="733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86"/>
              </a:spcBef>
              <a:spcAft>
                <a:spcPts val="575"/>
              </a:spcAft>
              <a:buClr>
                <a:srgbClr val="000000"/>
              </a:buClr>
              <a:buSzPct val="50000"/>
              <a:buFont typeface="CommonBulle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48"/>
          <p:cNvSpPr/>
          <p:nvPr/>
        </p:nvSpPr>
        <p:spPr>
          <a:xfrm>
            <a:off x="5384520" y="2073240"/>
            <a:ext cx="25516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400" spc="-1" strike="noStrike">
                <a:solidFill>
                  <a:srgbClr val="c00000"/>
                </a:solidFill>
                <a:latin typeface="Zurich BT"/>
              </a:rPr>
              <a:t>nieuw;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nge termijn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zondheidsschadelij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(kankerverwekkende, 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mutagene en/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reprotoxische stoff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49"/>
          <p:cNvSpPr/>
          <p:nvPr/>
        </p:nvSpPr>
        <p:spPr>
          <a:xfrm>
            <a:off x="1136520" y="120600"/>
            <a:ext cx="7615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ETIKETTERING VOLGENS HET G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(GLOBAL HARMONIZED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48" descr="skull"/>
          <p:cNvPicPr/>
          <p:nvPr/>
        </p:nvPicPr>
        <p:blipFill>
          <a:blip r:embed="rId23"/>
          <a:stretch/>
        </p:blipFill>
        <p:spPr>
          <a:xfrm>
            <a:off x="7916760" y="4370400"/>
            <a:ext cx="912960" cy="91296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48" descr="C:\Users\peter\Desktop\Cap_2x.jpg"/>
          <p:cNvPicPr/>
          <p:nvPr/>
        </p:nvPicPr>
        <p:blipFill>
          <a:blip r:embed="rId24"/>
          <a:stretch/>
        </p:blipFill>
        <p:spPr>
          <a:xfrm>
            <a:off x="3357720" y="4064040"/>
            <a:ext cx="961920" cy="914400"/>
          </a:xfrm>
          <a:prstGeom prst="rect">
            <a:avLst/>
          </a:prstGeom>
          <a:ln w="0">
            <a:noFill/>
          </a:ln>
        </p:spPr>
      </p:pic>
      <p:sp>
        <p:nvSpPr>
          <p:cNvPr id="872" name="Tekstvak 47"/>
          <p:cNvSpPr/>
          <p:nvPr/>
        </p:nvSpPr>
        <p:spPr>
          <a:xfrm>
            <a:off x="1103400" y="4032360"/>
            <a:ext cx="19080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c00000"/>
                </a:solidFill>
                <a:latin typeface="Zurich BT"/>
              </a:rPr>
              <a:t>nieuw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gassen</a:t>
            </a: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 onder dr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kstvak 1"/>
          <p:cNvSpPr/>
          <p:nvPr/>
        </p:nvSpPr>
        <p:spPr>
          <a:xfrm>
            <a:off x="1054080" y="6130800"/>
            <a:ext cx="424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Nieuwe etiketten 2010 ingevoe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en vanaf 2017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NIEUWE SYMBOLEN VOOR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1000080" y="2018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rcinogeen (kankerverwekk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atogeen (functiestoornissen ongeboren 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utageen (erfelijke eigenschappen verande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BDB1-F985-446B-9639-FE7EC1F1614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8"/>
          <p:cNvGrpSpPr/>
          <p:nvPr/>
        </p:nvGrpSpPr>
        <p:grpSpPr>
          <a:xfrm>
            <a:off x="2716200" y="2153520"/>
            <a:ext cx="3400200" cy="3400560"/>
            <a:chOff x="2716200" y="2153520"/>
            <a:chExt cx="3400200" cy="3400560"/>
          </a:xfrm>
        </p:grpSpPr>
        <p:sp>
          <p:nvSpPr>
            <p:cNvPr id="880" name="Rectangle 9"/>
            <p:cNvSpPr/>
            <p:nvPr/>
          </p:nvSpPr>
          <p:spPr>
            <a:xfrm rot="18906000">
              <a:off x="2968200" y="3244680"/>
              <a:ext cx="1218960" cy="121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10"/>
            <p:cNvSpPr/>
            <p:nvPr/>
          </p:nvSpPr>
          <p:spPr>
            <a:xfrm rot="18906000">
              <a:off x="3836520" y="2393640"/>
              <a:ext cx="1184040" cy="1218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11"/>
            <p:cNvSpPr/>
            <p:nvPr/>
          </p:nvSpPr>
          <p:spPr>
            <a:xfrm rot="18906000">
              <a:off x="4644360" y="3244320"/>
              <a:ext cx="1219320" cy="121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12"/>
            <p:cNvSpPr/>
            <p:nvPr/>
          </p:nvSpPr>
          <p:spPr>
            <a:xfrm rot="18906000">
              <a:off x="3806640" y="4082400"/>
              <a:ext cx="121932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860038"/>
                </a:solidFill>
                <a:latin typeface="Arial"/>
              </a:rPr>
              <a:t>Etikettering en signalering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85" name="Text Box 2"/>
          <p:cNvSpPr/>
          <p:nvPr/>
        </p:nvSpPr>
        <p:spPr>
          <a:xfrm>
            <a:off x="979560" y="25146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"/>
          <p:cNvSpPr/>
          <p:nvPr/>
        </p:nvSpPr>
        <p:spPr>
          <a:xfrm>
            <a:off x="1577160" y="1095480"/>
            <a:ext cx="60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GEVARENDIAMANT (grootverpakkingen</a:t>
            </a:r>
            <a:r>
              <a:rPr b="1" lang="nl-NL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4"/>
          <p:cNvSpPr/>
          <p:nvPr/>
        </p:nvSpPr>
        <p:spPr>
          <a:xfrm>
            <a:off x="6292800" y="3651120"/>
            <a:ext cx="215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reactivitei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instabil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5"/>
          <p:cNvSpPr/>
          <p:nvPr/>
        </p:nvSpPr>
        <p:spPr>
          <a:xfrm>
            <a:off x="3306600" y="1600200"/>
            <a:ext cx="23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brand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6"/>
          <p:cNvSpPr/>
          <p:nvPr/>
        </p:nvSpPr>
        <p:spPr>
          <a:xfrm>
            <a:off x="323280" y="3247920"/>
            <a:ext cx="243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gezondhei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7"/>
          <p:cNvSpPr/>
          <p:nvPr/>
        </p:nvSpPr>
        <p:spPr>
          <a:xfrm>
            <a:off x="3143160" y="5433840"/>
            <a:ext cx="430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bijzondere aandu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3"/>
          <p:cNvSpPr/>
          <p:nvPr/>
        </p:nvSpPr>
        <p:spPr>
          <a:xfrm>
            <a:off x="3323520" y="3654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4"/>
          <p:cNvSpPr/>
          <p:nvPr/>
        </p:nvSpPr>
        <p:spPr>
          <a:xfrm>
            <a:off x="4263480" y="2728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5"/>
          <p:cNvSpPr/>
          <p:nvPr/>
        </p:nvSpPr>
        <p:spPr>
          <a:xfrm>
            <a:off x="5168880" y="3733920"/>
            <a:ext cx="2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6"/>
          <p:cNvSpPr/>
          <p:nvPr/>
        </p:nvSpPr>
        <p:spPr>
          <a:xfrm>
            <a:off x="4242960" y="4572000"/>
            <a:ext cx="5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17"/>
          <p:cNvSpPr/>
          <p:nvPr/>
        </p:nvSpPr>
        <p:spPr>
          <a:xfrm>
            <a:off x="43308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041480" y="6980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IGNAL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1019160" y="1460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plicht op werkvloer, geregeld in Arbowet/be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jf groe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de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Tijdelijke mark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74E2-01FF-463D-B916-B33FCCB9FD0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Picture 4" descr="obstakel"/>
          <p:cNvPicPr/>
          <p:nvPr/>
        </p:nvPicPr>
        <p:blipFill>
          <a:blip r:embed="rId1"/>
          <a:stretch/>
        </p:blipFill>
        <p:spPr>
          <a:xfrm>
            <a:off x="6153120" y="5678640"/>
            <a:ext cx="2552760" cy="46008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E73B-1D4E-47F0-BECC-17F18405B80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Elektriciteit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OORLICHTING EN ONDERRICHT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35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verplicht te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verplicht te vol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temd op werkne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alleen schrif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 en tijdelijk person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70CC-A98F-4801-A627-06AB6356375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AREN BIJ GEBRUIK ELEKTRICITEI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1009800" y="2190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oomdoorgang door menselijk licha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wonding door v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sel van val ten gevolge van 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and/explo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b050"/>
                </a:solidFill>
                <a:latin typeface="Arial"/>
              </a:rPr>
              <a:t>VEILIGE INSTALL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b050"/>
                </a:solidFill>
                <a:latin typeface="Arial"/>
              </a:rPr>
              <a:t>als gevaren er niet zijn of</a:t>
            </a:r>
            <a:br>
              <a:rPr sz="2000"/>
            </a:br>
            <a:r>
              <a:rPr b="1" lang="nl-NL" sz="2000" spc="-1" strike="noStrike">
                <a:solidFill>
                  <a:srgbClr val="00b050"/>
                </a:solidFill>
                <a:latin typeface="Arial"/>
              </a:rPr>
              <a:t>tot een minimum worden bep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C692-DD94-482B-906B-E537AA53138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2630520" y="4462560"/>
            <a:ext cx="4710240" cy="1339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AREN DOOR ELEKTRICITEI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028520" y="209520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an installaties/machines/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/gereedscha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in orde/verkeerd behand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ngeval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fecte en ondeugdelijke machines/toestellen/lei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of ontbrekende aardverbin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utieve aanleg of mo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willekeurige aanraking onder spanning staande 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00DA-AF61-4F8C-811D-9949E09BF3C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4" descr="elektriciteit"/>
          <p:cNvPicPr/>
          <p:nvPr/>
        </p:nvPicPr>
        <p:blipFill>
          <a:blip r:embed="rId1"/>
          <a:stretch/>
        </p:blipFill>
        <p:spPr>
          <a:xfrm>
            <a:off x="6400800" y="220968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918" name="Text Box 5"/>
          <p:cNvSpPr/>
          <p:nvPr/>
        </p:nvSpPr>
        <p:spPr>
          <a:xfrm>
            <a:off x="1562040" y="2160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C3CB-23D7-41F4-8826-91FD1972F10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3"/>
          <p:cNvSpPr/>
          <p:nvPr/>
        </p:nvSpPr>
        <p:spPr>
          <a:xfrm>
            <a:off x="996840" y="1438200"/>
            <a:ext cx="8002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VEILIGHEIDSMAATREGELEN</a:t>
            </a:r>
            <a:r>
              <a:rPr b="1" lang="nl-NL" sz="1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4"/>
          <p:cNvSpPr/>
          <p:nvPr/>
        </p:nvSpPr>
        <p:spPr>
          <a:xfrm>
            <a:off x="1046160" y="2066760"/>
            <a:ext cx="7953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handelingen door deskun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P = voldoende onderricht per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in besloten ruimte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van uitwendig metalen omhulsel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steig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ouwwerken aardlekschakelaar in elektrisch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ding (aanspreekstroom 30 m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metalen werkplaats- en opslagcontain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ugdelijke kabels (mechanische bescherm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9232-4441-4531-BCF6-0A8965121AC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Brand- en explosiegev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Brand- en explosiegevaar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AF7B-6B80-4003-AB1A-5ECA6616AC4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"/>
          <p:cNvSpPr/>
          <p:nvPr/>
        </p:nvSpPr>
        <p:spPr>
          <a:xfrm>
            <a:off x="1222200" y="2476440"/>
            <a:ext cx="7027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092240" y="952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RISICOBRONNEN EN WERKVERGUN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952560" y="1612440"/>
            <a:ext cx="819144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werk, het gereedschap, het materi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ssen (inhoud/so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en door werken volgens voorwaarden verg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invloed van uw werkzaamheden op uw om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invloed van uw omgeving op uw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el van werkvergunning: goede voorbereiding van risicovol w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werkvergunning is e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drijfsreg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 geen wettelijke verp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3CEE-9054-413D-AB25-59505DD580D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EAF3-BD1F-44C1-81E9-BC5E0F1F804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2"/>
          <p:cNvSpPr/>
          <p:nvPr/>
        </p:nvSpPr>
        <p:spPr>
          <a:xfrm>
            <a:off x="101916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"/>
          <p:cNvSpPr/>
          <p:nvPr/>
        </p:nvSpPr>
        <p:spPr>
          <a:xfrm>
            <a:off x="513396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1006920" y="1219320"/>
            <a:ext cx="293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ANVRAAG WERKZAAMHE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1019160" y="1523880"/>
            <a:ext cx="3809880" cy="48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aanvra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Locatie / equipment nr.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mschrijving van het wer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rkwijz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monteren/demonter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hakken/bo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penen installatie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slij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etreden besloten ruimt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hogedruk spui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anden/gutsen/lass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itstr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öntgen/stralingswerk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aven handmatig/machina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ijs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strumentatie/Electr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6"/>
          <p:cNvSpPr/>
          <p:nvPr/>
        </p:nvSpPr>
        <p:spPr>
          <a:xfrm>
            <a:off x="5167440" y="1523880"/>
            <a:ext cx="373356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Toegepaste gereedschapp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Toegepaste voertuigen / equip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 aantal uitvoerend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   perso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e begindatum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e einddatum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rktijd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                van                       t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ijzondere vergunningen van toepass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ottap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aafvergu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lugla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7"/>
          <p:cNvSpPr/>
          <p:nvPr/>
        </p:nvSpPr>
        <p:spPr>
          <a:xfrm>
            <a:off x="1095480" y="3048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8"/>
          <p:cNvSpPr/>
          <p:nvPr/>
        </p:nvSpPr>
        <p:spPr>
          <a:xfrm>
            <a:off x="1095480" y="3276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9"/>
          <p:cNvSpPr/>
          <p:nvPr/>
        </p:nvSpPr>
        <p:spPr>
          <a:xfrm>
            <a:off x="1095480" y="3505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0"/>
          <p:cNvSpPr/>
          <p:nvPr/>
        </p:nvSpPr>
        <p:spPr>
          <a:xfrm>
            <a:off x="1095480" y="37339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1"/>
          <p:cNvSpPr/>
          <p:nvPr/>
        </p:nvSpPr>
        <p:spPr>
          <a:xfrm>
            <a:off x="1095480" y="39625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2"/>
          <p:cNvSpPr/>
          <p:nvPr/>
        </p:nvSpPr>
        <p:spPr>
          <a:xfrm>
            <a:off x="1095480" y="4191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3"/>
          <p:cNvSpPr/>
          <p:nvPr/>
        </p:nvSpPr>
        <p:spPr>
          <a:xfrm>
            <a:off x="1095480" y="4419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4"/>
          <p:cNvSpPr/>
          <p:nvPr/>
        </p:nvSpPr>
        <p:spPr>
          <a:xfrm>
            <a:off x="1095480" y="4648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"/>
          <p:cNvSpPr/>
          <p:nvPr/>
        </p:nvSpPr>
        <p:spPr>
          <a:xfrm>
            <a:off x="1095480" y="48769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6"/>
          <p:cNvSpPr/>
          <p:nvPr/>
        </p:nvSpPr>
        <p:spPr>
          <a:xfrm>
            <a:off x="1628640" y="2379600"/>
            <a:ext cx="3200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7"/>
          <p:cNvSpPr/>
          <p:nvPr/>
        </p:nvSpPr>
        <p:spPr>
          <a:xfrm>
            <a:off x="2467080" y="2158920"/>
            <a:ext cx="23619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8"/>
          <p:cNvSpPr/>
          <p:nvPr/>
        </p:nvSpPr>
        <p:spPr>
          <a:xfrm>
            <a:off x="5210280" y="3048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9"/>
          <p:cNvSpPr/>
          <p:nvPr/>
        </p:nvSpPr>
        <p:spPr>
          <a:xfrm>
            <a:off x="5210280" y="28195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20"/>
          <p:cNvSpPr/>
          <p:nvPr/>
        </p:nvSpPr>
        <p:spPr>
          <a:xfrm>
            <a:off x="5210280" y="2362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21"/>
          <p:cNvSpPr/>
          <p:nvPr/>
        </p:nvSpPr>
        <p:spPr>
          <a:xfrm>
            <a:off x="5210280" y="2133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22"/>
          <p:cNvSpPr/>
          <p:nvPr/>
        </p:nvSpPr>
        <p:spPr>
          <a:xfrm>
            <a:off x="5210280" y="1905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23"/>
          <p:cNvSpPr/>
          <p:nvPr/>
        </p:nvSpPr>
        <p:spPr>
          <a:xfrm>
            <a:off x="5210280" y="3276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24"/>
          <p:cNvSpPr/>
          <p:nvPr/>
        </p:nvSpPr>
        <p:spPr>
          <a:xfrm>
            <a:off x="7191360" y="3753000"/>
            <a:ext cx="1066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25"/>
          <p:cNvSpPr/>
          <p:nvPr/>
        </p:nvSpPr>
        <p:spPr>
          <a:xfrm>
            <a:off x="7191360" y="3994200"/>
            <a:ext cx="1600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26"/>
          <p:cNvSpPr/>
          <p:nvPr/>
        </p:nvSpPr>
        <p:spPr>
          <a:xfrm>
            <a:off x="7191360" y="4221000"/>
            <a:ext cx="1600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27"/>
          <p:cNvSpPr/>
          <p:nvPr/>
        </p:nvSpPr>
        <p:spPr>
          <a:xfrm flipH="1">
            <a:off x="7191000" y="44416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28"/>
          <p:cNvSpPr/>
          <p:nvPr/>
        </p:nvSpPr>
        <p:spPr>
          <a:xfrm flipH="1">
            <a:off x="8105400" y="44416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29"/>
          <p:cNvSpPr/>
          <p:nvPr/>
        </p:nvSpPr>
        <p:spPr>
          <a:xfrm>
            <a:off x="7267680" y="5111640"/>
            <a:ext cx="15238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F3FD-E42C-458C-ABE0-8D0ADE62D3A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2"/>
          <p:cNvSpPr/>
          <p:nvPr/>
        </p:nvSpPr>
        <p:spPr>
          <a:xfrm>
            <a:off x="102888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3"/>
          <p:cNvSpPr/>
          <p:nvPr/>
        </p:nvSpPr>
        <p:spPr>
          <a:xfrm>
            <a:off x="514368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4"/>
          <p:cNvSpPr/>
          <p:nvPr/>
        </p:nvSpPr>
        <p:spPr>
          <a:xfrm>
            <a:off x="1028880" y="1219320"/>
            <a:ext cx="38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REGELEN TE NEMEN DOOR VERSTREKKENDE AF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1028880" y="1752480"/>
            <a:ext cx="3809880" cy="44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verstrekker/area operat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lk product bevat of heeft de apparatuur/leiding bev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vloed van naburige werkzaamhed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Nodig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Ger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flenzen lab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spo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tapp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stom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inblok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ste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kopp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drukvrij ma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productvrij ma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mgeving controleren op tox. en/of agress. stoff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mgeving controleren op brandbaar materia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elektrisch blokkeren (nr./handtekenin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elektrisch vrijschakelen (nr./handtekenin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mechanisch blokkeren (hoe?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6"/>
          <p:cNvSpPr/>
          <p:nvPr/>
        </p:nvSpPr>
        <p:spPr>
          <a:xfrm>
            <a:off x="5183280" y="1295280"/>
            <a:ext cx="3733560" cy="29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sloten ruimte conditierapport (nr.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zamelpla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ilieueschermende maatreg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Speciale operationele aandachtspunt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Mogelijke risico’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GASMETING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7"/>
          <p:cNvSpPr/>
          <p:nvPr/>
        </p:nvSpPr>
        <p:spPr>
          <a:xfrm>
            <a:off x="514368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8"/>
          <p:cNvSpPr/>
          <p:nvPr/>
        </p:nvSpPr>
        <p:spPr>
          <a:xfrm>
            <a:off x="56768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9"/>
          <p:cNvSpPr/>
          <p:nvPr/>
        </p:nvSpPr>
        <p:spPr>
          <a:xfrm>
            <a:off x="63626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10"/>
          <p:cNvSpPr/>
          <p:nvPr/>
        </p:nvSpPr>
        <p:spPr>
          <a:xfrm>
            <a:off x="83440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1"/>
          <p:cNvSpPr/>
          <p:nvPr/>
        </p:nvSpPr>
        <p:spPr>
          <a:xfrm>
            <a:off x="76582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12"/>
          <p:cNvSpPr/>
          <p:nvPr/>
        </p:nvSpPr>
        <p:spPr>
          <a:xfrm>
            <a:off x="514368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3"/>
          <p:cNvSpPr/>
          <p:nvPr/>
        </p:nvSpPr>
        <p:spPr>
          <a:xfrm>
            <a:off x="514368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14"/>
          <p:cNvSpPr/>
          <p:nvPr/>
        </p:nvSpPr>
        <p:spPr>
          <a:xfrm>
            <a:off x="514368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5"/>
          <p:cNvSpPr/>
          <p:nvPr/>
        </p:nvSpPr>
        <p:spPr>
          <a:xfrm>
            <a:off x="5143680" y="6172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6"/>
          <p:cNvSpPr/>
          <p:nvPr/>
        </p:nvSpPr>
        <p:spPr>
          <a:xfrm>
            <a:off x="887724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17"/>
          <p:cNvSpPr/>
          <p:nvPr/>
        </p:nvSpPr>
        <p:spPr>
          <a:xfrm>
            <a:off x="803916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8"/>
          <p:cNvSpPr/>
          <p:nvPr/>
        </p:nvSpPr>
        <p:spPr>
          <a:xfrm>
            <a:off x="5338800" y="4705200"/>
            <a:ext cx="83808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9"/>
          <p:cNvSpPr/>
          <p:nvPr/>
        </p:nvSpPr>
        <p:spPr>
          <a:xfrm>
            <a:off x="5219640" y="4275000"/>
            <a:ext cx="110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contin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odi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20"/>
          <p:cNvSpPr/>
          <p:nvPr/>
        </p:nvSpPr>
        <p:spPr>
          <a:xfrm>
            <a:off x="6321600" y="4156200"/>
            <a:ext cx="1517400" cy="22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ij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Zuurstof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% O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Explosiviteit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% L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oxische stoffen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ype m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21"/>
          <p:cNvSpPr/>
          <p:nvPr/>
        </p:nvSpPr>
        <p:spPr>
          <a:xfrm>
            <a:off x="7048440" y="5962680"/>
            <a:ext cx="457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22"/>
          <p:cNvSpPr/>
          <p:nvPr/>
        </p:nvSpPr>
        <p:spPr>
          <a:xfrm>
            <a:off x="6362640" y="44956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23"/>
          <p:cNvSpPr/>
          <p:nvPr/>
        </p:nvSpPr>
        <p:spPr>
          <a:xfrm>
            <a:off x="5295960" y="39625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24"/>
          <p:cNvSpPr/>
          <p:nvPr/>
        </p:nvSpPr>
        <p:spPr>
          <a:xfrm>
            <a:off x="5295960" y="37339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25"/>
          <p:cNvSpPr/>
          <p:nvPr/>
        </p:nvSpPr>
        <p:spPr>
          <a:xfrm>
            <a:off x="5295960" y="35053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26"/>
          <p:cNvSpPr/>
          <p:nvPr/>
        </p:nvSpPr>
        <p:spPr>
          <a:xfrm>
            <a:off x="3390840" y="5772240"/>
            <a:ext cx="1219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27"/>
          <p:cNvSpPr/>
          <p:nvPr/>
        </p:nvSpPr>
        <p:spPr>
          <a:xfrm>
            <a:off x="5295960" y="32004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28"/>
          <p:cNvSpPr/>
          <p:nvPr/>
        </p:nvSpPr>
        <p:spPr>
          <a:xfrm>
            <a:off x="5295960" y="29718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29"/>
          <p:cNvSpPr/>
          <p:nvPr/>
        </p:nvSpPr>
        <p:spPr>
          <a:xfrm>
            <a:off x="5518080" y="2208240"/>
            <a:ext cx="3114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30"/>
          <p:cNvSpPr/>
          <p:nvPr/>
        </p:nvSpPr>
        <p:spPr>
          <a:xfrm>
            <a:off x="5981760" y="1774800"/>
            <a:ext cx="26510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31"/>
          <p:cNvSpPr/>
          <p:nvPr/>
        </p:nvSpPr>
        <p:spPr>
          <a:xfrm>
            <a:off x="6896160" y="1498680"/>
            <a:ext cx="1736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32"/>
          <p:cNvSpPr/>
          <p:nvPr/>
        </p:nvSpPr>
        <p:spPr>
          <a:xfrm>
            <a:off x="1144440" y="266688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33"/>
          <p:cNvSpPr/>
          <p:nvPr/>
        </p:nvSpPr>
        <p:spPr>
          <a:xfrm>
            <a:off x="3543480" y="5972040"/>
            <a:ext cx="1066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34"/>
          <p:cNvSpPr/>
          <p:nvPr/>
        </p:nvSpPr>
        <p:spPr>
          <a:xfrm>
            <a:off x="2952720" y="6162840"/>
            <a:ext cx="16574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5"/>
          <p:cNvSpPr/>
          <p:nvPr/>
        </p:nvSpPr>
        <p:spPr>
          <a:xfrm>
            <a:off x="1144440" y="32004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3B96-1A8B-4654-95C0-4C6C5843E5B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104760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3"/>
          <p:cNvSpPr/>
          <p:nvPr/>
        </p:nvSpPr>
        <p:spPr>
          <a:xfrm>
            <a:off x="516240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4"/>
          <p:cNvSpPr/>
          <p:nvPr/>
        </p:nvSpPr>
        <p:spPr>
          <a:xfrm>
            <a:off x="1047600" y="121932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REGELEN TE NEMEN DOOR HOU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"/>
          <p:cNvSpPr/>
          <p:nvPr/>
        </p:nvSpPr>
        <p:spPr>
          <a:xfrm>
            <a:off x="1047600" y="1752480"/>
            <a:ext cx="3810240" cy="45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aanvra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Te nemen voorzorgsmaatregel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utten goten en/of riolen afdekken binnen 30 m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onkafscherming plaat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af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ngatwacht in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randwacht in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randwaterslang gereed met straalpij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anvullende brandblusmiddelen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en/of werkstuk nat hou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beveiligen tegen valgeva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Aanvullende persoonlijke beschermingsmiddel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ruimzicht/zuurbr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laatsche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albescher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and/arm bescherm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schermende kled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luchtmasker binnen handberei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6"/>
          <p:cNvSpPr/>
          <p:nvPr/>
        </p:nvSpPr>
        <p:spPr>
          <a:xfrm>
            <a:off x="5202360" y="1295280"/>
            <a:ext cx="373356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ersoonlijke gasalarmer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bruik adembescher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filtermasker (type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e lucht k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ersluchtmas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24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Extra eisen (in te vullen door verstrekker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7"/>
          <p:cNvSpPr/>
          <p:nvPr/>
        </p:nvSpPr>
        <p:spPr>
          <a:xfrm>
            <a:off x="516240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8"/>
          <p:cNvSpPr/>
          <p:nvPr/>
        </p:nvSpPr>
        <p:spPr>
          <a:xfrm>
            <a:off x="569592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9"/>
          <p:cNvSpPr/>
          <p:nvPr/>
        </p:nvSpPr>
        <p:spPr>
          <a:xfrm>
            <a:off x="61340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10"/>
          <p:cNvSpPr/>
          <p:nvPr/>
        </p:nvSpPr>
        <p:spPr>
          <a:xfrm>
            <a:off x="812016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11"/>
          <p:cNvSpPr/>
          <p:nvPr/>
        </p:nvSpPr>
        <p:spPr>
          <a:xfrm>
            <a:off x="72010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12"/>
          <p:cNvSpPr/>
          <p:nvPr/>
        </p:nvSpPr>
        <p:spPr>
          <a:xfrm>
            <a:off x="516240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13"/>
          <p:cNvSpPr/>
          <p:nvPr/>
        </p:nvSpPr>
        <p:spPr>
          <a:xfrm>
            <a:off x="516240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4"/>
          <p:cNvSpPr/>
          <p:nvPr/>
        </p:nvSpPr>
        <p:spPr>
          <a:xfrm>
            <a:off x="516240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5"/>
          <p:cNvSpPr/>
          <p:nvPr/>
        </p:nvSpPr>
        <p:spPr>
          <a:xfrm>
            <a:off x="5162400" y="6172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6"/>
          <p:cNvSpPr/>
          <p:nvPr/>
        </p:nvSpPr>
        <p:spPr>
          <a:xfrm>
            <a:off x="85914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7"/>
          <p:cNvSpPr/>
          <p:nvPr/>
        </p:nvSpPr>
        <p:spPr>
          <a:xfrm>
            <a:off x="76914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18"/>
          <p:cNvSpPr/>
          <p:nvPr/>
        </p:nvSpPr>
        <p:spPr>
          <a:xfrm>
            <a:off x="5315040" y="39625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19"/>
          <p:cNvSpPr/>
          <p:nvPr/>
        </p:nvSpPr>
        <p:spPr>
          <a:xfrm>
            <a:off x="5315040" y="37339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0"/>
          <p:cNvSpPr/>
          <p:nvPr/>
        </p:nvSpPr>
        <p:spPr>
          <a:xfrm>
            <a:off x="5315040" y="35053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21"/>
          <p:cNvSpPr/>
          <p:nvPr/>
        </p:nvSpPr>
        <p:spPr>
          <a:xfrm>
            <a:off x="5537160" y="2819520"/>
            <a:ext cx="3114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22"/>
          <p:cNvSpPr/>
          <p:nvPr/>
        </p:nvSpPr>
        <p:spPr>
          <a:xfrm>
            <a:off x="6321600" y="2057400"/>
            <a:ext cx="2346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3"/>
          <p:cNvSpPr/>
          <p:nvPr/>
        </p:nvSpPr>
        <p:spPr>
          <a:xfrm>
            <a:off x="6778800" y="1498680"/>
            <a:ext cx="1888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24"/>
          <p:cNvSpPr/>
          <p:nvPr/>
        </p:nvSpPr>
        <p:spPr>
          <a:xfrm>
            <a:off x="1163520" y="4821120"/>
            <a:ext cx="3541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25"/>
          <p:cNvSpPr/>
          <p:nvPr/>
        </p:nvSpPr>
        <p:spPr>
          <a:xfrm>
            <a:off x="2428920" y="6067440"/>
            <a:ext cx="2200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26"/>
          <p:cNvSpPr/>
          <p:nvPr/>
        </p:nvSpPr>
        <p:spPr>
          <a:xfrm>
            <a:off x="2419200" y="5897520"/>
            <a:ext cx="2200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27"/>
          <p:cNvSpPr/>
          <p:nvPr/>
        </p:nvSpPr>
        <p:spPr>
          <a:xfrm>
            <a:off x="1352520" y="4419720"/>
            <a:ext cx="32670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28"/>
          <p:cNvSpPr/>
          <p:nvPr/>
        </p:nvSpPr>
        <p:spPr>
          <a:xfrm>
            <a:off x="2800440" y="3822840"/>
            <a:ext cx="18190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29"/>
          <p:cNvSpPr/>
          <p:nvPr/>
        </p:nvSpPr>
        <p:spPr>
          <a:xfrm flipH="1">
            <a:off x="5162040" y="4495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30"/>
          <p:cNvSpPr/>
          <p:nvPr/>
        </p:nvSpPr>
        <p:spPr>
          <a:xfrm>
            <a:off x="523872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31"/>
          <p:cNvSpPr/>
          <p:nvPr/>
        </p:nvSpPr>
        <p:spPr>
          <a:xfrm>
            <a:off x="66960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3749-79F8-4884-AE70-46B6563FEBB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03824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3"/>
          <p:cNvSpPr/>
          <p:nvPr/>
        </p:nvSpPr>
        <p:spPr>
          <a:xfrm>
            <a:off x="515304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1038240" y="121932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KRACHTI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5"/>
          <p:cNvSpPr/>
          <p:nvPr/>
        </p:nvSpPr>
        <p:spPr>
          <a:xfrm>
            <a:off x="1038240" y="1523880"/>
            <a:ext cx="380988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isico Categori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isico analyse (nr.            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De kolommen “Aanvraag werkzaamheden” en “Maatregelen te nemen door houder” zijn juist ingevuld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Aanvr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Telefoo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Principe toestemming bijzondere werkzaamheden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Operationeel beheer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Vergunning mede beoordeeld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Mede ondertekena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Vergunning is voorbereid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Vergunning voorberei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6"/>
          <p:cNvSpPr/>
          <p:nvPr/>
        </p:nvSpPr>
        <p:spPr>
          <a:xfrm>
            <a:off x="5192640" y="1295280"/>
            <a:ext cx="373392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Het werk kan veilig uitgevoerd worden en beheersmaatregelen zijn doorgesproken met vergunninghouder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Verstrekk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Akkoord met opgelegde eisen en draagt zorg voor uitvoering volgens de vergunningsvoorwaarde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Hou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Houder na overdrac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7"/>
          <p:cNvSpPr/>
          <p:nvPr/>
        </p:nvSpPr>
        <p:spPr>
          <a:xfrm>
            <a:off x="515304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"/>
          <p:cNvSpPr/>
          <p:nvPr/>
        </p:nvSpPr>
        <p:spPr>
          <a:xfrm>
            <a:off x="591516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9"/>
          <p:cNvSpPr/>
          <p:nvPr/>
        </p:nvSpPr>
        <p:spPr>
          <a:xfrm>
            <a:off x="6905520" y="4613400"/>
            <a:ext cx="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0"/>
          <p:cNvSpPr/>
          <p:nvPr/>
        </p:nvSpPr>
        <p:spPr>
          <a:xfrm>
            <a:off x="8505720" y="4613400"/>
            <a:ext cx="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11"/>
          <p:cNvSpPr/>
          <p:nvPr/>
        </p:nvSpPr>
        <p:spPr>
          <a:xfrm>
            <a:off x="515304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12"/>
          <p:cNvSpPr/>
          <p:nvPr/>
        </p:nvSpPr>
        <p:spPr>
          <a:xfrm>
            <a:off x="5153040" y="4952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13"/>
          <p:cNvSpPr/>
          <p:nvPr/>
        </p:nvSpPr>
        <p:spPr>
          <a:xfrm>
            <a:off x="5153040" y="617220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14"/>
          <p:cNvSpPr/>
          <p:nvPr/>
        </p:nvSpPr>
        <p:spPr>
          <a:xfrm>
            <a:off x="7524720" y="411480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15"/>
          <p:cNvSpPr/>
          <p:nvPr/>
        </p:nvSpPr>
        <p:spPr>
          <a:xfrm flipH="1">
            <a:off x="5152680" y="4419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16"/>
          <p:cNvSpPr/>
          <p:nvPr/>
        </p:nvSpPr>
        <p:spPr>
          <a:xfrm>
            <a:off x="751536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5181480" y="4197240"/>
            <a:ext cx="35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erlenging</a:t>
            </a: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ximaal 1 week geld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8"/>
          <p:cNvSpPr/>
          <p:nvPr/>
        </p:nvSpPr>
        <p:spPr>
          <a:xfrm>
            <a:off x="2333520" y="1523880"/>
            <a:ext cx="221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oog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La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19"/>
          <p:cNvSpPr/>
          <p:nvPr/>
        </p:nvSpPr>
        <p:spPr>
          <a:xfrm>
            <a:off x="5610240" y="41148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20"/>
          <p:cNvSpPr/>
          <p:nvPr/>
        </p:nvSpPr>
        <p:spPr>
          <a:xfrm>
            <a:off x="5610240" y="388620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21"/>
          <p:cNvSpPr/>
          <p:nvPr/>
        </p:nvSpPr>
        <p:spPr>
          <a:xfrm>
            <a:off x="7896240" y="388620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22"/>
          <p:cNvSpPr/>
          <p:nvPr/>
        </p:nvSpPr>
        <p:spPr>
          <a:xfrm>
            <a:off x="7896240" y="320040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23"/>
          <p:cNvSpPr/>
          <p:nvPr/>
        </p:nvSpPr>
        <p:spPr>
          <a:xfrm>
            <a:off x="7524720" y="342900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24"/>
          <p:cNvSpPr/>
          <p:nvPr/>
        </p:nvSpPr>
        <p:spPr>
          <a:xfrm>
            <a:off x="5610240" y="34290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25"/>
          <p:cNvSpPr/>
          <p:nvPr/>
        </p:nvSpPr>
        <p:spPr>
          <a:xfrm>
            <a:off x="5610240" y="320040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26"/>
          <p:cNvSpPr/>
          <p:nvPr/>
        </p:nvSpPr>
        <p:spPr>
          <a:xfrm>
            <a:off x="7591320" y="2340000"/>
            <a:ext cx="1295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27"/>
          <p:cNvSpPr/>
          <p:nvPr/>
        </p:nvSpPr>
        <p:spPr>
          <a:xfrm>
            <a:off x="5637240" y="2340000"/>
            <a:ext cx="11332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28"/>
          <p:cNvSpPr/>
          <p:nvPr/>
        </p:nvSpPr>
        <p:spPr>
          <a:xfrm>
            <a:off x="5610240" y="211932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29"/>
          <p:cNvSpPr/>
          <p:nvPr/>
        </p:nvSpPr>
        <p:spPr>
          <a:xfrm>
            <a:off x="3400560" y="6324480"/>
            <a:ext cx="1371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30"/>
          <p:cNvSpPr/>
          <p:nvPr/>
        </p:nvSpPr>
        <p:spPr>
          <a:xfrm>
            <a:off x="1495440" y="632448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31"/>
          <p:cNvSpPr/>
          <p:nvPr/>
        </p:nvSpPr>
        <p:spPr>
          <a:xfrm>
            <a:off x="1495440" y="608184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32"/>
          <p:cNvSpPr/>
          <p:nvPr/>
        </p:nvSpPr>
        <p:spPr>
          <a:xfrm>
            <a:off x="3857760" y="5105520"/>
            <a:ext cx="914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33"/>
          <p:cNvSpPr/>
          <p:nvPr/>
        </p:nvSpPr>
        <p:spPr>
          <a:xfrm>
            <a:off x="3409920" y="534204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34"/>
          <p:cNvSpPr/>
          <p:nvPr/>
        </p:nvSpPr>
        <p:spPr>
          <a:xfrm>
            <a:off x="1495440" y="534204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35"/>
          <p:cNvSpPr/>
          <p:nvPr/>
        </p:nvSpPr>
        <p:spPr>
          <a:xfrm>
            <a:off x="1495440" y="510552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36"/>
          <p:cNvSpPr/>
          <p:nvPr/>
        </p:nvSpPr>
        <p:spPr>
          <a:xfrm>
            <a:off x="3781440" y="289548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37"/>
          <p:cNvSpPr/>
          <p:nvPr/>
        </p:nvSpPr>
        <p:spPr>
          <a:xfrm>
            <a:off x="3409920" y="338148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38"/>
          <p:cNvSpPr/>
          <p:nvPr/>
        </p:nvSpPr>
        <p:spPr>
          <a:xfrm>
            <a:off x="1495440" y="338148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39"/>
          <p:cNvSpPr/>
          <p:nvPr/>
        </p:nvSpPr>
        <p:spPr>
          <a:xfrm>
            <a:off x="1495440" y="289548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40"/>
          <p:cNvSpPr/>
          <p:nvPr/>
        </p:nvSpPr>
        <p:spPr>
          <a:xfrm>
            <a:off x="3476520" y="4357800"/>
            <a:ext cx="1295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41"/>
          <p:cNvSpPr/>
          <p:nvPr/>
        </p:nvSpPr>
        <p:spPr>
          <a:xfrm>
            <a:off x="1495440" y="43578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42"/>
          <p:cNvSpPr/>
          <p:nvPr/>
        </p:nvSpPr>
        <p:spPr>
          <a:xfrm>
            <a:off x="1495440" y="411480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43"/>
          <p:cNvSpPr/>
          <p:nvPr/>
        </p:nvSpPr>
        <p:spPr>
          <a:xfrm>
            <a:off x="2104920" y="1962000"/>
            <a:ext cx="457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44"/>
          <p:cNvSpPr/>
          <p:nvPr/>
        </p:nvSpPr>
        <p:spPr>
          <a:xfrm flipH="1">
            <a:off x="5152680" y="35053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45"/>
          <p:cNvSpPr/>
          <p:nvPr/>
        </p:nvSpPr>
        <p:spPr>
          <a:xfrm flipH="1">
            <a:off x="1037880" y="2057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46"/>
          <p:cNvSpPr/>
          <p:nvPr/>
        </p:nvSpPr>
        <p:spPr>
          <a:xfrm flipH="1">
            <a:off x="1037880" y="1523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47"/>
          <p:cNvSpPr/>
          <p:nvPr/>
        </p:nvSpPr>
        <p:spPr>
          <a:xfrm flipH="1">
            <a:off x="1037880" y="3432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48"/>
          <p:cNvSpPr/>
          <p:nvPr/>
        </p:nvSpPr>
        <p:spPr>
          <a:xfrm flipH="1">
            <a:off x="1037880" y="4683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49"/>
          <p:cNvSpPr/>
          <p:nvPr/>
        </p:nvSpPr>
        <p:spPr>
          <a:xfrm flipH="1">
            <a:off x="1037880" y="56721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50"/>
          <p:cNvSpPr/>
          <p:nvPr/>
        </p:nvSpPr>
        <p:spPr>
          <a:xfrm>
            <a:off x="5153040" y="4419720"/>
            <a:ext cx="3886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1712880"/>
                <a:tab algn="l" pos="238140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trekker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ou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1712880"/>
                <a:tab algn="l" pos="238140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aa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aa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51"/>
          <p:cNvSpPr/>
          <p:nvPr/>
        </p:nvSpPr>
        <p:spPr>
          <a:xfrm>
            <a:off x="5153040" y="46148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52"/>
          <p:cNvSpPr/>
          <p:nvPr/>
        </p:nvSpPr>
        <p:spPr>
          <a:xfrm>
            <a:off x="515304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53"/>
          <p:cNvSpPr/>
          <p:nvPr/>
        </p:nvSpPr>
        <p:spPr>
          <a:xfrm>
            <a:off x="5153040" y="5257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54"/>
          <p:cNvSpPr/>
          <p:nvPr/>
        </p:nvSpPr>
        <p:spPr>
          <a:xfrm>
            <a:off x="5153040" y="5410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55"/>
          <p:cNvSpPr/>
          <p:nvPr/>
        </p:nvSpPr>
        <p:spPr>
          <a:xfrm>
            <a:off x="5153040" y="5562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56"/>
          <p:cNvSpPr/>
          <p:nvPr/>
        </p:nvSpPr>
        <p:spPr>
          <a:xfrm>
            <a:off x="5153040" y="57150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57"/>
          <p:cNvSpPr/>
          <p:nvPr/>
        </p:nvSpPr>
        <p:spPr>
          <a:xfrm>
            <a:off x="5153040" y="5867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58"/>
          <p:cNvSpPr/>
          <p:nvPr/>
        </p:nvSpPr>
        <p:spPr>
          <a:xfrm>
            <a:off x="5153040" y="6019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28880" y="971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OVERLE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90080" y="1898640"/>
            <a:ext cx="616932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werking en overleg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nemingsra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delingswerkoverl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e kenm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indt regelmatig pla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groepsactiv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ïnvloeding van “onderaf” (werkvlo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2FA4-FADD-4E4D-AAC4-01A3D0B9F89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1A2C-5BA3-4831-A3A6-A2B84D47B67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09224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FINITIE ERGONOM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1028880" y="14526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gonomie volgens Arbow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l gericht op het welzijn van d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 van medewerkers beschermen door stellen van ergonomische rand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chin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eedsc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voorwer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gevingsfactoren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1D8A-7AA3-4A40-B28B-F5213985F57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058760" y="75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WE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1011240" y="1797120"/>
            <a:ext cx="806760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eidssituatie en ta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passen aa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schappen va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ne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niet anderso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2CD4-AE2D-4921-8310-0B3CC3C1B91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722160" y="10872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ENS-MACHINESYSTEEM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102384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 is combinatie van twee z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chines, gereedschappen, gebruiksvoorwerpen en werkplek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mstandighed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aaromh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 met zijn</a:t>
            </a: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melijk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hou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stelijk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34AD-7F16-46D8-9285-34D1CB98501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41520" y="1074240"/>
            <a:ext cx="777240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7 FACTOREN, DIE ERGONOMIE WERKPLEK BEPA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1765080" y="2523600"/>
            <a:ext cx="61275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Ti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 Zitten en s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 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5.  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6.  Ve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.  Lichamelijke en mental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6760-9F24-4AD9-A068-15BEF7B4C8F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015920" y="888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IL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1015920" y="173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stende factor in veel ber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ste belas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g 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sa boven 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praktij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llen last vóór licha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stbaarheid spier/skeletsysteem individueel verschille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ef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l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ams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traindhe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ustwording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linstr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CFD2-299B-4B6C-B123-378ED130FA3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ILINSTRUC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1371600" y="5740200"/>
            <a:ext cx="137160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lan ma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4BD9-B40C-4BC5-BB89-DB04EC395C1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Picture 4" descr="tillen"/>
          <p:cNvPicPr/>
          <p:nvPr/>
        </p:nvPicPr>
        <p:blipFill>
          <a:blip r:embed="rId1"/>
          <a:stretch/>
        </p:blipFill>
        <p:spPr>
          <a:xfrm>
            <a:off x="1693800" y="2286000"/>
            <a:ext cx="5754600" cy="3378240"/>
          </a:xfrm>
          <a:prstGeom prst="rect">
            <a:avLst/>
          </a:prstGeom>
          <a:ln w="0">
            <a:noFill/>
          </a:ln>
        </p:spPr>
      </p:pic>
      <p:sp>
        <p:nvSpPr>
          <p:cNvPr id="1135" name="Rectangle 5"/>
          <p:cNvSpPr/>
          <p:nvPr/>
        </p:nvSpPr>
        <p:spPr>
          <a:xfrm>
            <a:off x="2971800" y="571500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nen in spreid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stand, voeten 4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raden naar bu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6"/>
          <p:cNvSpPr/>
          <p:nvPr/>
        </p:nvSpPr>
        <p:spPr>
          <a:xfrm>
            <a:off x="4952880" y="57150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nieën buig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ug recht hou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6324480" y="5715000"/>
            <a:ext cx="1905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uit staande posi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ginnen met l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113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AATREGELEN TER BEPERKING</a:t>
            </a:r>
            <a:br>
              <a:rPr sz="24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AN TILBELAS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1801800" y="2311560"/>
            <a:ext cx="498312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chanisering/hulp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 gew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ganisatie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me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zittend ti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erk tilhoog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erk verplaatsingsaf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0940-EC79-4D37-AC06-E5C4144EA00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ZITT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1015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ngdurig zitten is belas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ische belasting van bekken, wervelkolom, schouder, gor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isseling voorkomt 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pen/staan/zitten/verschillende zithou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imale zitho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e ondersteuning b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e stand 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lasting schou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gelijkheid kiez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dere hou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8C71-8D9E-4879-98A1-F0751974834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003320" y="939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TA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1170000" y="1592280"/>
            <a:ext cx="719784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, indi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oldoende beenruimte om te z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ak reiken (hoog, laag, 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cheiden werkplekken (vaak heen en weer lo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rwaartse krachten (verpakkingswerkzaamh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ste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gt 60% lichaamsgewicht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last benen/vo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5424-3E03-44BA-8A0E-0FB1D34EBFB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9T06:00:50Z</dcterms:created>
  <dc:creator>Servicedesk</dc:creator>
  <dc:description/>
  <dc:language>en-US</dc:language>
  <cp:lastModifiedBy>Johan Schuppert</cp:lastModifiedBy>
  <cp:lastPrinted>2002-10-03T14:29:02Z</cp:lastPrinted>
  <dcterms:modified xsi:type="dcterms:W3CDTF">2015-10-27T08:56:37Z</dcterms:modified>
  <cp:revision>260</cp:revision>
  <dc:subject/>
  <dc:title>Geen diatitel</dc:title>
</cp:coreProperties>
</file>