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EDD8-B829-44B0-BD47-478D75197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D608-B60C-4610-8EA5-C4EF0C35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C169-E5C5-47DE-A195-812B2501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6946-4D5A-443F-A231-987E7B83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F8D9-136D-4560-BF9D-B7685D22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0DA0-67FF-4326-8D62-4616B493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C502-6E08-4D3C-A781-935FDCBF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1A84-330C-42A0-9824-0D4AA70C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2978-0FE1-4F36-A4C4-8EBB1D96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3407-968D-4B23-B995-BF02826A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4FC0-7390-4EAD-B40A-91D7B95F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BA2F-1E43-4AE3-A9E3-DDD2B96E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9BFC-77D6-40AC-AD02-44933B3B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6885-A76F-4A80-B13D-86656CED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1B2D-6730-4BFC-A63F-B9ACE141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F414-D5AF-4868-9DB8-63EF719AB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D27D-A6B5-4161-A96E-6D4725C32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3E2A-A7DD-4745-981C-2AE31222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7AEB-BA82-4391-B057-F6DD8E5D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6EEB-56A4-4AA2-96FF-3D12E675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0915-CA99-44D6-8C0B-E5F408A5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E8F5-9E1A-49B5-B639-CB34BFFA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F4B5-1C13-4785-8BB1-AEDA427C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C083-9A94-4CD4-AAAD-3E711683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09AC-94DC-424C-AEAA-1FEA37E51AE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6CFA-5BA4-4FB2-9670-126F2351949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050920" y="249228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 in buik, boven schaambeen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c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Afbeelding 3" descr="suprapubis.jpg"/>
          <p:cNvPicPr/>
          <p:nvPr/>
        </p:nvPicPr>
        <p:blipFill>
          <a:blip r:embed="rId1"/>
          <a:stretch/>
        </p:blipFill>
        <p:spPr>
          <a:xfrm>
            <a:off x="5219640" y="400536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Blaasspoel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7"/>
          <p:cNvPicPr/>
          <p:nvPr/>
        </p:nvPicPr>
        <p:blipFill>
          <a:blip r:embed="rId1"/>
          <a:stretch/>
        </p:blipFill>
        <p:spPr>
          <a:xfrm>
            <a:off x="2268360" y="1628640"/>
            <a:ext cx="605016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Verdana"/>
              </a:rPr>
              <a:t>Redenen hiervoor kunnen zijn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infec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lokaal toedienen van medicatie, bijvoorbeeld cytostat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 verstopte of bijna verstopte blaaskathe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bloedstolsels na een oper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 kan plaatsvinden met de hand ofwel met een open systeem (uro tainer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or het spoelen met een gesloten systeem is een driewegkatheter nodi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c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Katheteriseren 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 spoelen met een open systeem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Doel: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doorgang van de verblijfskatheter open houden / toedienen medic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Bij wi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: Zorgvragers bij wie de blaas met een zakje moet worden gespo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Verschillende redenen om de blaas te spoelen met zakjes: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Om de afvoer van urine in stand te houde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zichtbare hematurie in 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produceerde urine (met stolsel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gruis / afval in de blaas e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katheter, die dan verstop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raken.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spoelen om  medicatie toe te dien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cytostaticakuren met lokale werking bijv. bij blaastumo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reinigen van de blaas vanwege een zeer ernstige urineweginfectie, een pyur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4" descr="2086"/>
          <p:cNvPicPr/>
          <p:nvPr/>
        </p:nvPicPr>
        <p:blipFill>
          <a:blip r:embed="rId1"/>
          <a:stretch/>
        </p:blipFill>
        <p:spPr>
          <a:xfrm>
            <a:off x="5580000" y="3860640"/>
            <a:ext cx="280836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5" descr="zz09werkbladsupra"/>
          <p:cNvPicPr/>
          <p:nvPr/>
        </p:nvPicPr>
        <p:blipFill>
          <a:blip r:embed="rId1"/>
          <a:stretch/>
        </p:blipFill>
        <p:spPr>
          <a:xfrm>
            <a:off x="1187280" y="900000"/>
            <a:ext cx="662472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èè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malig te katheteriser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erblijfskathete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uprapubis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Kenmerken verblijfskatheter: 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lijft na inbrengen 4-8 weken zitten, Bij een silliconen Kad: 3 maanden intramuraal, 6 maanden extramura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c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nneer breng je een verblijfskatheter in en waarom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nneer/waarom verblijf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ost-operatie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A.R. Niemeijer</cp:lastModifiedBy>
  <dcterms:modified xsi:type="dcterms:W3CDTF">2016-12-14T09:22:39Z</dcterms:modified>
  <cp:revision>33</cp:revision>
  <dc:subject/>
  <dc:title>Indeling WCS=</dc:title>
</cp:coreProperties>
</file>