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E67748-6463-435E-8B5A-195B388100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E7C17-A709-43EF-BB87-516FB5932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6F12BB-6B0C-4855-81AE-187AC01307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2B7A12-5248-4E87-AB6E-3C7325CADA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0DB0EF-E4D7-48DE-86FA-6F786B986D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0C167B-145C-4DE1-B3BF-DDEB89307A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5229B3-50EF-4F56-91C5-7BFBF9EDAE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658B20-1DED-41AA-AD3E-8ED37AC24D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173D5B-5560-43A1-BC8C-659FAA2357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C7F703-C2B7-4EB2-81AD-1480945AA3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AC87E7-B96E-4A0A-8369-4B1A09768F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6841D-D025-464E-B6FE-11E8B5BAD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6DA7BC-CDDE-4ABD-A3B0-F5CE99525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3AE487-8B2B-4988-B752-3CC8F6CAD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DAD409-89FE-4072-AF5C-0C377253D2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8E927A-7333-4A41-9BE7-316E7853C2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A7917A-400D-4D01-9673-E79E455A22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676922-0FB1-43E0-B7F4-F70284D37F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2D16BC-91D4-4290-808A-2C4E1CEA24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86795C-0158-445A-93EF-40EB3F983C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34820A-F2E0-4FFA-8314-EC9F6DDA2E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FF6E41-68EC-4719-B62C-FD1CA12A5A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45B1A-C3A9-4AB1-A347-6A1814550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8A73B4-F1ED-4C94-B890-B66392D146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DE0376-F823-42BE-A322-ED6A6C728B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933E31-175D-4825-8C25-43ED0D7F98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6308B5-89F3-4B81-8DD4-7E99EF90C4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109ED4-EBFC-4B0A-BA5B-B2CA355B28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1A496D-8014-4CD2-B8F4-96788D0FD3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7F7D2E-5BBD-4E63-933E-B0612294EF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062467-CA74-4205-9771-2B05DBD2AA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9588CA-880F-44B5-BD67-D528A7F727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60EF55-CA06-4A5A-B0FE-6BE6EFFF76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3AF86-19FB-4DFE-804C-B0ACF3309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35D359-A97B-4C80-8E4B-79F70BE321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4E67B3-6FAB-4834-B817-80E1909AE8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9A03C1-3F3D-4F9E-9D36-2FD15C20A1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A0F0AD-8F56-45B0-8D72-81E44097B9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D43222-4D10-4B0F-8888-C4E8091AFD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585933-5F27-4CEC-9063-21EC62311B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ED9CB6-2F6A-451C-94DD-CA563BE37F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46ABF8-6726-4353-85DE-68428468D1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B076CB-4F8F-4811-82DC-C8AF7317EB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ED1DF0-6BE4-4F67-B699-5C36954A1C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7117B-8427-4021-AF56-691CF7D76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021C3E-544A-4E76-B8DC-8D1CA28110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E859BD-DDA0-4F83-B2C0-2BAA26F4A4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4DD0E4-7549-4BC4-9006-9C63EEE052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0313CA-0956-405A-A36A-BAF9A6E9A9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DFACC6-A8D1-46B1-8C25-A3B8A213DE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0C8AF0-9A18-4B3E-9B9F-5F88153A46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DBDDD7-D5E4-46EF-B4FD-93BEF680EF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0819D1-B9DD-49E3-9E01-2F8A07A396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E5A294-716F-40B0-9FAC-0342B4EECF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D154CAE-AC7D-4C29-A511-539F251511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F0AED-E01A-471B-8581-755121735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77A6FE2-2D03-4149-A7C6-9B0B4F6C60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92DF5C-7E1E-4B14-A14C-7F7E489BE56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DA3DF1-8695-4FA5-A9C2-09819C7301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EDA12F-AE69-4767-9A8A-C2F7E30E5E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DC04B3-C860-4D16-8CFB-16536106CC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957DF6-321B-4A67-A965-A099A5AC80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B45786-6AA1-4B80-976D-7B4C22993E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4D2CB0-357C-42BF-A4EC-896EE753C0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1ECF3E-6D6E-40C7-AE59-FACE78D37F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9869D6-BFC1-422A-82EA-8EA612FE4B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D5093-854D-490A-93F9-4750137A1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6C5256-AACB-49B2-B9C0-DD92E3DE95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A665699-4363-48BD-BA86-53149214F2F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2C5769-EB7D-453F-8E2A-EC41AD274BE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DE8483D-DDDF-4F70-A025-E189F75F0C1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698373-6E11-4B23-A09A-479EB7B050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54DC7F-4242-4A4C-8DAA-AC390F86A0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1C1B75-6E2B-45EA-893F-225F957B58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6B9497-2F78-4E13-B42F-5836245F95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D39BD8-E2D3-4EB9-A63E-4546D5E87B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51E75A-8941-4E4E-9CBB-8FB9FB3682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8B985-B509-468B-81BE-D875F920A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29077E-AB84-4103-91E6-6CBB203E03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1231D3-1D2F-4E7E-B0A1-B5491DD5C5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A2A57D-7D91-4002-B996-9E5BAE7706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B7BD7D8-102D-4827-AC6C-1ABAE278E28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BA42243-7C0A-4A5E-AD0F-4036A60FAF4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D7768-84B1-4713-87A6-25F8D0DE2A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F7B1C-4C64-4FD2-ACD5-1AEBD46F810C}"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68253-8D3B-46CB-B0B2-E527D2644806}"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9A77F-594F-41B0-B5D3-36EDC44E44D9}"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F3045-9683-4E44-B325-EB8149CB004E}"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4EC4B-D1D4-4037-989E-67C3043C7929}"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B1A42-5809-4855-9F3C-E0A686626BF5}"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B51CF-6617-41A4-8057-F17B4FB23514}"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verpleegtechniekinbeeld.nl/secure/vib/zuurstof_geven12_nasopharynx_highlights66en67.html"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Zorg voor de ademhaling:</a:t>
            </a:r>
            <a:endParaRPr b="0" lang="en-US" sz="4400" spc="-1" strike="noStrike">
              <a:solidFill>
                <a:srgbClr val="ffffff"/>
              </a:solidFill>
              <a:latin typeface="Candara"/>
            </a:endParaRPr>
          </a:p>
        </p:txBody>
      </p:sp>
      <p:sp>
        <p:nvSpPr>
          <p:cNvPr id="336" name="PlaceHolder 2"/>
          <p:cNvSpPr>
            <a:spLocks noGrp="1"/>
          </p:cNvSpPr>
          <p:nvPr>
            <p:ph type="subTitle"/>
          </p:nvPr>
        </p:nvSpPr>
        <p:spPr>
          <a:xfrm>
            <a:off x="1371600" y="3556080"/>
            <a:ext cx="6400800" cy="147312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Uitzuigen </a:t>
            </a: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Zuurstof toedienen</a:t>
            </a: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Verzorgen van een Tracheo stomie</a:t>
            </a:r>
            <a:endParaRPr b="0" lang="en-US" sz="2200" spc="-1" strike="noStrike">
              <a:solidFill>
                <a:srgbClr val="073e87"/>
              </a:solidFill>
              <a:latin typeface="Candar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a:t>
            </a:r>
            <a:endParaRPr b="0" lang="en-US" sz="24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73e87"/>
                </a:solidFill>
                <a:latin typeface="Candara"/>
              </a:rPr>
              <a:t>Voor de neusbril gelden dezelfde voordelen als voor het vestibulair: het zit voor in de neus, het is redelijk makkelijk in te brengen en hoeft in principe niet op de neus zelf vastgemaakt te worden.</a:t>
            </a:r>
            <a:endParaRPr b="0" lang="en-US" sz="2800" spc="-1" strike="noStrike">
              <a:solidFill>
                <a:srgbClr val="073e87"/>
              </a:solidFill>
              <a:latin typeface="Candar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356"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ffffff"/>
                </a:solidFill>
                <a:latin typeface="Candara"/>
              </a:rPr>
              <a:t>Zuurstof kan ook op verschillende manieren worden toegediend, o.a. met: de neusbril en met het zuurstofmasker.</a:t>
            </a:r>
            <a:br>
              <a:rPr sz="2500"/>
            </a:br>
            <a:endParaRPr b="0" lang="en-US" sz="25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468360" y="1628280"/>
            <a:ext cx="8229600" cy="449604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73e87"/>
                </a:solidFill>
                <a:latin typeface="Candara"/>
              </a:rPr>
              <a:t>Controleer altijd goed op lekkage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73e87"/>
                </a:solidFill>
                <a:latin typeface="Candara"/>
              </a:rPr>
              <a:t>Bij een naso- pharyngeale katheter: afmeten </a:t>
            </a:r>
            <a:r>
              <a:rPr b="0" lang="nl-NL" sz="2800" spc="-1" strike="noStrike" u="sng">
                <a:solidFill>
                  <a:srgbClr val="0080ff"/>
                </a:solidFill>
                <a:uFillTx/>
                <a:latin typeface="Candara"/>
                <a:hlinkClick r:id="rId1"/>
              </a:rPr>
              <a:t>van</a:t>
            </a:r>
            <a:r>
              <a:rPr b="0" lang="nl-NL" sz="2800" spc="-1" strike="noStrike">
                <a:solidFill>
                  <a:srgbClr val="073e87"/>
                </a:solidFill>
                <a:latin typeface="Candara"/>
              </a:rPr>
              <a:t> neusvleugel tot oorlel</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73e87"/>
                </a:solidFill>
                <a:latin typeface="Candara"/>
              </a:rPr>
              <a:t>knijp </a:t>
            </a:r>
            <a:r>
              <a:rPr b="0" lang="nl-NL" sz="2400" spc="-1" strike="noStrike">
                <a:solidFill>
                  <a:srgbClr val="073e87"/>
                </a:solidFill>
                <a:latin typeface="Candara"/>
              </a:rPr>
              <a:t>voor </a:t>
            </a:r>
            <a:r>
              <a:rPr b="0" lang="nl-NL" sz="2800" spc="-1" strike="noStrike">
                <a:solidFill>
                  <a:srgbClr val="073e87"/>
                </a:solidFill>
                <a:latin typeface="Candara"/>
              </a:rPr>
              <a:t>het inbrengen van het vestibulair het spons- gedeelte samen.</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73e87"/>
                </a:solidFill>
                <a:latin typeface="Candara"/>
              </a:rPr>
              <a:t>stel het gewenste aantal liters per minuut in.</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73e87"/>
                </a:solidFill>
                <a:latin typeface="Candara"/>
              </a:rPr>
              <a:t>Bevochtiging</a:t>
            </a:r>
            <a:endParaRPr b="0" lang="en-US" sz="2800" spc="-1" strike="noStrike">
              <a:solidFill>
                <a:srgbClr val="073e87"/>
              </a:solidFill>
              <a:latin typeface="Candara"/>
            </a:endParaRPr>
          </a:p>
        </p:txBody>
      </p:sp>
      <p:sp>
        <p:nvSpPr>
          <p:cNvPr id="35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Candara"/>
              </a:rPr>
              <a:t>Aandachtspunten bij zuurstof:</a:t>
            </a:r>
            <a:endParaRPr b="0" lang="en-US" sz="36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871560" y="2674440"/>
            <a:ext cx="7408800" cy="3451320"/>
          </a:xfrm>
          <a:prstGeom prst="rect">
            <a:avLst/>
          </a:prstGeom>
          <a:noFill/>
          <a:ln w="0">
            <a:noFill/>
          </a:ln>
        </p:spPr>
        <p:txBody>
          <a:bodyPr anchor="t">
            <a:normAutofit fontScale="94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Buitenlucht:                                      Uitgeademde lucht:</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20,9 %                             zuurstof +17.0%</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a:t>
            </a:r>
            <a:r>
              <a:rPr b="0" lang="nl-NL" sz="2400" spc="-1" strike="noStrike">
                <a:solidFill>
                  <a:srgbClr val="073e87"/>
                </a:solidFill>
                <a:latin typeface="Candara"/>
              </a:rPr>
              <a:t>stikstof 78,1%                                 stikstof    78,1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ooldioxide: 0,03 %                       kooldioxide+ 4,0%</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t zegt dit schema ons??</a:t>
            </a:r>
            <a:endParaRPr b="0" lang="en-US" sz="2400" spc="-1" strike="noStrike">
              <a:solidFill>
                <a:srgbClr val="073e87"/>
              </a:solidFill>
              <a:latin typeface="Candara"/>
            </a:endParaRPr>
          </a:p>
        </p:txBody>
      </p:sp>
      <p:sp>
        <p:nvSpPr>
          <p:cNvPr id="36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Meten van saturatie</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755640" y="907560"/>
            <a:ext cx="7524720" cy="521820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Mogelijkheid tot meten van de zuurstofsaturatie in het bloed, doo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pO2: De knijper op de vinger: je meet de verzadiging van de erytrocyt met zuurstof ip: &gt; 94%</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rteriële astrup: bloedafname uit een arterie. Hierbij wordt er gekeken naar de verhoudingen van de opgeloste O2 en CO2 etc.</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an de hand van de uitslag kan de zuurstof toediening bepaald word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Mano meter uit de muu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Met behulp van een zuurstof fles: uitrekenen van de inhoud!</a:t>
            </a:r>
            <a:endParaRPr b="0" lang="en-US" sz="2400" spc="-1" strike="noStrike">
              <a:solidFill>
                <a:srgbClr val="073e87"/>
              </a:solidFill>
              <a:latin typeface="Candara"/>
            </a:endParaRPr>
          </a:p>
        </p:txBody>
      </p:sp>
      <p:sp>
        <p:nvSpPr>
          <p:cNvPr id="36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Toedienen van zuurstof 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Grootte van de cilinder X druk op de manometer+ aantal  liters samengeperste zuurstof</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Uitrekenen hoeveel uur je met een zuurstofcilinder kunt doen; zie vraag 9 pagina 240</a:t>
            </a:r>
            <a:endParaRPr b="0" lang="en-US" sz="2400" spc="-1" strike="noStrike">
              <a:solidFill>
                <a:srgbClr val="073e87"/>
              </a:solidFill>
              <a:latin typeface="Candara"/>
            </a:endParaRPr>
          </a:p>
        </p:txBody>
      </p:sp>
      <p:sp>
        <p:nvSpPr>
          <p:cNvPr id="36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Candara"/>
            </a:endParaRPr>
          </a:p>
        </p:txBody>
      </p:sp>
      <p:pic>
        <p:nvPicPr>
          <p:cNvPr id="339" name="Picture 5" descr="lgn01"/>
          <p:cNvPicPr/>
          <p:nvPr/>
        </p:nvPicPr>
        <p:blipFill>
          <a:blip r:embed="rId1"/>
          <a:stretch/>
        </p:blipFill>
        <p:spPr>
          <a:xfrm>
            <a:off x="1763640" y="1413000"/>
            <a:ext cx="5327640" cy="4425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Candara"/>
            </a:endParaRPr>
          </a:p>
        </p:txBody>
      </p:sp>
      <p:pic>
        <p:nvPicPr>
          <p:cNvPr id="342" name="Picture 5" descr="external image tekening_longinhoud3.jpg"/>
          <p:cNvPicPr/>
          <p:nvPr/>
        </p:nvPicPr>
        <p:blipFill>
          <a:blip r:embed="rId1"/>
          <a:stretch/>
        </p:blipFill>
        <p:spPr>
          <a:xfrm>
            <a:off x="2771640" y="1413000"/>
            <a:ext cx="3459240" cy="3730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t zijn redenen om zuurstof te gev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Is een risicovolle handeling, waarom?</a:t>
            </a:r>
            <a:endParaRPr b="0" lang="en-US" sz="2400" spc="-1" strike="noStrike">
              <a:solidFill>
                <a:srgbClr val="073e87"/>
              </a:solidFill>
              <a:latin typeface="Candara"/>
            </a:endParaRPr>
          </a:p>
        </p:txBody>
      </p:sp>
      <p:sp>
        <p:nvSpPr>
          <p:cNvPr id="34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Er komt niet voldoende lucht in de longen: vb door tumor of COPD</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 zuurstof kan niet vanuit de longblaasjes naar het bloed: vb bij taaislijmziekt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et hart kan het bloed niet rondpompen: </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a:t>
            </a:r>
            <a:r>
              <a:rPr b="0" lang="nl-NL" sz="2400" spc="-1" strike="noStrike">
                <a:solidFill>
                  <a:srgbClr val="073e87"/>
                </a:solidFill>
                <a:latin typeface="Candara"/>
              </a:rPr>
              <a:t>hartinfarct of decompensatio cordi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Redenen voor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t voor symptomen zie je bij een zuurstof te kort?</a:t>
            </a:r>
            <a:endParaRPr b="0" lang="en-US" sz="2400" spc="-1" strike="noStrike">
              <a:solidFill>
                <a:srgbClr val="073e87"/>
              </a:solidFill>
              <a:latin typeface="Candara"/>
            </a:endParaRPr>
          </a:p>
        </p:txBody>
      </p:sp>
      <p:sp>
        <p:nvSpPr>
          <p:cNvPr id="34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871560" y="2674440"/>
            <a:ext cx="7408800" cy="3451320"/>
          </a:xfrm>
          <a:prstGeom prst="rect">
            <a:avLst/>
          </a:prstGeom>
          <a:noFill/>
          <a:ln w="0">
            <a:noFill/>
          </a:ln>
        </p:spPr>
        <p:txBody>
          <a:bodyPr anchor="t">
            <a:normAutofit/>
          </a:bodyPr>
          <a:p>
            <a:pPr marL="272880" indent="-272880">
              <a:lnSpc>
                <a:spcPct val="6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 hyperventilatie; versnelde of verdiepte ademhaling, </a:t>
            </a:r>
            <a:endParaRPr b="0" lang="en-US" sz="2200" spc="-1" strike="noStrike">
              <a:solidFill>
                <a:srgbClr val="073e87"/>
              </a:solidFill>
              <a:latin typeface="Candara"/>
            </a:endParaRPr>
          </a:p>
          <a:p>
            <a:pPr marL="272880" indent="-2728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marL="272880" indent="-272880">
              <a:lnSpc>
                <a:spcPct val="6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 benauwdheid (meer dan bij inspanning hoort) </a:t>
            </a:r>
            <a:endParaRPr b="0" lang="en-US" sz="2200" spc="-1" strike="noStrike">
              <a:solidFill>
                <a:srgbClr val="073e87"/>
              </a:solidFill>
              <a:latin typeface="Candara"/>
            </a:endParaRPr>
          </a:p>
          <a:p>
            <a:pPr marL="272880" indent="-2728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marL="272880" indent="-272880">
              <a:lnSpc>
                <a:spcPct val="6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 versnelde hartslag (ook in rust), </a:t>
            </a:r>
            <a:endParaRPr b="0" lang="en-US" sz="2200" spc="-1" strike="noStrike">
              <a:solidFill>
                <a:srgbClr val="073e87"/>
              </a:solidFill>
              <a:latin typeface="Candara"/>
            </a:endParaRPr>
          </a:p>
          <a:p>
            <a:pPr marL="272880" indent="-2728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marL="272880" indent="-272880">
              <a:lnSpc>
                <a:spcPct val="6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 hartritmestoornissen (voelt zorgvrager vaak zelf) </a:t>
            </a:r>
            <a:endParaRPr b="0" lang="en-US" sz="2200" spc="-1" strike="noStrike">
              <a:solidFill>
                <a:srgbClr val="073e87"/>
              </a:solidFill>
              <a:latin typeface="Candara"/>
            </a:endParaRPr>
          </a:p>
          <a:p>
            <a:pPr marL="272880" indent="-272880">
              <a:lnSpc>
                <a:spcPct val="6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marL="272880" indent="-272880">
              <a:lnSpc>
                <a:spcPct val="6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 verhoogde bloeddruk, mede door angst, </a:t>
            </a:r>
            <a:endParaRPr b="0" lang="en-US" sz="2200" spc="-1" strike="noStrike">
              <a:solidFill>
                <a:srgbClr val="073e87"/>
              </a:solidFill>
              <a:latin typeface="Candara"/>
            </a:endParaRPr>
          </a:p>
          <a:p>
            <a:pPr marL="272880" indent="-2728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marL="272880" indent="-272880">
              <a:lnSpc>
                <a:spcPct val="6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73e87"/>
                </a:solidFill>
                <a:latin typeface="Candara"/>
              </a:rPr>
              <a:t>- verwardheid door hypoxie in hersenen, kan</a:t>
            </a:r>
            <a:br>
              <a:rPr sz="2200"/>
            </a:br>
            <a:r>
              <a:rPr b="0" lang="nl-NL" sz="2200" spc="-1" strike="noStrike">
                <a:solidFill>
                  <a:srgbClr val="073e87"/>
                </a:solidFill>
                <a:latin typeface="Candara"/>
              </a:rPr>
              <a:t>  overgaan in slaperigheid (</a:t>
            </a:r>
            <a:r>
              <a:rPr b="1" lang="nl-NL" sz="2200" spc="-1" strike="noStrike">
                <a:solidFill>
                  <a:srgbClr val="073e87"/>
                </a:solidFill>
                <a:latin typeface="Candara"/>
              </a:rPr>
              <a:t>direct actie</a:t>
            </a:r>
            <a:r>
              <a:rPr b="0" lang="nl-NL" sz="2200" spc="-1" strike="noStrike">
                <a:solidFill>
                  <a:srgbClr val="073e87"/>
                </a:solidFill>
                <a:latin typeface="Candara"/>
              </a:rPr>
              <a:t>)</a:t>
            </a:r>
            <a:endParaRPr b="0" lang="en-US" sz="2200" spc="-1" strike="noStrike">
              <a:solidFill>
                <a:srgbClr val="073e87"/>
              </a:solidFill>
              <a:latin typeface="Candara"/>
            </a:endParaRPr>
          </a:p>
        </p:txBody>
      </p:sp>
      <p:sp>
        <p:nvSpPr>
          <p:cNvPr id="35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ffffff"/>
                </a:solidFill>
                <a:latin typeface="Candara"/>
              </a:rPr>
              <a:t>Symptomen die wijzen op een zuurstoftekort zijn:</a:t>
            </a:r>
            <a:br>
              <a:rPr sz="2500"/>
            </a:br>
            <a:r>
              <a:rPr b="0" lang="nl-NL" sz="2500" spc="-1" strike="noStrike">
                <a:solidFill>
                  <a:srgbClr val="ffffff"/>
                </a:solidFill>
                <a:latin typeface="Candara"/>
              </a:rPr>
              <a:t> </a:t>
            </a:r>
            <a:br>
              <a:rPr sz="2500"/>
            </a:br>
            <a:endParaRPr b="0" lang="en-US" sz="2500" spc="-1" strike="noStrike">
              <a:solidFill>
                <a:srgbClr val="ffffff"/>
              </a:solidFill>
              <a:latin typeface="Candar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wordt gebruikt als medicijn. De hoeveelheid wordt afgestemd op wat de zorgvrager in rust nodig heeft. Bij inspanning kan er dan een tekort ontstaan. Dat betekent niet, dat je dan meer zuurstof mag geven.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ordt ip voorgeschreven op de medicatie lijst</a:t>
            </a:r>
            <a:endParaRPr b="0" lang="en-US" sz="24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ndara"/>
              </a:rPr>
              <a:t>Zuurstof als medicijn </a:t>
            </a:r>
            <a:br>
              <a:rPr sz="3200"/>
            </a:br>
            <a:endParaRPr b="0" lang="en-US" sz="3200" spc="-1" strike="noStrike">
              <a:solidFill>
                <a:srgbClr val="ffffff"/>
              </a:solidFill>
              <a:latin typeface="Candar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iepe neusslang/nasopahryngeale katheter (naso = neus,   pharynx = keelholte)</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ppervlakkige neusslang/vestibulair katheter; een slang met een schuimstuk op de punt (vestibulum = hal / voorportaal)</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Zuurstof kan op verschillende manieren worden toegediend, o.a. met:</a:t>
            </a:r>
            <a:br>
              <a:rPr sz="2200"/>
            </a:br>
            <a:r>
              <a:rPr b="0" lang="nl-NL" sz="2200" spc="-1" strike="noStrike">
                <a:solidFill>
                  <a:srgbClr val="ffffff"/>
                </a:solidFill>
                <a:latin typeface="Candara"/>
              </a:rPr>
              <a:t> </a:t>
            </a:r>
            <a:br>
              <a:rPr sz="2200"/>
            </a:br>
            <a:endParaRPr b="0" lang="en-US" sz="2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8T13:27:49Z</dcterms:created>
  <dc:creator>Rina</dc:creator>
  <dc:description/>
  <dc:language>en-US</dc:language>
  <cp:lastModifiedBy>A.R. Niemeijer</cp:lastModifiedBy>
  <dcterms:modified xsi:type="dcterms:W3CDTF">2017-01-10T18:14:28Z</dcterms:modified>
  <cp:revision>15</cp:revision>
  <dc:subject/>
  <dc:title>De ademhaling:</dc:title>
</cp:coreProperties>
</file>