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D4158-A247-4F85-8FED-BE475FDC0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225B4-E44B-4E66-8BFF-1AADD705E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D0AB2-198C-4D77-9114-C79901ADF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1F1A4-3619-4205-A747-D45089F71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4863A-DF25-48DC-BF60-FC675997C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BC08F-264E-4B2C-97B1-0C9762C38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94173-8AAC-428D-8707-51A19DE7B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D805D-C292-49B9-8C52-F0EAAB177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968BB-92B3-4682-820E-BB48B71F7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C6C53-8556-4A94-B415-0E59DBD5C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DDC7C-23CA-45F9-A560-D8588FD5C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E22A6-2761-49A8-BFAB-23FEA7E52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FD47E-F876-4BB4-87F4-E0C5EFA4C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1DC32-CB97-41F2-8145-9F7C80E43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F1BA2-56DB-4054-ACA0-1A635169B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36506-F85F-4574-BB2C-3185E7716C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3757A-758F-4EEE-83AF-1907A0285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77C87C-C147-4979-8AC0-87AB77780C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F924C9-BAE4-45B0-8237-5DBE7A4E56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0E4617-09F3-4DC3-98E7-80B0E18AB0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E9401E-29CA-4813-B0A2-4431B46DC5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CB63C6-A8D4-4274-86C5-46697B8FA9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A69CA-84CC-40C0-913D-A939F4FE7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9BF18E-6DED-44C0-944E-AB33689A04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7A14AF-FC42-4CD1-8E76-6E2AF1EB2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E8D674-E588-400E-A6FA-CA238BC89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346F4-C505-47C1-A13E-F66D2A671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61BE06-412A-46BD-85DC-5F5947233C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94E5E9-1622-4EA4-BB28-8D45C4B855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E96660-EFFF-4880-B464-8D0BF8DA69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10F1E4-C183-4756-B8CD-CBFCBBE3A4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586AB4-E918-4854-AB5E-D66F5AA92B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29529F-E4EE-4C1B-BCC4-DADDF8DAF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3D099-A667-4D97-AE02-A35C77827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A37846-3269-4FCC-A9C5-39581A2468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0A7CBB-FD06-4E3F-81EF-D80954782E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33054B-00F5-4A5E-872B-8A16B3A371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CDD782-9B5D-4BBA-8756-ACE941F57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CF625-E7B6-46D3-957C-0621EDA549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BFF1A0-7F33-432B-A0AB-3B428F05AC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321248-CF31-403B-AB1C-D46F2EE117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D656CE-852E-4519-8924-EC72895748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68ED74-0BA8-4E47-8460-9E987B23CC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29F03A-1F9E-4461-A197-49F3E8F52E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F47BC-F503-4A23-93B1-A7D70C61C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D122BF-43F7-4678-86DC-16CACB697F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FD3002-F041-4807-9A44-012717E591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84ACDE-7CBA-42FE-92D3-DC2CE41A3E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06BD22-F739-403E-86A6-2F8BAE3CB6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8316DE-3E92-4706-A19A-A5A04A6740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A2B904-1A3A-4A62-A14C-FC3358156C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C6CC96-D4F4-4474-9BCD-1A583B9F80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14AA13-617C-433D-874A-0FE964E3AD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77F770-A1F8-4033-B73B-6712169527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C1C32A-1D49-42A1-8B95-98B1BD9D62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BE81C-8262-4D13-9861-F95E9F9C2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EDC15D-D0F4-4B7F-BCB9-164C663907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900C18-2A78-4428-B8A7-BC3FFCAB10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131211-A5E9-47BB-BF31-2B898C5B14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51B35E-2B2B-4BF1-889D-9126F63117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1F57D5-84EE-4F9A-8170-07B37B8D78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CE5C7E-167B-4D7C-9F3B-D99D886386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BDD449-AF4E-4E4E-8432-E2F39434D5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B92919-107F-405E-8C5A-1175237D7A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FD3337-CF87-4539-9FB9-833A00CAC9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92E787-0228-4FF8-9548-1C28F65496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9FA0C-23E9-4E41-9CF9-2E0A821CE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1D2594-6BA2-4395-A054-B4013798C9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A9077E-BB8C-417A-A087-AD3D7BCF03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E01DE7-4EDA-4FCB-A565-FE79CB0C96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0BFD94-AF18-49F1-A853-9390FD3F9F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924BC8-A8F9-4EB0-A08E-51CEAFE509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3703C1-0272-4F8D-9E9E-A82B96A9B4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9401A3-F4BA-49E7-AA4A-0C0C497839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DE4E93-EFDF-4D28-9B2A-B1D2E1DD56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15E2A5-497D-4F1A-A477-B7019BB622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503F15-6909-4130-BF89-8520A43F84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4014A-8D59-4141-AC75-87D029814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2E1414-9DC6-4496-B8EB-7CE1E9ADCA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2AB9C7-AC19-4CD5-A31F-F9B4762CB6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597CBE-5EA1-435C-96B5-F28AC2CCD3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1BB103-D258-4FD6-BF4A-6E8DB9B2C3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99BA65-9710-483C-9A46-C272D12DC9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BF5CF-2C85-4569-B721-303FD736D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2AFE-3897-4F77-B7F4-700FD7BDFE1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562A-5261-4EAE-BDE8-0CDF1050849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6742-8700-4BBE-A572-A2DE6581068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2089-46B2-41A9-904B-088DB6EDD85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DC53-5566-40F0-8F62-D59BE1D31F1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F7DB-0840-4F71-9632-2772DECA5E8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64AD-BB35-4F58-B1D3-616AE78D09A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68360" y="1628280"/>
            <a:ext cx="8229600" cy="44960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Controleer altijd goed op lekkag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Bij een naso- pharyngeale katheter: afmeten </a:t>
            </a:r>
            <a:r>
              <a:rPr b="0" lang="nl-NL" sz="2800" spc="-1" strike="noStrike" u="sng">
                <a:solidFill>
                  <a:srgbClr val="0080ff"/>
                </a:solidFill>
                <a:uFillTx/>
                <a:latin typeface="Candara"/>
                <a:hlinkClick r:id="rId1"/>
              </a:rPr>
              <a:t>van</a:t>
            </a:r>
            <a:r>
              <a:rPr b="0" lang="nl-NL" sz="2800" spc="-1" strike="noStrike">
                <a:solidFill>
                  <a:srgbClr val="073e87"/>
                </a:solidFill>
                <a:latin typeface="Candara"/>
              </a:rPr>
              <a:t> neusvleugel tot oorlel</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knijp </a:t>
            </a:r>
            <a:r>
              <a:rPr b="0" lang="nl-NL" sz="2400" spc="-1" strike="noStrike">
                <a:solidFill>
                  <a:srgbClr val="073e87"/>
                </a:solidFill>
                <a:latin typeface="Candara"/>
              </a:rPr>
              <a:t>voor </a:t>
            </a:r>
            <a:r>
              <a:rPr b="0" lang="nl-NL" sz="2800" spc="-1" strike="noStrike">
                <a:solidFill>
                  <a:srgbClr val="073e87"/>
                </a:solidFill>
                <a:latin typeface="Candara"/>
              </a:rPr>
              <a:t>het inbrengen van het vestibulair het spons- gedeelte samen.</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stel het gewenste aantal liters per minuut in.</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Bevochtiging</a:t>
            </a:r>
            <a:endParaRPr b="0" lang="en-US" sz="28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Uitgeademde luch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                             zuurstof +17.0%</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stikstof 78,1%                                 stikstof    78,1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 %                       kooldioxide+ 4,0%</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egt dit schema ons??</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en van saturati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755640" y="907560"/>
            <a:ext cx="7524720" cy="52182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ogelijkheid tot meten van de zuurstofsaturatie in het bloed, doo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O2: De knijper op de vinger: je meet de verzadiging van de erytrocyt met zuurstof ip: &gt; 94%</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rteriële astrup: bloedafname uit een arterie. Hierbij wordt er gekeken naar de verhoudingen van de opgeloste O2 en CO2 et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 de hand van de uitslag kan de zuurstof toediening bepaald wor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ano meter uit de muu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 behulp van een zuurstof fles: uitrekenen van de inhoud!</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Toedienen van zuurstof 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 zie vraag 9 pagina 240</a:t>
            </a: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komt niet voldoende lucht in de longen: vb door tumor of COP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zuurstof kan niet vanuit de longblaasjes naar het bloed: vb bij taaislijmziekt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hart kan het bloed niet rondpompen: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hartinfarct of decompensatio cordi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voor symptomen zie je bij een zuurstof te kort?</a:t>
            </a: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hyperventilatie; versnelde of verdiepte ademhaling,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benauwdheid (meer dan bij inspanning hoort)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versnelde hartslag (ook in rust),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hartritmestoornissen (voelt zorgvrager vaak zelf) </a:t>
            </a: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verhoogde bloeddruk, mede door angst,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verwardheid door hypoxie in hersenen, kan</a:t>
            </a:r>
            <a:br>
              <a:rPr sz="2200"/>
            </a:br>
            <a:r>
              <a:rPr b="0" lang="nl-NL" sz="2200" spc="-1" strike="noStrike">
                <a:solidFill>
                  <a:srgbClr val="073e87"/>
                </a:solidFill>
                <a:latin typeface="Candara"/>
              </a:rPr>
              <a:t>  overgaan in slaperigheid (</a:t>
            </a:r>
            <a:r>
              <a:rPr b="1" lang="nl-NL" sz="2200" spc="-1" strike="noStrike">
                <a:solidFill>
                  <a:srgbClr val="073e87"/>
                </a:solidFill>
                <a:latin typeface="Candara"/>
              </a:rPr>
              <a:t>direct actie</a:t>
            </a:r>
            <a:r>
              <a:rPr b="0" lang="nl-NL" sz="2200" spc="-1" strike="noStrike">
                <a:solidFill>
                  <a:srgbClr val="073e87"/>
                </a:solidFill>
                <a:latin typeface="Candara"/>
              </a:rPr>
              <a:t>)</a:t>
            </a:r>
            <a:endParaRPr b="0" lang="en-US" sz="22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Symptomen die wijzen op een zuurstoftekort zijn:</a:t>
            </a:r>
            <a:br>
              <a:rPr sz="2500"/>
            </a:br>
            <a:r>
              <a:rPr b="0" lang="nl-NL" sz="2500" spc="-1" strike="noStrike">
                <a:solidFill>
                  <a:srgbClr val="ffffff"/>
                </a:solidFill>
                <a:latin typeface="Candara"/>
              </a:rPr>
              <a:t> </a:t>
            </a:r>
            <a:br>
              <a:rPr sz="2500"/>
            </a:br>
            <a:endParaRPr b="0" lang="en-US" sz="25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A.R. Niemeijer</cp:lastModifiedBy>
  <dcterms:modified xsi:type="dcterms:W3CDTF">2017-01-10T18:14:28Z</dcterms:modified>
  <cp:revision>15</cp:revision>
  <dc:subject/>
  <dc:title>De ademhaling:</dc:title>
</cp:coreProperties>
</file>