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927F4-4EF9-4807-BD6D-98216A168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BE28D-16FF-4A75-A142-CEBCABB06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C1362-AC02-4331-9649-85F2064C7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BBF3B-76F6-4330-8B9B-0CCE13E4D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30339-EE90-48F5-B794-91E2EF4C9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EB145-2BF7-4FE1-A85F-4D3BD727C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4039B-AEC4-4A54-8BFD-FD5F675FD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66DB3-8275-44C3-A534-731FB50CE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51B46-2016-491C-B042-75E7AF7E1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F8187-98AE-4313-904E-D4D88D26D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F3FBB-5A8A-48E1-886F-830A9FF19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A042-EBF7-4E3A-97CC-AB3008405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1D133-53AA-4A82-83D7-836AE01F2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163D9-6FAE-41BD-BAAA-3885C769E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DEA61-B556-4BE6-8F7E-82BFCAB98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B6BFB-2D52-4E29-88C7-55048ED19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4870C-B79A-43B7-AFE1-EB8D9E4F4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79BF9-40DF-4D3F-BC3D-82193238C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594F7-C8D5-46A4-AC11-6F1DCF487A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726FF-8A33-471B-9EF8-51A6D2B46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A10B1-AC2F-45E7-9622-3276850AE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A79BE-9AA6-49AF-8989-C9CA2A70B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A333-6619-475B-9473-0A74F5219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22EFBE-F908-4A44-99C1-D5D5A6536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B3217-CB6D-49B7-BF77-E7B670CAA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B7482-5E32-4EA0-9827-9F03DDE14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9D527-0C48-4910-95CF-D3CB9AF62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4A53C-83A9-46C2-B703-5F11808C3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0C923A-1840-4443-AB7A-299AE670A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031992-F938-4BC8-8086-905B2FB1D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2756C6-4C97-470D-BEBB-D128BB5648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98151D-A6F8-45B3-B7BD-42D4614F4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702F7-148B-4544-9BE0-1C39D8CD8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9700-0159-4729-8D2D-94F58622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90B29-C774-42E6-AF60-2E4FD2CA6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98DDF-7A83-4F32-BD31-7C52FAADA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8D029-686A-4CC3-A2B3-3129437C0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8E183-B881-4CFE-9551-7AB36E142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86EEC-375D-4B13-BA40-55759536C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FF281-6CE6-4214-833C-647D8F4F0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130991-4356-4C0D-B92C-277EFCF4A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2A82A-A688-4911-BB5D-CAB19DB172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0BE055-247B-453F-B418-CF4ED87F20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B3E406-38BF-40E8-9EEB-6F3F79B73D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B9B4B-E9D7-4772-827F-700B089E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DF0E9A-C09B-4151-B259-953E69ACD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CE5DDB-1D86-44A1-84D8-C42A57FE0C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016E49-AC36-4269-AFE1-8CFD75FC2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6429C-D242-4A34-8B70-E60B350FC4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A5DB6-E8B0-4FB7-8049-1F67765C4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F8963-407D-404C-9C6C-A5DE8F3BD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B1756-4D3E-4C10-B2E7-98D021063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CC1EDF-232B-482A-8003-CAC4D945B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40929-402D-419A-BE07-58F876382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FDEAF-519A-4C10-B518-0D8154C0B5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3C64F-21A7-44E7-BB88-9D3CA2BD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1BB3A5-3F15-4ADC-BF5E-D460EDB85B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701E21-AF29-42DF-A19C-9029674540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DAE90-A795-4D67-ACFF-E8AD7F963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8A92D-43AC-4B6B-88DB-D9B8B3CA3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22065-50C4-4563-9D43-B02F3959A7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59807-3FE8-40CD-A2F8-DA6B9E709F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3AB1BF-C1B0-4EC8-BD80-0335174A5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7A45F-D974-445E-A51E-3D1F053A3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14FFE-6B2D-40B0-A975-F4F4BF800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07E80-02DF-4F31-9FC9-32DBAD3E2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FE23-6AC5-40E2-A091-0BF6387CA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ED41B-38A9-4007-AFAE-28344A86C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FE4387-9C21-46C7-8B14-7E5E029A17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73FD1D-5928-4C41-A60C-0002E59E7E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D13D59-3EEF-4375-98A8-1A1A2D2407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3B625E-48A0-4229-99BB-9D17C4710E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5F9FA-728A-4A4B-B9D5-BFFA92466B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947BFE-1BF0-45E0-8BB7-A721CF131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40702-BECC-430C-B6F9-5BBD4D9F28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A86E9-0726-466A-91B8-B9A1AADEFA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3AB0CC-2A9D-44DC-B7CF-923751A21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64D60-A20B-42ED-AF15-56832C5D8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881C0-907A-403B-8574-96D480C97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58486-1C28-4A67-BC15-A1039283B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537F81-C30B-4C27-BE94-84C427BCA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E05C4F-1933-4288-88FE-F13A360BF8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E397DC-2C02-4CF9-B9D7-94FBE36F26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BC991-3380-40E4-8A37-75DEB24E7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6469-C12C-4D9B-925A-497EAEC5C6D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4F20-5848-4D94-A4A4-81D452D0361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DFF1-3A1B-4CE5-985B-D94E84D1ED3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0216-2A4A-4E35-AF92-2CA0EA226A2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30E0-5CE8-47FF-ADC9-9D91A35864A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6B72-C55A-43DD-8FA3-880286ADA59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C445-0D02-415C-94E3-F8A994FF6AA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68360" y="1628280"/>
            <a:ext cx="8229600" cy="44960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roleer altijd goed op lekkag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ij een naso- pharyngeale katheter: afmeten </a:t>
            </a:r>
            <a:r>
              <a:rPr b="0" lang="nl-NL" sz="2800" spc="-1" strike="noStrike" u="sng">
                <a:solidFill>
                  <a:srgbClr val="0080ff"/>
                </a:solidFill>
                <a:uFillTx/>
                <a:latin typeface="Candara"/>
                <a:hlinkClick r:id="rId1"/>
              </a:rPr>
              <a:t>van</a:t>
            </a:r>
            <a:r>
              <a:rPr b="0" lang="nl-NL" sz="2800" spc="-1" strike="noStrike">
                <a:solidFill>
                  <a:srgbClr val="073e87"/>
                </a:solidFill>
                <a:latin typeface="Candara"/>
              </a:rPr>
              <a:t> neusvleugel tot oorlel</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knijp </a:t>
            </a:r>
            <a:r>
              <a:rPr b="0" lang="nl-NL" sz="2400" spc="-1" strike="noStrike">
                <a:solidFill>
                  <a:srgbClr val="073e87"/>
                </a:solidFill>
                <a:latin typeface="Candara"/>
              </a:rPr>
              <a:t>voor </a:t>
            </a:r>
            <a:r>
              <a:rPr b="0" lang="nl-NL" sz="2800" spc="-1" strike="noStrike">
                <a:solidFill>
                  <a:srgbClr val="073e87"/>
                </a:solidFill>
                <a:latin typeface="Candara"/>
              </a:rPr>
              <a:t>het inbrengen van het vestibulair het spons- gedeelte same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stel het gewenste aantal liters per minuut i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evochtiging</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Uitgeademde luch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                             zuurstof +17.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stikstof 78,1%                                 stikstof    78,1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 %                       kooldioxide+ 4,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egt dit schema ons??</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en van satura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55640" y="907560"/>
            <a:ext cx="7524720" cy="52182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gelijkheid tot meten van de zuurstofsaturatie in het bloed, do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O2: De knijper op de vinger: je meet de verzadiging van de erytrocyt met zuurstof ip: &gt; 94%</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rteriële astrup: bloedafname uit een arterie. Hierbij wordt er gekeken naar de verhoudingen van de opgeloste O2 en CO2 et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 de hand van de uitslag kan de zuurstof toediening bepaald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o meter uit de muu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 behulp van een zuurstof fles: uitrekenen van de inhoud!</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oedienen van zuurstof 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 zie vraag 9 pagina 240</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komt niet voldoende lucht in de longen: vb door tumor of COP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uurstof kan niet vanuit de longblaasjes naar het bloed: vb bij taaislijmziek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hart kan het bloed niet rondpompen: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hartinfarct of decompensatio cord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oor symptomen zie je bij een zuurstof te kort?</a:t>
            </a: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yperventilatie; versnelde of verdiepte ademhaling,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benauwdheid (meer dan bij inspanning hoor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snelde hartslag (ook in ru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artritmestoornissen (voelt zorgvrager vaak zelf) </a:t>
            </a: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hoogde bloeddruk, mede door ang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wardheid door hypoxie in hersenen, kan</a:t>
            </a:r>
            <a:br>
              <a:rPr sz="2200"/>
            </a:br>
            <a:r>
              <a:rPr b="0" lang="nl-NL" sz="2200" spc="-1" strike="noStrike">
                <a:solidFill>
                  <a:srgbClr val="073e87"/>
                </a:solidFill>
                <a:latin typeface="Candara"/>
              </a:rPr>
              <a:t>  overgaan in slaperigheid (</a:t>
            </a:r>
            <a:r>
              <a:rPr b="1" lang="nl-NL" sz="2200" spc="-1" strike="noStrike">
                <a:solidFill>
                  <a:srgbClr val="073e87"/>
                </a:solidFill>
                <a:latin typeface="Candara"/>
              </a:rPr>
              <a:t>direct actie</a:t>
            </a:r>
            <a:r>
              <a:rPr b="0" lang="nl-NL" sz="2200" spc="-1" strike="noStrike">
                <a:solidFill>
                  <a:srgbClr val="073e87"/>
                </a:solidFill>
                <a:latin typeface="Candara"/>
              </a:rPr>
              <a:t>)</a:t>
            </a:r>
            <a:endParaRPr b="0" lang="en-US" sz="22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Symptomen die wijzen op een zuurstoftekort zijn:</a:t>
            </a:r>
            <a:br>
              <a:rPr sz="2500"/>
            </a:br>
            <a:r>
              <a:rPr b="0" lang="nl-NL" sz="2500" spc="-1" strike="noStrike">
                <a:solidFill>
                  <a:srgbClr val="ffffff"/>
                </a:solidFill>
                <a:latin typeface="Candara"/>
              </a:rPr>
              <a:t> </a:t>
            </a:r>
            <a:br>
              <a:rPr sz="2500"/>
            </a:br>
            <a:endParaRPr b="0" lang="en-US" sz="25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A.R. Niemeijer</cp:lastModifiedBy>
  <dcterms:modified xsi:type="dcterms:W3CDTF">2017-01-10T18:14:28Z</dcterms:modified>
  <cp:revision>15</cp:revision>
  <dc:subject/>
  <dc:title>De ademhaling:</dc:title>
</cp:coreProperties>
</file>