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5B375-B764-4AB1-8E99-B57E5C7D5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A32D6-06CE-427F-806E-EF4DE0205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55DD8-0968-428A-88C5-CAEE7BA94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CD17D-3C20-4C49-9F13-854131E6E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75414-1851-4B93-A120-857426FC5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F6A83-A1CE-4720-84EF-5215E0D29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B4DB1-AD84-4775-8476-8B81D2AC1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04AAD-FCA9-49FE-BD45-934663822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4111E-AD8C-4440-8239-98042ABCF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4A1F0-AEB6-4AFD-9FC1-37D53F64C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82D2E-5436-4259-9F7E-24AEF103A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22E3A-6AED-47FE-946F-8D33A8E8E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4422A-74ED-40FD-AACE-99B2CCEF6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E215E-E389-4493-B88C-FBE050ECF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F6BBD-3C9E-403E-BB1B-D3880EF18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06C96-784A-4665-A25B-D6ADED189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881F3-7F1B-42E1-8E51-1571E022F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FD57EF-1435-450B-9077-F0434FC5D7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D0EAC7-2590-45E6-8E3D-AE4DD8CDE8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30E33-149F-4633-AC2A-616DB6614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364210-F7DC-4113-AA23-31326E9F1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34385D-34B9-4499-A052-4CA65AA44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F4D1F-EA12-4F17-B17E-6974DE0F3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B9742D-74D1-409A-83C7-F9A812948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78085-8D8F-4B04-9134-653F4FF22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B3369-EDBE-46F9-904B-D58F62582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753E1-3B7B-4B1B-9E68-5FB3B9FED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DA25F7-BBA9-46AA-AC11-78633245B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29DB5B-D933-4B3E-9923-02C3B2D84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FF9545-7067-408E-B19E-4E71C6927E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7C15D4-9901-4D7A-AC2C-3F2F36512F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DFB2B-DC80-47FE-A1C4-3F3DF87F3E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6A5DD-6D0A-413E-8B0D-306A721EB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1FA39-3DBE-4A4A-8917-6B739D516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E5F7AE-847D-4F5A-B745-A6F1533F6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CF6D84-4B62-4537-A58A-384DBC57BB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730942-B8D8-489A-8BA7-DEF1D00836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4884F2-4AB8-43AB-8408-0F939646A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EB3B6-C0D9-4688-9C91-8ECD2C009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03874-CF02-4294-85AF-D1CBB1417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A00501-0364-4C6D-A4B5-DD2FE4579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8061AC-892C-4D24-A396-AF7DAE5077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430708-DA17-4A2D-81AE-7CDB4BC7A1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038766-E878-4BA0-ACC8-4E20CBE01C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BAB98-7396-46AB-81C5-E8BE23967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554D8C-FC91-4BD7-8362-8A7F099E6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6F70EA-2075-486C-B474-6622C50403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6FDB27-236C-4843-A6A3-36ED6C15E1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4FD37-9255-4B53-90F1-AA620CCDEF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0392C1-DE38-4B74-8912-249CE48DE0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BBBE2-2374-41DB-B3E6-6CAAC90D9D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4651B-D57E-4DE5-941C-73A1C2FEB5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CA86DF-2F9F-4A9E-82A3-49D235419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275F6-A09B-49F4-99B5-1FAEED1F0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780B2C-6049-421E-AB91-5C341B378A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E0A50-06BD-44CF-AD77-80F19D41B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EAE713-F835-4BFE-8468-CE212A14B7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B6FAAE-17C4-418F-93A7-B45298B277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E3033F-7404-445E-A1A5-1F8858878B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F4D23A-AEA3-479D-9B1B-B29C9C5E2D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0BFC71-43DC-43A0-8F0F-6299E2562B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E3980E-8DAB-4F93-B5BF-8BD308E9B4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3D6E1B-AD70-4E8A-9B84-B4B0854208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40B209-0ECF-417C-A74A-21FDF77D1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7CA657-FFDB-491B-AF1D-9A05F02DC1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7C512-E050-403C-AA23-A2AEFA09B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69746-D854-4126-8364-45E44ED8E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63AB81-7C8B-44B9-BAED-91D8B4DC1E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D23D00-38C5-49B7-942A-01630845C4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55FC38-60D7-467E-B989-D1AD63049D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98728E-30D9-4B73-B0C7-AE9375DAA8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70822E-1046-4121-8722-FF48444839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D6F88C-A90A-4917-94B6-2052DE0454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4EDDD3-6CB8-4157-B827-6D69E19E4E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0202FD-75C0-4205-A630-7915F49F02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76CBDD-BED9-41C4-A853-393DC4CB34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E61E24-F01F-40F8-A49A-5D208ECD8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9A92C-B2A3-49CE-9C67-9F2D7F96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A8FEE0-5DB1-417C-BD34-C4F37D0028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2C48E-1163-40F7-B433-C98290BE04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7F0C60-AC4F-4079-8750-620DC4E6E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2A3601-511C-4A37-8A94-5A1D769766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AF0F2E-5F1E-4D91-8BBC-A7ABC768BB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1EC12-A352-498B-9BD6-C3566933B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94A1-3872-4180-A2B5-AAB1BDC3E3E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D8D9-600E-45A9-9B37-A3367AC9CB8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885E-CB99-4BF2-9EA6-F4B6717046C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0190-AA85-45AE-8BE4-AC398947802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FCCE-CDA3-407C-9D62-85F21AB914C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7BAD-C7A0-4993-86C4-39F270555FC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7A33-C364-40E2-8384-88F8ED370D2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68360" y="1628280"/>
            <a:ext cx="8229600" cy="44960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Controleer altijd goed op lekkag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Bij een naso- pharyngeale katheter: afmeten </a:t>
            </a:r>
            <a:r>
              <a:rPr b="0" lang="nl-NL" sz="2800" spc="-1" strike="noStrike" u="sng">
                <a:solidFill>
                  <a:srgbClr val="0080ff"/>
                </a:solidFill>
                <a:uFillTx/>
                <a:latin typeface="Candara"/>
                <a:hlinkClick r:id="rId1"/>
              </a:rPr>
              <a:t>van</a:t>
            </a:r>
            <a:r>
              <a:rPr b="0" lang="nl-NL" sz="2800" spc="-1" strike="noStrike">
                <a:solidFill>
                  <a:srgbClr val="073e87"/>
                </a:solidFill>
                <a:latin typeface="Candara"/>
              </a:rPr>
              <a:t> neusvleugel tot oorlel</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knijp </a:t>
            </a:r>
            <a:r>
              <a:rPr b="0" lang="nl-NL" sz="2400" spc="-1" strike="noStrike">
                <a:solidFill>
                  <a:srgbClr val="073e87"/>
                </a:solidFill>
                <a:latin typeface="Candara"/>
              </a:rPr>
              <a:t>voor </a:t>
            </a:r>
            <a:r>
              <a:rPr b="0" lang="nl-NL" sz="2800" spc="-1" strike="noStrike">
                <a:solidFill>
                  <a:srgbClr val="073e87"/>
                </a:solidFill>
                <a:latin typeface="Candara"/>
              </a:rPr>
              <a:t>het inbrengen van het vestibulair het spons- gedeelte samen.</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stel het gewenste aantal liters per minuut in.</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Bevochtiging</a:t>
            </a:r>
            <a:endParaRPr b="0" lang="en-US" sz="28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Uitgeademde luch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                             zuurstof +17.0%</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stikstof 78,1%                                 stikstof    78,1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 %                       kooldioxide+ 4,0%</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egt dit schema ons??</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en van saturati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55640" y="907560"/>
            <a:ext cx="7524720" cy="52182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gelijkheid tot meten van de zuurstofsaturatie in het bloed, doo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O2: De knijper op de vinger: je meet de verzadiging van de erytrocyt met zuurstof ip: &gt; 94%</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rteriële astrup: bloedafname uit een arterie. Hierbij wordt er gekeken naar de verhoudingen van de opgeloste O2 en CO2 et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 de hand van de uitslag kan de zuurstof toediening bepaald wor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no meter uit de muu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 behulp van een zuurstof fles: uitrekenen van de inhoud!</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Toedienen van zuurstof 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 zie vraag 9 pagina 240</a:t>
            </a: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komt niet voldoende lucht in de longen: vb door tumor of COP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uurstof kan niet vanuit de longblaasjes naar het bloed: vb bij taaislijmziekt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hart kan het bloed niet rondpompen: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hartinfarct of decompensatio cordi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voor symptomen zie je bij een zuurstof te kort?</a:t>
            </a: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hyperventilatie; versnelde of verdiepte ademhaling,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benauwdheid (meer dan bij inspanning hoor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snelde hartslag (ook in rus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hartritmestoornissen (voelt zorgvrager vaak zelf) </a:t>
            </a: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hoogde bloeddruk, mede door angs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wardheid door hypoxie in hersenen, kan</a:t>
            </a:r>
            <a:br>
              <a:rPr sz="2200"/>
            </a:br>
            <a:r>
              <a:rPr b="0" lang="nl-NL" sz="2200" spc="-1" strike="noStrike">
                <a:solidFill>
                  <a:srgbClr val="073e87"/>
                </a:solidFill>
                <a:latin typeface="Candara"/>
              </a:rPr>
              <a:t>  overgaan in slaperigheid (</a:t>
            </a:r>
            <a:r>
              <a:rPr b="1" lang="nl-NL" sz="2200" spc="-1" strike="noStrike">
                <a:solidFill>
                  <a:srgbClr val="073e87"/>
                </a:solidFill>
                <a:latin typeface="Candara"/>
              </a:rPr>
              <a:t>direct actie</a:t>
            </a:r>
            <a:r>
              <a:rPr b="0" lang="nl-NL" sz="2200" spc="-1" strike="noStrike">
                <a:solidFill>
                  <a:srgbClr val="073e87"/>
                </a:solidFill>
                <a:latin typeface="Candara"/>
              </a:rPr>
              <a:t>)</a:t>
            </a:r>
            <a:endParaRPr b="0" lang="en-US" sz="22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Symptomen die wijzen op een zuurstoftekort zijn:</a:t>
            </a:r>
            <a:br>
              <a:rPr sz="2500"/>
            </a:br>
            <a:r>
              <a:rPr b="0" lang="nl-NL" sz="2500" spc="-1" strike="noStrike">
                <a:solidFill>
                  <a:srgbClr val="ffffff"/>
                </a:solidFill>
                <a:latin typeface="Candara"/>
              </a:rPr>
              <a:t> </a:t>
            </a:r>
            <a:br>
              <a:rPr sz="2500"/>
            </a:br>
            <a:endParaRPr b="0" lang="en-US" sz="25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A.R. Niemeijer</cp:lastModifiedBy>
  <dcterms:modified xsi:type="dcterms:W3CDTF">2017-01-10T18:14:28Z</dcterms:modified>
  <cp:revision>15</cp:revision>
  <dc:subject/>
  <dc:title>De ademhaling:</dc:title>
</cp:coreProperties>
</file>