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5B80-C85E-45CC-B163-F998D037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03F-702A-4F63-B141-7D382B99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427C7-D649-442C-B9EB-1788F8D4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4EC9C-A919-492F-99A0-86EDDBAA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44F42-1D08-4EEC-A1A7-EA7695C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6589B-04E1-447B-8870-69105FA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3B0CE-E4BB-4180-9EF2-CB9E4DE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0B1F7-DCEB-4BFE-B213-16CAB47A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2CBB6-B757-45A4-8BA0-E04002B1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DF42E-1626-49D8-B4E5-ED05A8B9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07202-1821-4B99-AA92-73D3492B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0F753-B4D0-4EC5-AB03-A5AF8305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DE1-20D7-4D08-8245-BBA60AB3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8C81D-0BCB-4C0A-BF25-546F458B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3A707-AA20-470B-94F8-BC0C2601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0BE38-B2D9-4209-BC76-C0E16CD4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852B3-61F5-479B-BF35-CBF7F0B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5B86B-E1F8-4E30-9070-CBAC5EAA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9570D-A3D0-47F8-8ABE-A0C4A931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DA415-C3C7-4470-A189-1E8CE065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23A02-4190-4D6E-8EA3-7AD76035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34C6D-4F4B-4E0E-B579-52A2F56F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5B9CE-6B03-45B0-A17B-14B25DD6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91D-E56A-45D3-9DBF-CA9FFE42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F341C-12B0-40D9-A5EB-C16CC812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89858-B456-4D8D-9135-5E530037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86F38-3229-41F1-BAA3-D5A0C2E8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63970-0B41-48BB-B8BF-EB9A9190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3D692-197F-4822-8E47-779704E1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12C01-DF15-4A7E-8DAB-AFD36B7E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D9871-003D-417A-9943-2FE884FA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52B07-38E9-4503-AE3B-DB6A8B44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6E5AC-7D1E-4064-AE60-2FE9F734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3FA08-B743-4F00-83E9-99DCBCE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7E1B-804E-4837-A30B-773A4232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0B87B-2A1F-451E-B8F1-511A5350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E8567-0AD7-4778-A80B-0465DCD4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AD9AD-7863-4469-A7CC-42A66C9D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F809-84FA-4FF6-9F4D-D0C57745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3F4C-38B3-4921-BA3B-94E7DDD4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4D26-1008-4807-BB62-FE59C735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D240-5FF1-4593-871E-C832CFE5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243C-7159-407E-B332-5493DBF9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63A5-A6CF-4E9F-BBC9-43D3F030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B16-C9B2-4DBF-A3E4-1743090A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7A8A-4762-409A-9C0C-CBFFF231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37D2-85C2-4E0C-953F-B7CB62B4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220-E3A6-45A8-8A69-4BDB0B7E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8408-8221-461A-B160-42E063B8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5DC2-CA5E-47B9-BFDF-4AA88EF7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3F4C-01F8-4F52-8F3C-D4B980E7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4282-2121-4C0D-A620-BD88C87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CBC04-6269-4262-9235-3C04FE2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F992-BDBA-42AE-9185-92753802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C2235-2A7E-4C04-9A57-9FF3B712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A3C-4E07-4C25-8161-A4EF3410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A105-BEC2-4725-94DC-6E3BA084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3CCB-AF03-4CE9-A500-D73C9D84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E4B7-81A1-4366-A43C-C972B9D7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A497-F945-4663-9F3F-D0265CAE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CB3C-FE11-44A2-9D2E-D88D3CC1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B95C-F4DF-4B84-9586-620C252E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7ECE-CDB2-49BA-AFB7-058F7CA5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D0DC-1F95-4329-9EA2-940403DE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D8A85-27A0-49C4-88D8-C3AE3E0D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546AE-8854-443A-BF34-6A04909E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7BD-EDC6-4D59-A41C-9D99BE0F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B006-72D4-4361-861A-9D2E4976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7AF31-F321-4D9C-A3C1-2BB8EF7C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948FC-D144-4C70-A6E9-66027796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EE3B-2C81-4A9E-A51F-1AC2BA79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E6A0-AD18-4540-9D06-CA0D477B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68D4-3490-4FC2-97AC-C9EC415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1BD2-B115-4AB9-85D6-0207CDB4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A4F7-E324-4645-8C46-6DACEA21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F127A-B6C2-4562-ABEA-EE6AB3B1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8ADDD-4B82-477E-BB33-258C61ED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F76-979F-45AC-AD76-54E06B63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D8FEB-AE5A-43F3-9808-4E087D31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98E97-EDFF-4DCD-A28A-85A59D36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4E6CD-5C1C-4681-A081-75522769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63790-A8E5-4572-9DDA-B48405D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97582-9093-4467-BDF2-2E22C0D0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F4947-3408-4EE6-B06F-64519F68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D4EF-9002-438D-B55D-4E5C72E3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91F90-E4A0-4A39-82C7-4ACE37E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49C23-B843-45EE-A13D-85600441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0C15A-1D87-400D-907D-1FA67E94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C85-5F65-4FBE-92A9-E46BFDDF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9092-80AA-46A3-955E-CB78BC98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F6A70-BF7B-444D-ACB3-9B341BA2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4C2D4-1682-455E-924A-1549D6F3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DA397-5605-4E42-8140-795A4649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F3771-4E90-4CC5-A825-AE1AFEC1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778D6-EE92-4ED1-AE8C-84150592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F4A5D-FFE3-413D-9D8E-F91A7A03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3236B-4660-4D01-A4C9-20F981C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E4E35-E551-4BA8-A4E0-32F0A5F0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ED6C-6EEC-42B8-9188-490995A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4A8-7969-4668-A73D-1104271C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F9AEA-FB48-4362-B192-29981720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3533E-EECE-42A7-B216-48880094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14244-993A-4599-BEAF-2DD0E778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C33DD-D2CB-48CB-8B45-126B3EB0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50CE7-E358-4B27-8A2E-CE00EFEE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4B306-73CE-4323-AECA-04DFE3AE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64033-5AAA-4F20-8B10-B8D4BC4A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B506D-5DC3-432C-A5B3-1BEC0F37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56E08-FD30-4AFD-A1F3-63778CC2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CEEE3-EACF-4E41-8815-069D13D0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B6B-CAE6-4AB3-8D1B-9F3692AA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2274B-C1F9-4268-924A-58344108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AA895-3D5C-42E4-8A62-795E626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F8E9E-08A1-4DAC-AAF8-FE0A7C1F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5A998-71D3-4688-84AC-509860ED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1A59D-8ABE-42DC-B76C-9A4C1C52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E5984-B674-46F7-B036-118CFE79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1ADFD-6DF1-416D-BC69-4AD2E719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DC91-3160-4457-AC36-3228DFB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58C73-CAF6-4655-B762-275D058B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F13A1-E45B-48EB-98B1-D12908CB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09E-9548-4040-91FC-5C955692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8175F-72FA-4C39-8A17-8BABC9ED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2DE64-227A-49BA-B004-E32E7256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2FE29-EFAC-4AD9-93E5-DDE09F74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A24F5-2111-445F-A348-5B3281CE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B3EF4-FD58-418C-970A-9A147EB9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6AEA-E052-47F3-86D1-3911C33C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77BA1-1C89-4908-9078-317F7D64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21694-FA61-48A9-87E4-CC08EB55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C840B-B288-48D9-837F-197AF301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DCB1E-34DB-489B-9EEC-AC3CDFB3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CAD9-8297-4C1E-BFE7-172EAF6A52C9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ADA6-5E2D-451F-83D2-2EB2EA83908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9908-4073-4E7A-A884-9C6D1D6B87AD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271D-DEF7-409A-AAC8-0AEEDDA86E0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83DC-8ECC-4262-ADEC-21DBD105491A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52CC-E44F-4DCB-B4DE-628CDAA97CC6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2416-30D1-40DE-BC12-8BDE75B1CB33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739F-36BA-44EF-85C4-653E6F352D1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EA7C-E6A6-4B62-BDA7-33F10E1AB43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5437-34AB-409C-90A4-7EF83E57C584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D397-E148-4E7D-94C7-F951385919D4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 de stallen gelden de volgende algemene eisen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ervoor dat de vloeren vlak zijn, maar niet glad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ervoor dat er in de stallen voldoende daglicht binnen komt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voor natuurlijke ventilatie in uw stalle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zorg dat 33% van het vloeroppervlak dicht is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U mag eventueel gangbaar strooisel gebruiken. Als u ook stro gebruikt als ruwvoer, moet al het stro biologisch zij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U maakt de stallen en installaties schoon met water, stoom of reinigingsmiddelen.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U mag het daglicht tot max. 16 uur per dag aanvullen met kunstlich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37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 huisvesting voor runderen moet aan de volgende aanvullende eisen voldoen om ervoor te zorgen dat de runderen zich op een natuurlijke manier kunnen gedrag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600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11520" y="0"/>
                </a:lnTo>
                <a:arcTo wR="8640" hR="21600" stAng="-5400000" swAng="3429472"/>
                <a:lnTo>
                  <a:pt x="21326" y="16200"/>
                </a:lnTo>
                <a:lnTo>
                  <a:pt x="18720" y="21600"/>
                </a:lnTo>
                <a:lnTo>
                  <a:pt x="15566" y="16200"/>
                </a:lnTo>
                <a:lnTo>
                  <a:pt x="17006" y="16200"/>
                </a:lnTo>
                <a:arcTo wR="8640" hR="21600" stAng="-1970528" swAng="-3197391"/>
                <a:lnTo>
                  <a:pt x="10080" y="302"/>
                </a:lnTo>
                <a:arcTo wR="8640" hR="21600" stAng="-5632081" swAng="-5167919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232081"/>
                <a:lnTo>
                  <a:pt x="10080" y="302"/>
                </a:lnTo>
                <a:arcTo wR="8640" hR="21600" stAng="-5632081" swAng="-516791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rachtige zeugen en gelten moeten in groepen worden gehuisvest en vrij loslopen. Voor de vloeroppervlakte geld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eschikbare oppervlakte per zeug moet ten minste 2,25 m² zij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23640" y="1557360"/>
            <a:ext cx="81356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Nea Wolfs</cp:lastModifiedBy>
  <dcterms:modified xsi:type="dcterms:W3CDTF">2017-09-05T08:20:52Z</dcterms:modified>
  <cp:revision>37</cp:revision>
  <dc:subject/>
  <dc:title>Varkens</dc:title>
</cp:coreProperties>
</file>