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F7E-2397-40DA-BD58-F22C14D7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385-83B2-4E1E-AF77-FEA46ACD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747CA-D02E-4308-A971-E5D81F5A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A1D8D-0455-43D9-AE29-8110B39E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A9042-7737-4234-9A3A-70BFB8FB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FE032-B8F4-4B34-A6F2-26286065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13BA4-AB37-46CA-8E99-8031EEAE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3C272-AF41-4410-B6B3-492C5859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18668-9AAA-4634-8C45-4BC42309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67504-3333-431C-8DE2-6036F72A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46519-391E-480E-85EB-9E6567E4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439F8-8B1F-436A-8E65-DB83DEB1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4D8-F989-4D52-9DAD-D6FB10BC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F98B4-329C-4FC1-A458-19FBCEBE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24ED7-7DF5-4D3B-A550-6138DB9D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C0CDA-D21F-4EF7-8640-61B2E94B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37399-758A-42EF-A43D-21E690C0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46BCA-3214-4137-AAA4-95913E01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56592-BC30-4232-BB70-688E738A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1680E-27C5-4AC4-BFDE-06062FC9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FF523-BB07-4A9A-A233-F7A70D0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C4427-20CD-47A2-97FF-87413786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C0739-EFF8-49CC-891B-3656D4AD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FEE-50B8-44C9-B39E-D40C02A0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9BA8A-89DE-46F9-8DFF-45A268A9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423E1-3D9C-4144-AB8D-99B573AA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B6C52-231C-47F4-9470-5FC45D18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F1BE3-D30A-4BA4-BC53-79E9DDFE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A8E5A-6C24-4E83-8137-DB804EB3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71334-6084-47FF-A5D1-F9BDDB9A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290A6-6AB2-4342-B761-F6F0CB75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2BD69-A680-43FF-B21D-CE2B9B57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4F96B-5BC3-4951-BFF4-ED722C36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F2E55-FF05-434F-989F-86B5D08C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41F7-C747-46EF-AA29-DD54A041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781C0-45FC-4245-A9B9-45FF6411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E7DF5-B8DD-4580-9481-E77754E4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76ECF-BA6C-4858-B3B2-229E7C5A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83CC-0AEE-4FC8-B533-60A33305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F88-52EF-4612-A360-CA191CE6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5AAA-E47E-4739-8B02-422458DF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9543-4868-46C6-856F-C09EEE61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E438-09DA-46E4-8EE6-3DB30C61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ECE8-C109-4705-A41A-EACF4687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EF8-A5F1-45BA-B105-9DEEB2DB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4628-A1FB-404C-9E61-41B0FC9E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3FD7-5B50-4496-9777-D8D977B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F816-955C-465F-847A-29B419FE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AEEA-9117-455B-9715-30FAF6D1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CA7E-5792-4AD9-9BEF-CA63B558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D609-03C8-4555-A07F-EED3C513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3968-E3D9-4884-BC64-B569D5E3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08008-05C8-4B2C-A1D9-A1CCA090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7F18-3915-4CAC-9B63-22B63330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50C43-E629-4849-88B9-A89DD35C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CB1-15C7-49D4-BDC9-DF503AB7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EBF6B-C70E-4B3C-94F7-F62FB2E5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AC5C-1F9B-45D2-9EA4-6ED854C6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C96FB-ECF7-439C-A514-32EEF511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346A-7B87-48AB-8B9F-BD869C06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5AC4-E0AD-40EA-A84C-4B2A76B2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1F9C-B773-4C3C-A7FD-8CF08EE1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FDF0-5F5D-4811-B8CE-CE515FA2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03641-70B7-4886-81AB-D77A253E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3823-F963-49A5-A9BD-F7F20705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2D1A7-4A0B-4D56-AD5C-BAAE1548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973-553B-4AD7-BD84-6DB5DA89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4971-5300-457C-B9EA-295A409D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143A5-334A-4BE6-8155-56D10848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62E9-1320-43AC-A3F9-15BE4644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48F69-00E6-4A41-8920-43B9645F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5E6B-9184-41CB-8832-70A0F819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C28B3-FA6F-4E70-9562-93975C11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BBBCD-4886-4F76-946B-457763E2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89836-7378-46A5-AF88-CD2FE940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26DE-E08B-4C6B-8E88-B25B858B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27C7F-10BC-4222-A36C-FB35CBF1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F95-091E-46CF-8450-196F31EC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ECC63-81D2-45BB-8D5D-D3CC5C93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C4BEF-ADC6-4E1B-906E-0E5F96C4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69D0-8E3B-4DAC-BC05-CA1AD934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2F66D-C45F-47CD-858C-24F3B019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7871-0FD7-48D9-A1A4-7DF1689F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28976-CC8A-4854-9619-B973E202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45AB5-829B-4880-8802-5685DAC9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A3971-2303-4918-8099-2D75FCB8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9C32B-E721-4055-835E-567F0807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28CBF-51ED-4D8F-B36A-C610EDEC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AF2-57E1-495B-8BB2-467A882E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4BB55-A7F4-4AB1-964C-3CC04512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3A610-F7C4-498E-9DE4-902582EE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671B-5DA1-478B-9D62-1AF5B453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1590B-F8CD-477C-B09E-1D91984E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31A30-B4C3-4CB8-BDA5-7F430449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E10E-0F53-43D5-9662-A0BC2256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861F6-9E24-4D61-85C5-23787D3A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5131F-C1E8-4A9D-B187-0F3551E4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3AB6C-36F2-4B8B-8F1E-4BBA0DF5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45B8D-0A0C-43C7-8DC9-795F9669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1CF-6D54-4EAB-BDF7-B7F85322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6CD8B-B6F3-4DD9-9958-B0916C70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B460D-9D3B-4D68-A910-343B3324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0860C-0215-4556-B5D6-007153FD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6AED9-71DD-43D4-8B34-17697E64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DD679-1B2B-45A6-82E0-C80DA971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412AE-48EC-473B-8523-B16BB016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9648B-A8AF-490E-AC98-9F189A1B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B0384-FA82-4AD9-B011-744D3B7C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45DE8-8FE5-42B2-B322-2FA713CD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BD5DF-97DA-4117-B1D3-F4F6706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4DD-C826-4C32-8C28-6F2177F1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6E9C9-6A64-4370-AFE4-5DBBC64F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1FD76-89D9-4DD3-8095-EDFAD92D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27CE2-CD3D-48E1-80F5-F907D4C2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2F395-54F5-4CEB-B74B-D9D1C2EF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2E340-7F80-40F3-A8D9-82D8F2AE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AE0E8-BD41-42CA-B0EF-A29D20DA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CF3EB-E7C7-4BEC-B113-0699BBA6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64DC3-2E0A-46BB-81D2-928718A7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604A7-BFED-45A7-BA56-D5546D12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801D7-1658-4C36-A1B9-D6F9A63B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B38-3D0A-46CC-9924-7BA0A655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EFB02-8159-4EC0-84DF-D5B1CE92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08F05-669D-41C7-9BDB-C11D4B3C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2D0A7-CB2D-4A89-92A6-ABF6632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18BEE-2D45-4E7A-8A45-353A889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45C29-5218-4854-8A54-83EBE364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9D224-252F-4F0B-BA46-467783A0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64526-AFED-4FB7-9BBC-6B108159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7074B-B8B8-4C5E-A09B-0D35B616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081D9-066F-470D-84FB-F69C60CA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80068-1FC3-4FCC-8D59-008A4BF1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5478-F9FC-43FE-A51F-E03B6EE6D859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F00B-EA98-4E48-A927-5E43E88673EA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5CAB-38DF-4A47-912A-9C36128B7E73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6549-ECFB-48B3-8F46-E3EC50766964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F449-4601-4788-A84B-EBF7FB0AA390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5A2F-C772-4034-97C6-899693D8112B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11F9-7031-48E7-A8FA-94867A38E568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C374-F3E4-441D-8E05-77950CD8AFCB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78D5-18D9-4751-A77C-884949DB7011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AF31-D4E7-4CE2-AC0F-D5A9FE1E8ED5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14C3-660E-4A64-A8D3-D566B313C90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834920" y="1341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vesting en cyclus in de veehouderij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BS: Onderhou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7259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1880" y="13698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23-110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geveer 4 maa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9 graden w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4114800"/>
            <a:ext cx="8820000" cy="2673360"/>
          </a:xfrm>
          <a:prstGeom prst="rect">
            <a:avLst/>
          </a:prstGeom>
          <a:ln w="0">
            <a:noFill/>
          </a:ln>
        </p:spPr>
      </p:pic>
      <p:sp>
        <p:nvSpPr>
          <p:cNvPr id="489" name="Tekstvak 3"/>
          <p:cNvSpPr/>
          <p:nvPr/>
        </p:nvSpPr>
        <p:spPr>
          <a:xfrm>
            <a:off x="492120" y="3160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dierplaatsen voor een bedrijf met 300 zeugen, met achtereevolgens een 1,2,3,4 en 5 wekensyste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Afbeelding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8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 de stallen gelden de volgende algemene eisen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ervoor dat de vloeren vlak zijn, maar niet glad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ervoor dat er in de stallen voldoende daglicht binnen komt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voor natuurlijke ventilatie in uw stalle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dat 33% van het vloeroppervlak dicht is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U mag eventueel gangbaar strooisel gebruiken. Als u ook stro gebruikt als ruwvoer, moet al het stro biologisch zij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U maakt de stallen en installaties schoon met water, stoom of reinigingsmiddelen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pluimveestal moet aan de volgende aanvullende eisen voldoen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De dichte vloer van pluimveestallen strooit u voldoende i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U mag het daglicht tot max. 16 uur per dag aanvullen met kunstlich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innenruimtes voor leghen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moeten aan de volgende normen voldoe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ximaal 6 leghennen per m2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18 cm. zitstok per leghen, de zitstok moet min. 30 x 30 mm dik zijn. Geïntegreerde zitstokken moeten minimaal 3 cm. verhoogd zij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50% van de totale minimum zitstoklengte moet extra verhoogd zijn, namelij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onder de zits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30 cm ruimte tussen de zitsto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tot het plaf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fok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58920" y="2060640"/>
          <a:ext cx="4306680" cy="2711520"/>
        </p:xfrm>
        <a:graphic>
          <a:graphicData uri="http://schemas.openxmlformats.org/drawingml/2006/table">
            <a:tbl>
              <a:tblPr/>
              <a:tblGrid>
                <a:gridCol w="2504880"/>
                <a:gridCol w="1801800"/>
              </a:tblGrid>
              <a:tr h="903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tot 7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tot en met 18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19 weken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(127e d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1173240" y="1050480"/>
            <a:ext cx="662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binnenruimtes voor opfokhenn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oeten aan de volgende normen voldo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minimale oppervlakte (per leeftijd) voor opfokhennen 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erhoogde zitstokken van 6 cm. lang per dier vanaf 7 wek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anaf 56 dagen moet u de opfokhennen toegang tot de uitloop gev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De uitloopopeningen moeten breed en hoog genoeg zijn, zodat de opfokhennen snel naar binnen of buiten kunnen gaa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Er geldt geen maximaal aantal voor opfokhennen per s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56000" y="3357720"/>
          <a:ext cx="4176720" cy="2016000"/>
        </p:xfrm>
        <a:graphic>
          <a:graphicData uri="http://schemas.openxmlformats.org/drawingml/2006/table">
            <a:tbl>
              <a:tblPr/>
              <a:tblGrid>
                <a:gridCol w="2587680"/>
                <a:gridCol w="1589040"/>
              </a:tblGrid>
              <a:tr h="67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hennen, vleeskuikens en parelho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he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koe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826920" y="1134000"/>
            <a:ext cx="684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mag gebruik maken van wisseluitlopen. Dit betekent dat u:</a:t>
            </a:r>
            <a:br>
              <a:rPr sz="1600"/>
            </a:b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uitloop per afdeling in gelijke delen in de lengte mag opsplitsen, zodat de begroeiing kan herstellen.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het pluimvee tijdens de ronde elke wisseluitloop even lange perioden laat gebrui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de uitlopen gelden de volgende minimale oppervlak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kalf tot k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835280" y="1557360"/>
          <a:ext cx="6635520" cy="3249720"/>
        </p:xfrm>
        <a:graphic>
          <a:graphicData uri="http://schemas.openxmlformats.org/drawingml/2006/table">
            <a:tbl>
              <a:tblPr/>
              <a:tblGrid>
                <a:gridCol w="3317760"/>
                <a:gridCol w="33177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eftij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 (alleen me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/stierk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– 1 ja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jaar (geslachtsrij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. 16 mnd(Bij uiervorm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vaars /1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tter/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eer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de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37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 huisvesting voor runderen moet aan de volgende aanvullende eisen voldoen om ervoor te zorgen dat de runderen zich op een natuurlijke manier kunnen gedrag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804680" y="1341360"/>
            <a:ext cx="6994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rbivoren moeten voldoende schone en droge ligruimtes hebben die u voldoende heeft ingestroo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leeskalveren (ouder dan 1 week) en vleesstieren moet u in groepen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 melkveebedrijven mag u kalveren tijdens de zoogperiode in een “iglo”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u stieren ouder dan 1 jaar tijdens het weideseizoen niet weidt, moet u ze een uitloopmogelijkheid geven. Deze uitloop moet minimaal 30 m2 per stier zijn en mag u voor maximaal 75% overkappen. 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langer dan één vijfde deel van hun leven binnen afmesten en in ieder geval niet langer dan 3 maa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aanbi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 melkv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619280" y="2349360"/>
          <a:ext cx="6481800" cy="3456000"/>
        </p:xfrm>
        <a:graphic>
          <a:graphicData uri="http://schemas.openxmlformats.org/drawingml/2006/table">
            <a:tbl>
              <a:tblPr/>
              <a:tblGrid>
                <a:gridCol w="4014720"/>
                <a:gridCol w="246708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s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1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2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vanaf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2 per dier en minstens 1 m2  per 100 kg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hthoek 7"/>
          <p:cNvSpPr/>
          <p:nvPr/>
        </p:nvSpPr>
        <p:spPr>
          <a:xfrm>
            <a:off x="1476360" y="1479600"/>
            <a:ext cx="69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t zijn de minimum oppervlaktes van de stallen voor rundve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Afbeelding 3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91742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Big tot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63640" y="1773360"/>
          <a:ext cx="6635880" cy="3024000"/>
        </p:xfrm>
        <a:graphic>
          <a:graphicData uri="http://schemas.openxmlformats.org/drawingml/2006/table">
            <a:tbl>
              <a:tblPr/>
              <a:tblGrid>
                <a:gridCol w="3318120"/>
                <a:gridCol w="33177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(geltje/bor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1 d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peende bi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25 Kg (9we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-/vleesvar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11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k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8 maa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nde 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nd, 3 wk, 3 dgn dr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am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weken in de kraam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Gekromde pijl-omlaag 4"/>
          <p:cNvSpPr/>
          <p:nvPr/>
        </p:nvSpPr>
        <p:spPr>
          <a:xfrm rot="16200000">
            <a:off x="903960" y="3824640"/>
            <a:ext cx="1079640" cy="576360"/>
          </a:xfrm>
          <a:custGeom>
            <a:avLst/>
            <a:gdLst>
              <a:gd name="textAreaLeft" fmla="*/ 216000 w 1079640"/>
              <a:gd name="textAreaRight" fmla="*/ 792000 w 107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11520" y="0"/>
                </a:lnTo>
                <a:arcTo wR="8640" hR="21600" stAng="-5400000" swAng="3429472"/>
                <a:lnTo>
                  <a:pt x="21326" y="16200"/>
                </a:lnTo>
                <a:lnTo>
                  <a:pt x="18720" y="21600"/>
                </a:lnTo>
                <a:lnTo>
                  <a:pt x="15566" y="16200"/>
                </a:lnTo>
                <a:lnTo>
                  <a:pt x="17006" y="16200"/>
                </a:lnTo>
                <a:arcTo wR="8640" hR="21600" stAng="-1970528" swAng="-3197391"/>
                <a:lnTo>
                  <a:pt x="10080" y="302"/>
                </a:lnTo>
                <a:arcTo wR="8640" hR="21600" stAng="-5632081" swAng="-5167919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232081"/>
                <a:lnTo>
                  <a:pt x="10080" y="302"/>
                </a:lnTo>
                <a:arcTo wR="8640" hR="21600" stAng="-5632081" swAng="-516791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oeroppervlak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1640" y="1412640"/>
            <a:ext cx="7467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rachtige zeugen en gelten moeten in groepen worden gehuisvest en vrij loslopen. Voor de vloeroppervlakte geld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eschikbare oppervlakte per zeug moet ten minste 2,25 m² zij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iervan moet 1,3 m² aaneengesloten dichte vloer zijn. Het uitgangspunt is dat een varken comfortabel moet liggen en over voldoende ligruimte op een dichte vloer beschik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zijden van een stal zijn langer dan 2,8 meter als de groepen uit 6 dieren of meer bestaan, bij minder dan 6 dieren langer dan 2,4 me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inder dan 6 dieren moet de totale oppervlakte met 10% worden vergro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eer dan 40 dieren mag de totale oppervlakte met 10% worden verklei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0292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 week voor biggen tot 4 weken na big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22 – 27 graden voor biggen, 18 graden voor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box + biggennest met verwa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oosters en soort box naar keu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sten ongeveer 600 -1200 E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waropstelling, lengteopstelling of schu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ust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233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max 4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 graden, 16 uur licht en 100 lux lichtster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ele box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ang ervoor voor de b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parte hokken voor de b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 gecombineerd met wacht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28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4 dagen in 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Afbeelding 3" descr=""/>
          <p:cNvPicPr/>
          <p:nvPr/>
        </p:nvPicPr>
        <p:blipFill>
          <a:blip r:embed="rId1"/>
          <a:stretch/>
        </p:blipFill>
        <p:spPr>
          <a:xfrm>
            <a:off x="6164280" y="2565360"/>
            <a:ext cx="2692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23640" y="1557360"/>
            <a:ext cx="81356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(met eisen voor vloeroppervlak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tere groe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in beschermde af te sluiten box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o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kleinere groepen (6-10 diere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tegelij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rio-m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Minimaal 14 zeu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ele dag kleinere por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Werkt op brij en droogvo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met voer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en naar behoef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station per 30-50 zeu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oringsgevoeli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op s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00-400 zeugen per gro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gelijkbaar met ligboxenstal (natuurlijke ventilat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Afbeelding 3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25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de kraam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6200" y="126792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gespeende –biggen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spenen tot 23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8 graden war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opfokzeugen 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af 23 kg tot de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Afbeelding 3" descr=""/>
          <p:cNvPicPr/>
          <p:nvPr/>
        </p:nvPicPr>
        <p:blipFill>
          <a:blip r:embed="rId1"/>
          <a:stretch/>
        </p:blipFill>
        <p:spPr>
          <a:xfrm>
            <a:off x="5649840" y="1844640"/>
            <a:ext cx="3264120" cy="1871640"/>
          </a:xfrm>
          <a:prstGeom prst="rect">
            <a:avLst/>
          </a:prstGeom>
          <a:ln w="0">
            <a:noFill/>
          </a:ln>
        </p:spPr>
      </p:pic>
      <p:pic>
        <p:nvPicPr>
          <p:cNvPr id="485" name="Afbeelding 4" descr=""/>
          <p:cNvPicPr/>
          <p:nvPr/>
        </p:nvPicPr>
        <p:blipFill>
          <a:blip r:embed="rId2"/>
          <a:stretch/>
        </p:blipFill>
        <p:spPr>
          <a:xfrm>
            <a:off x="5724360" y="4618080"/>
            <a:ext cx="3195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7:01:02Z</dcterms:created>
  <dc:creator>vak</dc:creator>
  <dc:description/>
  <dc:language>en-US</dc:language>
  <cp:lastModifiedBy>Nea Wolfs</cp:lastModifiedBy>
  <dcterms:modified xsi:type="dcterms:W3CDTF">2017-09-05T08:20:52Z</dcterms:modified>
  <cp:revision>37</cp:revision>
  <dc:subject/>
  <dc:title>Varkens</dc:title>
</cp:coreProperties>
</file>