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B947-2746-474B-9505-B881FD9E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AE0-2B44-4F93-BA50-9FFE8CB4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7FEFA-AB30-45FA-ADE7-19159145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31142-B058-49EB-B9BF-ECD38867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333A2-C7BB-4F5B-A0FF-02415014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FE1E1-83E9-4346-A2C0-C04B4439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E27EF-ED60-44DB-A491-34948945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ADC4C-8800-4D0A-9687-5CA54E7B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7A2EC-53E7-43E1-9E8B-00933399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B0C5F-28B2-4508-A0AF-D254AD28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EE96D-4CF2-4F91-A097-2F782826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27042-7C70-48B1-9EE1-A7B76599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78F9-71F7-4176-AA70-69514B40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EF77C-7849-4CBA-93B8-495A4060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671DF-0005-4B1A-91A4-CE49C769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FDF74-A4A0-4C47-A492-CF8F90FE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E9E7A-DF9F-4AC6-B1E0-50D3A947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EB378-2D98-4236-BC9A-3C0D7B3B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B85BC-D558-46B3-994B-771FA940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E2FB0-D7DB-4F1F-BD6E-D6A99BCC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8941E-3FD2-4C3E-BC08-88CE85AC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2EB9A-8CB0-49EF-ADBC-B5DF8DBA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C9935-917F-4FCF-8B9D-486C9F6B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5A47-8D99-4CAD-BC4E-609F33C9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F1CE0-8A8B-415D-B2ED-F46F982F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1E6A5-188C-4DC8-8CF1-123F7272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C1CC7-14E6-4061-882D-7619C105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25961-6DF7-4C41-BBBE-03FDF564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A4D7A-3892-41AB-9393-0DA586BA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7CFA2-B9B0-48A1-AE5A-95A63434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28E4B-0C21-4751-8989-5335EAF8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0EE88-798D-4D30-A8B2-F4C35225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86AE5-F10D-4FF5-8FDD-DC714418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7334A-0E81-49E0-862B-FF5432A4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25F6-BFED-41FD-96D3-E13DA13D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8D7C5-A2A8-4B23-BC27-0CB0C105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987DA-09D8-4126-8C1B-006E202F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1EDAD-56E3-4ACE-B7B5-7EFA1981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A858-F083-47E4-97B8-70FFA8D0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AA95-B24D-4745-947B-23CAD9BE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3CA0-8D9A-47AF-9732-AB871434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D33F-69AC-4D1A-851A-E8670B71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105B-DF41-47DE-9A19-F1CCCDE1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7EBE-700E-4619-B458-47B7B94B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FEC-782D-4578-BA36-FE095CAE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5523-2B66-43A9-9DAA-6ECC8F1C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6BA7-DDDA-48C5-B60E-FD824B12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1867-5992-4636-84A1-1D617C2D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B7D5-98B1-4F28-987E-105125E4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6060-660B-4D26-8FE9-23673AFB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408EA-A086-4317-8555-7ADF5AC6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D7F54-D6CB-480B-99D4-D8AC0ACD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94252-4B51-41AA-B72C-A3F6D2A6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B163A-7FB8-45AD-82C2-45433ACE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A6502-C5A1-4F03-879D-E059AB74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4EE3-5925-423C-9697-B3C26300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4A431-5D8C-433D-A7A4-1F9C80AE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0BF0B-33BD-44B7-BE9D-BF2C5E85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7943F-82C3-495A-9933-74E64A29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0B9FE-AA18-43B7-A68A-883A5E28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974A4-2ADE-4DCC-896F-32417B0F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F8B70-0970-4AAC-A2D5-745B930D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E7C0E-0EA8-48D5-AA4E-FDEE1368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74F09-76D8-437E-A4DE-6507BCD9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D1EDA-75AA-49A5-B232-6CDF6D76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F334C-36C3-49E8-B31F-6C002EF3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F90B-2124-4E04-BC39-A4FD6D93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754FA-C3AB-4598-8041-022A859B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88B92-791D-4451-8ED8-B315C1DD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80468-067B-45B7-9971-9F6CB59A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44170-DE73-4A6E-AE20-07FDA03C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BAB69-6EE6-429D-B96D-C050F72F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042D7-DCA4-497F-A246-A35922AA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AC145-CA2F-45CC-9F1A-109E61E3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9E560-C869-4583-BF4F-C3F2E3E5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D873E-D17C-40C0-A95C-71D74084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8B8F9-5724-4354-BBE5-3582F51D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42D-7A42-489E-93AB-FB09750E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0E171-AE2E-4C21-A039-A3D0A2D0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6E3F1-B75E-492C-B20D-5100D573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A53B3-2052-43EE-AA65-4A095A2E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1C292-B597-488A-837A-49409A60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71618-0872-407A-B95A-8887637C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E0828-673F-4B64-A9F4-62FB7E0B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00BC1-F3EA-4668-B485-EA6161CE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A9692-4A9D-4CDE-B59D-173512BD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062C5-3458-44F6-88C8-E1A586CF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637DA-E33F-4CDD-B167-709B8E49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C05-6FC1-4E43-BC42-6BCEA431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0D767-3163-47F8-8E71-C64C1994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3B1B4-0AF5-4D9A-B7D5-351CE1B6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454F3-735A-4D20-9764-801AD86C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ECFCF-C327-4C5B-B66C-ABA8BB48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A27B8-FF60-404B-92F5-FCCCF31F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F9370-AD3B-4E84-B967-DF221020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EE360-B531-42E6-B888-2436CC61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85194-98D9-40AC-B88D-1D12BAFC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3B795-987A-450F-B890-B6E094B2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9AF61-834B-4677-A5A2-0C5E2238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CA2-35F4-483F-8565-9C8ECC6A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AE961-DD30-4AFD-B01D-7C029364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BE445-DE00-4C4C-BBE9-7B04A9BF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88CEA-1B4B-4C63-8EB4-58FB2C4F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2C56E-1C8B-41B7-8315-C0DEF3FB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833C5-BE50-44AD-B1B5-5AC35E1E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2F784-7FE5-4926-9997-78D4633C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FB5F6-CDEF-4848-A553-9808B1F6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6AD54-94F2-4EC4-9F3F-416CCAC1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70AD3-BBFE-4E48-A1C7-5376F69C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61865-18BF-47DF-9BBE-50C3BD3B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CC84-D1F2-4412-BA41-339956E2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9D9C0-AF37-4164-A5D7-2FED7590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135C2-4D07-48FF-8F3E-663F214D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C4AE9-AAD1-4A43-83A2-447E0ADD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3EF94-AA96-4D6C-A46B-AB86B3C2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3F0EC-74F4-408E-B83E-A801B9FC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5DDA0-5118-4A93-B519-AEE47614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DAADD-B2C7-45CD-96A6-8A7BBF39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17134-EDE0-4DE6-B40E-3C1D164A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94F11-9066-46AE-AA69-E0462709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ADD81-0522-4A2F-A712-899066D6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B9D7-044F-4327-8DC5-E0763DD6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9DD07-9BC3-4C37-9F36-FED34856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2150D-FB02-4289-88CE-A654F004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35269-8B77-4A7E-B6AC-E299ECD1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514A2-8838-405B-BC80-77194980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71E5C-8701-4526-8137-A502762C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80F5D-469B-47D4-9E00-510C291F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9ED7C-44A6-438C-B822-C7C55BDF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59C2A-71EE-491C-985F-FD00BD68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15872-3524-4BE8-AF2F-5AB51141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2BBD8-F033-482B-8F69-6DF9CC45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396C-4CC5-4F69-BFBA-92CDA100EF05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6C16-EE74-4116-A3C9-F2076EFCC18C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718A-FD19-4524-A4ED-F36F28D9C77A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607C-3F9D-471E-92D0-D12FC7D5B62F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CA8F-F957-4ED1-BE99-23A5D55EC01D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1618-64F8-4EB1-8E04-B1B94DBFC021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A045-897B-4DBB-B37D-E2845AC054CF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EC24-9113-4D08-B845-5D790FF57677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ECFF-393C-48DD-967E-5448F1564522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3C5D-28CD-4EF5-B146-F8E1D4CD5B0F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5F9A-B890-413E-BEFA-9D5D8522C79D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834920" y="1341000"/>
            <a:ext cx="66243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vesting en cyclus in de veehouderij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BS: Onderhou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Afbeelding 1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725940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s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1880" y="136980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23-110 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ngeveer 4 maa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9 graden w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08000" y="4114800"/>
            <a:ext cx="8820000" cy="2673360"/>
          </a:xfrm>
          <a:prstGeom prst="rect">
            <a:avLst/>
          </a:prstGeom>
          <a:ln w="0">
            <a:noFill/>
          </a:ln>
        </p:spPr>
      </p:pic>
      <p:sp>
        <p:nvSpPr>
          <p:cNvPr id="489" name="Tekstvak 3"/>
          <p:cNvSpPr/>
          <p:nvPr/>
        </p:nvSpPr>
        <p:spPr>
          <a:xfrm>
            <a:off x="492120" y="3160800"/>
            <a:ext cx="79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tal dierplaatsen voor een bedrijf met 300 zeugen, met achtereevolgens een 1,2,3,4 en 5 wekensyste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Afbeelding 3" descr=""/>
          <p:cNvPicPr/>
          <p:nvPr/>
        </p:nvPicPr>
        <p:blipFill>
          <a:blip r:embed="rId1"/>
          <a:stretch/>
        </p:blipFill>
        <p:spPr>
          <a:xfrm>
            <a:off x="0" y="333360"/>
            <a:ext cx="9082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3928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 de stallen gelden de volgende algemene eisen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zorg ervoor dat de vloeren vlak zijn, maar niet glad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zorg ervoor dat er in de stallen voldoende daglicht binnen komt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zorg voor natuurlijke ventilatie in uw stallen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zorg dat 33% van het vloeroppervlak dicht is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U mag eventueel gangbaar strooisel gebruiken. Als u ook stro gebruikt als ruwvoer, moet al het stro biologisch zijn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U maakt de stallen en installaties schoon met water, stoom of reinigingsmiddelen.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pluimveestal moet aan de volgende aanvullende eisen voldoen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. De dichte vloer van pluimveestallen strooit u voldoende in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2. U mag het daglicht tot max. 16 uur per dag aanvullen met kunstlich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gh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innenruimtes voor leghenn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moeten aan de volgende normen voldoen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ximaal 6 leghennen per m2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18 cm. zitstok per leghen, de zitstok moet min. 30 x 30 mm dik zijn. Geïntegreerde zitstokken moeten minimaal 3 cm. verhoogd zij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50% van de totale minimum zitstoklengte moet extra verhoogd zijn, namelij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40 cm vrije ruimte onder de zits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30 cm ruimte tussen de zitstok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40 cm vrije ruimte tot het plaf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fokh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258920" y="2060640"/>
          <a:ext cx="4306680" cy="2711520"/>
        </p:xfrm>
        <a:graphic>
          <a:graphicData uri="http://schemas.openxmlformats.org/drawingml/2006/table">
            <a:tbl>
              <a:tblPr/>
              <a:tblGrid>
                <a:gridCol w="2504880"/>
                <a:gridCol w="1801800"/>
              </a:tblGrid>
              <a:tr h="903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tot 7 we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tot en met 18 we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af 19 weken</a:t>
                      </a:r>
                      <a:br>
                        <a:rPr sz="1800"/>
                      </a:b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(127e d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Rectangle 1"/>
          <p:cNvSpPr/>
          <p:nvPr/>
        </p:nvSpPr>
        <p:spPr>
          <a:xfrm>
            <a:off x="1173240" y="1050480"/>
            <a:ext cx="66247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binnenruimtes voor opfokhennen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oeten aan de volgende normen voldoen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minimale oppervlakte (per leeftijd) voor opfokhennen i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Verhoogde zitstokken van 6 cm. lang per dier vanaf 7 weke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Vanaf 56 dagen moet u de opfokhennen toegang tot de uitloop geve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De uitloopopeningen moeten breed en hoog genoeg zijn, zodat de opfokhennen snel naar binnen of buiten kunnen gaa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Er geldt geen maximaal aantal voor opfokhennen per st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it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556000" y="3357720"/>
          <a:ext cx="4176720" cy="2016000"/>
        </p:xfrm>
        <a:graphic>
          <a:graphicData uri="http://schemas.openxmlformats.org/drawingml/2006/table">
            <a:tbl>
              <a:tblPr/>
              <a:tblGrid>
                <a:gridCol w="2587680"/>
                <a:gridCol w="1589040"/>
              </a:tblGrid>
              <a:tr h="671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hennen, vleeskuikens en parelhoe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fokhen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lkoe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Rectangle 1"/>
          <p:cNvSpPr/>
          <p:nvPr/>
        </p:nvSpPr>
        <p:spPr>
          <a:xfrm>
            <a:off x="826920" y="1134000"/>
            <a:ext cx="6840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 mag gebruik maken van wisseluitlopen. Dit betekent dat u:</a:t>
            </a:r>
            <a:br>
              <a:rPr sz="1600"/>
            </a:b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de uitloop per afdeling in gelijke delen in de lengte mag opsplitsen, zodat de begroeiing kan herstellen.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 het pluimvee tijdens de ronde elke wisseluitloop even lange perioden laat gebruik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 de uitlopen gelden de volgende minimale oppervlakt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Afbeelding 3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kalf tot ko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835280" y="1557360"/>
          <a:ext cx="6635520" cy="3249720"/>
        </p:xfrm>
        <a:graphic>
          <a:graphicData uri="http://schemas.openxmlformats.org/drawingml/2006/table">
            <a:tbl>
              <a:tblPr/>
              <a:tblGrid>
                <a:gridCol w="3317760"/>
                <a:gridCol w="33177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a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eftij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 (alleen mel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ars/stierka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– 1 ja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jaar (geslachtsrij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. 16 mnd(Bij uiervorm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kvaars /1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alfsk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afkal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tter/2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alfsko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2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eer afkal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de kalfsko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37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 huisvesting voor runderen moet aan de volgende aanvullende eisen voldoen om ervoor te zorgen dat de runderen zich op een natuurlijke manier kunnen gedragen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804680" y="1341360"/>
            <a:ext cx="6994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rbivoren moeten voldoende schone en droge ligruimtes hebben die u voldoende heeft ingestroo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leeskalveren (ouder dan 1 week) en vleesstieren moet u in groepen hou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 melkveebedrijven mag u kalveren tijdens de zoogperiode in een “iglo” hou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u stieren ouder dan 1 jaar tijdens het weideseizoen niet weidt, moet u ze een uitloopmogelijkheid geven. Deze uitloop moet minimaal 30 m2 per stier zijn en mag u voor maximaal 75% overkappen. 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 mag runderen niet langer dan één vijfde deel van hun leven binnen afmesten en in ieder geval niet langer dan 3 maan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 mag runderen niet aanbi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sen melkv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619280" y="2349360"/>
          <a:ext cx="6481800" cy="3456000"/>
        </p:xfrm>
        <a:graphic>
          <a:graphicData uri="http://schemas.openxmlformats.org/drawingml/2006/table">
            <a:tbl>
              <a:tblPr/>
              <a:tblGrid>
                <a:gridCol w="4014720"/>
                <a:gridCol w="2467080"/>
              </a:tblGrid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kk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kst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10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20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35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vanaf 35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m2 per dier en minstens 1 m2  per 100 kg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Rechthoek 7"/>
          <p:cNvSpPr/>
          <p:nvPr/>
        </p:nvSpPr>
        <p:spPr>
          <a:xfrm>
            <a:off x="1476360" y="1479600"/>
            <a:ext cx="69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at zijn de minimum oppervlaktes van de stallen voor rundve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Afbeelding 3" descr=""/>
          <p:cNvPicPr/>
          <p:nvPr/>
        </p:nvPicPr>
        <p:blipFill>
          <a:blip r:embed="rId1"/>
          <a:stretch/>
        </p:blipFill>
        <p:spPr>
          <a:xfrm>
            <a:off x="-30240" y="208080"/>
            <a:ext cx="917424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Big tot ze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63640" y="1773360"/>
          <a:ext cx="6635880" cy="3024000"/>
        </p:xfrm>
        <a:graphic>
          <a:graphicData uri="http://schemas.openxmlformats.org/drawingml/2006/table">
            <a:tbl>
              <a:tblPr/>
              <a:tblGrid>
                <a:gridCol w="3318120"/>
                <a:gridCol w="33177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am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(geltje/bor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1 da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peende bi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 25 Kg (9wek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fok-/vleesvar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 11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k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af 8 maa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gende 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mnd, 3 wk, 3 dgn drac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am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weken in de kraams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9" name="Gekromde pijl-omlaag 4"/>
          <p:cNvSpPr/>
          <p:nvPr/>
        </p:nvSpPr>
        <p:spPr>
          <a:xfrm rot="16200000">
            <a:off x="903960" y="3824640"/>
            <a:ext cx="1079640" cy="576360"/>
          </a:xfrm>
          <a:custGeom>
            <a:avLst/>
            <a:gdLst>
              <a:gd name="textAreaLeft" fmla="*/ 216000 w 1079640"/>
              <a:gd name="textAreaRight" fmla="*/ 792000 w 107964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11520" y="0"/>
                </a:lnTo>
                <a:arcTo wR="8640" hR="21600" stAng="-5400000" swAng="3429472"/>
                <a:lnTo>
                  <a:pt x="21326" y="16200"/>
                </a:lnTo>
                <a:lnTo>
                  <a:pt x="18720" y="21600"/>
                </a:lnTo>
                <a:lnTo>
                  <a:pt x="15566" y="16200"/>
                </a:lnTo>
                <a:lnTo>
                  <a:pt x="17006" y="16200"/>
                </a:lnTo>
                <a:arcTo wR="8640" hR="21600" stAng="-1970528" swAng="-3197391"/>
                <a:lnTo>
                  <a:pt x="10080" y="302"/>
                </a:lnTo>
                <a:arcTo wR="8640" hR="21600" stAng="-5632081" swAng="-5167919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232081"/>
                <a:lnTo>
                  <a:pt x="10080" y="302"/>
                </a:lnTo>
                <a:arcTo wR="8640" hR="21600" stAng="-5632081" swAng="-516791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oeroppervlak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331640" y="1412640"/>
            <a:ext cx="746748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rachtige zeugen en gelten moeten in groepen worden gehuisvest en vrij loslopen. Voor de vloeroppervlakte geld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eschikbare oppervlakte per zeug moet ten minste 2,25 m² zij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iervan moet 1,3 m² aaneengesloten dichte vloer zijn. Het uitgangspunt is dat een varken comfortabel moet liggen en over voldoende ligruimte op een dichte vloer beschik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zijden van een stal zijn langer dan 2,8 meter als de groepen uit 6 dieren of meer bestaan, bij minder dan 6 dieren langer dan 2,4 me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ij groepen van minder dan 6 dieren moet de totale oppervlakte met 10% worden vergroo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ij groepen van meer dan 40 dieren mag de totale oppervlakte met 10% worden verklei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raam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02920" y="1557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 week voor biggen tot 4 weken na big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22 – 27 graden voor biggen, 18 graden voor ze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raambox + biggennest met verwar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oosters en soort box naar keu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osten ongeveer 600 -1200 E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waropstelling, lengteopstelling of schu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ust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233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ek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spenen tot max 4 dagen na dek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0 graden, 16 uur licht en 100 lux lichtsterk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dividuele box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ang ervoor voor de be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parte hokken voor de b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ekafdeling gecombineerd met wacht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spenen tot 28 dagen na dek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4 dagen in gro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Afbeelding 3" descr=""/>
          <p:cNvPicPr/>
          <p:nvPr/>
        </p:nvPicPr>
        <p:blipFill>
          <a:blip r:embed="rId1"/>
          <a:stretch/>
        </p:blipFill>
        <p:spPr>
          <a:xfrm>
            <a:off x="6164280" y="2565360"/>
            <a:ext cx="26924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agend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23640" y="1557360"/>
            <a:ext cx="81356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(met eisen voor vloeroppervlak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rotere groep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reten in beschermde af te sluiten box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of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kleinere groepen (6-10 dieren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reten tegelijk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rio-m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Minimaal 14 zeug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Hele dag kleinere port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Werkt op brij en droogvo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agend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met voers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ren naar behoef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 station per 30-50 zeu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toringsgevoeli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op st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00-400 zeugen per gro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gelijkbaar met ligboxenstal (natuurlijke ventilat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r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Afbeelding 3" descr=""/>
          <p:cNvPicPr/>
          <p:nvPr/>
        </p:nvPicPr>
        <p:blipFill>
          <a:blip r:embed="rId1"/>
          <a:stretch/>
        </p:blipFill>
        <p:spPr>
          <a:xfrm>
            <a:off x="5724360" y="4581360"/>
            <a:ext cx="32544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a de kraams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6200" y="126792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gespeende –biggenaf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spenen tot 23 k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8 graden warm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opfokzeugen af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af 23 kg tot dek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Afbeelding 3" descr=""/>
          <p:cNvPicPr/>
          <p:nvPr/>
        </p:nvPicPr>
        <p:blipFill>
          <a:blip r:embed="rId1"/>
          <a:stretch/>
        </p:blipFill>
        <p:spPr>
          <a:xfrm>
            <a:off x="5649840" y="1844640"/>
            <a:ext cx="3264120" cy="1871640"/>
          </a:xfrm>
          <a:prstGeom prst="rect">
            <a:avLst/>
          </a:prstGeom>
          <a:ln w="0">
            <a:noFill/>
          </a:ln>
        </p:spPr>
      </p:pic>
      <p:pic>
        <p:nvPicPr>
          <p:cNvPr id="485" name="Afbeelding 4" descr=""/>
          <p:cNvPicPr/>
          <p:nvPr/>
        </p:nvPicPr>
        <p:blipFill>
          <a:blip r:embed="rId2"/>
          <a:stretch/>
        </p:blipFill>
        <p:spPr>
          <a:xfrm>
            <a:off x="5724360" y="4618080"/>
            <a:ext cx="31957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7:01:02Z</dcterms:created>
  <dc:creator>vak</dc:creator>
  <dc:description/>
  <dc:language>en-US</dc:language>
  <cp:lastModifiedBy>Nea Wolfs</cp:lastModifiedBy>
  <dcterms:modified xsi:type="dcterms:W3CDTF">2017-09-05T08:20:52Z</dcterms:modified>
  <cp:revision>37</cp:revision>
  <dc:subject/>
  <dc:title>Varkens</dc:title>
</cp:coreProperties>
</file>