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7C7-B9AA-425C-91F5-23BBFE9E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8A8-E095-4CF2-8761-0B352079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AA121-2927-4E07-B664-E84D5AAF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11C70-68B2-4ECC-889F-199250DE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86DD1-97B6-416F-AFAC-764BE288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61080-67DE-4B96-A2F1-B16B0B8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F15E1-C883-42E6-8C3D-7516BDDA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E60A8-1A95-4D6F-A888-B480E1F8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054CC-E4D3-4C98-A45F-C746A16B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4EEFF-2BEB-4CB8-97C7-2A05F804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D1796-B934-4FA7-AFAE-93FCFA3A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4788E-977A-451C-8AB5-F52A39F7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FB9-EA71-473D-A346-9C5BD0FA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1E44B-5958-4D75-81A5-FBDADB41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82FCA-CF1B-4B39-91B5-65017E41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FFA41-8FDE-4FFA-BFE3-2FA85CD6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17644-C9D1-4B3C-BE35-8AAFC20B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C10BA-2293-4D4B-B672-D815720A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85E64-11F1-4AC5-8D1A-17BCEAE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861EE-4C30-4DCA-9962-4DAC2AD7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775D5-A31C-4A29-B9D2-F9026357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B0AD1-8654-4ECF-A573-55BAD43E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9FA94-73C6-4418-A412-B006C2B0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49B-35DA-406A-8F86-E466AC73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352BF-FD49-4D21-80A5-BF391257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80C11-BFEB-4E25-99E4-466282E8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9553E-DB31-4A11-8021-30BBD86D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F8D50-48BA-418F-8E5A-6556995F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80710-07D9-4C87-8178-6168728A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E829E-F7FD-4D90-AB3A-25C6946C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F0093-A8D7-4C1C-9C10-BD0E5271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5ACE7-6B92-4C52-9CA5-69B7A34F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70BA5-543E-4237-8FB2-A80A91F6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BD7AF-4E9A-4646-8D12-9F9DFE2A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3F0B-20F3-42BF-A4FA-0C0C0A54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DABC2-8ACE-4996-B463-9171EAC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EBC62-9DB5-45A5-AD09-F49FF744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ACCBB-14FF-432A-9DCE-EA20F744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FBDC-F5BC-46EE-8D87-98E362C2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82F1-0CE2-4924-8644-BFC77FCE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E08E-58E5-4C80-9481-6D213CD8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A7E7-0335-4CF9-902B-409A4118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B7EA-62A1-4FD2-8C3B-09EEF1C3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20D7-9708-40EB-85AF-F82DF69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9D4-B863-4991-A5BB-724A2A99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2F77-DFC2-46B1-9D3E-8D968D2E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9514-ED02-49A4-B851-FFF873B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F2DD-DF85-4EF9-A76E-96F246D5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5AEB-87EA-40CC-9742-26EF6222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78A8-B4E2-440E-BD76-E9CE85D6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786D-1E62-465D-BC6C-B7152E59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FCAD-0B4F-4E25-8E94-5195BF09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F170-3B62-43B9-BEE9-F18FDC0C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3770-56ED-4216-BDC2-82BA108F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25CD-6ABE-49C6-90A2-BC1DF78A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607-820F-4B1E-8D32-7A3980FE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EF71-33B4-4A50-BC43-A9BF0D5A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6936-3455-434C-B273-90D00AFD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8B25-17EE-46E7-9B59-12E97BB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FC92-603B-42E0-A695-68804D5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B223-6CFB-408F-B722-89CACC1E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1AF9-2E44-447A-909B-AE1AFAD1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7599-A089-41DB-8FB0-1A2E1EDE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C090-E091-4CC1-B9B2-F6B3CE9A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7D5D-D443-4900-BC34-0E0E1002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34DD-F36E-402E-82F3-A74AC71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8F4-F1DB-4C23-8DFF-116E33FD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58F15-FF37-41F4-AD2C-7E10A53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FB41-702E-45A4-B420-0BF7888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BC77-EAF2-4786-9BDA-D99D64A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DDAD-1CE8-4137-8540-606FF910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781B-A075-42FE-B10E-0158A42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7F0B1-F1FF-4AA9-A72F-A079299C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8737-A613-4026-9626-9CAD48A5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3153-49E4-4894-A8AF-F7B3E73D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483BE-3880-4334-B994-F4AF7ED4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A321-0383-4BC4-BCF3-5B1DB1F3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295-E69D-4EA0-9950-FB067AEF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AD8DA-7A03-499D-A04A-48831EB0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77FA-8106-4FF0-AB45-289CB80B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9B6D-2CD3-408E-8748-4471E5B6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2719D-6E4A-459D-AA5F-61283CC2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FAC5B-EABA-452C-9A75-264982F9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A07D1-E66D-4275-8059-73471D3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A2A4-124F-4F7B-B7E3-BD7BDE86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08053-41F6-40D6-8AD6-94120339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48284-9385-48D9-B4E2-0E94CD1F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4B2D-85A2-4553-A606-4B1F1DAA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0D7-86CC-4993-9592-AE8B6EDD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C13AA-6B75-48DB-AC47-3FFFF4BF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D67D9-C8B2-46DF-978A-F35FEC0F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DDF13-5D2B-4E6B-A157-272D3261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C27B-B7E7-4668-A96D-453F43EB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6432F-ACA5-4301-8C2B-D781E3FD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66F16-35B0-4327-96CD-180950E9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25850-3258-402C-ABC4-FE0EF20C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63480-D38B-45A5-9858-8ADD2043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D8734-E14A-4A24-8D71-56345CFD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26895-0C44-4FAD-81FA-8C15B08A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C1C-79AF-4D3E-B04D-0C9F8CD7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2309C-9C83-4BA9-B569-4A28049F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5C4EA-7BFB-4826-BDB1-8F3A6796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47E6A-1A6C-4EFB-A3C1-6843B702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97FE-0C24-4EF1-9302-1047BFE0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26C42-1CBD-40AA-9B56-FEFC07A4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08F08-C171-4D67-82F7-AA67483D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2936-9ED4-4934-A858-21095D24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20ADA-6E57-4C03-8F8C-300DE65C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11439-F273-406D-9592-E142EAD8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E4DAF-1674-43BD-AB91-ED71C49E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C86-F579-4B1D-B505-7F89BFDB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F119C-5DF3-47C3-9F53-E8D3D336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64504-03CB-45FE-B5B6-743D0C6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8C00-8C3B-4B6A-9B89-5A29BF51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0535-3A40-4AEA-914F-1C74EC73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C38B6-83D6-47CE-93D3-8FAE09CE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258E-11AD-4DD6-852A-F8B16533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E0C26-95C5-40E7-8D5A-1F317027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293C1-1F4C-457C-B187-F8B02095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11D49-6682-47D8-B79C-1CB19685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61C3B-B9EB-404F-8905-46497B3E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981-45FF-4D41-832B-D3604CD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52A7C-4E14-429E-9043-C5D40D2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12B8F-F28E-46DF-855B-410F1B6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DAE1A-3197-43AD-82F2-D271D36A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D513D-9802-4D71-9CDA-92A3FB4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DFC12-5EB1-48B3-BAE0-B671BBAF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130F0-79D5-4EE5-8AE0-F9F6AF68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1E9AB-599A-4321-BB15-BAE45695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D5032-5466-4D6F-B76C-FE4E74F1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5A8E6-B9CC-4725-9941-4BD9EECA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EAF40-EE6C-415D-B31D-988163A5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B325-968F-4BF6-8519-86DD989F680D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BF20-A994-4961-A5FA-F5E85177726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B938-5931-4664-8D7E-E30989B474A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A2DD-2D8F-4515-B816-D423D43C0136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D051-F189-4AA2-83B2-C2A7305C6399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F37A-69F1-4441-A97E-093FE662FEF0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C514-8479-4944-9D6B-60F8E9EB1EB0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C98C-82E1-4A3A-A4F4-ABBBD6579159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77A8-8101-473C-88A9-9C73B862AF1C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EDDA-4BC1-48B5-850F-DF8F72AF1835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B8DE-61DD-4E4D-9588-DCAC5BFE747C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 de stallen gelden de volgende algemene eisen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ervoor dat de vloeren vlak zijn, maar niet glad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ervoor dat er in de stallen voldoende daglicht binnen komt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voor natuurlijke ventilatie in uw stalle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dat 33% van het vloeroppervlak dicht is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U mag eventueel gangbaar strooisel gebruiken. Als u ook stro gebruikt als ruwvoer, moet al het stro biologisch zij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U maakt de stallen en installaties schoon met water, stoom of reinigingsmiddelen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U mag het daglicht tot max. 16 uur per dag aanvullen met kunstlich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37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 huisvesting voor runderen moet aan de volgende aanvullende eisen voldoen om ervoor te zorgen dat de runderen zich op een natuurlijke manier kunnen gedrag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600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11520" y="0"/>
                </a:lnTo>
                <a:arcTo wR="8640" hR="21600" stAng="-5400000" swAng="3429472"/>
                <a:lnTo>
                  <a:pt x="21326" y="16200"/>
                </a:lnTo>
                <a:lnTo>
                  <a:pt x="18720" y="21600"/>
                </a:lnTo>
                <a:lnTo>
                  <a:pt x="15566" y="16200"/>
                </a:lnTo>
                <a:lnTo>
                  <a:pt x="17006" y="16200"/>
                </a:lnTo>
                <a:arcTo wR="8640" hR="21600" stAng="-1970528" swAng="-3197391"/>
                <a:lnTo>
                  <a:pt x="10080" y="302"/>
                </a:lnTo>
                <a:arcTo wR="8640" hR="21600" stAng="-5632081" swAng="-5167919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232081"/>
                <a:lnTo>
                  <a:pt x="10080" y="302"/>
                </a:lnTo>
                <a:arcTo wR="8640" hR="21600" stAng="-5632081" swAng="-51679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rachtige zeugen en gelten moeten in groepen worden gehuisvest en vrij loslopen. Voor de vloeroppervlakte geld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eschikbare oppervlakte per zeug moet ten minste 2,25 m² zij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23640" y="1557360"/>
            <a:ext cx="81356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Nea Wolfs</cp:lastModifiedBy>
  <dcterms:modified xsi:type="dcterms:W3CDTF">2017-09-05T08:20:52Z</dcterms:modified>
  <cp:revision>37</cp:revision>
  <dc:subject/>
  <dc:title>Varkens</dc:title>
</cp:coreProperties>
</file>