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234-CD63-45A6-B5C2-00B357F2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99B-EA4B-45DD-90A1-55B4D355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42B-C0AD-4D28-8991-B0DDF442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76F-247D-465C-822D-6B493EAC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230-9AE4-45F6-A84D-7C78BA19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C4D-58A2-47B9-8C3D-8F977EFB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F5D-DD71-4912-8CF0-5382CFA0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984-1220-4986-8C21-093586B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A24-9851-47F4-A14A-7A74FB58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31D-6EC6-466B-A02D-97D245D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2BA-05C8-4DD1-B4F7-615BF92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45B-BBA8-4B5C-BB94-07FF6CF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69B0-3214-47D5-A453-C3628486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ld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40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afvalbak is meer dan 80 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24000"/>
            <a:ext cx="61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n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eel enkele afvalbakke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258920"/>
            <a:ext cx="6551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fvalbakken hebben ni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valbakken zij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30:30Z</dcterms:created>
  <dc:creator>Johan</dc:creator>
  <dc:description/>
  <dc:language>en-US</dc:language>
  <cp:lastModifiedBy>Johan</cp:lastModifiedBy>
  <dcterms:modified xsi:type="dcterms:W3CDTF">2007-01-10T18:31:18Z</dcterms:modified>
  <cp:revision>1</cp:revision>
  <dc:subject/>
  <dc:title>Beeldbestek</dc:title>
</cp:coreProperties>
</file>