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24C-B180-4904-9B69-B41B3B4C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8A3-73BE-4DC5-BBB2-939152C2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F6E1-398A-430F-87B3-7A047537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0C6C-84BD-4391-BA6F-0D52A8DF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FCB8-406D-46C0-989E-C4559C56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85B-32CD-42D1-ABBA-7E92CD03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75B-46BB-4213-81F6-756895B3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2C7-EBF8-4DC9-8C9A-6503D241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0373-63DA-4060-9063-AAF3A780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542-5920-4A2D-A1F2-A12F076C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CE7B-57C1-49CB-B094-4BB4E334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5E7-30E4-44E9-82DA-8C5C6AE4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6BFC-0706-45CA-85CB-ABF975756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ld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 Zwo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y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640872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fvalbakken hebben voldoende capa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afvalbak is meer dan 80 % 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24000"/>
            <a:ext cx="6121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fvalbakken hebben net voldoende capa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eel enkele afvalbakken meer dan 80% 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1258920"/>
            <a:ext cx="655164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afvalbakken hebben niet voldoende capa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valbakken zijn meer dan 80% 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8:30:30Z</dcterms:created>
  <dc:creator>Johan</dc:creator>
  <dc:description/>
  <dc:language>en-US</dc:language>
  <cp:lastModifiedBy>Johan</cp:lastModifiedBy>
  <dcterms:modified xsi:type="dcterms:W3CDTF">2007-01-10T18:31:18Z</dcterms:modified>
  <cp:revision>1</cp:revision>
  <dc:subject/>
  <dc:title>Beeldbestek</dc:title>
</cp:coreProperties>
</file>