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1C9-7E2A-4E97-87D0-45BE1E50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9D46-C016-4EA3-83CF-94D6D584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9D2D-8870-4247-B967-22DC3B21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3D1-CC2A-42DF-8BEF-0755B484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B23-2E90-4C9D-8E41-74C2F53A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70D1-6F77-496B-AB83-28986DC8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CCD-0526-45B0-91A5-EA292450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DE1-0B7D-49E7-8967-2D552E77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3A93-ABA0-40C2-B994-597BE03C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A241-83C2-479B-A098-4851E621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2D7-5F8F-441C-A055-06984D4C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7D9-48B7-4F84-A604-025679CC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BD71-151F-479F-9021-67837F120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eldbest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Zwo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 ty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6408720" cy="53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afvalbak is meer dan 80 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d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03280" y="1224000"/>
            <a:ext cx="612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afvalbakken hebben n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eel enkele afvalbakke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16000" y="1258920"/>
            <a:ext cx="65516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afvalbakken hebben niet voldoende capacit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valbakken zijn meer dan 80% v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8:30:30Z</dcterms:created>
  <dc:creator>Johan</dc:creator>
  <dc:description/>
  <dc:language>en-US</dc:language>
  <cp:lastModifiedBy>Johan</cp:lastModifiedBy>
  <dcterms:modified xsi:type="dcterms:W3CDTF">2007-01-10T18:31:18Z</dcterms:modified>
  <cp:revision>1</cp:revision>
  <dc:subject/>
  <dc:title>Beeldbestek</dc:title>
</cp:coreProperties>
</file>