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949-F0F4-4E4A-9288-B8721229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4C1-8D0A-4D87-9223-05634F0C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CAA-7F4C-46DC-9AA0-6A0CB8EC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699-C884-4A26-9D3B-AC982175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C86-1F1A-4413-9FF4-4AB6EC5B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0A2-2F67-4A48-A70C-A30BB461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D43-469F-46D3-8950-295A1A40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9D5-09F9-458A-80EE-C60B18AE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009-13ED-4C04-9C34-45269E06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A94-5A88-42AA-B45D-CE77D9D9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7DC-DC51-4EBD-8213-B3ECFD9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4E3-B985-45A6-BD87-918CAAC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952B-A4D6-44B4-B077-6CA22CD7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ld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408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afvalbak is meer dan 80 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24000"/>
            <a:ext cx="61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n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eel enkele afvalbakke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258920"/>
            <a:ext cx="6551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fvalbakken hebben ni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valbakken zij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30:30Z</dcterms:created>
  <dc:creator>Johan</dc:creator>
  <dc:description/>
  <dc:language>en-US</dc:language>
  <cp:lastModifiedBy>Johan</cp:lastModifiedBy>
  <dcterms:modified xsi:type="dcterms:W3CDTF">2007-01-10T18:31:18Z</dcterms:modified>
  <cp:revision>1</cp:revision>
  <dc:subject/>
  <dc:title>Beeldbestek</dc:title>
</cp:coreProperties>
</file>