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DDD-6180-4388-BD6D-C7379214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F12-BB60-4380-AF39-4A37A555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BFE-62A2-4660-93DA-B2038C3C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E7D-46E1-4A3D-A1D2-6572B859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1E7-2394-4BEC-B864-36F0FD03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E8C-74F7-410E-949A-7A1E3912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D92-9ED7-43A3-B1A1-24D50376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E5D-06C4-4673-94AA-B4205079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8E6-1B7F-41F4-A8A3-80BC304B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DEE-9E0B-4502-A304-25397DE4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CD1-A779-4C2F-A161-398C3175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82D-9A85-4BA9-A9AB-479BD00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BF67-8A99-4A69-A41C-0E85E38B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ld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408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afvalbak is meer dan 80 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24000"/>
            <a:ext cx="612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n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eel enkele afvalbakke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258920"/>
            <a:ext cx="65516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fvalbakken hebben ni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valbakken zij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30:30Z</dcterms:created>
  <dc:creator>Johan</dc:creator>
  <dc:description/>
  <dc:language>en-US</dc:language>
  <cp:lastModifiedBy>Johan</cp:lastModifiedBy>
  <dcterms:modified xsi:type="dcterms:W3CDTF">2007-01-10T18:31:18Z</dcterms:modified>
  <cp:revision>1</cp:revision>
  <dc:subject/>
  <dc:title>Beeldbestek</dc:title>
</cp:coreProperties>
</file>