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06FE-1AAA-4F30-9A50-09EE6833BB4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B3AF-7262-4C41-AE71-D90B83C0AC9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200-1634-4561-BDFB-3BC449C7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F8D-40E6-4C00-904D-820C558B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502-7FF0-4C73-9FE3-6985889B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E5F-08A0-4B7C-AFD1-1D82B904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CE7-153F-41D9-8D0C-725BE91F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183-BC55-487A-89FC-D3E20958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09C-AF0F-4C8E-9FF0-08473773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A47-E32C-4E5C-9282-A9440458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5ED-E10C-48A9-9897-D810F7AA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EBE-2614-47AF-8BE2-B3E92D3F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7E12-580D-45B6-B6E3-DF7FC906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238-1947-4074-AFB5-99EBDF81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473D-4D91-444F-86D8-F161D0F4AE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ved=0CAcQjRw&amp;url=http%3A%2F%2Fwww.vbw.nu%2Fmijn-bloemist%2Fmijnbloemist&amp;ei=2I5lVaHDCIbxUqOtg6AM&amp;bvm=bv.93990622,d.d24&amp;psig=AFQjCNHlc7OnHj5rPnaPDwGAuX526pSl6Q&amp;ust=143280543989616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fbeeldingsresultaat voor bloemenwinkel"/>
          <p:cNvPicPr/>
          <p:nvPr/>
        </p:nvPicPr>
        <p:blipFill>
          <a:blip r:embed="rId1"/>
          <a:stretch/>
        </p:blipFill>
        <p:spPr>
          <a:xfrm>
            <a:off x="4818240" y="29973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Afbeeldingsresultaat voor bloemenwinkel"/>
          <p:cNvPicPr/>
          <p:nvPr/>
        </p:nvPicPr>
        <p:blipFill>
          <a:blip r:embed="rId2"/>
          <a:stretch/>
        </p:blipFill>
        <p:spPr>
          <a:xfrm>
            <a:off x="4818240" y="912960"/>
            <a:ext cx="2857320" cy="189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fbeeldingsresultaat voor boeket maken"/>
          <p:cNvPicPr/>
          <p:nvPr/>
        </p:nvPicPr>
        <p:blipFill>
          <a:blip r:embed="rId3"/>
          <a:stretch/>
        </p:blipFill>
        <p:spPr>
          <a:xfrm>
            <a:off x="2268360" y="2995560"/>
            <a:ext cx="245448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1" descr=""/>
          <p:cNvPicPr/>
          <p:nvPr/>
        </p:nvPicPr>
        <p:blipFill>
          <a:blip r:embed="rId4"/>
          <a:stretch/>
        </p:blipFill>
        <p:spPr>
          <a:xfrm>
            <a:off x="4818240" y="4651200"/>
            <a:ext cx="28573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098720"/>
          <a:ext cx="856908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565360"/>
                <a:gridCol w="117720"/>
                <a:gridCol w="319536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pvmbodenbosch@helicon.n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ttp://www.vbw.nu/files/images/cache/c0996f520cee571de077cecfb35e4d4ae4a923c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0360" y="4221000"/>
            <a:ext cx="4915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53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- coördin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Marij Ver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Bloem en vormgeving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- en outdoor desig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aanvraag goedkeuren en voorstelformuli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ver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9920" y="199692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kiwijs Cluster desig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rcRect l="4413" t="8258" r="34210" b="5123"/>
          <a:stretch/>
        </p:blipFill>
        <p:spPr>
          <a:xfrm>
            <a:off x="539640" y="836640"/>
            <a:ext cx="7985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en afspr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gemarkt.nl (zoeken leerbedrijf erkend door Aequ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kend en vaka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istijd , Leerzaam en le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og nodi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stel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Marij Verheugen</cp:lastModifiedBy>
  <dcterms:modified xsi:type="dcterms:W3CDTF">2015-07-01T13:22:04Z</dcterms:modified>
  <cp:revision>44</cp:revision>
  <dc:subject/>
  <dc:title>Ziekten en afwijkingen aan het skelet</dc:title>
</cp:coreProperties>
</file>