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EBA0-2096-4865-91D8-97FEFE23F33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6DF6-F07A-4914-95E2-6BD60908622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7B1A-EADF-4970-8F03-A9EE1184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1C4-46E2-4AB1-BDFA-1EA2C545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8AF2-3A44-4A80-B99A-3E10FB81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041E-C18D-40C6-BEB7-98F8A060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B2B9-C435-4844-9DCE-C538F05A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CCDE-2597-4067-9188-6DAFB5BD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94B-C9A3-42BA-B2CE-52683662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1BB4-0741-424F-81E6-99E3AD61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8771-DF3A-4CC0-BA24-F36102AE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C1D-E89B-49B3-BB13-69EB7C16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D79A-3867-47C3-B65E-1461099D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AD06-77CF-453A-996C-18452A8A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DC61-1D3D-491A-9492-4A488C38B6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uact=8&amp;ved=0CAcQjRw&amp;url=http%3A%2F%2Fwww.vbw.nu%2Fmijn-bloemist%2Fmijnbloemist&amp;ei=2I5lVaHDCIbxUqOtg6AM&amp;bvm=bv.93990622,d.d24&amp;psig=AFQjCNHlc7OnHj5rPnaPDwGAuX526pSl6Q&amp;ust=143280543989616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fbeeldingsresultaat voor bloemenwinkel"/>
          <p:cNvPicPr/>
          <p:nvPr/>
        </p:nvPicPr>
        <p:blipFill>
          <a:blip r:embed="rId1"/>
          <a:stretch/>
        </p:blipFill>
        <p:spPr>
          <a:xfrm>
            <a:off x="4818240" y="299736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Afbeeldingsresultaat voor bloemenwinkel"/>
          <p:cNvPicPr/>
          <p:nvPr/>
        </p:nvPicPr>
        <p:blipFill>
          <a:blip r:embed="rId2"/>
          <a:stretch/>
        </p:blipFill>
        <p:spPr>
          <a:xfrm>
            <a:off x="4818240" y="912960"/>
            <a:ext cx="2857320" cy="189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Afbeeldingsresultaat voor boeket maken"/>
          <p:cNvPicPr/>
          <p:nvPr/>
        </p:nvPicPr>
        <p:blipFill>
          <a:blip r:embed="rId3"/>
          <a:stretch/>
        </p:blipFill>
        <p:spPr>
          <a:xfrm>
            <a:off x="2268360" y="2995560"/>
            <a:ext cx="2454480" cy="163368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1" descr=""/>
          <p:cNvPicPr/>
          <p:nvPr/>
        </p:nvPicPr>
        <p:blipFill>
          <a:blip r:embed="rId4"/>
          <a:stretch/>
        </p:blipFill>
        <p:spPr>
          <a:xfrm>
            <a:off x="4818240" y="4651200"/>
            <a:ext cx="28573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1098720"/>
          <a:ext cx="856908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565360"/>
                <a:gridCol w="117720"/>
                <a:gridCol w="3195360"/>
              </a:tblGrid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pvmbodenbosch@helicon.n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http://www.vbw.nu/files/images/cache/c0996f520cee571de077cecfb35e4d4ae4a923c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0360" y="4221000"/>
            <a:ext cx="4915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53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- coördin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Marij Verh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Bloem en vormgeving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- en outdoor desig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aanvraag goedkeuren en voorstelformulier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ver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9920" y="199692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kiwijs Cluster desig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rcRect l="4413" t="8258" r="34210" b="5123"/>
          <a:stretch/>
        </p:blipFill>
        <p:spPr>
          <a:xfrm>
            <a:off x="539640" y="836640"/>
            <a:ext cx="7985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en afspr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gemarkt.nl (zoeken leerbedrijf erkend door Aequ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kend en vaka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istijd , Leerzaam en le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og nodig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stel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Marij Verheugen</cp:lastModifiedBy>
  <dcterms:modified xsi:type="dcterms:W3CDTF">2015-07-01T13:22:04Z</dcterms:modified>
  <cp:revision>44</cp:revision>
  <dc:subject/>
  <dc:title>Ziekten en afwijkingen aan het skelet</dc:title>
</cp:coreProperties>
</file>