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D790-F388-4B0C-82CD-0C026A669DF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FB81-8D7B-4FAD-856B-B9DE44D3D64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126-521A-4519-85EF-5EA75C19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12F-F8D2-4E70-8BEA-92A93116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6AC1-298B-463A-A8D9-D4408595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2279-CDAA-4325-A09E-19684B4B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4BE-84E6-432D-8B96-C5E8A13D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8D4-BD23-4256-8573-DC4038F5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3E3-0B79-40F2-8F22-E2658CD7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DE8-FDE8-4F25-96D4-A03EA664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C66-2E01-498D-8975-349700C6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0DD-3E8B-40E9-A313-3DBE9610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AE7-DDF8-4241-9E5C-71D93D20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127-2801-440B-8207-9EC3E962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C5A4-A349-423A-B6E6-C2E927A703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ved=0CAcQjRw&amp;url=http%3A%2F%2Fwww.vbw.nu%2Fmijn-bloemist%2Fmijnbloemist&amp;ei=2I5lVaHDCIbxUqOtg6AM&amp;bvm=bv.93990622,d.d24&amp;psig=AFQjCNHlc7OnHj5rPnaPDwGAuX526pSl6Q&amp;ust=143280543989616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fbeeldingsresultaat voor bloemenwinkel"/>
          <p:cNvPicPr/>
          <p:nvPr/>
        </p:nvPicPr>
        <p:blipFill>
          <a:blip r:embed="rId1"/>
          <a:stretch/>
        </p:blipFill>
        <p:spPr>
          <a:xfrm>
            <a:off x="4818240" y="29973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Afbeeldingsresultaat voor bloemenwinkel"/>
          <p:cNvPicPr/>
          <p:nvPr/>
        </p:nvPicPr>
        <p:blipFill>
          <a:blip r:embed="rId2"/>
          <a:stretch/>
        </p:blipFill>
        <p:spPr>
          <a:xfrm>
            <a:off x="4818240" y="912960"/>
            <a:ext cx="2857320" cy="189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fbeeldingsresultaat voor boeket maken"/>
          <p:cNvPicPr/>
          <p:nvPr/>
        </p:nvPicPr>
        <p:blipFill>
          <a:blip r:embed="rId3"/>
          <a:stretch/>
        </p:blipFill>
        <p:spPr>
          <a:xfrm>
            <a:off x="2268360" y="2995560"/>
            <a:ext cx="2454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1" descr=""/>
          <p:cNvPicPr/>
          <p:nvPr/>
        </p:nvPicPr>
        <p:blipFill>
          <a:blip r:embed="rId4"/>
          <a:stretch/>
        </p:blipFill>
        <p:spPr>
          <a:xfrm>
            <a:off x="4818240" y="4651200"/>
            <a:ext cx="2857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098720"/>
          <a:ext cx="856908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565360"/>
                <a:gridCol w="117720"/>
                <a:gridCol w="3195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pvmbodenbosch@helicon.n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ttp://www.vbw.nu/files/images/cache/c0996f520cee571de077cecfb35e4d4ae4a923c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0360" y="4221000"/>
            <a:ext cx="4915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3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- coö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Marij Ver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Bloem en vormgeving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- en outdoor desig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aanvraag goedkeuren en voorstelformuli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ver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9920" y="199692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kiwijs Cluster desig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4413" t="8258" r="34210" b="5123"/>
          <a:stretch/>
        </p:blipFill>
        <p:spPr>
          <a:xfrm>
            <a:off x="539640" y="836640"/>
            <a:ext cx="7985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gemarkt.nl (zoeken leerbedrijf erkend door Aequ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kend en vak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istijd , Leerzaam en le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og nodi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stel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Marij Verheugen</cp:lastModifiedBy>
  <dcterms:modified xsi:type="dcterms:W3CDTF">2015-07-01T13:22:04Z</dcterms:modified>
  <cp:revision>44</cp:revision>
  <dc:subject/>
  <dc:title>Ziekten en afwijkingen aan het skelet</dc:title>
</cp:coreProperties>
</file>