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61FC-E51D-4615-812C-2E6F37EFC2D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stelformul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09A1-9068-481D-B950-70C6F7588A2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C330-D59B-4798-9299-273212D77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99E9-A5D2-4B22-AE25-2479D457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F638-8AA4-4556-8152-2FD09089C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6287-0BC5-45F0-AD9B-8C1121093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D60E-1FBC-4EC4-99A4-78249E3E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EA5D-DC2B-4DE5-B1D3-33C74330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B83C-5E5F-4735-A18B-11E30B27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2B80-56C4-48CA-A340-A62C9AF0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44FD-5BCA-46BD-809D-0D8D48B1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5D6C-7CC9-4393-8C88-29E0A7F3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6619-4C6E-421C-BD6C-17301CA5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0550-DD43-4AB3-A263-E4C82E92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D4CC-6C48-41B1-AA96-C20354CCE6F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uact=8&amp;ved=0CAcQjRw&amp;url=http%3A%2F%2Fwww.vbw.nu%2Fmijn-bloemist%2Fmijnbloemist&amp;ei=2I5lVaHDCIbxUqOtg6AM&amp;bvm=bv.93990622,d.d24&amp;psig=AFQjCNHlc7OnHj5rPnaPDwGAuX526pSl6Q&amp;ust=1432805439896162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664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BPV</a:t>
            </a:r>
            <a:br>
              <a:rPr sz="4000"/>
            </a:br>
            <a:br>
              <a:rPr sz="4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5"/>
          <p:cNvSpPr/>
          <p:nvPr/>
        </p:nvSpPr>
        <p:spPr>
          <a:xfrm>
            <a:off x="135000" y="-27000"/>
            <a:ext cx="18860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Afbeeldingsresultaat voor bloemenwinkel"/>
          <p:cNvPicPr/>
          <p:nvPr/>
        </p:nvPicPr>
        <p:blipFill>
          <a:blip r:embed="rId1"/>
          <a:stretch/>
        </p:blipFill>
        <p:spPr>
          <a:xfrm>
            <a:off x="4818240" y="2997360"/>
            <a:ext cx="2857320" cy="16002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6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2" descr="Afbeeldingsresultaat voor bloemenwinkel"/>
          <p:cNvPicPr/>
          <p:nvPr/>
        </p:nvPicPr>
        <p:blipFill>
          <a:blip r:embed="rId2"/>
          <a:stretch/>
        </p:blipFill>
        <p:spPr>
          <a:xfrm>
            <a:off x="4818240" y="912960"/>
            <a:ext cx="2857320" cy="1893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4" descr="Afbeeldingsresultaat voor boeket maken"/>
          <p:cNvPicPr/>
          <p:nvPr/>
        </p:nvPicPr>
        <p:blipFill>
          <a:blip r:embed="rId3"/>
          <a:stretch/>
        </p:blipFill>
        <p:spPr>
          <a:xfrm>
            <a:off x="2268360" y="2995560"/>
            <a:ext cx="2454480" cy="163368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1" descr=""/>
          <p:cNvPicPr/>
          <p:nvPr/>
        </p:nvPicPr>
        <p:blipFill>
          <a:blip r:embed="rId4"/>
          <a:stretch/>
        </p:blipFill>
        <p:spPr>
          <a:xfrm>
            <a:off x="4818240" y="4651200"/>
            <a:ext cx="285732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Afronding BP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renregist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lag/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leveren volgens afspraak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Maak KOPIË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1787400" y="142560"/>
            <a:ext cx="24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10"/>
          <p:cNvSpPr/>
          <p:nvPr/>
        </p:nvSpPr>
        <p:spPr>
          <a:xfrm>
            <a:off x="1787400" y="5356080"/>
            <a:ext cx="24480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7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50920" y="1098720"/>
          <a:ext cx="8569080" cy="4748040"/>
        </p:xfrm>
        <a:graphic>
          <a:graphicData uri="http://schemas.openxmlformats.org/drawingml/2006/table">
            <a:tbl>
              <a:tblPr/>
              <a:tblGrid>
                <a:gridCol w="2690640"/>
                <a:gridCol w="2565360"/>
                <a:gridCol w="117720"/>
                <a:gridCol w="3195360"/>
              </a:tblGrid>
              <a:tr h="366120">
                <a:tc grid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orstelformulier en werkprocessenformu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a mail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bpvmbodenbosch@helicon.n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ktijkovereenkomst (PO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grid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afloop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PV-opdrachten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ndbeoordeling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genoverzicht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FIJNE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en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LEERZAME BPV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5" descr="http://www.vbw.nu/files/images/cache/c0996f520cee571de077cecfb35e4d4ae4a923c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00360" y="4221000"/>
            <a:ext cx="49150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Even voorstellen</a:t>
            </a: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85356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PV- coördina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Marij Verheu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Bloem en vormgeving 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- en outdoor desig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aanvraag goedkeuren en voorstelformulier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verwer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vragen rondom BPV beantwo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45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579920" y="199692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kiwijs Cluster desig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rcRect l="4413" t="8258" r="34210" b="5123"/>
          <a:stretch/>
        </p:blipFill>
        <p:spPr>
          <a:xfrm>
            <a:off x="539640" y="836640"/>
            <a:ext cx="79851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gels en afspra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gemarkt.nl (zoeken leerbedrijf erkend door Aequ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lende bedrij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ekend en vaka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istijd , Leerzaam en leu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ormul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act bedrij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nnismaking - meeloop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formulier (mailen, goedkeur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processenformulier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nog nodig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K (inleveren coa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renregist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Kennism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praak op het bedr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t je telefoon 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t op je uiterlijk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neem je m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stelformuli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processen formu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eriode(s) BPV / d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k een lijst met wat je wil vragen/zeg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Inhoud gespr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t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ding/scho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lefoongeb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ten en dri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ige z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P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aktijkovereenkom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kenen in driev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drijf/school/jijz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POK inleveren vóór aanvang BPV bij de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Belangr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blemen met BPV zoeken -&gt;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-formulier kan afgewezen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ulieren op tijd inle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ëindig nooit een stage zonder overl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3:10:42Z</dcterms:created>
  <dc:creator>Systeembeheer</dc:creator>
  <dc:description/>
  <dc:language>en-US</dc:language>
  <cp:lastModifiedBy>Marij Verheugen</cp:lastModifiedBy>
  <dcterms:modified xsi:type="dcterms:W3CDTF">2015-07-01T13:22:04Z</dcterms:modified>
  <cp:revision>44</cp:revision>
  <dc:subject/>
  <dc:title>Ziekten en afwijkingen aan het skelet</dc:title>
</cp:coreProperties>
</file>