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A2C9C-008B-4DB8-B695-477B4566EBD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61F6A-7F91-44BC-8BA5-3C8C251020E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3D4B7-4B94-4F3D-AC52-9E5377EBF22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F126E-1BFB-430F-92B4-0FCA64A9E234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Convenant met het CIOS dus altijd een plek gereservee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ecreatie en Toerisme o.a. animatieleider op camping of hote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edagogisch werk o.a. kinderverzorgster, ouderenopv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uniformeerde beroepen o.a. politie, defensie, beveili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7F466-1129-4E73-8AFE-71A303A6213B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94125-58CE-4CB0-96DB-CA3206BE4F98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77BA3-4DDF-4582-A9C3-A611AD60DF19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at wordt bedoeld met sport binnen de afdeling sdv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1) Enorme interesse voor sport, zelf graag sporten. (Vraag aan de klas: noem zoveel mogelijk sport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) Men moet het leuk vinden o bijvoorbeeld een trainer te worden, om les te willen gev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2565A-37FD-48A4-844A-29FDA843D84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ienstverlen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astheer of gastvrouw willen zijn, mensen ontvangen bij binnenkomst op een beurs of fe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ienstverlenend ben je ook als je bijvoorbeeld kinderen verzorgd (opva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dracht: Noem meerder voorbeelden van dienstverlening: werken op een vakantiepark, animatie verzorgen in een hotel, ouderenzorg in verzorgingstehu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0A4EF-26FF-43A6-AE79-F7EE2847CB50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ieronder vallen alle beroepen waar men een uniform draag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oem er zoveel mogelij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AE262-8323-440D-B029-E5751B7FF3F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Leerlingen die voor SDV kiezen komen ook van zuid/west en de bonge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fhankelijk van de aantallen worden de klassen samengest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r is geen toelatingstest dus iedereen is welko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AVO vakken krijg  je in pricipe niet gemengd maar alleen met leerlingen van hetzelfde nivea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FC08F-049E-49D7-8EAF-D71A4704A1A0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ze vragen door alle leerlingen laten mak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8E0BA-EFC9-40D2-B75F-11BE8A2AC53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CF7F2-4078-4D3B-9C0B-0840105B68D7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elke vakken hebben de leerlingen allemaa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D117E-F2ED-41CC-BEBB-61910FF9F442}" type="slidenum">
              <a:rPr b="0" lang="nl-NL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rojectmatig werken: 4 weken in de projecturen (4 of 5 lesuren) werken aan een organisatie en vervolgens komt dan de uitvoering in de praktij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oorbeelden van projecten in leerjaar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rkeersexamen voor de basisschool leerlingen organis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uurwerk spotje ma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portdag organiseren voor onderbouw zuid/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n leerjaar 4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wem4daagse organis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ectorwerkstuk maken, wat wil je worden en bezoek brengen aan werkple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onte avond organiseren op skik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eesterproef uitvoeren, het praktijkexamen van SDV. (Bijv. sponsorloop organiseren, dansclinic, zelfverdedigingsclinic 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67F2-7163-4820-8267-679C2F8C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8F2B-777B-4B98-8F71-71A69399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AC8-3510-4873-8A2A-E680DAA3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318-01E9-4E7F-86E9-F150FB04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36E-02A6-43E3-956B-A47A4949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2AB5-4B2A-4979-B2BD-F31909B0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A01F-8A52-43EE-B9A1-37139A1B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C0A4-FBFC-45B1-8107-951A6864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1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B86D-2D85-45A1-994C-9709A844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6D8-8AE0-4E34-BA8A-E519FBE3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95B-2FE0-4E41-89A5-A286B827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423C-5E59-4B32-9812-B0AC58EA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AF9F8-55A6-4D67-A45D-4507A14F94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12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resentati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port Dienstverlening &amp; Veiligheid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Ka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eerjaar 3,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Leerjaar 4, skië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2" descr=""/>
          <p:cNvPicPr/>
          <p:nvPr/>
        </p:nvPicPr>
        <p:blipFill>
          <a:blip r:embed="rId2"/>
          <a:stretch/>
        </p:blipFill>
        <p:spPr>
          <a:xfrm>
            <a:off x="4645080" y="2421000"/>
            <a:ext cx="4041720" cy="3244680"/>
          </a:xfrm>
          <a:prstGeom prst="rect">
            <a:avLst/>
          </a:prstGeom>
          <a:ln w="0">
            <a:noFill/>
          </a:ln>
        </p:spPr>
      </p:pic>
      <p:pic>
        <p:nvPicPr>
          <p:cNvPr id="97" name="Tijdelijke aanduiding voor inhoud 4" descr=""/>
          <p:cNvPicPr/>
          <p:nvPr/>
        </p:nvPicPr>
        <p:blipFill>
          <a:blip r:embed="rId3"/>
          <a:stretch/>
        </p:blipFill>
        <p:spPr>
          <a:xfrm>
            <a:off x="457200" y="2421000"/>
            <a:ext cx="4040280" cy="32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Toekom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Sport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C.I.O.S. , Sport &amp; Bewe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Dienstverlening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Recreatie en Toerism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Sociaal Pedagogisch We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Veilighei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: Geüniformeerde beroep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-32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Verdana"/>
              </a:rPr>
              <a:t>Nagenoeg alle andere MBO-opleiding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SDV-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79640" y="1557000"/>
            <a:ext cx="51847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Op de volgende dia start de SDV-film vanz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Na de film is er nog 1 d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DV_Presentatie.swf" descr=""/>
          <p:cNvPicPr/>
          <p:nvPr/>
        </p:nvPicPr>
        <p:blipFill>
          <a:blip r:embed="rId1"/>
          <a:stretch/>
        </p:blipFill>
        <p:spPr>
          <a:xfrm>
            <a:off x="0" y="-3240"/>
            <a:ext cx="914724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Afslu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tabLst>
                <a:tab algn="l" pos="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80000" y="1534680"/>
            <a:ext cx="518472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dankt voor jullie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34560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Actief spo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Tijdelijke aanduiding voor inhoud 5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3228840" cy="3021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Trainer of coach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Tijdelijke aanduiding voor inhoud 8" descr=""/>
          <p:cNvPicPr/>
          <p:nvPr/>
        </p:nvPicPr>
        <p:blipFill>
          <a:blip r:embed="rId3"/>
          <a:stretch/>
        </p:blipFill>
        <p:spPr>
          <a:xfrm>
            <a:off x="4788000" y="2421000"/>
            <a:ext cx="29527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ienstverl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3640" y="1534680"/>
            <a:ext cx="4173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Gastheer of Gastvro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4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3024360" cy="2952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Kinderz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Tijdelijke aanduiding voor inhoud 5" descr=""/>
          <p:cNvPicPr/>
          <p:nvPr/>
        </p:nvPicPr>
        <p:blipFill>
          <a:blip r:embed="rId3"/>
          <a:stretch/>
        </p:blipFill>
        <p:spPr>
          <a:xfrm>
            <a:off x="4645080" y="2349360"/>
            <a:ext cx="3672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efen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Beveil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Tijdelijke aanduiding voor inhoud 6" descr=""/>
          <p:cNvPicPr/>
          <p:nvPr/>
        </p:nvPicPr>
        <p:blipFill>
          <a:blip r:embed="rId2"/>
          <a:stretch/>
        </p:blipFill>
        <p:spPr>
          <a:xfrm>
            <a:off x="457200" y="2349360"/>
            <a:ext cx="3538440" cy="3024360"/>
          </a:xfrm>
          <a:prstGeom prst="rect">
            <a:avLst/>
          </a:prstGeom>
          <a:ln w="0">
            <a:noFill/>
          </a:ln>
        </p:spPr>
      </p:pic>
      <p:pic>
        <p:nvPicPr>
          <p:cNvPr id="73" name="Tijdelijke aanduiding voor inhoud 7" descr=""/>
          <p:cNvPicPr/>
          <p:nvPr/>
        </p:nvPicPr>
        <p:blipFill>
          <a:blip r:embed="rId3"/>
          <a:stretch/>
        </p:blipFill>
        <p:spPr>
          <a:xfrm>
            <a:off x="4932360" y="2349360"/>
            <a:ext cx="223200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fdeling SD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chooljaar 2013-201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erjaar 3:     5 klassen s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5 leer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erjaar 4:     4 k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0 leer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SD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3 docenten + 1 TOA + teamle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-503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en ik een SDV leer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b je een brede sportieve belangstelling en aanle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nd je het leuk om samen te wer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 je sociaal vaardig, goed in contact maken met ander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(leren) activiteiten (te) begelei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(leren) voor een groep (te) sta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 je stage lopen/werken op onregelmatige tij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nd je het leuk om in een OLC/aan de computer te wer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1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Verdana"/>
              </a:rPr>
              <a:t>De uitsla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1127160" y="1700280"/>
            <a:ext cx="6881760" cy="33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roepsgericht-programm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eerjaar 3 / 4 SD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268360" y="1557360"/>
          <a:ext cx="4978440" cy="4149720"/>
        </p:xfrm>
        <a:graphic>
          <a:graphicData uri="http://schemas.openxmlformats.org/drawingml/2006/table">
            <a:tbl>
              <a:tblPr/>
              <a:tblGrid>
                <a:gridCol w="4978440"/>
              </a:tblGrid>
              <a:tr h="83016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B/K: Ned – eng – bio - wis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: Ned – eng – bio – eco – wisk –  mmy2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xterne sport                2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es/leidinggeven          1 / 2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DV project                  4 / 5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Theorie SDV                 1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21456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nl-NL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LO                                 4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Coaching                       1 u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Verdana"/>
              </a:rPr>
              <a:t>Projec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534680"/>
            <a:ext cx="4248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Leerjaar 3 verkeerstu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0" y="1534680"/>
            <a:ext cx="4572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Leerjaar4 zwem4daag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1" descr=""/>
          <p:cNvPicPr/>
          <p:nvPr/>
        </p:nvPicPr>
        <p:blipFill>
          <a:blip r:embed="rId3"/>
          <a:stretch/>
        </p:blipFill>
        <p:spPr>
          <a:xfrm>
            <a:off x="4645080" y="2635200"/>
            <a:ext cx="4041720" cy="3030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1:32:33Z</dcterms:created>
  <dc:creator>pverlegh</dc:creator>
  <dc:description/>
  <dc:language>en-US</dc:language>
  <cp:lastModifiedBy>Peter Verlegh</cp:lastModifiedBy>
  <dcterms:modified xsi:type="dcterms:W3CDTF">2015-09-14T08:38:59Z</dcterms:modified>
  <cp:revision>76</cp:revision>
  <dc:subject/>
  <dc:title>Dia 1</dc:title>
</cp:coreProperties>
</file>