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7667A-32F9-4550-8CC8-F215070023B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6CA5E-A74F-4B23-BBCA-F6865CCBB4F2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51F84-A134-4312-AE00-56F7FDA71B47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51909-7127-4D97-9D7B-A46CFA0C0747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onvenant met het CIOS dus altijd een plek gereserveer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ecreatie en Toerisme o.a. animatieleider op camping of hotel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edagogisch werk o.a. kinderverzorgster, ouderenopv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uniformeerde beroepen o.a. politie, defensie, beveil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07FA1-465C-416E-871D-DD98F31A1DF7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405F4-DD8F-4019-9E68-67E7CE55DCEB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C3EBA-94DD-4E54-AAC2-892385837EB7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at wordt bedoeld met sport binnen de afdeling sdv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) Enorme interesse voor sport, zelf graag sporten. (Vraag aan de klas: noem zoveel mogelijk sport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) Men moet het leuk vinden o bijvoorbeeld een trainer te worden, om les te willen geven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17135-D301-4137-9BF3-B5FC55FDD6DE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ienstverlen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astheer of gastvrouw willen zijn, mensen ontvangen bij binnenkomst op een beurs of fe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ienstverlenend ben je ook als je bijvoorbeeld kinderen verzorgd (opva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pdracht: Noem meerder voorbeelden van dienstverlening: werken op een vakantiepark, animatie verzorgen in een hotel, ouderenzorg in verzorgingstehu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2C43C-DAA7-4A9C-9073-7204537EF354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ieronder vallen alle beroepen waar men een uniform draag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oem er zoveel mogelij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326DB-481C-4600-9A8D-54472886EDBC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erlingen die voor SDV kiezen komen ook van zuid/west en de bonge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fhankelijk van de aantallen worden de klassen samengest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 is geen toelatingstest dus iedereen is welko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AVO vakken krijg  je in pricipe niet gemengd maar alleen met leerlingen van hetzelfde nivea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6C046-E182-412C-8EC1-80FAD41E4009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ze vragen door alle leerlingen laten mak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6AEB1-A775-4713-918D-41940BD50C0E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DF17D-B875-4348-98F8-E3F2951EAC02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elke vakken hebben de leerlingen allemaal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AE7B3-F0A2-40BD-BA46-D61A129ED668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rojectmatig werken: 4 weken in de projecturen (4 of 5 lesuren) werken aan een organisatie en vervolgens komt dan de uitvoering in de praktij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oorbeelden van projecten in leerjaar 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erkeersexamen voor de basisschool leerlingen organis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uurwerk spotje ma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portdag organiseren voor onderbouw zuid/w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n leerjaar 4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wem4daagse organis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ectorwerkstuk maken, wat wil je worden en bezoek brengen aan werkple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onte avond organiseren op skik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eesterproef uitvoeren, het praktijkexamen van SDV. (Bijv. sponsorloop organiseren, dansclinic, zelfverdedigingsclinic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61EA-42BD-4318-A28E-123BA0A5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FFD0-6F7B-43C5-8430-D23296DC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8A73-8BFD-4902-95C6-C10ACD83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5D33-B961-48AA-82E1-FF206FBA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0A33-749E-4650-A611-A0FF2B87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4974-531A-4AB3-85CB-399AA098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4DA0-5D8D-4E3E-A985-F1C67AB6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DF09-09E1-4016-BD54-B7FF32ED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6442-7458-4241-8B3F-D3B2ED7A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020-2C4F-4FC2-89CE-1DF357E9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80B5-DF21-4B3B-899D-9D29FA76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E007-D47F-4CE0-B778-81B233AA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672C0-16DD-4CA7-8D70-5F572BE9CDC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812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Presentati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port Dienstverlening &amp; Veiligheid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9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Ka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4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eerjaar 3,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Leerjaar 4, skië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jdelijke aanduiding voor inhoud 2" descr=""/>
          <p:cNvPicPr/>
          <p:nvPr/>
        </p:nvPicPr>
        <p:blipFill>
          <a:blip r:embed="rId2"/>
          <a:stretch/>
        </p:blipFill>
        <p:spPr>
          <a:xfrm>
            <a:off x="4645080" y="2421000"/>
            <a:ext cx="4041720" cy="3244680"/>
          </a:xfrm>
          <a:prstGeom prst="rect">
            <a:avLst/>
          </a:prstGeom>
          <a:ln w="0">
            <a:noFill/>
          </a:ln>
        </p:spPr>
      </p:pic>
      <p:pic>
        <p:nvPicPr>
          <p:cNvPr id="97" name="Tijdelijke aanduiding voor inhoud 4" descr=""/>
          <p:cNvPicPr/>
          <p:nvPr/>
        </p:nvPicPr>
        <p:blipFill>
          <a:blip r:embed="rId3"/>
          <a:stretch/>
        </p:blipFill>
        <p:spPr>
          <a:xfrm>
            <a:off x="457200" y="2421000"/>
            <a:ext cx="4040280" cy="32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Toekom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Sport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: C.I.O.S. , Sport &amp; Bewe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Dienstverlening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: Recreatie en Toerism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Sociaal Pedagogisch We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Veilighei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: Geüniformeerde beroep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Nagenoeg alle andere MBO-opleiding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SDV-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79640" y="1557000"/>
            <a:ext cx="51847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Op de volgende dia start de SDV-film vanz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Na de film is er nog 1 d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DV_Presentatie.swf" descr=""/>
          <p:cNvPicPr/>
          <p:nvPr/>
        </p:nvPicPr>
        <p:blipFill>
          <a:blip r:embed="rId1"/>
          <a:stretch/>
        </p:blipFill>
        <p:spPr>
          <a:xfrm>
            <a:off x="0" y="-3240"/>
            <a:ext cx="914724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Afslu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80000" y="1534680"/>
            <a:ext cx="51847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dankt voor jullie aand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34560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Actief spo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Tijdelijke aanduiding voor inhoud 5" descr=""/>
          <p:cNvPicPr/>
          <p:nvPr/>
        </p:nvPicPr>
        <p:blipFill>
          <a:blip r:embed="rId2"/>
          <a:stretch/>
        </p:blipFill>
        <p:spPr>
          <a:xfrm>
            <a:off x="468360" y="2349360"/>
            <a:ext cx="3228840" cy="3021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Trainer of coach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Tijdelijke aanduiding voor inhoud 8" descr=""/>
          <p:cNvPicPr/>
          <p:nvPr/>
        </p:nvPicPr>
        <p:blipFill>
          <a:blip r:embed="rId3"/>
          <a:stretch/>
        </p:blipFill>
        <p:spPr>
          <a:xfrm>
            <a:off x="4788000" y="2421000"/>
            <a:ext cx="29527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ienstverl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3640" y="1534680"/>
            <a:ext cx="4173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Gastheer of Gastvro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jdelijke aanduiding voor inhoud 4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3024360" cy="2952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Kinderz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Tijdelijke aanduiding voor inhoud 5" descr=""/>
          <p:cNvPicPr/>
          <p:nvPr/>
        </p:nvPicPr>
        <p:blipFill>
          <a:blip r:embed="rId3"/>
          <a:stretch/>
        </p:blipFill>
        <p:spPr>
          <a:xfrm>
            <a:off x="4645080" y="2349360"/>
            <a:ext cx="36720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Defen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veili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457200" y="2349360"/>
            <a:ext cx="3538440" cy="3024360"/>
          </a:xfrm>
          <a:prstGeom prst="rect">
            <a:avLst/>
          </a:prstGeom>
          <a:ln w="0">
            <a:noFill/>
          </a:ln>
        </p:spPr>
      </p:pic>
      <p:pic>
        <p:nvPicPr>
          <p:cNvPr id="73" name="Tijdelijke aanduiding voor inhoud 7" descr=""/>
          <p:cNvPicPr/>
          <p:nvPr/>
        </p:nvPicPr>
        <p:blipFill>
          <a:blip r:embed="rId3"/>
          <a:stretch/>
        </p:blipFill>
        <p:spPr>
          <a:xfrm>
            <a:off x="4932360" y="2349360"/>
            <a:ext cx="22320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fdeling SD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chooljaar 2013-20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erjaar 3:     5 klassen s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5 leer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erjaar 4:     4 k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0 leer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SD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3 docenten + 1 TOA + teamle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-503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Ben ik een SDV leer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b je een brede sportieve belangstelling en aanle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nd je het leuk om samen te wer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 je sociaal vaardig, goed in contact maken met ande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 je (leren) activiteiten (te) begelei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 je (leren) voor een groep (te) sta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 je stage lopen/werken op onregelmatige tij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nd je het leuk om in een OLC/aan de computer te wer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De uitsla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1127160" y="1700280"/>
            <a:ext cx="6881760" cy="33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roepsgericht-programm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eerjaar 3 / 4 SD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68360" y="1557360"/>
          <a:ext cx="4978440" cy="4149720"/>
        </p:xfrm>
        <a:graphic>
          <a:graphicData uri="http://schemas.openxmlformats.org/drawingml/2006/table">
            <a:tbl>
              <a:tblPr/>
              <a:tblGrid>
                <a:gridCol w="4978440"/>
              </a:tblGrid>
              <a:tr h="83016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B/K: Ned – eng – bio - wis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: Ned – eng – bio – eco – wisk –  mmy2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xterne sport                2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es/leidinggeven          1 / 2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DV project                  4 / 5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heorie SDV                 1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O                                 4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oaching                       1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Projec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534680"/>
            <a:ext cx="4248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eerjaar 3 verkeerstu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0" y="1534680"/>
            <a:ext cx="4572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Leerjaar4 zwem4daag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ijdelijke aanduiding voor inhoud 1" descr=""/>
          <p:cNvPicPr/>
          <p:nvPr/>
        </p:nvPicPr>
        <p:blipFill>
          <a:blip r:embed="rId3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1:32:33Z</dcterms:created>
  <dc:creator>pverlegh</dc:creator>
  <dc:description/>
  <dc:language>en-US</dc:language>
  <cp:lastModifiedBy>Peter Verlegh</cp:lastModifiedBy>
  <dcterms:modified xsi:type="dcterms:W3CDTF">2015-09-14T08:38:59Z</dcterms:modified>
  <cp:revision>76</cp:revision>
  <dc:subject/>
  <dc:title>Dia 1</dc:title>
</cp:coreProperties>
</file>