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28113-7555-45E8-88B9-AFEEC9D335C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DE7F4-BC3D-427F-9740-723C2890195D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BEE67-55DA-4152-A119-0223FF593CF8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59638-26D5-4815-8E09-D47CEF4986B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onvenant met het CIOS dus altijd een plek gereservee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ecreatie en Toerisme o.a. animatieleider op camping of hote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edagogisch werk o.a. kinderverzorgster, ouderenopv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uniformeerde beroepen o.a. politie, defensie, beveil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27950-1D6E-4B1D-BD52-46D8C90FAB7C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5FE8D-DDCF-40C5-8221-9D89BAF9A5A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9CC37-4AB5-44F3-AA7B-381D1F226158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at wordt bedoeld met sport binnen de afdeling sdv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) Enorme interesse voor sport, zelf graag sporten. (Vraag aan de klas: noem zoveel mogelijk sport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) Men moet het leuk vinden o bijvoorbeeld een trainer te worden, om les te willen geve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6A471-01B9-4B86-B8C9-5930A35D7CF0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ienstverlen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astheer of gastvrouw willen zijn, mensen ontvangen bij binnenkomst op een beurs of fe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ienstverlenend ben je ook als je bijvoorbeeld kinderen verzorgd (opva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pdracht: Noem meerder voorbeelden van dienstverlening: werken op een vakantiepark, animatie verzorgen in een hotel, ouderenzorg in verzorgingstehu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64BF9-56E8-4B87-8FE7-43BC7123A209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ieronder vallen alle beroepen waar men een uniform draag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oem er zoveel mogelij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66250-A3FF-47AA-B0E8-EE89F217BA46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erlingen die voor SDV kiezen komen ook van zuid/west en de bonge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fhankelijk van de aantallen worden de klassen samengest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 is geen toelatingstest dus iedereen is welko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AVO vakken krijg  je in pricipe niet gemengd maar alleen met leerlingen van hetzelfde nivea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4F7B0-8E95-4C55-A839-38D265CC8F2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ze vragen door alle leerlingen laten mak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D113F-8F1F-4B91-83F0-2772F6EA1619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5E224-3CB1-438A-9293-A427BBABF529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elke vakken hebben de leerlingen allemaa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2AEEC-57A8-4275-829F-1D1F23616EE4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rojectmatig werken: 4 weken in de projecturen (4 of 5 lesuren) werken aan een organisatie en vervolgens komt dan de uitvoering in de praktij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oorbeelden van projecten in leerjaar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erkeersexamen voor de basisschool leerlingen organis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uurwerk spotje ma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portdag organiseren voor onderbouw zuid/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n leerjaar 4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wem4daagse organis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ectorwerkstuk maken, wat wil je worden en bezoek brengen aan werkple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onte avond organiseren op skik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eesterproef uitvoeren, het praktijkexamen van SDV. (Bijv. sponsorloop organiseren, dansclinic, zelfverdedigingsclinic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F5B-BAF7-4B96-BA54-FDD7E33A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8AD2-63FC-4539-8AAB-CB14E31C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49F4-A3BE-49B1-8488-C72F36BE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6EE-77D9-4889-BC31-A26DCE23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A6A-6017-4137-895B-1B90DA4B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6F50-AFA6-4D99-81FE-5A31E681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0BB0-442B-4302-AC30-A2752091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4D4C-EBD9-45FB-85D9-EB1960B0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0B17-F708-4388-AD35-98A29288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DFAD-18E5-484B-8CC4-DDCFF860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7258-F441-485E-AD05-02AC5FCD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6B37-1C7C-4DAA-BD63-6C727E7A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5151C-4420-4729-9721-96BA6F16D2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812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resentati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port Dienstverlening &amp; Veiligheid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Ka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eerjaar 3,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Leerjaar 4, skië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jdelijke aanduiding voor inhoud 2" descr=""/>
          <p:cNvPicPr/>
          <p:nvPr/>
        </p:nvPicPr>
        <p:blipFill>
          <a:blip r:embed="rId2"/>
          <a:stretch/>
        </p:blipFill>
        <p:spPr>
          <a:xfrm>
            <a:off x="4645080" y="2421000"/>
            <a:ext cx="4041720" cy="3244680"/>
          </a:xfrm>
          <a:prstGeom prst="rect">
            <a:avLst/>
          </a:prstGeom>
          <a:ln w="0">
            <a:noFill/>
          </a:ln>
        </p:spPr>
      </p:pic>
      <p:pic>
        <p:nvPicPr>
          <p:cNvPr id="97" name="Tijdelijke aanduiding voor inhoud 4" descr=""/>
          <p:cNvPicPr/>
          <p:nvPr/>
        </p:nvPicPr>
        <p:blipFill>
          <a:blip r:embed="rId3"/>
          <a:stretch/>
        </p:blipFill>
        <p:spPr>
          <a:xfrm>
            <a:off x="457200" y="2421000"/>
            <a:ext cx="4040280" cy="32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Toekom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Sport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: C.I.O.S. , Sport &amp; Bewe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Dienstverlening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: Recreatie en Toerism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Sociaal Pedagogisch We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Veilighei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: Geüniformeerde beroep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Nagenoeg alle andere MBO-opleiding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SDV-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79640" y="1557000"/>
            <a:ext cx="51847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Op de volgende dia start de SDV-film vanz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Na de film is er nog 1 d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DV_Presentatie.swf" descr=""/>
          <p:cNvPicPr/>
          <p:nvPr/>
        </p:nvPicPr>
        <p:blipFill>
          <a:blip r:embed="rId1"/>
          <a:stretch/>
        </p:blipFill>
        <p:spPr>
          <a:xfrm>
            <a:off x="0" y="-3240"/>
            <a:ext cx="914724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Afslu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80000" y="1534680"/>
            <a:ext cx="51847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dankt voor jullie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34560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Actief spo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Tijdelijke aanduiding voor inhoud 5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3228840" cy="3021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Trainer of coach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Tijdelijke aanduiding voor inhoud 8" descr=""/>
          <p:cNvPicPr/>
          <p:nvPr/>
        </p:nvPicPr>
        <p:blipFill>
          <a:blip r:embed="rId3"/>
          <a:stretch/>
        </p:blipFill>
        <p:spPr>
          <a:xfrm>
            <a:off x="4788000" y="2421000"/>
            <a:ext cx="29527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ienstverl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3640" y="1534680"/>
            <a:ext cx="4173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Gastheer of Gastvro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jdelijke aanduiding voor inhoud 4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3024360" cy="2952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Kinderz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Tijdelijke aanduiding voor inhoud 5" descr=""/>
          <p:cNvPicPr/>
          <p:nvPr/>
        </p:nvPicPr>
        <p:blipFill>
          <a:blip r:embed="rId3"/>
          <a:stretch/>
        </p:blipFill>
        <p:spPr>
          <a:xfrm>
            <a:off x="4645080" y="2349360"/>
            <a:ext cx="3672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efen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veil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457200" y="2349360"/>
            <a:ext cx="3538440" cy="3024360"/>
          </a:xfrm>
          <a:prstGeom prst="rect">
            <a:avLst/>
          </a:prstGeom>
          <a:ln w="0">
            <a:noFill/>
          </a:ln>
        </p:spPr>
      </p:pic>
      <p:pic>
        <p:nvPicPr>
          <p:cNvPr id="73" name="Tijdelijke aanduiding voor inhoud 7" descr=""/>
          <p:cNvPicPr/>
          <p:nvPr/>
        </p:nvPicPr>
        <p:blipFill>
          <a:blip r:embed="rId3"/>
          <a:stretch/>
        </p:blipFill>
        <p:spPr>
          <a:xfrm>
            <a:off x="4932360" y="2349360"/>
            <a:ext cx="2232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fdeling SD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chooljaar 2013-20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erjaar 3:     5 klassen s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5 leer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erjaar 4:     4 k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0 leer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SD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3 docenten + 1 TOA + teamle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-503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en ik een SDV leer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b je een brede sportieve belangstelling en aanle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nd je het leuk om samen te wer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 je sociaal vaardig, goed in contact maken met ande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 je (leren) activiteiten (te) begelei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 je (leren) voor een groep (te) sta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 je stage lopen/werken op onregelmatige tij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nd je het leuk om in een OLC/aan de computer te wer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De uitsla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1127160" y="1700280"/>
            <a:ext cx="6881760" cy="33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roepsgericht-programm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eerjaar 3 / 4 SD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68360" y="1557360"/>
          <a:ext cx="4978440" cy="4149720"/>
        </p:xfrm>
        <a:graphic>
          <a:graphicData uri="http://schemas.openxmlformats.org/drawingml/2006/table">
            <a:tbl>
              <a:tblPr/>
              <a:tblGrid>
                <a:gridCol w="4978440"/>
              </a:tblGrid>
              <a:tr h="83016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B/K: Ned – eng – bio - wis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: Ned – eng – bio – eco – wisk –  mmy2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xterne sport                2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es/leidinggeven          1 / 2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DV project                  4 / 5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heorie SDV                 1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O                                 4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oaching                       1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Projec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534680"/>
            <a:ext cx="4248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eerjaar 3 verkeerstu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0" y="1534680"/>
            <a:ext cx="4572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Leerjaar4 zwem4daag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jdelijke aanduiding voor inhoud 1" descr=""/>
          <p:cNvPicPr/>
          <p:nvPr/>
        </p:nvPicPr>
        <p:blipFill>
          <a:blip r:embed="rId3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1:32:33Z</dcterms:created>
  <dc:creator>pverlegh</dc:creator>
  <dc:description/>
  <dc:language>en-US</dc:language>
  <cp:lastModifiedBy>Peter Verlegh</cp:lastModifiedBy>
  <dcterms:modified xsi:type="dcterms:W3CDTF">2015-09-14T08:38:59Z</dcterms:modified>
  <cp:revision>76</cp:revision>
  <dc:subject/>
  <dc:title>Dia 1</dc:title>
</cp:coreProperties>
</file>