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43006-CA0E-44A8-97A4-6505B7DAD2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308A6-2DA1-4094-8C67-9A5762C7EB1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CB767-BA9B-4B1C-8BF5-AB742B57F31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78EF-758D-493D-A9AE-CD277C59D4C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venant met het CIOS dus altijd een plek gereservee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creatie en Toerisme o.a. animatieleider op camping of hote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edagogisch werk o.a. kinderverzorgster, ouderenopv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uniformeerde beroepen o.a. politie, defensie, beveil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E64C5-C910-4514-9CF6-9A4358BA8BC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EB546-A30C-4323-8EA6-283B97021CA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611BF-425A-402F-88E7-953AF554EE2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t wordt bedoeld met sport binnen de afdeling sdv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) Enorme interesse voor sport, zelf graag sporten. (Vraag aan de klas: noem zoveel mogelijk spor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) Men moet het leuk vinden o bijvoorbeeld een trainer te worden, om les te willen gev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5E6C1-5075-4AD9-B2C0-7560ECE56BC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astheer of gastvrouw willen zijn, mensen ontvangen bij binnenkomst op een beurs of fe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end ben je ook als je bijvoorbeeld kinderen verzorgd (opv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dracht: Noem meerder voorbeelden van dienstverlening: werken op een vakantiepark, animatie verzorgen in een hotel, ouderenzorg in verzorgingsteh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E2230-661B-451B-85B5-13AB2533553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ieronder vallen alle beroepen waar men een uniform draag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em er zoveel mogelij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D8B1A-91BE-464B-81D2-FA8DCB975A3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erlingen die voor SDV kiezen komen ook van zuid/west en de bonge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fhankelijk van de aantallen worden de klassen samengest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is geen toelatingstest dus iedereen is welk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AVO vakken krijg  je in pricipe niet gemengd maar alleen met leerlingen van hetzelfde niv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993A8-5216-4AD1-A5DB-6967018441E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vragen door alle leerlingen laten mak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BBB8D-3116-4A46-A051-06191DA48B6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B49BC-CB92-4422-BA1F-7DB82CAF31D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kken hebben de leerlingen allemaa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92BE-D121-489A-9EF2-BADD86E632D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jectmatig werken: 4 weken in de projecturen (4 of 5 lesuren) werken aan een organisatie en vervolgens komt dan de uitvoering in de praktij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beelden van projecten in leerjaar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keersexamen voor de basisschool leerlingen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uurwerk spotje ma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portdag organiseren voor onderbouw zuid/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n leerjaar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wem4daagse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ectorwerkstuk maken, wat wil je worden en bezoek brengen aan werkple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nte avond organiseren op skik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sterproef uitvoeren, het praktijkexamen van SDV. (Bijv. sponsorloop organiseren, dansclinic, zelfverdedigingscli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6A7-8CB0-4A3A-8BBD-C4BB3560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694-7B85-4330-B357-4C784F16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238-C524-4808-B61E-BCC90352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B35-4E06-477B-8448-24F6D497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4D4-0BC7-4E10-BE7C-8C058C96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546-5314-4F12-9AD3-109B08F5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A34-7F53-42B8-97EC-8E6B0E3B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AB3-21EC-4939-8512-E6541CF5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B86-11CE-449B-A010-6616E0D6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1BE-24B7-4AC4-ADDF-AEC933BE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895-B692-40B4-8780-C4A168A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239-D7D1-4CED-B265-A9ECAAD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47DFC-CB39-4A0F-9405-5F651C3014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sentati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port Dienstverlening &amp; Veilighei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K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,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 4, skië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4041720" cy="324468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4" descr=""/>
          <p:cNvPicPr/>
          <p:nvPr/>
        </p:nvPicPr>
        <p:blipFill>
          <a:blip r:embed="rId3"/>
          <a:stretch/>
        </p:blipFill>
        <p:spPr>
          <a:xfrm>
            <a:off x="457200" y="2421000"/>
            <a:ext cx="4040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Toekom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C.I.O.S. , Sport &amp; Bew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Dienstverlening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Recreatie en Toeris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ociaal Pedagogisch We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ilig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Geüniformeerde beroep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Nagenoeg alle andere MBO-opleidin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DV-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 de volgende dia start de SDV-film vanz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Na de film is er nog 1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DV_Presentatie.swf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153468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dankt voor julli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ctief sp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228840" cy="302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rainer of coach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ijdelijke aanduiding voor inhoud 8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ienstverl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534680"/>
            <a:ext cx="4173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astheer of Gastvr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inderz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ijdelijke aanduiding voor inhoud 5" descr=""/>
          <p:cNvPicPr/>
          <p:nvPr/>
        </p:nvPicPr>
        <p:blipFill>
          <a:blip r:embed="rId3"/>
          <a:stretch/>
        </p:blipFill>
        <p:spPr>
          <a:xfrm>
            <a:off x="4645080" y="2349360"/>
            <a:ext cx="367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f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veil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53844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Tijdelijke aanduiding voor inhoud 7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fdeling S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jaar 2013-20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3:     5 klassen s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5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4:     4 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SD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docenten + 1 TOA + team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-503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n ik een SDV leer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b je een brede sportieve belangstelling en aan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samen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je sociaal vaardig, goed in contact maken met and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activiteiten (te) begelei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voor een groep (te) st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stage lopen/werken op onregelmatige tij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in een OLC/aan de computer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e uitsla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1127160" y="1700280"/>
            <a:ext cx="688176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roepsgericht-programm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erjaar 3 / 4 SD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68360" y="1557360"/>
          <a:ext cx="4978440" cy="4149720"/>
        </p:xfrm>
        <a:graphic>
          <a:graphicData uri="http://schemas.openxmlformats.org/drawingml/2006/table">
            <a:tbl>
              <a:tblPr/>
              <a:tblGrid>
                <a:gridCol w="4978440"/>
              </a:tblGrid>
              <a:tr h="830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/K: Ned – eng – bio - wis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: Ned – eng – bio – eco – wisk –  mmy2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xterne sport               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/leidinggeven          1 /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DV project                  4 / 5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orie SDV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                                 4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aching      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2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 verkeerst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4 zwem4daag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1" descr=""/>
          <p:cNvPicPr/>
          <p:nvPr/>
        </p:nvPicPr>
        <p:blipFill>
          <a:blip r:embed="rId3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32:33Z</dcterms:created>
  <dc:creator>pverlegh</dc:creator>
  <dc:description/>
  <dc:language>en-US</dc:language>
  <cp:lastModifiedBy>Peter Verlegh</cp:lastModifiedBy>
  <dcterms:modified xsi:type="dcterms:W3CDTF">2015-09-14T08:38:59Z</dcterms:modified>
  <cp:revision>76</cp:revision>
  <dc:subject/>
  <dc:title>Dia 1</dc:title>
</cp:coreProperties>
</file>