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C69-8B56-47EB-AB41-5A53BBA2D4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7426-B567-419D-8EA0-628AF313CD1A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C06-9E2A-4D9C-A53F-460B892C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903-1D02-4B36-9C81-8D8F5686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B7F-9F1C-4345-98C0-43A7890B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CFB-4A5C-4053-A65E-DC875CA0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DE66-8B8E-48C1-B509-719C6A7A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4782-502D-4D63-958B-A57F1D50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08E2-6D7E-4A93-A1A7-89445B51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F122-A3E9-407F-A9AD-AC7AD9D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46F-B0A1-4040-B129-37C43DA7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79D-E3E0-45B6-9E39-6839FC9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52E2-D31B-427D-A3ED-C9DD0F6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076-4CF2-4923-81B7-F8D4112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7D15-C712-4D45-8C08-CA054BA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E21-651A-48AA-A97B-EE3ED70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E3C-704E-4265-AF8E-85AEF167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6D2-00F1-48B1-9C4A-C5A0B4E0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B6BB-78E7-4BD6-8313-C048A774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BC4-D9D3-452A-9095-A27377A2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C7B-EDBA-4146-B978-9EC2C0B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EA8-6A67-41BF-AE62-FE165496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E5F-65BF-48B1-BBF9-C2E251B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1BB-11A7-49EA-86C4-8A08234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1D9-7B24-46B6-BFBD-833767D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CC9-D120-4460-9CC0-08D8589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55B2-BB44-49BC-9D1B-04944A7CF36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DCF0-8DF3-425F-9B94-D2DFC29665D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6-09-15T12:16:55Z</dcterms:modified>
  <cp:revision>35</cp:revision>
  <dc:subject/>
  <dc:title>Paarden</dc:title>
</cp:coreProperties>
</file>