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844D-2A0C-43E7-A948-067FD3F50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464D-8D94-4E06-BF0A-DB9E28A5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D6C0-4CAB-45C6-875C-C66456710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41CC-C4DD-48D2-90D4-E4C37DA4C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291B-0E25-4A77-A086-5BDBB7A8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5663-2364-4CD4-A547-FF901A25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F9A9-E2C5-45D7-BD06-0BCAF56C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B720-A0F8-44BF-9AA5-FE8BF871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345B-39A3-4D00-A064-D688C986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25D5-76DD-48D6-A636-B6753923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EE85-C47E-4F8D-A910-078E46E6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7DBB-E03F-479D-8D67-DECC1B00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6712-5084-49C6-8DEA-B79EE5D1A40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684360" y="2171880"/>
            <a:ext cx="79581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278f01"/>
                </a:solidFill>
                <a:latin typeface="Tahoma"/>
              </a:rPr>
              <a:t>Sportvisserij en maatschappij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ahoma"/>
              </a:rPr>
              <a:t>Verstandig sportviss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Rechthoek 2"/>
          <p:cNvSpPr/>
          <p:nvPr/>
        </p:nvSpPr>
        <p:spPr>
          <a:xfrm>
            <a:off x="0" y="9360"/>
            <a:ext cx="9144000" cy="1187640"/>
          </a:xfrm>
          <a:prstGeom prst="rect">
            <a:avLst/>
          </a:prstGeom>
          <a:solidFill>
            <a:srgbClr val="ff99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146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De vislij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iscuss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vissen met dunne lijnen leidt tot ongewenst lange driltijden en grote kans op lijn bre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standig sportviss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vissen met te zwakke/dunne lijnen is ongewen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Lijnen worden steeds sterker bij dezelfde di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hthoek 3"/>
          <p:cNvSpPr/>
          <p:nvPr/>
        </p:nvSpPr>
        <p:spPr>
          <a:xfrm>
            <a:off x="0" y="9360"/>
            <a:ext cx="9144000" cy="1204920"/>
          </a:xfrm>
          <a:prstGeom prst="rect">
            <a:avLst/>
          </a:prstGeom>
          <a:solidFill>
            <a:srgbClr val="ff99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Afbeelding 4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146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Het dril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iscuss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drillen van vis veroorzaakt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standig sportviss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ateriaal en ervaring hebben invloed op de driltij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Tahoma"/>
              </a:rPr>
              <a:t>Te 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korte driltijd zorgt voor grotere haakwonden/ lijnbre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hthoek 3"/>
          <p:cNvSpPr/>
          <p:nvPr/>
        </p:nvSpPr>
        <p:spPr>
          <a:xfrm>
            <a:off x="0" y="9360"/>
            <a:ext cx="9144000" cy="1204920"/>
          </a:xfrm>
          <a:prstGeom prst="rect">
            <a:avLst/>
          </a:prstGeom>
          <a:solidFill>
            <a:srgbClr val="ff99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Afbeelding 4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146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Het landen van de v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iscuss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is kan beschadigen door kieuwgreep/schepnet, of juist van niet gebruiken van schep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standig sportviss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oorlichting over juist uitvoeren van de kieuwgr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Knooploze schepnet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ubberen schepnet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hthoek 3"/>
          <p:cNvSpPr/>
          <p:nvPr/>
        </p:nvSpPr>
        <p:spPr>
          <a:xfrm>
            <a:off x="0" y="9360"/>
            <a:ext cx="9144000" cy="1204920"/>
          </a:xfrm>
          <a:prstGeom prst="rect">
            <a:avLst/>
          </a:prstGeom>
          <a:solidFill>
            <a:srgbClr val="ff99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Afbeelding 4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146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Ontha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iscuss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wondingen aan de vis door onthaken, vasthouden van de vis en slikken van de haak. Een vis hoort niet op het dro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standig sportviss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Onthaken met onthaaktang/hakenste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Kleine of geen weerh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Lijn zo ver mogelijk afknippen bij inslikk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Onthaakmat gebruiken/ nat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hthoek 3"/>
          <p:cNvSpPr/>
          <p:nvPr/>
        </p:nvSpPr>
        <p:spPr>
          <a:xfrm>
            <a:off x="0" y="9360"/>
            <a:ext cx="9144000" cy="1204920"/>
          </a:xfrm>
          <a:prstGeom prst="rect">
            <a:avLst/>
          </a:prstGeom>
          <a:solidFill>
            <a:srgbClr val="ff99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Afbeelding 4" descr=""/>
          <p:cNvPicPr/>
          <p:nvPr/>
        </p:nvPicPr>
        <p:blipFill>
          <a:blip r:embed="rId2"/>
          <a:stretch/>
        </p:blipFill>
        <p:spPr>
          <a:xfrm>
            <a:off x="0" y="-27000"/>
            <a:ext cx="2195640" cy="146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leefnet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iscuss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is heeft stress door gevangenschap. Beschadigingen door netmateri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standig sportviss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Leefnet code (materiaal, lengte, diameter, gebruik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ebruik van leefnetten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hthoek 3"/>
          <p:cNvSpPr/>
          <p:nvPr/>
        </p:nvSpPr>
        <p:spPr>
          <a:xfrm>
            <a:off x="0" y="9360"/>
            <a:ext cx="9144000" cy="1204920"/>
          </a:xfrm>
          <a:prstGeom prst="rect">
            <a:avLst/>
          </a:prstGeom>
          <a:solidFill>
            <a:srgbClr val="ff99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Afbeelding 4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146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214200" y="3786120"/>
            <a:ext cx="842976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Let 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ou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Inhou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Luist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eagere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Voorbeeldgesprek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hthoek 4"/>
          <p:cNvSpPr/>
          <p:nvPr/>
        </p:nvSpPr>
        <p:spPr>
          <a:xfrm>
            <a:off x="0" y="9360"/>
            <a:ext cx="9144000" cy="1204920"/>
          </a:xfrm>
          <a:prstGeom prst="rect">
            <a:avLst/>
          </a:prstGeom>
          <a:solidFill>
            <a:srgbClr val="ff99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kstvak 1"/>
          <p:cNvSpPr/>
          <p:nvPr/>
        </p:nvSpPr>
        <p:spPr>
          <a:xfrm>
            <a:off x="1476360" y="2257560"/>
            <a:ext cx="7416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baseline="-25000">
                <a:solidFill>
                  <a:srgbClr val="000000"/>
                </a:solidFill>
                <a:latin typeface="Tahoma"/>
              </a:rPr>
              <a:t>Vissen met een weerhaak moet verboden worden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Afbeelding 4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146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214200" y="3786120"/>
            <a:ext cx="842976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Let 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ou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Inhou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Luist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eagere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Voorbeeld gesprek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hthoek 4"/>
          <p:cNvSpPr/>
          <p:nvPr/>
        </p:nvSpPr>
        <p:spPr>
          <a:xfrm>
            <a:off x="0" y="9360"/>
            <a:ext cx="9144000" cy="1204920"/>
          </a:xfrm>
          <a:prstGeom prst="rect">
            <a:avLst/>
          </a:prstGeom>
          <a:solidFill>
            <a:srgbClr val="ff99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kstvak 2"/>
          <p:cNvSpPr/>
          <p:nvPr/>
        </p:nvSpPr>
        <p:spPr>
          <a:xfrm>
            <a:off x="2124000" y="2421000"/>
            <a:ext cx="65199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baseline="-25000">
                <a:solidFill>
                  <a:srgbClr val="000000"/>
                </a:solidFill>
                <a:latin typeface="Tahoma"/>
              </a:rPr>
              <a:t>Nachtvissen moet verboden worden.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Afbeelding 4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146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250920" y="2039760"/>
            <a:ext cx="8429400" cy="40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Profiteren van slecht gedra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Eerst relatie dan informati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an onderwerp afwijk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Overtuigend zij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Omgev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rhalend zijn/ blijv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Argument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Andere partij niet aanvall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espect(laat elkaar uitpraten/ luister naar elkaa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ta open voor andere menin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1223640"/>
            <a:ext cx="9036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Resultaten halen in een discuss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hthoek 4"/>
          <p:cNvSpPr/>
          <p:nvPr/>
        </p:nvSpPr>
        <p:spPr>
          <a:xfrm>
            <a:off x="0" y="9360"/>
            <a:ext cx="9144000" cy="1204920"/>
          </a:xfrm>
          <a:prstGeom prst="rect">
            <a:avLst/>
          </a:prstGeom>
          <a:solidFill>
            <a:srgbClr val="ff99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Afbeelding 4" descr=""/>
          <p:cNvPicPr/>
          <p:nvPr/>
        </p:nvPicPr>
        <p:blipFill>
          <a:blip r:embed="rId1"/>
          <a:stretch/>
        </p:blipFill>
        <p:spPr>
          <a:xfrm>
            <a:off x="0" y="0"/>
            <a:ext cx="2195640" cy="146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Communicer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Leerlingen van de sportvisacademie hebben een voorbeeld func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draag je professioneel in een discuss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hthoek 3"/>
          <p:cNvSpPr/>
          <p:nvPr/>
        </p:nvSpPr>
        <p:spPr>
          <a:xfrm>
            <a:off x="0" y="9360"/>
            <a:ext cx="9144000" cy="1204920"/>
          </a:xfrm>
          <a:prstGeom prst="rect">
            <a:avLst/>
          </a:prstGeom>
          <a:solidFill>
            <a:srgbClr val="ff99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Afbeelding 4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146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2852280"/>
            <a:ext cx="777240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ahoma"/>
              </a:rPr>
              <a:t>Einde presentat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hthoek 2"/>
          <p:cNvSpPr/>
          <p:nvPr/>
        </p:nvSpPr>
        <p:spPr>
          <a:xfrm>
            <a:off x="0" y="9360"/>
            <a:ext cx="9144000" cy="1204920"/>
          </a:xfrm>
          <a:prstGeom prst="rect">
            <a:avLst/>
          </a:prstGeom>
          <a:solidFill>
            <a:srgbClr val="ff99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Afbeelding 4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146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42680" y="107172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Beleving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2565000"/>
            <a:ext cx="38862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ahoma"/>
              </a:rPr>
              <a:t>Sportvis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Natuurbele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ntsp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panning van het vi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wonder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Rechte verbindingslijn met pijl 6"/>
          <p:cNvCxnSpPr/>
          <p:nvPr/>
        </p:nvCxnSpPr>
        <p:spPr>
          <a:xfrm flipH="1">
            <a:off x="3642840" y="1928880"/>
            <a:ext cx="858240" cy="714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" name="Rechte verbindingslijn met pijl 12"/>
          <p:cNvCxnSpPr/>
          <p:nvPr/>
        </p:nvCxnSpPr>
        <p:spPr>
          <a:xfrm>
            <a:off x="5214600" y="1928880"/>
            <a:ext cx="786600" cy="714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" name="Rectangle 4"/>
          <p:cNvSpPr/>
          <p:nvPr/>
        </p:nvSpPr>
        <p:spPr>
          <a:xfrm>
            <a:off x="4857840" y="2571840"/>
            <a:ext cx="3886200" cy="35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ahoma"/>
              </a:rPr>
              <a:t>Maatschappi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ierenwelzijn </a:t>
            </a: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(dierenbescherming Pvd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trinsieke waarde </a:t>
            </a: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(eigen waar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etgeving </a:t>
            </a: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(gezondheids- en welzijnswet voor dieren, visserijwe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hthoek 6"/>
          <p:cNvSpPr/>
          <p:nvPr/>
        </p:nvSpPr>
        <p:spPr>
          <a:xfrm>
            <a:off x="0" y="9360"/>
            <a:ext cx="9144000" cy="1204920"/>
          </a:xfrm>
          <a:prstGeom prst="rect">
            <a:avLst/>
          </a:prstGeom>
          <a:solidFill>
            <a:srgbClr val="ff99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" name="Afbeelding 8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146988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Dierenwelzij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2071440"/>
            <a:ext cx="77724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waliteit van leven van een d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Natuurlijk gedrag vert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Niet onnodig lij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714240" y="3929040"/>
            <a:ext cx="777240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andachtspunten voor sportvisseri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Pijn: het voelen van pijn en pijnbeleving van visse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tress: voedseltekort, waterkwaliteit overbezetting, predatoren, dril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wonding: paaien, onthaken, verkeerd omgaan met viss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hthoek 4"/>
          <p:cNvSpPr/>
          <p:nvPr/>
        </p:nvSpPr>
        <p:spPr>
          <a:xfrm>
            <a:off x="0" y="9360"/>
            <a:ext cx="9144000" cy="1204920"/>
          </a:xfrm>
          <a:prstGeom prst="rect">
            <a:avLst/>
          </a:prstGeom>
          <a:solidFill>
            <a:srgbClr val="ff99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" name="Afbeelding 6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146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Intrinsieke waar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56760" y="2500200"/>
            <a:ext cx="792972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Eigen waard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ebruiks- en belevingswaa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57120" y="3429000"/>
            <a:ext cx="3214800" cy="25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espect vo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ezondhe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Welzij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leefomge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786200" y="3286080"/>
            <a:ext cx="3214800" cy="25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Waarde voor de sportvisseri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60" name="Rechte verbindingslijn met pijl 15"/>
          <p:cNvCxnSpPr/>
          <p:nvPr/>
        </p:nvCxnSpPr>
        <p:spPr>
          <a:xfrm flipH="1">
            <a:off x="1355400" y="2928600"/>
            <a:ext cx="2160" cy="50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Rechte verbindingslijn met pijl 17"/>
          <p:cNvCxnSpPr/>
          <p:nvPr/>
        </p:nvCxnSpPr>
        <p:spPr>
          <a:xfrm flipH="1">
            <a:off x="6071400" y="2928600"/>
            <a:ext cx="252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Rechte verbindingslijn met pijl 19"/>
          <p:cNvCxnSpPr/>
          <p:nvPr/>
        </p:nvCxnSpPr>
        <p:spPr>
          <a:xfrm>
            <a:off x="2714400" y="2786040"/>
            <a:ext cx="1143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Rechte verbindingslijn met pijl 21"/>
          <p:cNvCxnSpPr/>
          <p:nvPr/>
        </p:nvCxnSpPr>
        <p:spPr>
          <a:xfrm flipH="1" flipV="1">
            <a:off x="2642400" y="2928600"/>
            <a:ext cx="1143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Rechthoek 9"/>
          <p:cNvSpPr/>
          <p:nvPr/>
        </p:nvSpPr>
        <p:spPr>
          <a:xfrm>
            <a:off x="0" y="9360"/>
            <a:ext cx="9144000" cy="1204920"/>
          </a:xfrm>
          <a:prstGeom prst="rect">
            <a:avLst/>
          </a:prstGeom>
          <a:solidFill>
            <a:srgbClr val="ff99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" name="Afbeelding 10" descr=""/>
          <p:cNvPicPr/>
          <p:nvPr/>
        </p:nvPicPr>
        <p:blipFill>
          <a:blip r:embed="rId2"/>
          <a:stretch/>
        </p:blipFill>
        <p:spPr>
          <a:xfrm>
            <a:off x="0" y="-27000"/>
            <a:ext cx="2195640" cy="146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1430280"/>
            <a:ext cx="6838920" cy="1519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ahoma"/>
              </a:rPr>
              <a:t>De morele aanvaardbaarheid van de hengels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28440" y="3285720"/>
            <a:ext cx="7529400" cy="2809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thiek: geheel van morele princi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voel van goed en kwa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reg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Rechte verbindingslijn met pijl 4"/>
          <p:cNvCxnSpPr/>
          <p:nvPr/>
        </p:nvCxnSpPr>
        <p:spPr>
          <a:xfrm flipH="1">
            <a:off x="3214080" y="3857760"/>
            <a:ext cx="185796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Rechte verbindingslijn met pijl 9"/>
          <p:cNvCxnSpPr/>
          <p:nvPr/>
        </p:nvCxnSpPr>
        <p:spPr>
          <a:xfrm>
            <a:off x="7142760" y="3857400"/>
            <a:ext cx="57204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Rechthoek 5"/>
          <p:cNvSpPr/>
          <p:nvPr/>
        </p:nvSpPr>
        <p:spPr>
          <a:xfrm>
            <a:off x="0" y="9360"/>
            <a:ext cx="9144000" cy="1204920"/>
          </a:xfrm>
          <a:prstGeom prst="rect">
            <a:avLst/>
          </a:prstGeom>
          <a:solidFill>
            <a:srgbClr val="ff99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" name="Afbeelding 6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143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Ethisch verantwoor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ShockwaveFlash1"/>
          <p:cNvGraphicFramePr/>
          <p:nvPr/>
        </p:nvGraphicFramePr>
        <p:xfrm>
          <a:off x="1835280" y="2492280"/>
          <a:ext cx="4680000" cy="316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2492280"/>
                    <a:ext cx="468000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Rechthoek 3"/>
          <p:cNvSpPr/>
          <p:nvPr/>
        </p:nvSpPr>
        <p:spPr>
          <a:xfrm>
            <a:off x="0" y="9360"/>
            <a:ext cx="9144000" cy="1204920"/>
          </a:xfrm>
          <a:prstGeom prst="rect">
            <a:avLst/>
          </a:prstGeom>
          <a:solidFill>
            <a:srgbClr val="ff99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" name="Afbeelding 4" descr=""/>
          <p:cNvPicPr/>
          <p:nvPr/>
        </p:nvPicPr>
        <p:blipFill>
          <a:blip r:embed="rId4"/>
          <a:stretch/>
        </p:blipFill>
        <p:spPr>
          <a:xfrm>
            <a:off x="0" y="0"/>
            <a:ext cx="2195640" cy="146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Afweging ma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1143000" y="1857240"/>
            <a:ext cx="7215120" cy="4500720"/>
          </a:xfrm>
          <a:prstGeom prst="rect">
            <a:avLst/>
          </a:prstGeom>
          <a:ln w="0">
            <a:noFill/>
          </a:ln>
        </p:spPr>
      </p:pic>
      <p:sp>
        <p:nvSpPr>
          <p:cNvPr id="79" name="Rechthoek 3"/>
          <p:cNvSpPr/>
          <p:nvPr/>
        </p:nvSpPr>
        <p:spPr>
          <a:xfrm>
            <a:off x="0" y="9360"/>
            <a:ext cx="9144000" cy="1204920"/>
          </a:xfrm>
          <a:prstGeom prst="rect">
            <a:avLst/>
          </a:prstGeom>
          <a:solidFill>
            <a:srgbClr val="ff99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" name="Afbeelding 4" descr=""/>
          <p:cNvPicPr/>
          <p:nvPr/>
        </p:nvPicPr>
        <p:blipFill>
          <a:blip r:embed="rId3"/>
          <a:stretch/>
        </p:blipFill>
        <p:spPr>
          <a:xfrm>
            <a:off x="0" y="0"/>
            <a:ext cx="2195640" cy="146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9720" y="2714760"/>
            <a:ext cx="683892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Maatschappelijke discussie 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hthoek 2"/>
          <p:cNvSpPr/>
          <p:nvPr/>
        </p:nvSpPr>
        <p:spPr>
          <a:xfrm>
            <a:off x="0" y="9360"/>
            <a:ext cx="9144000" cy="1204920"/>
          </a:xfrm>
          <a:prstGeom prst="rect">
            <a:avLst/>
          </a:prstGeom>
          <a:solidFill>
            <a:srgbClr val="ff99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" name="Afbeelding 4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146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Haken en weerha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iscussi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wonding door haak, weerhaak, formaat van de haak, slikken van de haa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standig sportviss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wondingen kunnen geminimaliseerd worden d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een weerhaak of kleine weerhaak (microbarb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Kleine h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oorlichting  technieken om slikken te voork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hthoek 3"/>
          <p:cNvSpPr/>
          <p:nvPr/>
        </p:nvSpPr>
        <p:spPr>
          <a:xfrm>
            <a:off x="0" y="9360"/>
            <a:ext cx="9144000" cy="1204920"/>
          </a:xfrm>
          <a:prstGeom prst="rect">
            <a:avLst/>
          </a:prstGeom>
          <a:solidFill>
            <a:srgbClr val="ff99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Afbeelding 4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146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2:43:33Z</dcterms:created>
  <dc:creator>peter breidenbach</dc:creator>
  <dc:description/>
  <dc:language>en-US</dc:language>
  <cp:lastModifiedBy>Peter Breidenbach</cp:lastModifiedBy>
  <cp:lastPrinted>2005-05-24T09:08:19Z</cp:lastPrinted>
  <dcterms:modified xsi:type="dcterms:W3CDTF">2022-10-05T12:46:03Z</dcterms:modified>
  <cp:revision>57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6ECAAEC9EFA46844A12ECF48D0CD8BEF</vt:lpwstr>
  </property>
</Properties>
</file>