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E3D-76E1-4794-AFE4-12A493EF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83A-B099-4C11-9BA5-89C8777C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88F-E4C2-416A-80FB-1D10675F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688-397F-43EE-A960-D6BBA1F1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3AE-D9DE-4A03-9708-5DF55923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E1C-6471-4846-95AD-A426D2C3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770-3B44-4166-BA29-7843D76C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B1D-197B-4D6E-89A1-024EFE86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EB6-71D6-4039-93D2-DB346069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A35-CD4C-4EF5-8B80-3214F80C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D57-0214-4C08-BB73-AF23B63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3EA-8090-436C-B2B2-534DDC1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1DB1-D1F3-4A85-BABC-EA105DC9BA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4360" y="2171880"/>
            <a:ext cx="7958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Sportvisserij en maatschappij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ahoma"/>
              </a:rPr>
              <a:t>Verstandig sportviss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hthoek 2"/>
          <p:cNvSpPr/>
          <p:nvPr/>
        </p:nvSpPr>
        <p:spPr>
          <a:xfrm>
            <a:off x="0" y="9360"/>
            <a:ext cx="9144000" cy="118764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De vislij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vissen met dunne lijnen leidt tot ongewenst lange driltijden en grote kans op lijn bre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vissen met te zwakke/dunne lijnen is ongewe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ijnen worden steeds sterker bij dezelfde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Het dr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drillen van vis veroorzaakt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ateriaal en ervaring hebben invloed op de dri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ahoma"/>
              </a:rPr>
              <a:t>Te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orte driltijd zorgt voor grotere haakwonden/ lijnbre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Het landen van de v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is kan beschadigen door kieuwgreep/schepnet, of juist van niet gebruiken van schep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lichting over juist uitvoeren van de kieuwg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nooploze schepn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ubberen schepn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Onth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wondingen aan de vis door onthaken, vasthouden van de vis en slikken van de haak. Een vis hoort niet op het dro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thaken met onthaaktang/hakenste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leine of geen weerh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ijn zo ver mogelijk afknippen bij inslik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thaakmat gebruiken/ nat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Afbeelding 4" descr=""/>
          <p:cNvPicPr/>
          <p:nvPr/>
        </p:nvPicPr>
        <p:blipFill>
          <a:blip r:embed="rId2"/>
          <a:stretch/>
        </p:blipFill>
        <p:spPr>
          <a:xfrm>
            <a:off x="0" y="-2700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leefnet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is heeft stress door gevangenschap. Beschadigingen door net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eefnet code (materiaal, lengte, diameter, ge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 van leefnett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214200" y="3786120"/>
            <a:ext cx="84297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et 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u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Inhou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uist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ag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Voorbeeldgesprek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hthoek 4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kstvak 1"/>
          <p:cNvSpPr/>
          <p:nvPr/>
        </p:nvSpPr>
        <p:spPr>
          <a:xfrm>
            <a:off x="1476360" y="2257560"/>
            <a:ext cx="7416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Vissen met een weerhaak moet verboden worden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214200" y="3786120"/>
            <a:ext cx="84297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et 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u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Inhou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uist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ag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Voorbeeld gesprek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hthoek 4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2124000" y="2421000"/>
            <a:ext cx="6519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000000"/>
                </a:solidFill>
                <a:latin typeface="Tahoma"/>
              </a:rPr>
              <a:t>Nachtvissen moet verboden worden.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50920" y="2039760"/>
            <a:ext cx="842940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rofiteren van slecht gedra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Eerst relatie dan informat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an onderwerp afwijk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vertuigend zi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mgev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rhalend zijn/ blij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rgument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ndere partij niet aanval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ect(laat elkaar uitpraten/ luister naar elka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a open voor andere men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223640"/>
            <a:ext cx="903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Resultaten halen in een discus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hthoek 4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Afbeelding 4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Communicer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erlingen van de sportvisacademie hebben een voorbeeld func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draag je professioneel in een discuss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85228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hthoek 2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2680" y="107172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Beleving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565000"/>
            <a:ext cx="38862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Sportvis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tuurbel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p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anning van het v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wonde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Rechte verbindingslijn met pijl 6"/>
          <p:cNvCxnSpPr/>
          <p:nvPr/>
        </p:nvCxnSpPr>
        <p:spPr>
          <a:xfrm flipH="1">
            <a:off x="3642840" y="1928880"/>
            <a:ext cx="8582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Rechte verbindingslijn met pijl 12"/>
          <p:cNvCxnSpPr/>
          <p:nvPr/>
        </p:nvCxnSpPr>
        <p:spPr>
          <a:xfrm>
            <a:off x="5214600" y="1928880"/>
            <a:ext cx="78660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Rectangle 4"/>
          <p:cNvSpPr/>
          <p:nvPr/>
        </p:nvSpPr>
        <p:spPr>
          <a:xfrm>
            <a:off x="4857840" y="2571840"/>
            <a:ext cx="388620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Maatschappi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erenwelzijn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(dierenbescherming Pvd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trinsieke waarde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(eigen waar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tgeving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(gezondheids- en welzijnswet voor dieren, visserijwe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hthoek 6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Afbeelding 8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Dierenwelzij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207144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waliteit van leven van een d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atuurlijk gedrag vert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iet onnodig lij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14240" y="3929040"/>
            <a:ext cx="77724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dachtspunten voor sportvisseri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ijn: het voelen van pijn en pijnbeleving van visse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ess: voedseltekort, waterkwaliteit overbezetting, predatoren, dri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wonding: paaien, onthaken, verkeerd omgaan met vi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hthoek 4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Afbeelding 6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Intrinsieke waar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760" y="2500200"/>
            <a:ext cx="7929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Eigen waard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s- en beleving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57120" y="3429000"/>
            <a:ext cx="321480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ect vo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eefomge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86200" y="3286080"/>
            <a:ext cx="321480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arde voor de sportvisseri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0" name="Rechte verbindingslijn met pijl 15"/>
          <p:cNvCxnSpPr/>
          <p:nvPr/>
        </p:nvCxnSpPr>
        <p:spPr>
          <a:xfrm flipH="1">
            <a:off x="1355400" y="2928600"/>
            <a:ext cx="216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Rechte verbindingslijn met pijl 17"/>
          <p:cNvCxnSpPr/>
          <p:nvPr/>
        </p:nvCxnSpPr>
        <p:spPr>
          <a:xfrm flipH="1">
            <a:off x="6071400" y="292860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Rechte verbindingslijn met pijl 19"/>
          <p:cNvCxnSpPr/>
          <p:nvPr/>
        </p:nvCxnSpPr>
        <p:spPr>
          <a:xfrm>
            <a:off x="2714400" y="278604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Rechte verbindingslijn met pijl 21"/>
          <p:cNvCxnSpPr/>
          <p:nvPr/>
        </p:nvCxnSpPr>
        <p:spPr>
          <a:xfrm flipH="1" flipV="1">
            <a:off x="2642400" y="292860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Rechthoek 9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Afbeelding 10" descr=""/>
          <p:cNvPicPr/>
          <p:nvPr/>
        </p:nvPicPr>
        <p:blipFill>
          <a:blip r:embed="rId2"/>
          <a:stretch/>
        </p:blipFill>
        <p:spPr>
          <a:xfrm>
            <a:off x="0" y="-2700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430280"/>
            <a:ext cx="6838920" cy="1519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De morele aanvaardbaarheid van de hengel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8440" y="3285720"/>
            <a:ext cx="7529400" cy="2809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thiek: geheel van morele princi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voel van goed en kwa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Rechte verbindingslijn met pijl 4"/>
          <p:cNvCxnSpPr/>
          <p:nvPr/>
        </p:nvCxnSpPr>
        <p:spPr>
          <a:xfrm flipH="1">
            <a:off x="3214080" y="3857760"/>
            <a:ext cx="18579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Rechte verbindingslijn met pijl 9"/>
          <p:cNvCxnSpPr/>
          <p:nvPr/>
        </p:nvCxnSpPr>
        <p:spPr>
          <a:xfrm>
            <a:off x="7142760" y="3857400"/>
            <a:ext cx="5720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Rechthoek 5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Afbeelding 6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Ethisch verantwoor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ShockwaveFlash1"/>
          <p:cNvGraphicFramePr/>
          <p:nvPr/>
        </p:nvGraphicFramePr>
        <p:xfrm>
          <a:off x="1835280" y="2492280"/>
          <a:ext cx="468000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492280"/>
                    <a:ext cx="468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Afbeelding 4" descr=""/>
          <p:cNvPicPr/>
          <p:nvPr/>
        </p:nvPicPr>
        <p:blipFill>
          <a:blip r:embed="rId4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Afweging 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1143000" y="1857240"/>
            <a:ext cx="7215120" cy="4500720"/>
          </a:xfrm>
          <a:prstGeom prst="rect">
            <a:avLst/>
          </a:prstGeom>
          <a:ln w="0">
            <a:noFill/>
          </a:ln>
        </p:spPr>
      </p:pic>
      <p:sp>
        <p:nvSpPr>
          <p:cNvPr id="79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Afbeelding 4" descr=""/>
          <p:cNvPicPr/>
          <p:nvPr/>
        </p:nvPicPr>
        <p:blipFill>
          <a:blip r:embed="rId3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9720" y="2714760"/>
            <a:ext cx="68389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Maatschappelijke discussie 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hthoek 2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Haken en weerh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wonding door haak, weerhaak, formaat van de haak, slikken van de ha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wondingen kunnen geminimaliseerd wor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en weerhaak of kleine weerhaak (microbar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leine h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lichting  technieken om slikken te voor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peter breidenbach</dc:creator>
  <dc:description/>
  <dc:language>en-US</dc:language>
  <cp:lastModifiedBy>Peter Breidenbach</cp:lastModifiedBy>
  <cp:lastPrinted>2005-05-24T09:08:19Z</cp:lastPrinted>
  <dcterms:modified xsi:type="dcterms:W3CDTF">2022-10-05T12:46:03Z</dcterms:modified>
  <cp:revision>57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ECAAEC9EFA46844A12ECF48D0CD8BEF</vt:lpwstr>
  </property>
</Properties>
</file>