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F52-B8D4-4162-90A1-E00FFA6A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3BB-4734-4C25-A11E-4E1E2986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F90-9B36-4D5A-92B2-83A72E1A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0CF-BE19-41A2-B5BA-83554A35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A01-2486-4B67-B396-F3C2C872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2E4-9E85-4086-B511-CDCD3C9C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DD3-8C4A-4727-96B0-464FD93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8D4-F933-47BC-B9F8-C6D8F08F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A0C-FF14-40F4-9EFC-98CBCF6E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3CE-48C4-415B-A2C6-6C23E802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5FD-B5F6-4C90-B83B-54DB8FBB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44D-3FFA-4C2D-BA37-DB86BB14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DF71-0F37-4217-8181-2AF74ECEBF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astille4"/>
          <p:cNvPicPr/>
          <p:nvPr/>
        </p:nvPicPr>
        <p:blipFill>
          <a:blip r:embed="rId1">
            <a:lum bright="44000"/>
          </a:blip>
          <a:stretch/>
        </p:blipFill>
        <p:spPr>
          <a:xfrm>
            <a:off x="611280" y="620640"/>
            <a:ext cx="8137440" cy="5892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40120" y="765000"/>
            <a:ext cx="86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 is de Franse revolutie eigenlijk belangrij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Times New Roman"/>
              </a:rPr>
              <a:t>Voor de Franse revolu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8" descr="ancien regime3"/>
          <p:cNvPicPr/>
          <p:nvPr/>
        </p:nvPicPr>
        <p:blipFill>
          <a:blip r:embed="rId1"/>
          <a:stretch/>
        </p:blipFill>
        <p:spPr>
          <a:xfrm>
            <a:off x="4932360" y="458136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0" descr="geestelijken"/>
          <p:cNvPicPr/>
          <p:nvPr/>
        </p:nvPicPr>
        <p:blipFill>
          <a:blip r:embed="rId2"/>
          <a:stretch/>
        </p:blipFill>
        <p:spPr>
          <a:xfrm>
            <a:off x="4284720" y="2637000"/>
            <a:ext cx="1942920" cy="1719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9"/>
          <p:cNvSpPr/>
          <p:nvPr/>
        </p:nvSpPr>
        <p:spPr>
          <a:xfrm>
            <a:off x="1187280" y="2205000"/>
            <a:ext cx="3672000" cy="3313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1"/>
          <p:cNvSpPr/>
          <p:nvPr/>
        </p:nvSpPr>
        <p:spPr>
          <a:xfrm>
            <a:off x="2195640" y="3789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4"/>
          <p:cNvSpPr/>
          <p:nvPr/>
        </p:nvSpPr>
        <p:spPr>
          <a:xfrm>
            <a:off x="2771640" y="27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5"/>
          <p:cNvSpPr/>
          <p:nvPr/>
        </p:nvSpPr>
        <p:spPr>
          <a:xfrm>
            <a:off x="4788000" y="1268280"/>
            <a:ext cx="3097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0000"/>
                </a:solidFill>
                <a:latin typeface="Arial Black"/>
              </a:rPr>
              <a:t>Voor de revolutie was er een standenmaatschappij in Europa. Niet iedereen was gelij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3"/>
          <p:cNvSpPr/>
          <p:nvPr/>
        </p:nvSpPr>
        <p:spPr>
          <a:xfrm>
            <a:off x="4788000" y="2205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Times New Roman"/>
              </a:rPr>
              <a:t>Er waren drie soorten sta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4"/>
          <p:cNvSpPr/>
          <p:nvPr/>
        </p:nvSpPr>
        <p:spPr>
          <a:xfrm>
            <a:off x="2050920" y="436572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600" spc="-1" strike="noStrike">
                <a:solidFill>
                  <a:srgbClr val="ff0000"/>
                </a:solidFill>
                <a:latin typeface="Times New Roman"/>
              </a:rPr>
              <a:t>Het volk/burger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5"/>
          <p:cNvSpPr/>
          <p:nvPr/>
        </p:nvSpPr>
        <p:spPr>
          <a:xfrm>
            <a:off x="2411280" y="3141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geestelij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7"/>
          <p:cNvSpPr/>
          <p:nvPr/>
        </p:nvSpPr>
        <p:spPr>
          <a:xfrm>
            <a:off x="2556000" y="227664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a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2" descr="lodewijk_16e"/>
          <p:cNvPicPr/>
          <p:nvPr/>
        </p:nvPicPr>
        <p:blipFill>
          <a:blip r:embed="rId3"/>
          <a:stretch/>
        </p:blipFill>
        <p:spPr>
          <a:xfrm>
            <a:off x="539640" y="1413000"/>
            <a:ext cx="15620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 heel Europa werd op die manier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in Frankrijk pikte de bevolking het niet langer en kwamen in opstand tegen het regime (machtheb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olk van Parijs nam het initiatief en viel de gevangenis aan van de k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estorming_van_de_bastille"/>
          <p:cNvPicPr/>
          <p:nvPr/>
        </p:nvPicPr>
        <p:blipFill>
          <a:blip r:embed="rId1"/>
          <a:stretch/>
        </p:blipFill>
        <p:spPr>
          <a:xfrm>
            <a:off x="5208480" y="1600200"/>
            <a:ext cx="29638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estormingbastille"/>
          <p:cNvPicPr/>
          <p:nvPr/>
        </p:nvPicPr>
        <p:blipFill>
          <a:blip r:embed="rId2"/>
          <a:stretch/>
        </p:blipFill>
        <p:spPr>
          <a:xfrm>
            <a:off x="5219640" y="3938760"/>
            <a:ext cx="2952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estorming_van_de_bastill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684360" y="270828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dereen heeft gelijke re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rechten moeten in een grondwet st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volk heeft een grote inbreng in het bestuur van het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26920" y="333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 wilde het vol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97164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Gelijkheid, vrijheid en broedersch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gebeurde er na de bestorm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n volgor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erd een grondwet gema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ning werd onthoo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rankrijk werd een republiek. Een republiek is een land waarin een leider door het volk wordt gek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gekozen door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bepaald door de k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taan bepaalde het volk wie de leider van het land w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nthoofding lodewijk"/>
          <p:cNvPicPr/>
          <p:nvPr/>
        </p:nvPicPr>
        <p:blipFill>
          <a:blip r:embed="rId1"/>
          <a:stretch/>
        </p:blipFill>
        <p:spPr>
          <a:xfrm>
            <a:off x="4500720" y="2205000"/>
            <a:ext cx="4181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e kwam er uiteindelijk aan de macht in Frankrijk, welke leider koos het vol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poleon Bona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Wat deed h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ij zorgde ervoor dat de ideeën van de Franse revolutie in heel Europa bekend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Hoe deed hij d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oor de landen te veroveren en deze op Franse manier te bes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apoleon"/>
          <p:cNvPicPr/>
          <p:nvPr/>
        </p:nvPicPr>
        <p:blipFill>
          <a:blip r:embed="rId1"/>
          <a:stretch/>
        </p:blipFill>
        <p:spPr>
          <a:xfrm>
            <a:off x="4789440" y="1557360"/>
            <a:ext cx="345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ncien regime3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1116000" y="242100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veroveringen van Napoleon kwam het volk van andere landen dus in aanraking met de ideeën van de revol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ze ideeën zijn (gelijkheid, vrijheid en broederschap) voor iede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bastille4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611280" y="285264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straks kiesrecht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een achternaam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Behoorlijk wat Franse woorden in ons woorden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84360" y="476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imes New Roman"/>
              </a:rPr>
              <a:t>Wat merk ik nu nog van de Franse revolut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9:16:46Z</dcterms:created>
  <dc:creator>Ramon</dc:creator>
  <dc:description/>
  <dc:language>en-US</dc:language>
  <cp:lastModifiedBy>user</cp:lastModifiedBy>
  <dcterms:modified xsi:type="dcterms:W3CDTF">2014-09-18T11:31:38Z</dcterms:modified>
  <cp:revision>5</cp:revision>
  <dc:subject/>
  <dc:title>Waarom is de Franse revolutie belangrijk?</dc:title>
</cp:coreProperties>
</file>