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31F1-7FD9-4773-95AE-A5F80BF20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10C7-E40C-4250-BCD2-2F1A01F0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A773-445D-4C22-BB39-1599B644B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11D1-230E-4772-A1F2-802E69C34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3A3B-1123-42D1-A099-A2B56D3D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66AD-F6DA-4A40-8C91-112D0CB4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3DBC-7987-4FCF-847E-54633DD8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9BE7-CB93-4027-A737-E3501597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2F8B-F675-415C-8B41-3AD28B89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4723-44C8-415F-8102-CFAAB770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8616-2197-4AA3-AC76-236E240A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D9B6-891D-407E-B44F-7494F415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E6E2-96EB-40DC-B6CD-1993C2D498A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bastille4"/>
          <p:cNvPicPr/>
          <p:nvPr/>
        </p:nvPicPr>
        <p:blipFill>
          <a:blip r:embed="rId1">
            <a:lum bright="44000"/>
          </a:blip>
          <a:stretch/>
        </p:blipFill>
        <p:spPr>
          <a:xfrm>
            <a:off x="611280" y="620640"/>
            <a:ext cx="8137440" cy="58928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240120" y="765000"/>
            <a:ext cx="86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arom is de Franse revolutie eigenlijk belangrij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0000"/>
                </a:solidFill>
                <a:latin typeface="Times New Roman"/>
              </a:rPr>
              <a:t>Voor de Franse revolu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8" descr="ancien regime3"/>
          <p:cNvPicPr/>
          <p:nvPr/>
        </p:nvPicPr>
        <p:blipFill>
          <a:blip r:embed="rId1"/>
          <a:stretch/>
        </p:blipFill>
        <p:spPr>
          <a:xfrm>
            <a:off x="4932360" y="4581360"/>
            <a:ext cx="2382840" cy="1676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0" descr="geestelijken"/>
          <p:cNvPicPr/>
          <p:nvPr/>
        </p:nvPicPr>
        <p:blipFill>
          <a:blip r:embed="rId2"/>
          <a:stretch/>
        </p:blipFill>
        <p:spPr>
          <a:xfrm>
            <a:off x="4284720" y="2637000"/>
            <a:ext cx="1942920" cy="171900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39"/>
          <p:cNvSpPr/>
          <p:nvPr/>
        </p:nvSpPr>
        <p:spPr>
          <a:xfrm>
            <a:off x="1187280" y="2205000"/>
            <a:ext cx="3672000" cy="3313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41"/>
          <p:cNvSpPr/>
          <p:nvPr/>
        </p:nvSpPr>
        <p:spPr>
          <a:xfrm>
            <a:off x="2195640" y="3789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44"/>
          <p:cNvSpPr/>
          <p:nvPr/>
        </p:nvSpPr>
        <p:spPr>
          <a:xfrm>
            <a:off x="2771640" y="2781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5"/>
          <p:cNvSpPr/>
          <p:nvPr/>
        </p:nvSpPr>
        <p:spPr>
          <a:xfrm>
            <a:off x="4788000" y="1268280"/>
            <a:ext cx="30970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0000"/>
                </a:solidFill>
                <a:latin typeface="Arial Black"/>
              </a:rPr>
              <a:t>Voor de revolutie was er een standenmaatschappij in Europa. Niet iedereen was gelij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3"/>
          <p:cNvSpPr/>
          <p:nvPr/>
        </p:nvSpPr>
        <p:spPr>
          <a:xfrm>
            <a:off x="4788000" y="2205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Times New Roman"/>
              </a:rPr>
              <a:t>Er waren drie soorten stan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4"/>
          <p:cNvSpPr/>
          <p:nvPr/>
        </p:nvSpPr>
        <p:spPr>
          <a:xfrm>
            <a:off x="2050920" y="4365720"/>
            <a:ext cx="18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1600" spc="-1" strike="noStrike">
                <a:solidFill>
                  <a:srgbClr val="ff0000"/>
                </a:solidFill>
                <a:latin typeface="Times New Roman"/>
              </a:rPr>
              <a:t>Het volk/burgeri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5"/>
          <p:cNvSpPr/>
          <p:nvPr/>
        </p:nvSpPr>
        <p:spPr>
          <a:xfrm>
            <a:off x="2411280" y="314172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nl-NL" sz="1200" spc="-1" strike="noStrike">
                <a:solidFill>
                  <a:srgbClr val="ff0000"/>
                </a:solidFill>
                <a:latin typeface="Times New Roman"/>
              </a:rPr>
              <a:t>geestelijk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7"/>
          <p:cNvSpPr/>
          <p:nvPr/>
        </p:nvSpPr>
        <p:spPr>
          <a:xfrm>
            <a:off x="2556000" y="2276640"/>
            <a:ext cx="1152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nl-NL" sz="1200" spc="-1" strike="noStrike">
                <a:solidFill>
                  <a:srgbClr val="ff0000"/>
                </a:solidFill>
                <a:latin typeface="Times New Roman"/>
              </a:rPr>
              <a:t>a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2" descr="lodewijk_16e"/>
          <p:cNvPicPr/>
          <p:nvPr/>
        </p:nvPicPr>
        <p:blipFill>
          <a:blip r:embed="rId3"/>
          <a:stretch/>
        </p:blipFill>
        <p:spPr>
          <a:xfrm>
            <a:off x="539640" y="1413000"/>
            <a:ext cx="1562040" cy="218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na heel Europa werd op die manier bestu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r in Frankrijk pikte de bevolking het niet langer en kwamen in opstand tegen het regime (machthebb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volk van Parijs nam het initiatief en viel de gevangenis aan van de k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bestorming_van_de_bastille"/>
          <p:cNvPicPr/>
          <p:nvPr/>
        </p:nvPicPr>
        <p:blipFill>
          <a:blip r:embed="rId1"/>
          <a:stretch/>
        </p:blipFill>
        <p:spPr>
          <a:xfrm>
            <a:off x="5208480" y="1600200"/>
            <a:ext cx="2963880" cy="218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bestormingbastille"/>
          <p:cNvPicPr/>
          <p:nvPr/>
        </p:nvPicPr>
        <p:blipFill>
          <a:blip r:embed="rId2"/>
          <a:stretch/>
        </p:blipFill>
        <p:spPr>
          <a:xfrm>
            <a:off x="5219640" y="3938760"/>
            <a:ext cx="29527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5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7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70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bestorming_van_de_bastille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684360" y="2708280"/>
            <a:ext cx="741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edereen heeft gelijke rech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e rechten moeten in een grondwet sta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et volk heeft een grote inbreng in het bestuur van het 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826920" y="33336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Wat wilde het vol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971640" y="4797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Gelijkheid, vrijheid en broedersch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gebeurde er na de bestorm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In volgor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r werd een grondwet gemaa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ning werd onthoo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rankrijk werd een republiek. Een republiek is een land waarin een leider door het volk wordt geko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iet langer werd de leider van een land gekozen door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iet langer werd de leider van een land bepaald door de k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taan bepaalde het volk wie de leider van het land we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onthoofding lodewijk"/>
          <p:cNvPicPr/>
          <p:nvPr/>
        </p:nvPicPr>
        <p:blipFill>
          <a:blip r:embed="rId1"/>
          <a:stretch/>
        </p:blipFill>
        <p:spPr>
          <a:xfrm>
            <a:off x="4500720" y="2205000"/>
            <a:ext cx="41814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Wie kwam er uiteindelijk aan de macht in Frankrijk, welke leider koos het vol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apoleon Bonapar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Arial"/>
              </a:rPr>
              <a:t>Wat deed hij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Hij zorgde ervoor dat de ideeën van de Franse revolutie in heel Europa bekend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Arial"/>
              </a:rPr>
              <a:t>Hoe deed hij d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oor de landen te veroveren en deze op Franse manier te bestu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napoleon"/>
          <p:cNvPicPr/>
          <p:nvPr/>
        </p:nvPicPr>
        <p:blipFill>
          <a:blip r:embed="rId1"/>
          <a:stretch/>
        </p:blipFill>
        <p:spPr>
          <a:xfrm>
            <a:off x="4789440" y="1557360"/>
            <a:ext cx="34545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3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3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3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3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ancien regime3"/>
          <p:cNvPicPr/>
          <p:nvPr/>
        </p:nvPicPr>
        <p:blipFill>
          <a:blip r:embed="rId1">
            <a:lum bright="7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7"/>
          <p:cNvSpPr/>
          <p:nvPr/>
        </p:nvSpPr>
        <p:spPr>
          <a:xfrm>
            <a:off x="1116000" y="2421000"/>
            <a:ext cx="7201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oor de veroveringen van Napoleon kwam het volk van andere landen dus in aanraking met de ideeën van de revolu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eze ideeën zijn (gelijkheid, vrijheid en broederschap) voor ieder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bastille4"/>
          <p:cNvPicPr/>
          <p:nvPr/>
        </p:nvPicPr>
        <p:blipFill>
          <a:blip r:embed="rId1">
            <a:lum bright="68000"/>
          </a:blip>
          <a:stretch/>
        </p:blipFill>
        <p:spPr>
          <a:xfrm>
            <a:off x="-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1"/>
          <p:cNvSpPr/>
          <p:nvPr/>
        </p:nvSpPr>
        <p:spPr>
          <a:xfrm>
            <a:off x="611280" y="2852640"/>
            <a:ext cx="8136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at je straks kiesrecht he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at je een achternaam he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Behoorlijk wat Franse woorden in ons woordenbo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684360" y="476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Times New Roman"/>
              </a:rPr>
              <a:t>Wat merk ik nu nog van de Franse revoluti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9:16:46Z</dcterms:created>
  <dc:creator>Ramon</dc:creator>
  <dc:description/>
  <dc:language>en-US</dc:language>
  <cp:lastModifiedBy>user</cp:lastModifiedBy>
  <dcterms:modified xsi:type="dcterms:W3CDTF">2014-09-18T11:31:38Z</dcterms:modified>
  <cp:revision>5</cp:revision>
  <dc:subject/>
  <dc:title>Waarom is de Franse revolutie belangrijk?</dc:title>
</cp:coreProperties>
</file>