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dt" idx="15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B1682-B69D-47FD-A66E-7FA0EA02B08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63A7D-5416-4058-9DAE-328072C603A8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F277DA-406E-4402-980D-52039532D174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1BFEE-51EF-4FA8-BA92-228163606213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4B2B97-8CD3-4C30-92B9-7C275D28B3B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64F31-637B-4E2F-9C2C-3DAA358661F8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971C4B-E253-41C5-860C-9720B7BFBBA0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21763-3D48-4FCE-A8FD-F3514A9A10A9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3E50B8-8A77-49A1-A9E8-1E714FE8EC34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E62D9-59FE-4370-B59A-9DEF01824270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BDD10D-699F-49EC-94D1-364177DB3983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B94E7-22A1-4554-AF21-3B401AE5D559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E6F0B9-8FD9-4958-BBE7-2635D013B08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6F143-C94F-4653-AFD1-E8702B09801F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CF1A7A-7EAC-4B7C-A211-3038AFAE6E2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88EBA-D585-4CCC-A1E5-A06620486C22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2C9F38-8602-48C2-A4DB-23D336D97AD8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65571-7503-46FD-8EBB-8A9F856E9921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31593E-62D1-445B-9D0B-76DEEFB83346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B85C7-1662-4F99-B9A9-6B1D939F1F69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81CEAA-9E99-4F70-B1C1-0F874E219F77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AED1-9E00-4A80-958D-951EF62ED8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8AEC-5586-4D91-8430-79BE3CCB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F91C-94F7-4495-A53E-CFA9C331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373A-CE23-48EF-A47B-044ABB6223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6A65B-8E4E-4865-925A-99C7BAD11E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D89F9-25C8-47D5-8039-A35BA9B8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504E2-E390-4231-ABEC-A01B033E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02B23-0B4F-4C70-BAD7-3FEAFA5D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7B5D6-A73F-4E05-B731-882E316A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7E37C-3961-41DB-BD66-6A8DCC47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6663E-E333-41DC-B5E2-FF2586DA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522F-CFB6-441C-A079-27D548EC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E398C-03E8-470C-A46A-E926741C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C69DA-7453-4385-A609-22775D7F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858FD-0192-4E89-AD17-A1534376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E3A96-A4EA-4407-AD48-08C9EB98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47E3F-005F-4A55-A810-2B716842F4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A302-3B23-4CDD-99F1-6D078B8BF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9FEE-1A8A-4D48-BDD1-B31039F5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F6C3-363F-4E6B-A4EF-CE2EC163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8011-BB59-416E-9DDD-040B69A4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E275-9A8E-4E55-B638-344156A9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6D47-3C8D-442C-92E2-125680ED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B87B-AD66-46B0-922A-5123435C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C438-5C44-4085-885D-A10829A0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2E20-65FE-4928-8B33-F1A6E501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BA27-4508-4F17-9A67-FD9A546F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7D15-4037-4885-BA52-25E84533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E67B-918D-4114-BC24-8E33BEBA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000A-EA8E-49F5-8D5C-2F795D3C83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3CE7F-63D9-4350-A767-7458CFA848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6C1A6-A47E-4917-8C3B-A7A20005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8A16D-8119-409A-9518-2798F20C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F6AC-0959-44E8-BEFC-28A930F1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A6EE3-B989-4C23-BB0E-0F1FD1B0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1F995-2D2D-466A-80C0-0AE379D2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B3276-1066-4222-A611-048D109F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E37A1-8BDA-4ED3-B813-E75AC96A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99515-C419-4680-A6F7-03F0A988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7252C-670A-4370-B88A-03B94505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8F70B-B0EB-41B5-8672-5D7564E7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7944C-A903-4968-B04D-E10BC1D4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32821-103C-4080-954C-CB9A0652E6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FEA68-9E45-4FE0-B7ED-4EF0BC701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27EF-B476-4DD7-8F7E-8BA6355E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EE3AA-A369-4DC5-AEB9-C2070FFA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58051-A563-4472-9436-81E4C5E1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B250F-3F06-427B-AE36-BAE47FC4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413E3-2AC2-42A9-95A1-BC4C6980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77AB6-4B37-4668-A32A-05CF718D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B9D99-1981-41A7-A745-F24D2C7F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D1C493-5625-4104-8039-DFE97992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DC487-4FD0-4831-B6B9-55A48A73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52C05-8EC7-4C99-8F56-E8A87918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92402-24C0-4D84-8E14-F27635D5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4F7A6-6A0A-4502-A4ED-7D006188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D74D1-7AF0-4AAB-8730-5B679C8FFF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0AB9-FAEB-4585-BA81-D384354448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7E9C8-8314-420F-A766-61B7FDD8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A03F8-38AD-43A7-834F-0B5491E2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20AD-ABCE-429A-A92D-407CBC83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51FD-2C40-459E-9F94-79459BED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90FF8-8F93-4AA5-B234-960D6C9B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DC68-3EBF-40AC-8AD3-44B2E883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B566-3895-459F-AF6D-7958B91B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662D5-7DF2-464B-9150-7914FB4E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B973-1A2C-49EC-BDAA-86A77169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DF3BB-9483-4051-A3A4-38913ED8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A719A-6E90-466E-8D7D-AADD8CA9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80E2-BB3B-433B-8A79-48E03074E0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1E135-201B-4F7E-97F1-0221FD429E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0BCDD-0B84-448C-8CA5-102D979D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C1BE7-711B-4A6D-B6E7-235E088C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43615-525A-4F75-B0A5-5C6F3A53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94D87-F708-42B2-97E7-3A6AF4DE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3EBE9-D7D7-40A9-9934-12BBD674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B6A9F-5685-4EBB-ADAA-76DDE654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C0301-EA53-4018-848E-E7998FD0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7F5B1-EB5C-4D8C-8D33-C239E9EC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18F72-EE6E-4FCD-89E6-31FA67FC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3BC87-05D4-4939-8D7A-371D3993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1ABB3-DDB9-43AA-A873-E6A0D5EA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BEA0A-C213-42DE-AF19-C0D99A997F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D415-7CFF-4B35-8B4A-BD99C9F6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F895D60-2064-41B8-A4F6-BF4026D559AA}" type="slidenum">
              <a: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8B63C74-B4A1-4F27-886D-07C6348EBD79}" type="slidenum">
              <a: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9C0E2D-FA07-4006-9950-CCFB0E8CF88F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937AB5-3415-4100-A00D-AD4B353CDA9B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F99A17-8A9D-4780-813D-1BC875CCD4C0}" type="slidenum">
              <a: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1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F1A4EF-EB1F-4800-B7E8-E68668A9D034}" type="slidenum">
              <a: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4"/>
          </p:nvPr>
        </p:nvSpPr>
        <p:spPr>
          <a:xfrm>
            <a:off x="6410160" y="-360"/>
            <a:ext cx="532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E0EB1C-3E18-4114-B26B-297D25A23D3B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2050920" y="3716280"/>
            <a:ext cx="5429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8800" spc="-1" strike="noStrike">
                <a:solidFill>
                  <a:srgbClr val="ebddc3"/>
                </a:solidFill>
                <a:latin typeface="Tw Cen MT"/>
              </a:rPr>
              <a:t>WELKOM</a:t>
            </a:r>
            <a:endParaRPr b="0" lang="en-US" sz="8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GZ, H11 (behalve de par. over zorg en beg. en communicatie) 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85-117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VVT2, H2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22-29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HZ, H16.4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Tw Cen MT"/>
              </a:rPr>
              <a:t>Presentatie ‘Depressie onder ouderen ’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62150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http://albertsonnevelt.nl/wp-content/uploads/2013/07/helpen-medicijnen-tegen-depressie.png"/>
          <p:cNvPicPr/>
          <p:nvPr/>
        </p:nvPicPr>
        <p:blipFill>
          <a:blip r:embed="rId1"/>
          <a:stretch/>
        </p:blipFill>
        <p:spPr>
          <a:xfrm>
            <a:off x="3854520" y="476280"/>
            <a:ext cx="5324400" cy="5324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"/>
          <p:cNvSpPr/>
          <p:nvPr/>
        </p:nvSpPr>
        <p:spPr>
          <a:xfrm>
            <a:off x="258840" y="2924280"/>
            <a:ext cx="712152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775f55"/>
                </a:solidFill>
                <a:latin typeface="Tw Cen MT"/>
              </a:rPr>
              <a:t>I</a:t>
            </a: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n gesprek gaan met zorgvrager en of famili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Probleem bespreken in het MDO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Gesprekken regelen met psychiater of psycholoog.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een dagprogramma maken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medicatie geven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Filmpje over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Tips over omgaan met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1332000" y="155736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Hoe te hande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1371600" y="2743200"/>
            <a:ext cx="71229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eb je te maken gehad met een depressie in je omgeving/ stage/ werk 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Wat houd een depressie precies in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oe ga je  hier mee om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w Cen MT"/>
              </a:rPr>
              <a:t>Wat weet je al van een depressie?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19" name="Picture 5" descr="http://www.ggznieuws.nl/home/wp-content/uploads/2013/02/depressie-werk1.jpg"/>
          <p:cNvPicPr/>
          <p:nvPr/>
        </p:nvPicPr>
        <p:blipFill>
          <a:blip r:embed="rId1"/>
          <a:stretch/>
        </p:blipFill>
        <p:spPr>
          <a:xfrm>
            <a:off x="6732720" y="3438360"/>
            <a:ext cx="2087280" cy="31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71640" y="2505240"/>
            <a:ext cx="7515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Wanneer er minstens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twee weken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bijna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elke dag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5 van de volgende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symptomen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 aanwezig zijn: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Depressieve/sombere stemmin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lies van belangstelling en interesse in bijna alle activiteit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anderde eetlust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Problemen met slap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jaagd of geremd gedra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oeidheid en verlies van energ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voelens van waardeloosheid of onterechte schuldgevoelens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inderd vermogen tot nadenken of concentrat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Terugkerende gedachten aan de dood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Er is sprake van een depressie als deze symptomen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niet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komen uit een lichamelijke aandoening of een rouwreactie  filmpje over depress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378080" y="148428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Depressie bij de zorgvrager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7116840" y="2997360"/>
            <a:ext cx="18698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371600" y="2743200"/>
            <a:ext cx="71229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gelief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lichamelijke mogelijkhe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sociale status(bijv. ouderrol,werk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financiële statu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cognitieve functies(denken, geheugen, nieuwe informatie opnem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relationeel netwerk(vrienden, kenniss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Oorzaken depressi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365120" y="2565360"/>
            <a:ext cx="712332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Naarmate men ouder wordt bestaat er een groter risico op een depressie. Een aantal risicofactoren op een rijtje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Rou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Slaapstoornis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Lichamelijke beperk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erdere depressi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rouwelijk geslacht(veelal weduwen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sociale contac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andering rolpatroon(o.m. het wegvallen van werk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Traumatische oorlogservar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van naas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Afnemende vitalite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rfelijk bepaald(2 tot 3 keer meer risico bij depressie in familie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371600" y="136044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Risicofactoren bij ouder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8" name="Picture 6" descr="http://www.seniorbeter.nl/wp-content/uploads/2010/12/header_dag1.jpg"/>
          <p:cNvPicPr/>
          <p:nvPr/>
        </p:nvPicPr>
        <p:blipFill>
          <a:blip r:embed="rId1"/>
          <a:stretch/>
        </p:blipFill>
        <p:spPr>
          <a:xfrm>
            <a:off x="2484360" y="0"/>
            <a:ext cx="417528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92160" y="2631960"/>
            <a:ext cx="712332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elal somber en lusteloo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minderde eetslus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laapproblem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nerg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mot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libid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temmingswisseling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Geen initiatief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zelfbeel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preekt veel over de d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filmpje over depress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Signa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1" name="Picture 6" descr="http://www.limburg.be/webfiles/limburg/leven/zorgenwelzijn/ouderen_en_depressie_cover_definitief.jpg?hid=img;w=545;q=100"/>
          <p:cNvPicPr/>
          <p:nvPr/>
        </p:nvPicPr>
        <p:blipFill>
          <a:blip r:embed="rId1"/>
          <a:stretch/>
        </p:blipFill>
        <p:spPr>
          <a:xfrm>
            <a:off x="4067280" y="3027240"/>
            <a:ext cx="51912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371600" y="2743200"/>
            <a:ext cx="71229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Veel ouderen hebben te maken met eenzaamheid. In Nederland is bekend dat 1 op de 4 ouderen eenzaamheid ervaren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Één van de oorzaken van een depressie bij ouderen heeft te maken met eenzaamheid. Ouderen kunnen door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verminderde sociale contacten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in een zogeheten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sociaal isolement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terecht komen. Het komt voor dat het contact met de caissière in de supermarkt het enige waardevolle contact is op de dag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zaamheid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4" name="Picture 6" descr="http://www.ouderenhart.be/PSYCHISCH_WELBEHAGEN/DEPRESSIE_ZELFDODING/depressie-zelfdoding_bijlagen/klein_depressed-woman2_BW.jpg"/>
          <p:cNvPicPr/>
          <p:nvPr/>
        </p:nvPicPr>
        <p:blipFill>
          <a:blip r:embed="rId1"/>
          <a:stretch/>
        </p:blipFill>
        <p:spPr>
          <a:xfrm>
            <a:off x="7182000" y="28440"/>
            <a:ext cx="18097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1357200" y="2786040"/>
            <a:ext cx="712332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Bron: Trimbos Instituu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 aantal cijfer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35804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57200" y="2786040"/>
            <a:ext cx="7123320" cy="95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Een depressie onder ouderen komt veel voor in verpleeg en verzorgingshuiz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hoogbejaarden’ neemt de kans op een depressie to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jongbejaarden’ is de kans op herstel groter mits op tijd herken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In algemene ziekenhuizen zijn ongeveer 6% van de opgenomen ouderen depressief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nkele feiten op een rij 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6297480" y="0"/>
            <a:ext cx="28465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8:26:31Z</dcterms:created>
  <dc:creator>A.Rijk</dc:creator>
  <dc:description/>
  <dc:language>en-US</dc:language>
  <cp:lastModifiedBy>Henrieke Groenewold</cp:lastModifiedBy>
  <dcterms:modified xsi:type="dcterms:W3CDTF">2016-09-20T12:50:54Z</dcterms:modified>
  <cp:revision>70</cp:revision>
  <dc:subject/>
  <dc:title>WELKOM</dc:title>
</cp:coreProperties>
</file>