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8D7A-F6C4-4578-AE4D-AAC26E7F6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F387-F3B8-422F-B62E-392A208E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9203-9349-44F6-8833-05A5ACF28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C496-E55C-4570-A6EC-531AAA1AD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1AFA-5A44-4C81-BE9E-41B99DE4D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39F7-6CA1-4B9E-BF32-0FACC5BD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9E19-B6CE-42A0-AEAC-16981342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B8E7-1031-42F1-BED9-1E824D89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A7C5-7392-4534-90AE-70B1F563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DF59-D548-4D29-979A-542F3DC1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956F-5C1C-40FA-99D4-90B90252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8BEC-2B86-4A48-B176-1CD9DFD4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CF36-64D1-43B2-98CA-6AF9104F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B728-EE91-4444-85ED-0B5B3DC2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C073-383E-4180-B76E-1244D82D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9E5B-7425-4238-BEA6-59D3963C4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FAE5-CBFC-4D5B-BBA3-DD4506D75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FA23A2-0D19-451B-BFBE-798A691DC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F185C2-3DF2-4798-8057-180CDBE8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3CC200-E972-4839-9773-17B1F40F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71F402-FFD2-4090-8435-7FC47CE6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6F9145-F406-493A-9672-857B8167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B3FD-5D21-4930-A687-752D53A9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91CD2F-2187-4E60-8677-9514818A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9F613F-439C-4E47-8842-CE912CAB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DB7EE6-34EF-4526-9581-3FFDC19C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988BA4-83A0-4C31-8F53-0BC5A5D0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EE9577-2070-413F-978A-691C13C8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AA04ED-66E8-4526-A77A-20CBC3802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D3AA05-9CCE-431B-BE99-314AFC2C7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7E8FF-334D-4C7F-A121-A017E5898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B6DD1-5478-4DF6-974F-FAACE667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59B0E-72C3-409C-953F-68571A2E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7542-FC89-4E2C-9C28-53478B27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96AD6-E884-481B-8943-CA90AA41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E3B68-8559-4E0B-841B-A1FD5D91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BCEB4-6DC7-48B0-8A4C-F5DEB11C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D95C4-1C42-478A-A99D-688C9DA3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706D0-5F75-4997-B40C-997722E7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4E5B2-0332-4CED-9A9A-3EB01522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7C10F-98D6-426C-9FF9-C72FB173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7851E-CB0C-4855-802B-CF5614512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D9F3E-3D02-4056-A5F1-AD92D4F92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76217-280E-4152-B7D1-44E81074A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999F-187D-4A5E-A268-7338665C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F0ECC-7B7F-49C8-ACE8-2B3B3243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C6261-9914-4D6B-88D2-E271A4FE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00FCB-8AC4-44D8-B06C-A70CDF7A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44615-F215-4CC5-B172-44E7DABA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90AE5-BE50-410D-AB2E-C6B45058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6FEE9-EF14-4197-BA94-E172DAE5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D3828-3A56-4947-91F1-2F6031EB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7EAD0-AD25-4A59-8ADD-D6D5ACDF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57611-FFC9-42A9-845C-A409D208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AB9E8-49AB-414D-A186-75F4F8A70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AB47-7B08-4F84-BE57-E00B4E10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E4D79-3C66-4777-A8DC-D83637C3A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76F74-3FD1-4697-9464-F89DD07E1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58D38-08D3-4DF2-8F02-101491EC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9F106-C277-4F60-9AB6-CA358A58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78BB1-024C-4E67-8713-408C8F9A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C8A37-334A-4C5F-811E-D25A3804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2F665-D3B5-4ACD-BE26-9EF52ACE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EA99F-23B7-448B-9CE9-14CE4F95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95364-2C41-4CCE-B68C-94B28FDC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31334-C774-4D26-9F97-0D353728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0A30-B4AC-4569-86D5-8A94DEBC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C636B-3BDE-4901-A35C-D3645829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14647-DAC1-4FB7-957B-DA1D558C4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B40F2-1323-4395-80D0-8E4CB8DB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F9F3-F841-4221-A1E6-853F8F09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574D-7596-41E2-ADA5-26FB4A7A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9EB3-C2E4-49CD-B40D-76950F2F3F2B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9BC5-65CB-468F-9527-FAD585EC954A}" type="slidenum">
              <a:rPr b="0" lang="nl-NL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9449-CF7F-4C3B-BC6C-11AC150A2441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D5D6-12F0-4EC9-BD53-FFCF7833A445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336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337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38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342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346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9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2106-2391-4F3E-91F7-80B76905C26E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419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420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421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425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429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2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EA6D-9C3A-4652-A256-F33F24E7836B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static.competence.biz/Content/Zuidwester/Reader%20Uitzuigen%20Mond-%20en%20Keelholte%20(hoog)%202010-11.pdf" TargetMode="External"/><Relationship Id="rId2" Type="http://schemas.openxmlformats.org/officeDocument/2006/relationships/hyperlink" Target="http://static.competence.biz/Content/Zuidwester/Reader%20Uitzuigen%20Mond-%20en%20Keelholte%20(hoog)%202010-11.pdf" TargetMode="External"/><Relationship Id="rId3" Type="http://schemas.openxmlformats.org/officeDocument/2006/relationships/hyperlink" Target="http://instructivity.nl/" TargetMode="External"/><Relationship Id="rId4" Type="http://schemas.openxmlformats.org/officeDocument/2006/relationships/hyperlink" Target="http://instructivity.nl/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org voor ademhaling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424242"/>
                </a:solidFill>
                <a:latin typeface="Century Gothic"/>
              </a:rPr>
              <a:t>Verpleegtechnische handelingen hfst 21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Toedieningssystem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Neuskatheter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528" name="Picture 6" descr="221568_09i"/>
          <p:cNvPicPr/>
          <p:nvPr/>
        </p:nvPicPr>
        <p:blipFill>
          <a:blip r:embed="rId1"/>
          <a:stretch/>
        </p:blipFill>
        <p:spPr>
          <a:xfrm>
            <a:off x="5508720" y="2492280"/>
            <a:ext cx="25192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Toedieningssysteem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Zuurstofbril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532" name="Picture 6" descr="ANd9GcSmThk-T6M2XEE8ojjJjl5NL-ZE3LXFQ-N_i2gEt8YTTcX7SjgU"/>
          <p:cNvPicPr/>
          <p:nvPr/>
        </p:nvPicPr>
        <p:blipFill>
          <a:blip r:embed="rId1"/>
          <a:stretch/>
        </p:blipFill>
        <p:spPr>
          <a:xfrm>
            <a:off x="5148360" y="2349360"/>
            <a:ext cx="302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Toedieningssystem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Zuurstofmasker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536" name="Picture 6" descr="221568_09l"/>
          <p:cNvPicPr/>
          <p:nvPr/>
        </p:nvPicPr>
        <p:blipFill>
          <a:blip r:embed="rId1"/>
          <a:stretch/>
        </p:blipFill>
        <p:spPr>
          <a:xfrm>
            <a:off x="4788000" y="2565360"/>
            <a:ext cx="38098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Transtracheale katheter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539" name="Picture 6" descr="ANd9GcRluskiBxDPpOR-ZaJXqisOVHH8I7AVIZCSBxFBw9va89L_N0pz"/>
          <p:cNvPicPr/>
          <p:nvPr/>
        </p:nvPicPr>
        <p:blipFill>
          <a:blip r:embed="rId1"/>
          <a:stretch/>
        </p:blipFill>
        <p:spPr>
          <a:xfrm>
            <a:off x="5435640" y="2349360"/>
            <a:ext cx="2232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Emoties van de zorgvrager bij zuurstof toediening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Angst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Onzekerheid en verdrie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Opluchting en rus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Voorlichting gev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De wijze waarop de zuurstof wordt toegediend (apparatuur en hulpmiddelen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Wat de zorgvrager wel en niet kan doen als hij zuurstof krijgt en wat de veiligheidsmaatregelen zij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De reden van toedienen van zuurstof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Voorlichting gev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Hoe de zorgvrager het inbrengen van de zuurstofkatheter en het gebruik van zuurstof kan ervaren (kokhalzen, heel kort benauwd gevoel, geen pijn, kriebel in de neu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Voorlichting gev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Wanneer de zorgvrager moet waarschuwen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ij blijvende benauwdhei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ij een lege zuurstof cilinder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ij een lege luchtbevochtiger (bij toediening boven 2l p/m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ij andere problemen of klacht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Hygiën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Verschoon de luchtbevochter dagelijk om infecties te voorkom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Controleer de luchtbevochter op steriliteitdatum en vacuü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De zuurstofkatheter of zuurstofmasker verwissel je dagelijk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15560" y="475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Veilighei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755280" y="161892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Verboden te roken!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Zorg voor goede ventilati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Concentratier niet in de buurt van een warmtebron (kachel, zon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Zet cilinders goed vast zodat ze niet omvall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Pas op met statische electriciteit (nylon kleding, haren kammen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Gebruik bij insmeren gezicht geen vette créme, zalf of oli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Opname zuurstof (O2)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De luchtwegen transporteren de ingeademde lucht naar de long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In de longblaasjes wordt zuurstof opgenomen en koolzuurgas uitgescheid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De zuurstof wordt via het bloed naar de cellen getransporteer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Symptomen bij teveel zuurstof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Hoofdpij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Prikkelbaarhei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Slaperighei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ewustzijnstoornissen (bij roze huidskleur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Symptomen bij te weinig zuurstof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Kortademigheid in rust en lichte inspanning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Sufheid, vergeetachtigheid, verwardhei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Raar gevoel in het hoof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Snelle pol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lauwe verkleuring van huid en nagel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4c600"/>
                </a:solidFill>
                <a:latin typeface="Century Gothic"/>
              </a:rPr>
              <a:t>Berekenen v.d resterende tijd v.d beschikbare zuurstof in de cilinder.</a:t>
            </a:r>
            <a:br>
              <a:rPr sz="3200"/>
            </a:b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nl-NL" sz="2600" spc="-1" strike="noStrike">
                <a:solidFill>
                  <a:srgbClr val="3e3d2d"/>
                </a:solidFill>
                <a:latin typeface="Century Gothic"/>
              </a:rPr>
              <a:t>Druk x inhoud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3e3d2d"/>
                </a:solidFill>
                <a:latin typeface="Century Gothic"/>
              </a:rPr>
              <a:t>_______________________ : 60 = … uren 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3e3d2d"/>
                </a:solidFill>
                <a:latin typeface="Century Gothic"/>
              </a:rPr>
              <a:t>Liters zuurstof per minuut 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3e3d2d"/>
                </a:solidFill>
                <a:latin typeface="Century Gothic"/>
              </a:rPr>
              <a:t>Vb. De druk van zuurstof in een cilinder van 40 liter bedraagt 120 bar. Toe te dienen zuurstof is 4 L/min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3e3d2d"/>
                </a:solidFill>
                <a:latin typeface="Century Gothic"/>
              </a:rPr>
              <a:t> </a:t>
            </a:r>
            <a:r>
              <a:rPr b="0" lang="nl-NL" sz="2600" spc="-1" strike="noStrike" u="sng">
                <a:solidFill>
                  <a:srgbClr val="3e3d2d"/>
                </a:solidFill>
                <a:uFillTx/>
                <a:latin typeface="Century Gothic"/>
              </a:rPr>
              <a:t>  </a:t>
            </a:r>
            <a:r>
              <a:rPr b="0" lang="nl-NL" sz="2600" spc="-1" strike="noStrike" u="sng">
                <a:solidFill>
                  <a:srgbClr val="3e3d2d"/>
                </a:solidFill>
                <a:uFillTx/>
                <a:latin typeface="Century Gothic"/>
              </a:rPr>
              <a:t>120bar x 40     </a:t>
            </a:r>
            <a:r>
              <a:rPr b="0" lang="nl-NL" sz="2600" spc="-1" strike="noStrike">
                <a:solidFill>
                  <a:srgbClr val="3e3d2d"/>
                </a:solidFill>
                <a:latin typeface="Century Gothic"/>
              </a:rPr>
              <a:t>: 60 = 20 uur 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600" spc="-1" strike="noStrike">
                <a:solidFill>
                  <a:srgbClr val="3e3d2d"/>
                </a:solidFill>
                <a:latin typeface="Century Gothic"/>
              </a:rPr>
              <a:t>  </a:t>
            </a:r>
            <a:r>
              <a:rPr b="0" lang="nb-NO" sz="2600" spc="-1" strike="noStrike">
                <a:solidFill>
                  <a:srgbClr val="3e3d2d"/>
                </a:solidFill>
                <a:latin typeface="Century Gothic"/>
              </a:rPr>
              <a:t>4 L/min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Trachea canule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424242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Filmpje canule verzorging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1042560" y="2323800"/>
            <a:ext cx="677700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4c600"/>
                </a:solidFill>
                <a:latin typeface="Century Gothic"/>
              </a:rPr>
              <a:t>MOND- EN KEELHOLTE UITZUIGEN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424242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DOEL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Het vrijmaken van de bovenste luchtwegen van sputum, speeksel, maaginhoud of bloed, zodat de ademweg weer doorgankelijk word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ANATOMI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56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3384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INDICATIE UITZUIG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19368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Wanneer een cliënt zelf niet goed kan ophoesten of slikken (bewusteloze of een uitgeputte zorgvrager, zorgvrager met hoge dwarslaesie, zorgvrager met ernstige longproblematiek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243360" indent="-19368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Bij afwijkingen van het hart en van de hersenen, dat ophoesten of een houdingsdrainage  risico met zich mee brengt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243360" indent="-19368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Wanneer de algemene conditie van de cliënt zo slecht is dat alle andere oplossingen voor het vrijmaken van de luchtwegen als extra belasting worden gezien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NADEEL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door het uitzuigen worden luchtwegen geprikkeld tot een verhoogde productie van sputum. Zo krijg je een averechts effect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Uitzuigen gebeurt daarom alleen als preventieve maatregel om de luchtwegen doorgankelijk te houden niet helpen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506" name="Picture 5" descr="ANd9GcSAEoiDreLjWjuAZamtmIO3rxjcU5kdUjTphaaimlBtzLBF3ZIL"/>
          <p:cNvPicPr/>
          <p:nvPr/>
        </p:nvPicPr>
        <p:blipFill>
          <a:blip r:embed="rId1"/>
          <a:stretch/>
        </p:blipFill>
        <p:spPr>
          <a:xfrm>
            <a:off x="2556000" y="981000"/>
            <a:ext cx="3887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PREVENTIEVE MAATRGEL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Houdingsdrainag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Ademhalings- en hoesttechniek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Medicati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COMPLICATI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cardiale problemen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eschadiging van het weefs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infecti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Overprikkeling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WEES ALERT BIJ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Verminderd bewustzij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Neuro musculaire aandoeningen (verstoord doorgeven van signalen van en naar de hersenen en/of een ziekte van de spieren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Longemfysee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Cardiale klacht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MATERIALEN EN APPARATUUR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Afzuigkatheter (45-60 cm lang, variërend 12 tot 16 CH bij volwassenen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Vacuümbreker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Afzuigapparatuur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AANDACHTSPUNTEN BIJ UITZUIG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Katheter nooit met kracht tegen slijmvlies duw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Met open katheter in de mond en weer naar buit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Uitzuigen gebeurd tot keelholte (top katheter altijd zichtbaar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eleving van zorgvrager (angst, onplezierig, opluchting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MONDHOLT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583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2411280" y="2060640"/>
            <a:ext cx="403236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ASEPTISCH WERK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3e3d2d"/>
                </a:solidFill>
                <a:latin typeface="Century Gothic"/>
              </a:rPr>
              <a:t>Sputum is rijk aan bacteriën, draag handschoenen en evt. mondmasker en schort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3e3d2d"/>
                </a:solidFill>
                <a:latin typeface="Century Gothic"/>
              </a:rPr>
              <a:t>Om infecties te voorkomen zuigkatheter eenmalig gebruiken , opvangfles eenmaal per 24 uur reinigen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3e3d2d"/>
                </a:solidFill>
                <a:latin typeface="Century Gothic"/>
              </a:rPr>
              <a:t>Bekertje water wat je gebruikt bij uitzuigen voor het doorspoelen van katheter na gebruik legen en omspoelen. (stilstaand water bron van bacteriën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EXTRA INFORMATI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e68200"/>
                </a:solidFill>
                <a:uFillTx/>
                <a:latin typeface="Century Gothic"/>
                <a:hlinkClick r:id="rId1"/>
              </a:rPr>
              <a:t>http://static.competence.biz/Content/Zuidwester/Reader%20Uitzuigen%20Mond-%20en%20Keelholte%20(hoog)%</a:t>
            </a:r>
            <a:r>
              <a:rPr b="0" lang="nl-NL" sz="2400" spc="-1" strike="noStrike" u="sng">
                <a:solidFill>
                  <a:srgbClr val="e68200"/>
                </a:solidFill>
                <a:uFillTx/>
                <a:latin typeface="Century Gothic"/>
                <a:hlinkClick r:id="rId2"/>
              </a:rPr>
              <a:t>202010-11.pdf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(theorie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e68200"/>
                </a:solidFill>
                <a:uFillTx/>
                <a:latin typeface="Century Gothic"/>
                <a:hlinkClick r:id="rId3"/>
              </a:rPr>
              <a:t>http://</a:t>
            </a:r>
            <a:r>
              <a:rPr b="0" lang="nl-NL" sz="2400" spc="-1" strike="noStrike" u="sng">
                <a:solidFill>
                  <a:srgbClr val="e68200"/>
                </a:solidFill>
                <a:uFillTx/>
                <a:latin typeface="Century Gothic"/>
                <a:hlinkClick r:id="rId4"/>
              </a:rPr>
              <a:t>instructivity.nl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(praktijkfilmpje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Wanneer extra zuurstof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Arts schrijft extra zuurstof voor wanneer een zorgvrager te weinig zuurstof in het arteriële bloed heeft (hypoxemie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ij hypoxemie bevatten de hemoglobinemoleculen onvoldoende zuurstof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Oorzaken opname te weinig zuurstof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Onvoldoende longventilatie,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zorgvrager kan te weinig lucht in- en uitadem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COPD,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neurologische aandoeningen, slaapapneu,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gebruik van slaap- en kalmeringsmiddelen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morfine in hoge doseringen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uurstoftoediening werkt niet bij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loedarmoed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Onvoldoende pompwerking van het hart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Verschillende zuurstofbronn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Zuurstofcilinder (met samengeperste zuurstof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516" name="Picture 6" descr="ANd9GcQK9ZeSRfXed_HkIzOOAsOwpPu17KE15tPVKOBS_quebVoX320O"/>
          <p:cNvPicPr/>
          <p:nvPr/>
        </p:nvPicPr>
        <p:blipFill>
          <a:blip r:embed="rId1"/>
          <a:stretch/>
        </p:blipFill>
        <p:spPr>
          <a:xfrm>
            <a:off x="5148360" y="1844640"/>
            <a:ext cx="3240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Verschillende zuurstofbronn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Concentrator (haalt zuurstof uit de gewone lucht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520" name="Picture 6" descr="ANd9GcR_3vIOEbQwREG9XO7BbD4AOFVb4qnogOkDEAzcpkDQ_87Z1qgliw"/>
          <p:cNvPicPr/>
          <p:nvPr/>
        </p:nvPicPr>
        <p:blipFill>
          <a:blip r:embed="rId1"/>
          <a:stretch/>
        </p:blipFill>
        <p:spPr>
          <a:xfrm>
            <a:off x="5148360" y="1844640"/>
            <a:ext cx="2808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Verschillende zuurstofbronn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Vloeibare zuurstof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524" name="Picture 6" descr="ANd9GcTxi5DXY6_FPz_cUyQyFYU1yMV7NSgY2TthAzRQtXSInvKmVTYI"/>
          <p:cNvPicPr/>
          <p:nvPr/>
        </p:nvPicPr>
        <p:blipFill>
          <a:blip r:embed="rId1"/>
          <a:stretch/>
        </p:blipFill>
        <p:spPr>
          <a:xfrm>
            <a:off x="5292720" y="1916280"/>
            <a:ext cx="2735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8:11:48Z</dcterms:created>
  <dc:creator>c</dc:creator>
  <dc:description/>
  <dc:language>en-US</dc:language>
  <cp:lastModifiedBy>Henrieke Groenewold</cp:lastModifiedBy>
  <dcterms:modified xsi:type="dcterms:W3CDTF">2016-10-24T15:15:21Z</dcterms:modified>
  <cp:revision>16</cp:revision>
  <dc:subject/>
  <dc:title>ZUURSTOF TOEDIENEN</dc:title>
</cp:coreProperties>
</file>