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dt" idx="1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AEC25-671E-45AD-8EE4-8299847F46FE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9D3A9-A519-4070-82C8-6799EC8AD23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72A5A9-74D2-4277-931F-92AE1BB32C2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5A541-CF20-461B-9AA0-71491422401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80BA95-D85A-45F4-BC61-2E9C3748F755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BC989-EDFB-4AEB-A06F-44A44AE63EB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6070C3-A892-40AC-966D-E8F9B713EB2E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AA82D-6287-446D-89D5-3CF8B4A23D5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59B085-A025-49EF-8949-4E26F5F5216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D5BDE-FF86-46D3-AA9A-A7D1EB7C175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481D09-BC8D-4C90-9128-2F399DD0E260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8B26B-6971-4DB4-AB54-94F02C55223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DC974F-D91D-4361-9DE7-CAC14A9E8BCE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94F6-9075-4AF5-8D3C-0EFD09F54B0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5871B6-3671-4595-838D-5B534725807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0AC0E-86C1-4795-BDF1-578B6BF20D7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F56ED2-D3B7-4D3D-BB86-09477CB99929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29001-AA26-4BBD-8AEF-03E00C83978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B93069-5A48-4F56-ABF0-9C34D0530C7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5CD44-FC83-4B78-80D2-C930CB9CF45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10DDF4-B423-4BDA-A2D5-18E48CDDF03F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FEB7-5976-4518-9ED7-DDC84E996E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DBC9-192D-4288-B8C0-BDBD3A9E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8437-777E-47EB-83CC-15FAE3F0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BF005-D6D4-432F-9F95-2342619E51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C6BE0-56FF-4AD3-A9D8-41A4F5F654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576CE-0570-44D0-B147-8DCCD803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7AFA1-800B-4094-B263-8E2D6BD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3EA2D-8DD2-4192-A4A9-476DDF4B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845F7-878B-4704-8BB0-2B37D02F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2F177-52D4-4C4A-87B6-7DFEF4D94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AA5F0-A31A-46E7-A87B-5FE6BEC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CC84-F237-4868-A16F-6EB5341F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CF0E6-97B0-4999-A7DF-5C5EA8B1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B7280-6DB4-4564-8DDE-3F41C9E8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C58EC-BC77-4824-BD52-C5625506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9F83E-55C2-40D8-B418-EECBCE1B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35C53-E3A3-4E7A-9750-0CDF1496D6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2632-9AFB-40A9-8591-9A99265C29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D4B-974D-4564-9E80-EE9C1BF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FE0E-E99B-4A21-9379-7BE7A18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C3F2-577D-40A3-808E-B775E7B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3379-4614-415E-8B68-9AFD0C21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DE97-D8A0-41C2-AB30-29A9F17C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FB4-DEFB-476A-9D25-11F0410B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46F1-907C-4F6F-B2E1-1E1D66D7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E14A-7C59-48CF-9977-6A4813B5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B369-24BE-421E-A298-7A50F972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E661-5B7D-4802-9F03-949D6B10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E56B-384E-49CD-BC22-3F79016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21A5-57FB-4C13-8AB6-78C1F36ADC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09584-6B00-4105-A32F-14B427C7C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13C99-E598-42B5-A962-D9D6876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AB9AF-776D-4E50-977A-444FB1BF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4A57-0E56-4DF3-8AAE-DDF4FAD1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34824-EBF8-4F75-812C-788F2EC3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FFE96-402F-490F-AC19-93345E5E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0AC23-A531-4A00-9794-61388E90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D9839-81FF-4DCB-B72A-3EBB6081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47436-2022-4E1E-812F-37ED5624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132CF-683B-4274-B609-B931A4CA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E1F67-0212-4A76-9D7E-0E0E198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B2463-5F7A-41F4-AE4D-1EFD4DD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C4375-3227-476D-B1BB-861FD7AAD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E1CC4-4A93-4DC8-9138-AF596D47FC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D727-0861-406C-AD91-7E9BF68B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58329-7CFA-452A-A536-36E3E832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0833C-2813-4B4A-8C40-E52F507F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5D89E-2B0F-4B3D-9EC1-E6EDF35D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2AE3AE-FEB3-458F-B0A0-CCDC3484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93539-91AB-4DCB-A468-8BF7C35C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3626A-B2A1-4CBF-83CA-5635D80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94197-5E49-4EE1-BDC8-327FD8C8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56F0E9-D415-40AA-BECD-3F063978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E9622-DA40-4E95-8F94-554EEF27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0D9CCF-C6D8-4AA3-9EDD-500771D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F939-FE5D-47CD-9718-360DC04E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AA87DA-3722-41BB-8E04-5EDBABB605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975CF-9034-46C8-8141-3304D51A6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F147-FC64-447D-991C-B007A695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8B67-FC6E-4845-91A5-5A5128D8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F7A1E-514B-4DA7-9FAA-3E622CF6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B372-0211-444F-AEC6-3E613107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E299-70D2-439A-A58C-243FEBB5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6DD0D-E5E9-4DAD-B2A9-680A6A0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AEF6B-8EAA-4CE0-A653-621E9E0F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1338D-D8F2-4964-AC9A-09C7AE18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5276-D722-40A0-89C6-8C177A80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A33B6-736D-42BA-ACF6-DC8B92BC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699B2-991F-482B-9EEB-C1614D5C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4B591-4718-42B8-9027-2A729560E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DD1B5D-E2BD-42C3-AC31-23FFAA059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363EC-C9D4-4ABF-AF87-F05D0487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CB4486-9EF4-4D7B-90EF-41616860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10399-D755-4732-BCE0-1475EB63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E54DE8-8C58-45E8-B668-3E71E437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409431-84FB-42D4-8E82-6BCCB9A9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5ABE6-689E-4000-8790-7BE8CD21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86F34-5AE9-4483-BDBF-7490CB24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BABA7-F517-4A32-9881-67C6DE06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130B9-342C-4575-93C6-5A0DDB75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D82B8-CD20-4344-B9C8-C164FE5D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80AF9C-4686-4FCE-A334-96557F3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9BDCB-02F4-4C91-A2AD-22570157F2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2005-0429-41D2-98EE-C392780C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388E31-8B3C-471B-AD9A-8A27B8CD7F48}" type="slidenum">
              <a: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2AA7D6-22FB-425E-86A9-18D3EB53FE3B}" type="slidenum">
              <a: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37C519-F759-4EC5-9900-CD711C24ADC9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314F59-8790-4C01-8397-9E33CA3FFF37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2CD180-A98F-47D4-8163-6D45BDB6297E}" type="slidenum">
              <a: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F7008B-3814-4DE5-93B0-2123083BE580}" type="slidenum">
              <a: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4FBFB0-044E-45DE-A0B8-B6F76F1C93E9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2050920" y="3716280"/>
            <a:ext cx="5429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8800" spc="-1" strike="noStrike">
                <a:solidFill>
                  <a:srgbClr val="ebddc3"/>
                </a:solidFill>
                <a:latin typeface="Tw Cen MT"/>
              </a:rPr>
              <a:t>WELKOM</a:t>
            </a:r>
            <a:endParaRPr b="0" lang="en-US" sz="8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GZ, H11 (behalve de par. over zorg en beg. en communicatie) 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85-117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VVT2, H2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22-29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HZ, H16.4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Tw Cen MT"/>
              </a:rPr>
              <a:t>Presentatie ‘Depressie onder ouderen ’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http://albertsonnevelt.nl/wp-content/uploads/2013/07/helpen-medicijnen-tegen-depressie.png"/>
          <p:cNvPicPr/>
          <p:nvPr/>
        </p:nvPicPr>
        <p:blipFill>
          <a:blip r:embed="rId1"/>
          <a:stretch/>
        </p:blipFill>
        <p:spPr>
          <a:xfrm>
            <a:off x="3854520" y="47628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"/>
          <p:cNvSpPr/>
          <p:nvPr/>
        </p:nvSpPr>
        <p:spPr>
          <a:xfrm>
            <a:off x="258840" y="2924280"/>
            <a:ext cx="712152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n gesprek gaan met zorgvrager en of famili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Probleem bespreken in het MDO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Gesprekken regelen met psychiater of psycholoog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een dagprogramma make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medicatie geven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Filmpje over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Tips over omgaan met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332000" y="155736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Hoe te hande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371600" y="2743200"/>
            <a:ext cx="7122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eb je te maken gehad met een depressie in je omgeving/ stage/ werk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Wat houd een depressie precies in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oe ga je  hier mee om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w Cen MT"/>
              </a:rPr>
              <a:t>Wat weet je al van een depressie?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9" name="Picture 5" descr="http://www.ggznieuws.nl/home/wp-content/uploads/2013/02/depressie-werk1.jpg"/>
          <p:cNvPicPr/>
          <p:nvPr/>
        </p:nvPicPr>
        <p:blipFill>
          <a:blip r:embed="rId1"/>
          <a:stretch/>
        </p:blipFill>
        <p:spPr>
          <a:xfrm>
            <a:off x="6732720" y="3438360"/>
            <a:ext cx="2087280" cy="31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71640" y="2505240"/>
            <a:ext cx="7515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Wanneer er minstens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twee weken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bijna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elke dag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5 van de volgende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symptomen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 aanwezig zijn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Depressieve/sombere stemmin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lies van belangstelling en interesse in bijna alle activiteit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anderde eetlust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Problemen met slap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jaagd of geremd gedra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oeidheid en verlies van energ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voelens van waardeloosheid of onterechte schuldgevoelen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inderd vermogen tot nadenken of concentrat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Terugkerende gedachten aan de doo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Er is sprake van een depressie als deze symptomen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niet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komen uit een lichamelijke aandoening of een rouwreactie  filmpje over depress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378080" y="14842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Depressie bij de zorgvrager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7116840" y="2997360"/>
            <a:ext cx="18698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371600" y="2743200"/>
            <a:ext cx="71229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gelief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lichamelijke mogelijkhe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sociale status(bijv. ouderrol,werk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financiële statu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cognitieve functies(denken, geheugen, nieuwe informatie opnem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relationeel netwerk(vrienden, kenniss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Oorzaken depressi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65120" y="2565360"/>
            <a:ext cx="71233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Naarmate men ouder wordt bestaat er een groter risico op een depressie. Een aantal risicofactoren op een rijtje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Rou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Slaapstoornis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Lichamelijke beperk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erdere depressi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rouwelijk geslacht(veelal weduwe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sociale contac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andering rolpatroon(o.m. het wegvallen van werk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Traumatische oorlogservar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van naas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Afnemende vitalite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rfelijk bepaald(2 tot 3 keer meer risico bij depressie in famili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71600" y="136044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Risicofactoren bij ouder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8" name="Picture 6" descr="http://www.seniorbeter.nl/wp-content/uploads/2010/12/header_dag1.jpg"/>
          <p:cNvPicPr/>
          <p:nvPr/>
        </p:nvPicPr>
        <p:blipFill>
          <a:blip r:embed="rId1"/>
          <a:stretch/>
        </p:blipFill>
        <p:spPr>
          <a:xfrm>
            <a:off x="2484360" y="0"/>
            <a:ext cx="41752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92160" y="2631960"/>
            <a:ext cx="7123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elal somber en lustelo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minderde eetslu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laapproblem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nerg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mot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libi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temmingswisseling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Geen initiatie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zelfbee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preekt veel over de d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filmpje over depress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Signa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1" name="Picture 6" descr="http://www.limburg.be/webfiles/limburg/leven/zorgenwelzijn/ouderen_en_depressie_cover_definitief.jpg?hid=img;w=545;q=100"/>
          <p:cNvPicPr/>
          <p:nvPr/>
        </p:nvPicPr>
        <p:blipFill>
          <a:blip r:embed="rId1"/>
          <a:stretch/>
        </p:blipFill>
        <p:spPr>
          <a:xfrm>
            <a:off x="4067280" y="302724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71600" y="2743200"/>
            <a:ext cx="7122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Veel ouderen hebben te maken met eenzaamheid. In Nederland is bekend dat 1 op de 4 ouderen eenzaamheid ervaren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Één van de oorzaken van een depressie bij ouderen heeft te maken met eenzaamheid. Ouderen kunnen door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verminderde sociale contacten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in een zogeheten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sociaal isolement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terecht komen. Het komt voor dat het contact met de caissière in de supermarkt het enige waardevolle contact is op de da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zaamheid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4" name="Picture 6" descr="http://www.ouderenhart.be/PSYCHISCH_WELBEHAGEN/DEPRESSIE_ZELFDODING/depressie-zelfdoding_bijlagen/klein_depressed-woman2_BW.jpg"/>
          <p:cNvPicPr/>
          <p:nvPr/>
        </p:nvPicPr>
        <p:blipFill>
          <a:blip r:embed="rId1"/>
          <a:stretch/>
        </p:blipFill>
        <p:spPr>
          <a:xfrm>
            <a:off x="7182000" y="28440"/>
            <a:ext cx="18097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357200" y="2786040"/>
            <a:ext cx="712332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Bron: Trimbos Instituu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 aantal cijfer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3580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57200" y="2786040"/>
            <a:ext cx="7123320" cy="9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Een depressie onder ouderen komt veel voor in verpleeg en verzorgingshuiz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hoogbejaarden’ neemt de kans op een depressie to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jongbejaarden’ is de kans op herstel groter mits op tijd herke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In algemene ziekenhuizen zijn ongeveer 6% van de opgenomen ouderen depressief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nkele feiten op een rij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26:31Z</dcterms:created>
  <dc:creator>A.Rijk</dc:creator>
  <dc:description/>
  <dc:language>en-US</dc:language>
  <cp:lastModifiedBy>Henrieke Groenewold</cp:lastModifiedBy>
  <dcterms:modified xsi:type="dcterms:W3CDTF">2016-09-20T12:50:54Z</dcterms:modified>
  <cp:revision>70</cp:revision>
  <dc:subject/>
  <dc:title>WELKOM</dc:title>
</cp:coreProperties>
</file>