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3A54-363B-4672-946D-A233EB5A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168B-7879-401C-A213-DB8892BF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B7D4-4E07-4435-A2EB-F29F8589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E079-9D91-449A-914C-045293E3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10EA-4DEA-4C64-98BE-03416EC4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BA7E-7962-46AC-942F-0DEA40CA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8AA3-5BFA-4B20-891D-78FE9D8B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60AD-BCF2-4163-84A5-B58B127D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70B8-67F9-476D-BD16-265CC304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BFEB-7EA4-4D55-B3E1-36C7A8F3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BFEF-EE0B-48BE-8703-667DF965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B8CA-C72F-4290-84B4-6D0786D2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4DC7-FCD2-4F1C-8874-F4B8BFBE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B9B8-2A0B-4E27-AF27-6C2015FB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068A-07F9-4B85-A151-8FF6A351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8A77-B0F1-4449-AC96-7560C2D7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3EB2-80E1-4628-A1D9-90F625FA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18B350-29AB-4E45-A805-C5BA3B29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27FBA-A2C0-42DB-8301-F5847BF0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E96D6-6D00-4B12-B21D-4C9CF58A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E3B185-DB63-428F-AF64-001F78A2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40B99-D0E0-4363-8426-C994A396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455F-2DE0-4EB3-99BB-71A4089E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97B03B-4194-418D-9695-83785264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4D739A-A2AE-4EE2-8A6B-5D81F7B9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9521A-C197-4FDB-A08D-5958992F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661EA-8380-4368-B553-FCFABAE8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BF3FC-7130-4EC8-8D0E-AE784731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1C7DE6-68F4-4ADB-BE7C-17CBCF55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119368-2C96-463A-94DC-D7DEF70F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19AC1-E4D4-4A3A-9B18-CBAC734D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8FA48-BD73-48A2-8507-552F2A8D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0CF07-9FBC-44B9-A232-99D468C1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2506-D17B-43BC-8569-157D4AA2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CD5A7-F2D1-4CA3-A7EF-0D443C73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9A182-689D-404F-B5DB-9ACAC45B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5E9E0-5B7E-4A2A-94FD-8A1626C6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1C59D-1FB7-4024-886A-2A1E4F24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81BE8-DE3F-41CE-BB2E-6C350CC9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A21F3-0817-41B5-981C-7414C126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AFCD0-AEAF-416A-819A-A1C11386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6569E-7BA1-4D7E-A534-25D3F5B1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58E71-D3A3-4503-8CDC-AEF12AA3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C0AA2-D454-42F9-BC33-1C01639E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E12D-7F27-4549-B1A7-7756CD79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EC58F-5433-4E4C-B07F-DFD9D143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F3EE8-CEE8-42DE-9DB1-2EFEC276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DB6C9-4B5C-4382-B3CA-66B61329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497F5-4AD1-4EFA-8807-9B9A18D5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8AFDD-C75E-48DE-B13E-18DD5E9D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30B46-E0DA-47A6-9C06-F3DED761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658C5-D29A-4494-87CE-A794DA39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5F116-C87A-4403-8183-8DAF8305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176DF-DC24-4BF9-8F41-2CD52416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9DF43-49B0-450D-B45C-595A4D1E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142F-E439-4008-B55D-75A6ECE3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668BA-CE9F-4ADC-BA47-385CB657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97D2E-4991-4484-8DF1-E3D93725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BD9A4-3F13-41BC-804E-09BAA456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30767-FB27-49DB-AE8B-63BF1C92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4D165-DC04-4C37-BE64-9039E15D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9AA0D-0ACB-49DD-980D-3BEDC7AB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04BE2-2D79-4113-820F-9CF9AD39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7F032-BC5F-41F3-B77C-C8833A79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79BCB-562A-44DB-B61D-2C654222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4DDB6-E5BD-4FFB-BC6B-8DFEB34E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AF5-6E4D-47B3-8D20-B06E9685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5605D-CC21-4555-A624-42F7AEF3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509E1-FAF6-47BD-BF83-0DB4C62ED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0FF86-FFDC-48A5-A976-EC3775612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EE1E-ED11-4715-8BF1-34933DFC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6ABF-40D7-4BC2-98C7-C30C3BFA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F79C-7D30-4701-B1F2-B344BA4F8E12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5A19-9810-49AF-9AE8-A2978C520E61}" type="slidenum">
              <a:rPr b="0" lang="nl-NL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ECD2-9891-40F4-AD69-881006760A32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0C82-8202-4DF5-8A95-3B521B25203F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C3FE-287B-4F02-AFB5-C4A9D3872434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419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420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421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425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429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8CD9-848D-4DAF-AEFD-F79FE5AC2839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static.competence.biz/Content/Zuidwester/Reader%20Uitzuigen%20Mond-%20en%20Keelholte%20(hoog)%202010-11.pdf" TargetMode="External"/><Relationship Id="rId2" Type="http://schemas.openxmlformats.org/officeDocument/2006/relationships/hyperlink" Target="http://static.competence.biz/Content/Zuidwester/Reader%20Uitzuigen%20Mond-%20en%20Keelholte%20(hoog)%202010-11.pdf" TargetMode="External"/><Relationship Id="rId3" Type="http://schemas.openxmlformats.org/officeDocument/2006/relationships/hyperlink" Target="http://instructivity.nl/" TargetMode="External"/><Relationship Id="rId4" Type="http://schemas.openxmlformats.org/officeDocument/2006/relationships/hyperlink" Target="http://instructivity.nl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org voor ademhaling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24242"/>
                </a:solidFill>
                <a:latin typeface="Century Gothic"/>
              </a:rPr>
              <a:t>Verpleegtechnische handelingen hfst 21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Toedieningssystem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Neuskathete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28" name="Picture 6" descr="221568_09i"/>
          <p:cNvPicPr/>
          <p:nvPr/>
        </p:nvPicPr>
        <p:blipFill>
          <a:blip r:embed="rId1"/>
          <a:stretch/>
        </p:blipFill>
        <p:spPr>
          <a:xfrm>
            <a:off x="5508720" y="2492280"/>
            <a:ext cx="2519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Toedieningssysteem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Zuurstofbril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32" name="Picture 6" descr="ANd9GcSmThk-T6M2XEE8ojjJjl5NL-ZE3LXFQ-N_i2gEt8YTTcX7SjgU"/>
          <p:cNvPicPr/>
          <p:nvPr/>
        </p:nvPicPr>
        <p:blipFill>
          <a:blip r:embed="rId1"/>
          <a:stretch/>
        </p:blipFill>
        <p:spPr>
          <a:xfrm>
            <a:off x="5148360" y="2349360"/>
            <a:ext cx="302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Toedieningssystem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Zuurstofmaske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36" name="Picture 6" descr="221568_09l"/>
          <p:cNvPicPr/>
          <p:nvPr/>
        </p:nvPicPr>
        <p:blipFill>
          <a:blip r:embed="rId1"/>
          <a:stretch/>
        </p:blipFill>
        <p:spPr>
          <a:xfrm>
            <a:off x="4788000" y="256536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Transtracheale kathete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39" name="Picture 6" descr="ANd9GcRluskiBxDPpOR-ZaJXqisOVHH8I7AVIZCSBxFBw9va89L_N0pz"/>
          <p:cNvPicPr/>
          <p:nvPr/>
        </p:nvPicPr>
        <p:blipFill>
          <a:blip r:embed="rId1"/>
          <a:stretch/>
        </p:blipFill>
        <p:spPr>
          <a:xfrm>
            <a:off x="5435640" y="2349360"/>
            <a:ext cx="2232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Emoties van de zorgvrager bij zuurstof toediening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ngst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nzekerheid en verdrie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pluchting en rus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oorlichting gev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wijze waarop de zuurstof wordt toegediend (apparatuur en hulpmiddel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Wat de zorgvrager wel en niet kan doen als hij zuurstof krijgt en wat de veiligheidsmaatregelen zij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reden van toedienen van zuursto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oorlichting gev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oe de zorgvrager het inbrengen van de zuurstofkatheter en het gebruik van zuurstof kan ervaren (kokhalzen, heel kort benauwd gevoel, geen pijn, kriebel in de neu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oorlichting gev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Wanneer de zorgvrager moet waarschuwen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blijvende benauwdh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een lege zuurstof cilind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een lege luchtbevochtiger (bij toediening boven 2l p/m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andere problemen of klacht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Hygiën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Verschoon de luchtbevochter dagelijk om infecties te voorkom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ontroleer de luchtbevochter op steriliteitdatum en vacuü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zuurstofkatheter of zuurstofmasker verwissel je dagelijk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15560" y="475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eilighei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755280" y="161892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Verboden te roken!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Zorg voor goede ventila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oncentratier niet in de buurt van een warmtebron (kachel, zo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Zet cilinders goed vast zodat ze niet omvall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as op met statische electriciteit (nylon kleding, haren kamm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Gebruik bij insmeren gezicht geen vette créme, zalf of ol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Opname zuurstof (O2)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luchtwegen transporteren de ingeademde lucht naar de long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n de longblaasjes wordt zuurstof opgenomen en koolzuurgas uitgescheid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zuurstof wordt via het bloed naar de cellen getransporteer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Symptomen bij teveel zuurstof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oofdpij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rikkelbaarh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Slaperigh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ewustzijnstoornissen (bij roze huidskleur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Symptomen bij te weinig zuurstof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Kortademigheid in rust en lichte inspann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Sufheid, vergeetachtigheid, verwardh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aar gevoel in het hoof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Snelle po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lauwe verkleuring van huid en nage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4c600"/>
                </a:solidFill>
                <a:latin typeface="Century Gothic"/>
              </a:rPr>
              <a:t>Berekenen v.d resterende tijd v.d beschikbare zuurstof in de cilinder.</a:t>
            </a:r>
            <a:br>
              <a:rPr sz="3200"/>
            </a:b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Druk x inhoud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_______________________ : 60 = … uren 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Liters zuurstof per minuut 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Vb. De druk van zuurstof in een cilinder van 40 liter bedraagt 120 bar. Toe te dienen zuurstof is 4 L/min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 </a:t>
            </a:r>
            <a:r>
              <a:rPr b="0" lang="nl-NL" sz="2600" spc="-1" strike="noStrike" u="sng">
                <a:solidFill>
                  <a:srgbClr val="3e3d2d"/>
                </a:solidFill>
                <a:uFillTx/>
                <a:latin typeface="Century Gothic"/>
              </a:rPr>
              <a:t>  </a:t>
            </a:r>
            <a:r>
              <a:rPr b="0" lang="nl-NL" sz="2600" spc="-1" strike="noStrike" u="sng">
                <a:solidFill>
                  <a:srgbClr val="3e3d2d"/>
                </a:solidFill>
                <a:uFillTx/>
                <a:latin typeface="Century Gothic"/>
              </a:rPr>
              <a:t>120bar x 40     </a:t>
            </a: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: 60 = 20 uur 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3e3d2d"/>
                </a:solidFill>
                <a:latin typeface="Century Gothic"/>
              </a:rPr>
              <a:t>  </a:t>
            </a:r>
            <a:r>
              <a:rPr b="0" lang="nb-NO" sz="2600" spc="-1" strike="noStrike">
                <a:solidFill>
                  <a:srgbClr val="3e3d2d"/>
                </a:solidFill>
                <a:latin typeface="Century Gothic"/>
              </a:rPr>
              <a:t>4 L/min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Trachea canule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42424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Filmpje canule verzorging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4c600"/>
                </a:solidFill>
                <a:latin typeface="Century Gothic"/>
              </a:rPr>
              <a:t>MOND- EN KEELHOLTE UITZUIGEN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42424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DOEL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et vrijmaken van de bovenste luchtwegen van sputum, speeksel, maaginhoud of bloed, zodat de ademweg weer doorgankelijk word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ANATOMI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6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338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INDICATIE UITZUIG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1936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Wanneer een cliënt zelf niet goed kan ophoesten of slikken (bewusteloze of een uitgeputte zorgvrager, zorgvrager met hoge dwarslaesie, zorgvrager met ernstige longproblematiek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43360" indent="-1936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Bij afwijkingen van het hart en van de hersenen, dat ophoesten of een houdingsdrainage  risico met zich mee brengt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43360" indent="-1936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Wanneer de algemene conditie van de cliënt zo slecht is dat alle andere oplossingen voor het vrijmaken van de luchtwegen als extra belasting worden gezien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NADEEL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oor het uitzuigen worden luchtwegen geprikkeld tot een verhoogde productie van sputum. Zo krijg je een averechts effect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Uitzuigen gebeurt daarom alleen als preventieve maatregel om de luchtwegen doorgankelijk te houden niet helpe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06" name="Picture 5" descr="ANd9GcSAEoiDreLjWjuAZamtmIO3rxjcU5kdUjTphaaimlBtzLBF3ZIL"/>
          <p:cNvPicPr/>
          <p:nvPr/>
        </p:nvPicPr>
        <p:blipFill>
          <a:blip r:embed="rId1"/>
          <a:stretch/>
        </p:blipFill>
        <p:spPr>
          <a:xfrm>
            <a:off x="2556000" y="981000"/>
            <a:ext cx="388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PREVENTIEVE MAATRGEL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oudingsdrainag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demhalings- en hoesttechniek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Medica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COMPLICATI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ardiale problemen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eschadiging van het weefs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nfec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verprikkeling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WEES ALERT BIJ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Verminderd bewustzij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Neuro musculaire aandoeningen (verstoord doorgeven van signalen van en naar de hersenen en/of een ziekte van de spier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Longemfysee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ardiale klacht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MATERIALEN EN APPARATUU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fzuigkatheter (45-60 cm lang, variërend 12 tot 16 CH bij volwassen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Vacuümbrek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fzuigapparatuu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AANDACHTSPUNTEN BIJ UITZUIG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Katheter nooit met kracht tegen slijmvlies duw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Met open katheter in de mond en weer naar buit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Uitzuigen gebeurd tot keelholte (top katheter altijd zichtbaar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eleving van zorgvrager (angst, onplezierig, opluchting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MONDHOLT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83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403236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ASEPTISCH WERK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e3d2d"/>
                </a:solidFill>
                <a:latin typeface="Century Gothic"/>
              </a:rPr>
              <a:t>Sputum is rijk aan bacteriën, draag handschoenen en evt. mondmasker en schor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e3d2d"/>
                </a:solidFill>
                <a:latin typeface="Century Gothic"/>
              </a:rPr>
              <a:t>Om infecties te voorkomen zuigkatheter eenmalig gebruiken , opvangfles eenmaal per 24 uur reinige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e3d2d"/>
                </a:solidFill>
                <a:latin typeface="Century Gothic"/>
              </a:rPr>
              <a:t>Bekertje water wat je gebruikt bij uitzuigen voor het doorspoelen van katheter na gebruik legen en omspoelen. (stilstaand water bron van bacteriën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EXTRA INFORMATI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e68200"/>
                </a:solidFill>
                <a:uFillTx/>
                <a:latin typeface="Century Gothic"/>
                <a:hlinkClick r:id="rId1"/>
              </a:rPr>
              <a:t>http://static.competence.biz/Content/Zuidwester/Reader%20Uitzuigen%20Mond-%20en%20Keelholte%20(hoog)%</a:t>
            </a:r>
            <a:r>
              <a:rPr b="0" lang="nl-NL" sz="2400" spc="-1" strike="noStrike" u="sng">
                <a:solidFill>
                  <a:srgbClr val="e68200"/>
                </a:solidFill>
                <a:uFillTx/>
                <a:latin typeface="Century Gothic"/>
                <a:hlinkClick r:id="rId2"/>
              </a:rPr>
              <a:t>202010-11.pd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(theorie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e68200"/>
                </a:solidFill>
                <a:uFillTx/>
                <a:latin typeface="Century Gothic"/>
                <a:hlinkClick r:id="rId3"/>
              </a:rPr>
              <a:t>http://</a:t>
            </a:r>
            <a:r>
              <a:rPr b="0" lang="nl-NL" sz="2400" spc="-1" strike="noStrike" u="sng">
                <a:solidFill>
                  <a:srgbClr val="e68200"/>
                </a:solidFill>
                <a:uFillTx/>
                <a:latin typeface="Century Gothic"/>
                <a:hlinkClick r:id="rId4"/>
              </a:rPr>
              <a:t>instructivity.nl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(praktijkfilmpje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Wanneer extra zuurstof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rts schrijft extra zuurstof voor wanneer een zorgvrager te weinig zuurstof in het arteriële bloed heeft (hypoxemie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hypoxemie bevatten de hemoglobinemoleculen onvoldoende zuursto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Oorzaken opname te weinig zuurstof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nvoldoende longventilatie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zorgvrager kan te weinig lucht in- en uitadem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OPD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neurologische aandoeningen, slaapapneu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gebruik van slaap- en kalmeringsmiddelen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morfine in hoge dosering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uurstoftoediening werkt niet bij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loedarmoed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nvoldoende pompwerking van het hart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erschillende zuurstofbronn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Zuurstofcilinder (met samengeperste zuurstof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16" name="Picture 6" descr="ANd9GcQK9ZeSRfXed_HkIzOOAsOwpPu17KE15tPVKOBS_quebVoX320O"/>
          <p:cNvPicPr/>
          <p:nvPr/>
        </p:nvPicPr>
        <p:blipFill>
          <a:blip r:embed="rId1"/>
          <a:stretch/>
        </p:blipFill>
        <p:spPr>
          <a:xfrm>
            <a:off x="5148360" y="1844640"/>
            <a:ext cx="3240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erschillende zuurstofbronn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Concentrator (haalt zuurstof uit de gewone lucht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20" name="Picture 6" descr="ANd9GcR_3vIOEbQwREG9XO7BbD4AOFVb4qnogOkDEAzcpkDQ_87Z1qgliw"/>
          <p:cNvPicPr/>
          <p:nvPr/>
        </p:nvPicPr>
        <p:blipFill>
          <a:blip r:embed="rId1"/>
          <a:stretch/>
        </p:blipFill>
        <p:spPr>
          <a:xfrm>
            <a:off x="5148360" y="1844640"/>
            <a:ext cx="2808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erschillende zuurstofbronn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Vloeibare zuurstof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24" name="Picture 6" descr="ANd9GcTxi5DXY6_FPz_cUyQyFYU1yMV7NSgY2TthAzRQtXSInvKmVTYI"/>
          <p:cNvPicPr/>
          <p:nvPr/>
        </p:nvPicPr>
        <p:blipFill>
          <a:blip r:embed="rId1"/>
          <a:stretch/>
        </p:blipFill>
        <p:spPr>
          <a:xfrm>
            <a:off x="5292720" y="1916280"/>
            <a:ext cx="2735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8:11:48Z</dcterms:created>
  <dc:creator>c</dc:creator>
  <dc:description/>
  <dc:language>en-US</dc:language>
  <cp:lastModifiedBy>Henrieke Groenewold</cp:lastModifiedBy>
  <dcterms:modified xsi:type="dcterms:W3CDTF">2016-10-24T15:15:21Z</dcterms:modified>
  <cp:revision>16</cp:revision>
  <dc:subject/>
  <dc:title>ZUURSTOF TOEDIENEN</dc:title>
</cp:coreProperties>
</file>