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dt" idx="1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CC7F5-01FA-45D6-BC8F-145DB646FB2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DEEA-BEBA-408D-B294-5F26E42D10A7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785192-085E-4A84-861D-5742434F4A27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CFDD6-6851-48D6-A330-B45A2A12C0E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1C131D-E098-45BD-BBF3-EEB5A9EADBC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562AC-790E-4080-BF16-9E2806C69DC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15A3F5-9EA6-4D7C-9589-4C095B657CA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52369-2BDB-4673-9621-9F6875685C9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6024F7-E856-45A3-AE23-B8A11596234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7CFC1-19AB-4FC6-9143-C009ABBB5203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9930EC-E615-4250-BAA2-90DF677F291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2E362-6900-4CA3-BDCB-C8921A550EE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FB40B3-D4DB-47B5-B526-E2DCE1F9FCCB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08BF5-5E93-4D88-AB27-2A71786C8A3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189A7F-C7F4-42D1-9A72-7F0521F61E3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9FB53-434F-4722-9E8D-7805110AD667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48D15A-B70C-421A-B48A-052AC33C849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48F9A-D26F-428A-A3DD-BA728F6B3E3E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A78986-BFEC-43F0-9ADD-ECC9886F779F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BBFB6-1620-4A3A-8D46-1D97B124F7DE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9B87DA-2A21-43AB-AD46-E3436C47081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A9B1-1DD9-42EA-AC42-B31AADD88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A5A4-1FE6-484E-AE2D-201E4391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F68C-4C77-4CA3-8E16-A1AFF7C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71A1-2FFA-4F78-B767-A790A63536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1FC05-7185-45E5-ABDC-9CFA6178C9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74075-B1E9-4C1D-93DD-0E1C2A7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469D-3FD1-4D2B-A118-4BCFB626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B277B-1640-41F9-B1EA-4D45E76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F8428-E9CC-4EF0-BC39-64976242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CB0C1-A6F4-45EF-B693-C18C10C7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BBB1B-85AA-4B0D-A487-AA527B6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842B-BFB0-47A9-9660-2474D50A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3228D-FDF1-4303-9B8F-DE36243A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D826B-7AE9-4555-8F36-F3AB2BB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9BBD3-B97B-4ED9-89B1-14FE552D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6F0F2-8CCB-4E6F-8F3A-7FE94A0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86B69-05F4-472F-9862-BD91C976D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DF1-C1F6-4068-A749-B8625AB27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22F4-B30E-4110-BFE4-CC6B07B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6DC-B615-4A12-B64B-4C54F33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B35F-4AA8-41BB-9734-B587E3C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0F39-5AD1-40EC-B2B9-295D6511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B5E9-B868-48B4-9427-C24CFE4E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DD6-97A7-43C2-AD72-7EAB21DF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68EA-B626-42B5-9191-D9DBFB9D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D478-74CD-407C-8122-DB127DA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5BBF-02C8-42CF-829E-CF220E2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81B0-5EE4-470D-BDB6-703DF93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618F-31B6-47F5-A0EA-AB396BE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FF6-038F-4C33-8C17-DAE04358D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CE99D-CBC1-4C9A-90CE-4DD19EB26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2B5D6-D319-448B-B3B9-D316A45B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5C6FD-B0E8-43AA-A001-1AE9AF9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7A50-EF88-4608-AA5B-0A92061F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B0EAA-A759-42FF-B819-39AB28BF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51BFD-DEA2-4A32-9668-780AF04A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8973E-68A9-41E8-BB67-F95A7173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86D6A-5E30-4C3B-A773-8262106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6FBA3-63D7-443F-89E9-EC37AF8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EE4D4-8822-47CA-8EC7-8368538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2494B-545D-4E5D-A3A4-8286C610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0340E-1723-4DB3-8A37-DAA7BF9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740A2-303C-48E1-A36B-1DD3293DC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D334A-22D7-4619-A42A-E6D2E64BF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2A62-B260-4CD0-A67C-282D8EC9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899E5-10F0-498A-B2C7-AA0ABB1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5266E-579F-4800-B6B3-F897516D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BD9DC-AD32-4FCE-BE5C-7F36331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BBB6A-3E49-4AAD-8BE4-3F84B39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B7682-4B86-4B0D-BBFA-84ADF9FF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FB481D-BEEB-4667-996B-FD4CAE17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4EBF7-CEC6-4AAF-89F3-6FB30AF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BFE0F-ED95-4A46-A9C7-BE2AAF4A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EDE52-B728-4971-A198-F0E3164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70A6F-93A3-4663-8052-5AD9CD3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1F70-E66E-4D0D-8CB6-81FD4FC5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7B9DC-7AD6-45F5-96BD-28B8AD067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D6D1-88A7-4D80-A902-E6D0C9D82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DB5D-2812-411D-8FD4-CA833AEE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14B5-D046-4127-BB58-520BFE45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03063-B995-401F-A68E-BF7293F5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C930-404A-4C6C-B90F-5DFA3E71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79557-97BA-44A0-B6FF-AC141EBA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440A-3873-4D37-B522-B3EE880C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5A73-30F8-4215-9A64-B78F0657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5517-5538-41CD-9834-816992F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F7BE-DED7-4A43-8293-99500A7F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46E8-7024-427B-A15E-70124135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4C64-D3B4-490A-B92D-641D83BF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D472-7204-4CC2-B4EE-D12494EB9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43429-520E-41F0-AB99-9801E03A8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1C19E-2160-4C7D-BF73-8E95C4C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9BEA8-EF0B-4B04-AD23-B3429D94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B874F-9D4B-4FA7-B9EE-167971D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BF02B-ED09-452B-822E-882DD3B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D6AB8-DF2D-41C9-BA16-2756BDD9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21D62-3946-49E4-8496-4BA22AC5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341E-7CCB-45FA-8EAF-7C1A5EF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D226B-2D6A-460F-8A04-C210831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6658E-E503-44E5-A24B-6AF42A1E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FA676-722F-44DB-BC3B-30307D6C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3747A-B010-496E-9C59-9C1F960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22E3A-7AC6-42BF-82A0-80636E2C4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5DB8-198C-4C58-BD8C-5E1E39F0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04BA93B-F67D-49C4-9550-88417DF65227}" type="slidenum">
              <a: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EE74AA-9770-4E8D-B465-21E590FC4419}" type="slidenum">
              <a: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C81B3F-6ED7-4474-88C2-620B975C7ECE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05AC3F-4A6F-4B9E-8431-2A986977EA9B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675019-80B1-4C22-A36E-111535DDDF6C}" type="slidenum">
              <a: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7BA054-AA94-4666-B27A-04CF60D8272E}" type="slidenum">
              <a: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A7EFD9-B99A-437B-936E-8B750AD2CDF8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2050920" y="3716280"/>
            <a:ext cx="5429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8800" spc="-1" strike="noStrike">
                <a:solidFill>
                  <a:srgbClr val="ebddc3"/>
                </a:solidFill>
                <a:latin typeface="Tw Cen MT"/>
              </a:rPr>
              <a:t>WELKOM</a:t>
            </a:r>
            <a:endParaRPr b="0" lang="en-US" sz="8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GZ, H11 (behalve de par. over zorg en beg. en communicatie) 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85-117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VVT2, H2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22-29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HZ, H16.4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Tw Cen MT"/>
              </a:rPr>
              <a:t>Presentatie ‘Depressie onder ouderen ’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http://albertsonnevelt.nl/wp-content/uploads/2013/07/helpen-medicijnen-tegen-depressie.png"/>
          <p:cNvPicPr/>
          <p:nvPr/>
        </p:nvPicPr>
        <p:blipFill>
          <a:blip r:embed="rId1"/>
          <a:stretch/>
        </p:blipFill>
        <p:spPr>
          <a:xfrm>
            <a:off x="3854520" y="47628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"/>
          <p:cNvSpPr/>
          <p:nvPr/>
        </p:nvSpPr>
        <p:spPr>
          <a:xfrm>
            <a:off x="258840" y="2924280"/>
            <a:ext cx="712152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n gesprek gaan met zorgvrager en of famili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Probleem bespreken in het MDO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Gesprekken regelen met psychiater of psycholoog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een dagprogramma make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medicatie geven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Filmpje over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Tips over omgaan met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332000" y="155736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Hoe te hande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371600" y="2743200"/>
            <a:ext cx="7122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eb je te maken gehad met een depressie in je omgeving/ stage/ werk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Wat houd een depressie precies in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oe ga je  hier mee om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w Cen MT"/>
              </a:rPr>
              <a:t>Wat weet je al van een depressie?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9" name="Picture 5" descr="http://www.ggznieuws.nl/home/wp-content/uploads/2013/02/depressie-werk1.jpg"/>
          <p:cNvPicPr/>
          <p:nvPr/>
        </p:nvPicPr>
        <p:blipFill>
          <a:blip r:embed="rId1"/>
          <a:stretch/>
        </p:blipFill>
        <p:spPr>
          <a:xfrm>
            <a:off x="6732720" y="3438360"/>
            <a:ext cx="2087280" cy="31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71640" y="2505240"/>
            <a:ext cx="7515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Wanneer er minstens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twee weken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bijna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elke dag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5 van de volgende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symptomen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 aanwezig zijn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Depressieve/sombere stemmin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lies van belangstelling en interesse in bijna alle activiteit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anderde eetlust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Problemen met slap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jaagd of geremd gedra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oeidheid en verlies van energ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voelens van waardeloosheid of onterechte schuldgevoelen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inderd vermogen tot nadenken of concentrat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Terugkerende gedachten aan de doo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Er is sprake van een depressie als deze symptomen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niet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komen uit een lichamelijke aandoening of een rouwreactie  filmpje over depress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378080" y="14842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Depressie bij de zorgvrager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7116840" y="2997360"/>
            <a:ext cx="18698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371600" y="2743200"/>
            <a:ext cx="71229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gelief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lichamelijke mogelijkhe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sociale status(bijv. ouderrol,werk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financiële statu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cognitieve functies(denken, geheugen, nieuwe informatie opnem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relationeel netwerk(vrienden, kenniss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Oorzaken depressi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65120" y="2565360"/>
            <a:ext cx="71233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Naarmate men ouder wordt bestaat er een groter risico op een depressie. Een aantal risicofactoren op een rijtje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Rou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Slaapstoornis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Lichamelijke beperk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erdere depressi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rouwelijk geslacht(veelal weduwe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sociale contac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andering rolpatroon(o.m. het wegvallen van werk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Traumatische oorlogservar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van naas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Afnemende vitalite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rfelijk bepaald(2 tot 3 keer meer risico bij depressie in famili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71600" y="136044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Risicofactoren bij ouder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8" name="Picture 6" descr="http://www.seniorbeter.nl/wp-content/uploads/2010/12/header_dag1.jpg"/>
          <p:cNvPicPr/>
          <p:nvPr/>
        </p:nvPicPr>
        <p:blipFill>
          <a:blip r:embed="rId1"/>
          <a:stretch/>
        </p:blipFill>
        <p:spPr>
          <a:xfrm>
            <a:off x="2484360" y="0"/>
            <a:ext cx="41752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92160" y="2631960"/>
            <a:ext cx="7123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elal somber en lustelo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minderde eetslu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laapproblem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nerg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mot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libi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temmingswisseling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Geen initiatie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zelfbee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preekt veel over de d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filmpje over depress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Signa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1" name="Picture 6" descr="http://www.limburg.be/webfiles/limburg/leven/zorgenwelzijn/ouderen_en_depressie_cover_definitief.jpg?hid=img;w=545;q=100"/>
          <p:cNvPicPr/>
          <p:nvPr/>
        </p:nvPicPr>
        <p:blipFill>
          <a:blip r:embed="rId1"/>
          <a:stretch/>
        </p:blipFill>
        <p:spPr>
          <a:xfrm>
            <a:off x="4067280" y="302724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71600" y="2743200"/>
            <a:ext cx="7122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Veel ouderen hebben te maken met eenzaamheid. In Nederland is bekend dat 1 op de 4 ouderen eenzaamheid ervaren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Één van de oorzaken van een depressie bij ouderen heeft te maken met eenzaamheid. Ouderen kunnen door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verminderde sociale contacten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in een zogeheten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sociaal isolement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terecht komen. Het komt voor dat het contact met de caissière in de supermarkt het enige waardevolle contact is op de da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zaamheid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4" name="Picture 6" descr="http://www.ouderenhart.be/PSYCHISCH_WELBEHAGEN/DEPRESSIE_ZELFDODING/depressie-zelfdoding_bijlagen/klein_depressed-woman2_BW.jpg"/>
          <p:cNvPicPr/>
          <p:nvPr/>
        </p:nvPicPr>
        <p:blipFill>
          <a:blip r:embed="rId1"/>
          <a:stretch/>
        </p:blipFill>
        <p:spPr>
          <a:xfrm>
            <a:off x="7182000" y="28440"/>
            <a:ext cx="18097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357200" y="2786040"/>
            <a:ext cx="712332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Bron: Trimbos Instituu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 aantal cijfer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3580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57200" y="2786040"/>
            <a:ext cx="7123320" cy="9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Een depressie onder ouderen komt veel voor in verpleeg en verzorgingshuiz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hoogbejaarden’ neemt de kans op een depressie to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jongbejaarden’ is de kans op herstel groter mits op tijd herke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In algemene ziekenhuizen zijn ongeveer 6% van de opgenomen ouderen depressief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nkele feiten op een rij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26:31Z</dcterms:created>
  <dc:creator>A.Rijk</dc:creator>
  <dc:description/>
  <dc:language>en-US</dc:language>
  <cp:lastModifiedBy>Henrieke Groenewold</cp:lastModifiedBy>
  <dcterms:modified xsi:type="dcterms:W3CDTF">2016-09-20T12:50:54Z</dcterms:modified>
  <cp:revision>70</cp:revision>
  <dc:subject/>
  <dc:title>WELKOM</dc:title>
</cp:coreProperties>
</file>