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7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dt" idx="15"/>
          </p:nvPr>
        </p:nvSpPr>
        <p:spPr>
          <a:xfrm>
            <a:off x="4020840" y="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16"/>
          </p:nvPr>
        </p:nvSpPr>
        <p:spPr>
          <a:xfrm>
            <a:off x="402084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3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95E58-BCD2-47CA-BAEB-9A1C575878DD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ED54A-6B5D-416D-B60A-A467D2831E19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89CC50-36A7-4500-B2A1-5686602FF6D6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DD59D-38A9-4044-B0A2-8239C34C26A1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C9561B3-DCD8-468F-9BB4-A237A075D59D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5A30A-5A10-4152-8073-C9690C82DEBA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11BB91-5A0B-44DE-8271-B40B5C0F5A9C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B1075-4150-40BA-ABEB-B37DE0C866ED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C34C89-E20A-41A5-BB74-C770AB0D1C12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49BDD-00A5-445B-8451-7E5812215401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A07EE8-C8B0-49E0-BB47-495CAD602DD2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5933F8-3958-483B-98B8-1876A201BF1A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ECF0D2-978E-4964-835A-F0891C7082D4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EBDB1-9179-47F4-B009-613D8719D9AB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7E5102-9789-4B09-9FA8-258100A2FD52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C2B3EC-6BC3-458E-866D-110C328C7BFC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E97428-EEC9-403F-81EB-50617115C88D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5A0A1-39FD-4DD2-8368-0796A41E48A0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99C09D-B672-4525-A084-CE6F1490B902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5588DA-A235-47F4-B1E3-22006F6E47F2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79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23FE2F-0094-4261-AE07-2C377DD360EF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E4EFD-34AB-4676-940D-8312650D58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273EB-14C0-49C4-8EA8-B72B10D6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4D68E-0396-4929-81FB-1A6E11FE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BF844-551A-4E9D-BCF7-BACECFD0F3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48A02-1B4D-460D-AD78-D69C2A3F09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0A714-9C07-4E84-8335-624BA7E6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EAE68-821A-4E5A-BAE2-675A708C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7BECA-F1E6-4C14-A8E6-E87843A2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4E815-ABC2-44E9-9ABD-842E56066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6480"/>
            <a:ext cx="8151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EF8D7-3466-4960-87DE-8D4A9324C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85857-E731-49FF-91B1-DA0DD798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3ADDB-ABBB-492B-AB26-41F7D6B4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05278-3462-4FD4-8462-A7DEEBB0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DDCD6-C19F-4282-9019-60FDF507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03F5D-A2DE-4843-8E01-10E810D9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BBB11-7F18-42BB-A2BF-8EEEB953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90F14C-66C4-45E0-83A3-AE5C0B2829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8CE3-7A42-414C-8F8F-77A257A8E5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F03C-EB14-490F-B1D9-862814C9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86A6-2BB1-4793-9168-06DDB798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A167-1960-41A0-AFC2-4C5BF8AB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70EB-B2E1-45F9-BF44-D9032F9D2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9D117-D5EC-4C30-B1AA-C1774EED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6480"/>
            <a:ext cx="8151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7B57-B360-4FED-BDA2-306D1DC2D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3FF3-BA2E-4076-8151-6F58CEB3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F097-EA16-4991-813D-F138EC5F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D053-7529-4C02-A69B-9152B5AC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83A3-BCFA-479A-9D61-0680CE39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75B1-D398-47FE-A71C-842A9ACF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7C26-646C-4A5D-95AA-A022E498AE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BCBC61-F16F-4EA7-8074-99BE4613E0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4D9614-9838-45B0-9ECB-C09CE8DE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944AB9-D9F0-4959-9ECE-01BCC6EC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0BB14-BA0B-48D8-BC65-A7DD32B7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85A023-3538-45BA-A53B-DFB571CE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082ED8-7603-4AB0-9556-3AEF3ABED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6480"/>
            <a:ext cx="8151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D1B986-229B-436D-9575-89DB3F82A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08421C-07F2-4242-8853-D784F1CC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32A5CA-7741-4D6C-989D-C1024E0A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32A34A-A9B6-48EB-BB74-80124E9F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3A0394-6E71-41E7-89D2-2E8919E5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8CD004-07D5-45AE-A908-A215C4D5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B6EC11-F4AF-4EFA-B4BB-60E62148B0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703C89-A4D9-45A4-854F-0A4BFE8FE9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CA7DA-2793-4034-BAFD-477FE09D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473AE1-7487-453E-B130-2D7B971D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46F04D-EFC5-4811-BBC5-343EBCE4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556E79-A9C9-48A5-BC1A-E40AF9FD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B7CE54-BB01-4BE2-AAA8-3E60501A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09480" y="6480"/>
            <a:ext cx="8151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460676-B518-47D4-B6E5-C393FCF8B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DB4DD6-F327-4186-A9A9-190E8046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AE9F06-6A4B-4B6C-BF1D-FC3CCE9E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B4215C-FB8A-4572-908D-BCCB4008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D3E5DE-6D23-45C6-BC93-AFE1DEF0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122EFB-F0D9-4CA0-9292-FD060A6A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6480"/>
            <a:ext cx="8151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C9474-52BD-4368-AA43-07A6C3E9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BBB55F-BB74-4FCC-89C8-B0492CFDF0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802AB-6525-4B47-BD78-2F895DBD82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21854-4490-43C7-80CA-38842218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40E95-B7D3-4E36-947A-F7AAE8C8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6ACD8-3307-4CC9-B44C-2906706A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5F6A7-C06F-45DD-A832-128D4BC9D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09480" y="6480"/>
            <a:ext cx="8151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3A02B-25D3-40DC-A0C2-3B6764A6C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34EA3-CC02-455B-9654-D898B0FB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BBA22-845D-4F79-AE89-FBD12055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85808-1B59-48FF-BA67-0A6D5910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33987-98BB-433A-AAD9-6DA59707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CD710-99FD-4CDB-9D1F-770C0216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6762E-E11F-43BB-8CD5-42D02186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5E7B8-28E7-4CA8-A300-A869452ECB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BE28A8-045A-4D36-A334-83B4D9C901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9E9D04-D679-4B8C-8AA2-D5D937E8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B666FF-6587-43E2-B89B-9C4E0EF8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CBCBF5-FED4-4739-AF32-3291EBF4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FA94DB-B26F-4C91-85EE-75FB84D7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480" y="6480"/>
            <a:ext cx="8151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DED610-49E1-445B-B3D9-492901769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F429E1-514F-40B6-B279-DB2F86FE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04C27-426D-40E7-B35D-F61F855E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8B2DB5-6EBB-4984-B253-A32312A7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815EF9-5673-43C3-9BCC-E6DAB23C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5B4978-5743-4D9A-B7C8-42E81D74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5A9903-F4B3-434B-A84F-C2EB6C3A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68C11F-4972-4390-AC36-EA1522A1C1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9701F-5B3E-4EBA-B307-A31E33AE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6320" y="6068520"/>
            <a:ext cx="2055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8001000" y="228600"/>
            <a:ext cx="8366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nl-NL" sz="1400" spc="-1" strike="noStrike">
                <a:solidFill>
                  <a:srgbClr val="ebddc3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230B273-177E-4B75-883B-06181F255603}" type="slidenum">
              <a:rPr b="1" lang="nl-NL" sz="1400" spc="-1" strike="noStrike">
                <a:solidFill>
                  <a:srgbClr val="ebddc3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0" y="1752120"/>
            <a:ext cx="12938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nl-NL" sz="2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E08E580-9BB9-41F7-929B-3CD59A44F8A4}" type="slidenum">
              <a:rPr b="1" lang="nl-NL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6"/>
          </p:nvPr>
        </p:nvSpPr>
        <p:spPr>
          <a:xfrm>
            <a:off x="-360" y="1239480"/>
            <a:ext cx="531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2DC00E7-2857-421C-A167-A4B18D862B38}" type="slidenum">
              <a:rPr b="1" lang="nl-NL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8"/>
          </p:nvPr>
        </p:nvSpPr>
        <p:spPr>
          <a:xfrm>
            <a:off x="-360" y="1239480"/>
            <a:ext cx="531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857707F-EFFF-4C7C-931A-867C05BC5774}" type="slidenum">
              <a:rPr b="1" lang="nl-NL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9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10"/>
          </p:nvPr>
        </p:nvSpPr>
        <p:spPr>
          <a:xfrm>
            <a:off x="-360" y="6248520"/>
            <a:ext cx="5317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nl-NL" sz="1400" spc="-1" strike="noStrike">
                <a:solidFill>
                  <a:srgbClr val="775f55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62B448D-E68A-427E-A9FC-208B9B8AF4E3}" type="slidenum">
              <a:rPr b="1" lang="nl-NL" sz="1400" spc="-1" strike="noStrike">
                <a:solidFill>
                  <a:srgbClr val="775f55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1"/>
          </p:nvPr>
        </p:nvSpPr>
        <p:spPr>
          <a:xfrm>
            <a:off x="624852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2"/>
          </p:nvPr>
        </p:nvSpPr>
        <p:spPr>
          <a:xfrm>
            <a:off x="-360" y="4667400"/>
            <a:ext cx="14461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nl-NL" sz="28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34AA36F-AF5C-47D8-B1EC-F4A08C99FA60}" type="slidenum">
              <a:rPr b="1" lang="nl-NL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3"/>
          </p:nvPr>
        </p:nvSpPr>
        <p:spPr>
          <a:xfrm>
            <a:off x="6553080" y="6248160"/>
            <a:ext cx="22082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45720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4"/>
          </p:nvPr>
        </p:nvSpPr>
        <p:spPr>
          <a:xfrm>
            <a:off x="6410160" y="-360"/>
            <a:ext cx="532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9BD3056-8E3B-4CB6-B028-105485A1B479}" type="slidenum">
              <a:rPr b="1" lang="nl-NL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"/>
          <p:cNvSpPr/>
          <p:nvPr/>
        </p:nvSpPr>
        <p:spPr>
          <a:xfrm>
            <a:off x="2050920" y="3716280"/>
            <a:ext cx="54295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8800" spc="-1" strike="noStrike">
                <a:solidFill>
                  <a:srgbClr val="ebddc3"/>
                </a:solidFill>
                <a:latin typeface="Tw Cen MT"/>
              </a:rPr>
              <a:t>WELKOM</a:t>
            </a:r>
            <a:endParaRPr b="0" lang="en-US" sz="8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w Cen MT"/>
              </a:rPr>
              <a:t>GGZ, H11 (behalve de par. over zorg en beg. en communicatie) </a:t>
            </a:r>
            <a:br>
              <a:rPr sz="1400"/>
            </a:br>
            <a:r>
              <a:rPr b="0" i="1" lang="nl-NL" sz="1400" spc="-1" strike="noStrike">
                <a:solidFill>
                  <a:srgbClr val="ffffff"/>
                </a:solidFill>
                <a:latin typeface="Tw Cen MT"/>
              </a:rPr>
              <a:t>Schooltas blz. 85-117</a:t>
            </a:r>
            <a:endParaRPr b="0" lang="en-US" sz="14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w Cen MT"/>
              </a:rPr>
              <a:t>VVT2, H2</a:t>
            </a:r>
            <a:br>
              <a:rPr sz="1400"/>
            </a:br>
            <a:r>
              <a:rPr b="0" i="1" lang="nl-NL" sz="1400" spc="-1" strike="noStrike">
                <a:solidFill>
                  <a:srgbClr val="ffffff"/>
                </a:solidFill>
                <a:latin typeface="Tw Cen MT"/>
              </a:rPr>
              <a:t>Schooltas blz. 22-29</a:t>
            </a:r>
            <a:endParaRPr b="0" lang="en-US" sz="14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w Cen MT"/>
              </a:rPr>
              <a:t>GHZ, H16.4</a:t>
            </a:r>
            <a:endParaRPr b="0" lang="en-US" sz="1400" spc="-1" strike="noStrike">
              <a:solidFill>
                <a:srgbClr val="ffffff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5" name="Text Box 2"/>
          <p:cNvSpPr/>
          <p:nvPr/>
        </p:nvSpPr>
        <p:spPr>
          <a:xfrm>
            <a:off x="2362320" y="6049800"/>
            <a:ext cx="670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Tw Cen MT"/>
              </a:rPr>
              <a:t>Presentatie ‘Depressie onder ouderen ’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0" y="621504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5" descr="http://albertsonnevelt.nl/wp-content/uploads/2013/07/helpen-medicijnen-tegen-depressie.png"/>
          <p:cNvPicPr/>
          <p:nvPr/>
        </p:nvPicPr>
        <p:blipFill>
          <a:blip r:embed="rId1"/>
          <a:stretch/>
        </p:blipFill>
        <p:spPr>
          <a:xfrm>
            <a:off x="3854520" y="476280"/>
            <a:ext cx="5324400" cy="53244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"/>
          <p:cNvSpPr/>
          <p:nvPr/>
        </p:nvSpPr>
        <p:spPr>
          <a:xfrm>
            <a:off x="258840" y="2924280"/>
            <a:ext cx="7121520" cy="65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1" lang="nl-NL" sz="2000" spc="-1" strike="noStrike">
                <a:solidFill>
                  <a:srgbClr val="775f55"/>
                </a:solidFill>
                <a:latin typeface="Tw Cen MT"/>
              </a:rPr>
              <a:t>I</a:t>
            </a:r>
            <a:r>
              <a:rPr b="1" lang="nl-NL" sz="2800" spc="-1" strike="noStrike">
                <a:solidFill>
                  <a:srgbClr val="775f55"/>
                </a:solidFill>
                <a:latin typeface="Tw Cen MT"/>
              </a:rPr>
              <a:t>n gesprek gaan met zorgvrager en of familie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775f55"/>
                </a:solidFill>
                <a:latin typeface="Tw Cen MT"/>
              </a:rPr>
              <a:t>Probleem bespreken in het MDO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775f55"/>
                </a:solidFill>
                <a:latin typeface="Tw Cen MT"/>
              </a:rPr>
              <a:t>Gesprekken regelen met psychiater of psycholoog. 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775f55"/>
                </a:solidFill>
                <a:latin typeface="Tw Cen MT"/>
              </a:rPr>
              <a:t>Eventueel een dagprogramma maken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775f55"/>
                </a:solidFill>
                <a:latin typeface="Tw Cen MT"/>
              </a:rPr>
              <a:t>Eventueel medicatie geven 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775f55"/>
                </a:solidFill>
                <a:latin typeface="Tw Cen MT"/>
              </a:rPr>
              <a:t>Filmpje over depressie 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775f55"/>
                </a:solidFill>
                <a:latin typeface="Tw Cen MT"/>
              </a:rPr>
              <a:t>Tips over omgaan met depressie 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1332000" y="1557360"/>
            <a:ext cx="7619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w Cen MT"/>
              </a:rPr>
              <a:t>Hoe te handelen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1"/>
          <p:cNvSpPr/>
          <p:nvPr/>
        </p:nvSpPr>
        <p:spPr>
          <a:xfrm>
            <a:off x="1371600" y="2743200"/>
            <a:ext cx="712296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Heb je te maken gehad met een depressie in je omgeving/ stage/ werk ?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Wat houd een depressie precies in?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Hoe ga je  hier mee om?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8" name="Text Box 2"/>
          <p:cNvSpPr/>
          <p:nvPr/>
        </p:nvSpPr>
        <p:spPr>
          <a:xfrm>
            <a:off x="137160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w Cen MT"/>
              </a:rPr>
              <a:t>Wat weet je al van een depressie?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19" name="Picture 5" descr="http://www.ggznieuws.nl/home/wp-content/uploads/2013/02/depressie-werk1.jpg"/>
          <p:cNvPicPr/>
          <p:nvPr/>
        </p:nvPicPr>
        <p:blipFill>
          <a:blip r:embed="rId1"/>
          <a:stretch/>
        </p:blipFill>
        <p:spPr>
          <a:xfrm>
            <a:off x="6732720" y="3438360"/>
            <a:ext cx="2087280" cy="31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1"/>
          <p:cNvSpPr/>
          <p:nvPr/>
        </p:nvSpPr>
        <p:spPr>
          <a:xfrm>
            <a:off x="971640" y="2505240"/>
            <a:ext cx="751500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Wanneer er minstens </a:t>
            </a:r>
            <a:r>
              <a:rPr b="1" lang="nl-NL" sz="1600" spc="-1" strike="noStrike">
                <a:solidFill>
                  <a:srgbClr val="775f55"/>
                </a:solidFill>
                <a:latin typeface="Tw Cen MT"/>
              </a:rPr>
              <a:t>twee weken </a:t>
            </a: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bijna </a:t>
            </a:r>
            <a:r>
              <a:rPr b="1" lang="nl-NL" sz="1600" spc="-1" strike="noStrike">
                <a:solidFill>
                  <a:srgbClr val="775f55"/>
                </a:solidFill>
                <a:latin typeface="Tw Cen MT"/>
              </a:rPr>
              <a:t>elke dag </a:t>
            </a: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5 van de volgende </a:t>
            </a:r>
            <a:r>
              <a:rPr b="1" lang="nl-NL" sz="1600" spc="-1" strike="noStrike">
                <a:solidFill>
                  <a:srgbClr val="775f55"/>
                </a:solidFill>
                <a:latin typeface="Tw Cen MT"/>
              </a:rPr>
              <a:t>symptomen</a:t>
            </a: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 aanwezig zijn: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Depressieve/sombere stemming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Verlies van belangstelling en interesse in bijna alle activiteiten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Veranderde eetlust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Problemen met slapen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Gejaagd of geremd gedrag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Vermoeidheid en verlies van energie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Gevoelens van waardeloosheid of onterechte schuldgevoelens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Verminderd vermogen tot nadenken of concentratie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Terugkerende gedachten aan de dood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Er is sprake van een depressie als deze symptomen </a:t>
            </a:r>
            <a:r>
              <a:rPr b="1" lang="nl-NL" sz="1600" spc="-1" strike="noStrike">
                <a:solidFill>
                  <a:srgbClr val="775f55"/>
                </a:solidFill>
                <a:latin typeface="Tw Cen MT"/>
              </a:rPr>
              <a:t>niet </a:t>
            </a: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komen uit een lichamelijke aandoening of een rouwreactie  filmpje over depressie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1" name="Text Box 2"/>
          <p:cNvSpPr/>
          <p:nvPr/>
        </p:nvSpPr>
        <p:spPr>
          <a:xfrm>
            <a:off x="1378080" y="1484280"/>
            <a:ext cx="7619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w Cen MT"/>
              </a:rPr>
              <a:t>Depressie bij de zorgvrager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22" name="Picture 3" descr=""/>
          <p:cNvPicPr/>
          <p:nvPr/>
        </p:nvPicPr>
        <p:blipFill>
          <a:blip r:embed="rId1"/>
          <a:stretch/>
        </p:blipFill>
        <p:spPr>
          <a:xfrm>
            <a:off x="7116840" y="2997360"/>
            <a:ext cx="1869840" cy="27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1"/>
          <p:cNvSpPr/>
          <p:nvPr/>
        </p:nvSpPr>
        <p:spPr>
          <a:xfrm>
            <a:off x="1371600" y="2743200"/>
            <a:ext cx="7122960" cy="44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Verlies van geliefden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Verlies van lichamelijke mogelijkheden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Verlies van sociale status(bijv. ouderrol,werk)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Verlies van financiële status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Verlies van cognitieve functies(denken, geheugen, nieuwe informatie opnemen)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Verlies van relationeel netwerk(vrienden, kennissen)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137160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w Cen MT"/>
              </a:rPr>
              <a:t>Oorzaken depressie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25" name="Picture 3" descr=""/>
          <p:cNvPicPr/>
          <p:nvPr/>
        </p:nvPicPr>
        <p:blipFill>
          <a:blip r:embed="rId1"/>
          <a:stretch/>
        </p:blipFill>
        <p:spPr>
          <a:xfrm>
            <a:off x="7107120" y="0"/>
            <a:ext cx="2036880" cy="271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1"/>
          <p:cNvSpPr/>
          <p:nvPr/>
        </p:nvSpPr>
        <p:spPr>
          <a:xfrm>
            <a:off x="1365120" y="2565360"/>
            <a:ext cx="712332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Naarmate men ouder wordt bestaat er een groter risico op een depressie. Een aantal risicofactoren op een rijtje: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Rouw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Slaapstoornisse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Lichamelijke beperkinge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Eerdere depressie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Vrouwelijk geslacht(veelal weduwen)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Verlies sociale contacte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Verandering rolpatroon(o.m. het wegvallen van werk)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Traumatische oorlogservaringe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Verlies van naaste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Afnemende vitalitei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Erfelijk bepaald(2 tot 3 keer meer risico bij depressie in familie)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1371600" y="136044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w Cen MT"/>
              </a:rPr>
              <a:t>Risicofactoren bij ouderen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28" name="Picture 6" descr="http://www.seniorbeter.nl/wp-content/uploads/2010/12/header_dag1.jpg"/>
          <p:cNvPicPr/>
          <p:nvPr/>
        </p:nvPicPr>
        <p:blipFill>
          <a:blip r:embed="rId1"/>
          <a:stretch/>
        </p:blipFill>
        <p:spPr>
          <a:xfrm>
            <a:off x="2484360" y="0"/>
            <a:ext cx="4175280" cy="15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1"/>
          <p:cNvSpPr/>
          <p:nvPr/>
        </p:nvSpPr>
        <p:spPr>
          <a:xfrm>
            <a:off x="992160" y="2631960"/>
            <a:ext cx="712332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Veelal somber en lusteloo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Verminderde eetslus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Slaapproblemen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Weinig energie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Weinig emotie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Verlaagd libido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Stemmingswisselingen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Geen initiatief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Verlaagd zelfbeeld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Spreekt veel over de dood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filmpje over depressie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0" name="Text Box 2"/>
          <p:cNvSpPr/>
          <p:nvPr/>
        </p:nvSpPr>
        <p:spPr>
          <a:xfrm>
            <a:off x="137160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w Cen MT"/>
              </a:rPr>
              <a:t>Signalen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31" name="Picture 6" descr="http://www.limburg.be/webfiles/limburg/leven/zorgenwelzijn/ouderen_en_depressie_cover_definitief.jpg?hid=img;w=545;q=100"/>
          <p:cNvPicPr/>
          <p:nvPr/>
        </p:nvPicPr>
        <p:blipFill>
          <a:blip r:embed="rId1"/>
          <a:stretch/>
        </p:blipFill>
        <p:spPr>
          <a:xfrm>
            <a:off x="4067280" y="3027240"/>
            <a:ext cx="519120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1371600" y="2743200"/>
            <a:ext cx="712296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775f55"/>
                </a:solidFill>
                <a:latin typeface="Tw Cen MT"/>
              </a:rPr>
              <a:t>Veel ouderen hebben te maken met eenzaamheid. In Nederland is bekend dat 1 op de 4 ouderen eenzaamheid ervaren. 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775f55"/>
                </a:solidFill>
                <a:latin typeface="Tw Cen MT"/>
              </a:rPr>
              <a:t>Één van de oorzaken van een depressie bij ouderen heeft te maken met eenzaamheid. Ouderen kunnen door </a:t>
            </a:r>
            <a:r>
              <a:rPr b="1" lang="nl-NL" sz="1800" spc="-1" strike="noStrike">
                <a:solidFill>
                  <a:srgbClr val="775f55"/>
                </a:solidFill>
                <a:latin typeface="Tw Cen MT"/>
              </a:rPr>
              <a:t>verminderde sociale contacten </a:t>
            </a:r>
            <a:r>
              <a:rPr b="0" lang="nl-NL" sz="1800" spc="-1" strike="noStrike">
                <a:solidFill>
                  <a:srgbClr val="775f55"/>
                </a:solidFill>
                <a:latin typeface="Tw Cen MT"/>
              </a:rPr>
              <a:t>in een zogeheten </a:t>
            </a:r>
            <a:r>
              <a:rPr b="1" lang="nl-NL" sz="1800" spc="-1" strike="noStrike">
                <a:solidFill>
                  <a:srgbClr val="775f55"/>
                </a:solidFill>
                <a:latin typeface="Tw Cen MT"/>
              </a:rPr>
              <a:t>sociaal isolement </a:t>
            </a:r>
            <a:r>
              <a:rPr b="0" lang="nl-NL" sz="1800" spc="-1" strike="noStrike">
                <a:solidFill>
                  <a:srgbClr val="775f55"/>
                </a:solidFill>
                <a:latin typeface="Tw Cen MT"/>
              </a:rPr>
              <a:t>terecht komen. Het komt voor dat het contact met de caissière in de supermarkt het enige waardevolle contact is op de dag.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37160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w Cen MT"/>
              </a:rPr>
              <a:t>Eenzaamheid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34" name="Picture 6" descr="http://www.ouderenhart.be/PSYCHISCH_WELBEHAGEN/DEPRESSIE_ZELFDODING/depressie-zelfdoding_bijlagen/klein_depressed-woman2_BW.jpg"/>
          <p:cNvPicPr/>
          <p:nvPr/>
        </p:nvPicPr>
        <p:blipFill>
          <a:blip r:embed="rId1"/>
          <a:stretch/>
        </p:blipFill>
        <p:spPr>
          <a:xfrm>
            <a:off x="7182000" y="28440"/>
            <a:ext cx="1809720" cy="271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"/>
          <p:cNvSpPr/>
          <p:nvPr/>
        </p:nvSpPr>
        <p:spPr>
          <a:xfrm>
            <a:off x="1357200" y="2786040"/>
            <a:ext cx="7123320" cy="34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Bron: Trimbos Instituut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6" name="Text Box 2"/>
          <p:cNvSpPr/>
          <p:nvPr/>
        </p:nvSpPr>
        <p:spPr>
          <a:xfrm>
            <a:off x="137160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w Cen MT"/>
              </a:rPr>
              <a:t>Een aantal cijfers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37" name="Picture 3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7358040" cy="40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"/>
          <p:cNvSpPr/>
          <p:nvPr/>
        </p:nvSpPr>
        <p:spPr>
          <a:xfrm>
            <a:off x="1357200" y="2786040"/>
            <a:ext cx="7123320" cy="95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Een depressie onder ouderen komt veel voor in verpleeg en verzorgingshuizen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Onder ‘hoogbejaarden’ neemt de kans op een depressie toe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Onder ‘jongbejaarden’ is de kans op herstel groter mits op tijd herkend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In algemene ziekenhuizen zijn ongeveer 6% van de opgenomen ouderen depressief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137160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w Cen MT"/>
              </a:rPr>
              <a:t>Enkele feiten op een rij 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6297480" y="0"/>
            <a:ext cx="2846520" cy="160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8:26:31Z</dcterms:created>
  <dc:creator>A.Rijk</dc:creator>
  <dc:description/>
  <dc:language>en-US</dc:language>
  <cp:lastModifiedBy>Henrieke Groenewold</cp:lastModifiedBy>
  <dcterms:modified xsi:type="dcterms:W3CDTF">2016-09-20T12:50:54Z</dcterms:modified>
  <cp:revision>70</cp:revision>
  <dc:subject/>
  <dc:title>WELKOM</dc:title>
</cp:coreProperties>
</file>