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CB2-382D-45EC-8DD3-4CD64838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D1F-3351-4365-B93D-D877B40A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579-92A5-4286-B203-B2C6F0A6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41A-A7A5-44E5-98FA-9F7EC98E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F96D-1A32-4845-8EC9-ED9B826A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AB5-9ABD-4CCD-A982-DF3EB139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F45A-ADB2-4120-BFF0-1D2A961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6B5D-2308-492A-8013-A8C95A93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0449-8F62-4572-A3C5-4EF2A774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6E96-7019-47AB-95AB-03CE8776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E202-2A65-410C-8575-1887ECD1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D60-8EC5-4A96-98CB-89043D56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72C0-95D6-4A7C-A646-46C21310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8E4C-4962-42F6-BACF-B1F87BA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90D9-4FE5-4248-B56E-66A57BD4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0BC3-F653-4D42-BE6D-6A63FB18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A0BD-045A-432A-A8EB-A6CAE820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8418D-67FD-4E09-A4E0-934718CA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58DA4-97CC-4052-AAF9-24E97410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02CC9-4BE9-4557-8938-09E1AA9D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E9B02-D14C-4235-9B8F-2B175B8A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79DCB-A63A-4DC2-8B34-3FF09E6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BF8-2F9B-47E2-B8E7-16828CBB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620E8-0A3A-4F2D-A73A-42EE43A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1CC9B-116C-4343-BB94-CAD3D1C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AE7F6-145A-4721-9B3D-CE0FAAF3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20573-F54D-4804-8366-491F3EE4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52F98-4807-4F4A-9069-9D281F0A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7AB8D-649F-4D9F-921D-8CA6FDAE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519F9-9D34-4955-A71A-E994A564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6EE9-2B16-49F1-895F-C5CBD6A3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AD267-C986-409A-8419-FECD8EBF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D794-0D8F-442D-89C0-A61EF027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0DA-C1E0-4153-A18C-72CDEBEB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71C1-3829-4EE8-A15C-02962A99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0C46-BE5A-454B-A7B7-DAA4AEC0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F8CD-6700-4A75-8F7A-B322FDA4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CADE-768B-4B3F-A872-D7BF7F9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A02E9-DAE6-45F9-A6DF-8BB754B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8217-FB8C-448B-8826-EADF730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C03E-8D23-4856-9143-F1332382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DE995-0CDA-4159-A921-EF055F09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A63A-9971-47FD-8AC0-E2204BFE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4BAF-7E44-46EE-9081-0AFC4098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ADA-3E7C-4CD4-A3A7-22E55616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CCD2F-C647-415F-8658-DA992497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440FB-2F13-4ADB-B197-DDE078DE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BACF-7BAA-40CD-89C1-0BCA8EB4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1D94-E3DF-4BAD-BD76-B939C825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36C5F-8036-49EE-A6C8-E58C32CA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3916-38FF-475E-87AA-E9C30CE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60BE4-B203-45B6-9F2F-4C1D0FD9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2D545-DB72-457B-8D12-C285ADCF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5DBFE-0823-495F-AF83-3AC4318F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4EB3D-6D07-422C-AD7A-E1346DC1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76C-60B0-4EB7-B285-1CA2F6B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C31B-DB7E-4115-B243-0C72EF9B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C011E-716B-4C2E-850A-B5BD5DF7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B1FA3-C01B-4DD7-A515-7407D719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9B62-3C51-433B-885D-C218916F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6A4B5-82E3-4C1A-AEC7-49114C4F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6E65A-729A-4A1A-B26A-84BB7A2D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82DAE-4696-4EA6-A3AD-A8E00387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24C7-00E0-487E-A829-138529F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2F2A9-3B1C-4D3C-A9CF-A1DC1985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B65B1-9871-4DAF-B44F-BC18E1BD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E3A-C0DF-4B76-898A-F2A96FF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47C6C-EE63-45B6-9AF2-62DCEAE8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8F44-71B4-4B1C-8649-F87EE803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0C65-FF2C-4302-8215-4E4D39FF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F5C-843C-478C-845D-58239F3A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3D6-F612-47AA-BC78-F8519F1F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2856-04AE-40B9-9FB7-539F33BAA70B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CFE-9EF5-4D4F-AB1C-F60F5862B563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3761-C6F9-4C0A-A5C6-DB8425352C0F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1598-7336-4ED7-806E-484B95A9DAC6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17C-71B2-43CF-A304-6A565D9DB36B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F506-9FAB-4F64-BEE6-80B7720C3792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tatic.competence.biz/Content/Zuidwester/Reader%20Uitzuigen%20Mond-%20en%20Keelholte%20(hoog)%202010-11.pdf" TargetMode="External"/><Relationship Id="rId2" Type="http://schemas.openxmlformats.org/officeDocument/2006/relationships/hyperlink" Target="http://static.competence.biz/Content/Zuidwester/Reader%20Uitzuigen%20Mond-%20en%20Keelholte%20(hoog)%202010-11.pdf" TargetMode="External"/><Relationship Id="rId3" Type="http://schemas.openxmlformats.org/officeDocument/2006/relationships/hyperlink" Target="http://instructivity.nl/" TargetMode="External"/><Relationship Id="rId4" Type="http://schemas.openxmlformats.org/officeDocument/2006/relationships/hyperlink" Target="http://instructivity.nl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org voor ademhal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pleegtechnische handelingen hfst 2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Neus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8" name="Picture 6" descr="221568_09i"/>
          <p:cNvPicPr/>
          <p:nvPr/>
        </p:nvPicPr>
        <p:blipFill>
          <a:blip r:embed="rId1"/>
          <a:stretch/>
        </p:blipFill>
        <p:spPr>
          <a:xfrm>
            <a:off x="5508720" y="2492280"/>
            <a:ext cx="2519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e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bri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2" name="Picture 6" descr="ANd9GcSmThk-T6M2XEE8ojjJjl5NL-ZE3LXFQ-N_i2gEt8YTTcX7SjgU"/>
          <p:cNvPicPr/>
          <p:nvPr/>
        </p:nvPicPr>
        <p:blipFill>
          <a:blip r:embed="rId1"/>
          <a:stretch/>
        </p:blipFill>
        <p:spPr>
          <a:xfrm>
            <a:off x="5148360" y="2349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mask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6" name="Picture 6" descr="221568_09l"/>
          <p:cNvPicPr/>
          <p:nvPr/>
        </p:nvPicPr>
        <p:blipFill>
          <a:blip r:embed="rId1"/>
          <a:stretch/>
        </p:blipFill>
        <p:spPr>
          <a:xfrm>
            <a:off x="4788000" y="25653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Transtracheale 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9" name="Picture 6" descr="ANd9GcRluskiBxDPpOR-ZaJXqisOVHH8I7AVIZCSBxFBw9va89L_N0pz"/>
          <p:cNvPicPr/>
          <p:nvPr/>
        </p:nvPicPr>
        <p:blipFill>
          <a:blip r:embed="rId1"/>
          <a:stretch/>
        </p:blipFill>
        <p:spPr>
          <a:xfrm>
            <a:off x="5435640" y="2349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Emoties van de zorgvrager bij zuurstof toedien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ngs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zekerheid en verdrie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pluchting en ru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wijze waarop de zuurstof wordt toegediend (apparatuur en hulpmiddel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t de zorgvrager wel en niet kan doen als hij zuurstof krijgt en wat de veiligheidsmaatregelen 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reden van toedienen van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de zorgvrager het inbrengen van de zuurstofkatheter en het gebruik van zuurstof kan ervaren (kokhalzen, heel kort benauwd gevoel, geen pijn, kriebel in de ne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nneer de zorgvrager moet waarschuw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blijvende benauw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zuurstof cilind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luchtbevochtiger (bij toediening boven 2l p/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andere problemen of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Hygië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schoon de luchtbevochter dagelijk om infecties te voorko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troleer de luchtbevochter op steriliteitdatum en vacuü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katheter of zuurstofmasker verwissel je dagelij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15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ilighe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5280" y="16189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boden te roken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 voor goede ventil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centratier niet in de buurt van een warmtebron (kachel, zo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et cilinders goed vast zodat ze niet omvall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as op met statische electriciteit (nylon kleding, haren kamm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bij insmeren gezicht geen vette créme, zalf of ol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pname zuurstof (O2)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luchtwegen transporteren de ingeademde lucht naar de long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 de longblaasjes wordt zuurstof opgenomen en koolzuurgas uitgescheid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 wordt via het bloed naar de cellen getransportee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veel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ofdp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ikkelbaar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laperig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wustzijnstoornissen (bij roze huidskleu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 weinig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rtademigheid in rust en lichte inspan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ufheid, vergeetachtigheid, verwar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aar gevoel in het hoof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nelle p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auwe verkleuring van huid en nage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Berekenen v.d resterende tijd v.d beschikbare zuurstof in de cilinder.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Druk x inhoud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_______________________ : 60 = … uren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Liters zuurstof per minuut 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Vb. De druk van zuurstof in een cilinder van 40 liter bedraagt 120 bar. Toe te dienen zuurstof is 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120bar x 40    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: 60 = 20 uur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Trachea canul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Filmpje canule verzorg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MOND- EN KEELHOLTE UITZUIGEN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DO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et vrijmaken van de bovenste luchtwegen van sputum, speeksel, maaginhoud of bloed, zodat de ademweg weer doorgankelijk word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NATOM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INDICATIE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een cliënt zelf niet goed kan ophoesten of slikken (bewusteloze of een uitgeputte zorgvrager, zorgvrager met hoge dwarslaesie, zorgvrager met ernstige longproblematiek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Bij afwijkingen van het hart en van de hersenen, dat ophoesten of een houdingsdrainage  risico met zich mee brengt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de algemene conditie van de cliënt zo slecht is dat alle andere oplossingen voor het vrijmaken van de luchtwegen als extra belasting worden gezien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NADE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oor het uitzuigen worden luchtwegen geprikkeld tot een verhoogde productie van sputum. Zo krijg je een averechts effec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t daarom alleen als preventieve maatregel om de luchtwegen doorgankelijk te houden niet help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06" name="Picture 5" descr="ANd9GcSAEoiDreLjWjuAZamtmIO3rxjcU5kdUjTphaaimlBtzLBF3ZIL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PREVENTIEVE MAATRGEL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udingsdraina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demhalings- en hoesttechnie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dic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COMPLICAT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problem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schadiging van het weefs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fe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verprikkel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EES ALERT BIJ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minderd bewust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 musculaire aandoeningen (verstoord doorgeven van signalen van en naar de hersenen en/of een ziekte van de spier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ngemfyse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ATERIALEN EN APPARATUU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katheter (45-60 cm lang, variërend 12 tot 16 CH bij volwassen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acuümbrek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apparatu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ANDACHTSPUNTEN BIJ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atheter nooit met kracht tegen slijmvlies duw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t open katheter in de mond en weer naar bui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d tot keelholte (top katheter altijd zichtba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leving van zorgvrager (angst, onplezierig, opluchting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ONDHOLT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8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323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SEPTISCH WERK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Sputum is rijk aan bacteriën, draag handschoenen en evt. mondmasker en scho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Om infecties te voorkomen zuigkatheter eenmalig gebruiken , opvangfles eenmaal per 24 uur reinige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Bekertje water wat je gebruikt bij uitzuigen voor het doorspoelen van katheter na gebruik legen en omspoelen. (stilstaand water bron van bacterië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XTRA INFORMAT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static.competence.biz/Content/Zuidwester/Reader%20Uitzuigen%20Mond-%20en%20Keelholte%20(hoog)%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202010-11.pd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theor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3"/>
              </a:rPr>
              <a:t>http://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4"/>
              </a:rPr>
              <a:t>instructivity.nl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praktijkfilmpj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anneer extra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rts schrijft extra zuurstof voor wanneer een zorgvrager te weinig zuurstof in het arteriële bloed heeft (hypoxem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hypoxemie bevatten de hemoglobinemoleculen onvoldoende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orzaken opname te weinig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longventilatie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vrager kan te weinig lucht in- en uitade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PD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logische aandoeningen, slaapapneu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van slaap- en kalmeringsmiddel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orfine in hoge dosering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uurstoftoediening werkt niet bij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oedarmoe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pompwerking van het har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cilinder (met samengeperste zuurstof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16" name="Picture 6" descr="ANd9GcQK9ZeSRfXed_HkIzOOAsOwpPu17KE15tPVKOBS_quebVoX320O"/>
          <p:cNvPicPr/>
          <p:nvPr/>
        </p:nvPicPr>
        <p:blipFill>
          <a:blip r:embed="rId1"/>
          <a:stretch/>
        </p:blipFill>
        <p:spPr>
          <a:xfrm>
            <a:off x="5148360" y="1844640"/>
            <a:ext cx="3240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Concentrator (haalt zuurstof uit de gewone lucht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0" name="Picture 6" descr="ANd9GcR_3vIOEbQwREG9XO7BbD4AOFVb4qnogOkDEAzcpkDQ_87Z1qgliw"/>
          <p:cNvPicPr/>
          <p:nvPr/>
        </p:nvPicPr>
        <p:blipFill>
          <a:blip r:embed="rId1"/>
          <a:stretch/>
        </p:blipFill>
        <p:spPr>
          <a:xfrm>
            <a:off x="5148360" y="1844640"/>
            <a:ext cx="28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Vloeibare zuurstof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4" name="Picture 6" descr="ANd9GcTxi5DXY6_FPz_cUyQyFYU1yMV7NSgY2TthAzRQtXSInvKmVTYI"/>
          <p:cNvPicPr/>
          <p:nvPr/>
        </p:nvPicPr>
        <p:blipFill>
          <a:blip r:embed="rId1"/>
          <a:stretch/>
        </p:blipFill>
        <p:spPr>
          <a:xfrm>
            <a:off x="5292720" y="1916280"/>
            <a:ext cx="2735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11:48Z</dcterms:created>
  <dc:creator>c</dc:creator>
  <dc:description/>
  <dc:language>en-US</dc:language>
  <cp:lastModifiedBy>Henrieke Groenewold</cp:lastModifiedBy>
  <dcterms:modified xsi:type="dcterms:W3CDTF">2016-10-24T15:15:21Z</dcterms:modified>
  <cp:revision>16</cp:revision>
  <dc:subject/>
  <dc:title>ZUURSTOF TOEDIENEN</dc:title>
</cp:coreProperties>
</file>