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dt" idx="15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6731B-2DFB-4D65-9F58-7454C740B8D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53A46-D8F4-454D-9535-D85C509551E3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BDCA1F-FE10-4C23-8680-EAAEF46C2B95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CE68E-189F-4058-8741-92AEA424C419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E38022-4B7C-4A29-B121-AE6940AC370B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ADEF5-A7F9-40E8-94DE-F401A9AE82A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73DD13-254C-4FE5-9221-85F985C94CD6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F036E-3B28-4DDF-97DF-852C02A268C5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353E00-88D6-4A07-BC65-28C75B76AE3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BDE0B-677B-481A-ADE7-87A2BE0C4F5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A97111-345B-434F-9024-CC131122DA86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F6907-DEB1-4471-9A3F-B007868F1B9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2274BB-1FA8-4008-BBEB-D448B27B16D3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27FD0-F24B-4E74-B133-A3D2976A993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D06713-F75B-4498-9E8F-09D4EBB69C5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BF8B0-7C16-4877-AC49-D0AFFE54343F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E27218-52CF-443A-A5C0-2525B1A9385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5E425-C75F-40D9-A2CF-06B959DA47D5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174B21-F2E7-48EB-ADE2-FA98AC44437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F2490-B1AE-456A-850C-2351EF739516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4BCE0F-57B1-4852-9A18-1D7625DF556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A245-E988-494F-B359-4A32522065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04C5-E43A-4985-AB0B-A4DB2A0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DAFB-6F15-4770-909F-2CF5171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9988-A7B2-4421-AFBB-B4533D286A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5922B-A3CF-465D-B934-4D2251930E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43753-FC99-4EBA-B842-30201D45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B2EC0-1A40-4891-9C03-F91E53AD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66D2B-9E32-434D-8512-C8BD3DD2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1108F-DECF-4A38-BB43-654D4EE6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8969B-8BBF-40BE-B1E9-4657C354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EBA58-9F97-46D5-A79A-1F11AAFB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188C-7A58-4048-A0FE-1844054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2A1A2-AE25-4648-90B4-AD00C55D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5FCBD-465F-406A-8F9A-95D8B853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75975-3C0A-4625-AE2E-3FE645F9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5042E-E20D-4D46-940E-A281EC61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6AC9D-41EC-43B3-BB08-07FBEB729D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D607-6533-4C68-8013-6710C64754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7F5B-4679-49D4-8185-80B677C4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0339-250B-4A78-A9CE-EAE23FBF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E6F8-83E9-42F8-885F-4AD5193C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CFC7-7332-4308-838A-8F2FB927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CE7E-1378-4848-AD3E-6CD3A21B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FE17-2ABA-4E08-89EC-0C901A5A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3CB1-1E48-4515-B89F-920F7F5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A03F-AB72-4601-9C82-80F9E4DF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E162-C2BC-45B4-A705-96D0357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27D4-4F13-4EA2-9CFF-E4DDFC2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C9FE-2272-4A6E-A28F-3B718BA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420-0E51-4254-90AF-61261FEFBB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36390-54ED-403A-B90D-427AB67AF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88F44-0F53-455E-8C67-D1DA3E19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3ECAE-351F-4A97-A62F-1C9613E7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1C77-686A-4104-BD34-0284C34A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92563-63FF-41F8-B778-5E81E6EF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63CFF-1F22-452D-9FC5-5CC5896B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18702-183F-49EF-AF1B-F42C91A9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39177-08C5-47C3-B4D4-0231D17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000E2-B960-448C-A098-8B6F9B48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0DF9E-3864-4535-A660-4518CCC7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03B2E-D5ED-4696-A50B-CDAC3964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4B368-0684-432E-B7C5-43F9A22A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07CE2-29AA-4DC8-ABCC-EB499FD811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6F7DD-430E-4AE6-B6E3-9F4A6BD3E9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591A-B79E-4784-8B29-57EC525B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1E234E-568A-4C5D-BF7E-72CDD0CC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72A5A-BF2D-42F4-98D2-31D6D2D9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D289B-2A14-458A-99D4-5D0B61FB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10D63-0A11-46D0-BF72-833C6E7E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C7E0D-7A75-498A-A63C-C46BE4F2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56302-1E20-4F65-A93C-391074B3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E5785-1C07-49B3-A84F-24DD970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2E14B-A1AE-468B-A554-A2085B36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97CF5-65E0-4817-A5A1-BE8C5958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A1F79-B7D6-4BE4-9ADD-B6DAFE9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EEAD-52B5-4C0B-AFC9-C512AF27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60222-07E8-4BDE-8DC1-C51DDBFE6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654C-82F2-469A-8F1D-62DC330936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5F28F-63A6-4AA2-8978-79A859B1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2F980-096D-43BB-ADCF-2970C3A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72F5-8B5F-4771-B3AB-86165411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A9B46-7203-4203-B990-D4CB96E1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3EFF-A250-4F2E-8DB3-22FA54CE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2793-3CF2-4E4A-AE0F-6F0D5722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9EFC-11D7-42DE-86FB-35E8A58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AED6-A8A2-4EB0-BEFC-DD564CDC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B3D5-0F16-49F6-8476-A832A4DD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2F5F-9DF3-4C60-99C5-ABE1806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CAAD-EE49-4F85-B5C7-868745C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FDB5-75DD-4308-B566-376DA77B6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81FCE-2A08-49C4-A653-39F2D096DF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78017-EF40-4F9E-A62A-12BC19F5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57729-392F-4832-A99A-087B3E4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0F38C-B194-429B-BD87-CF3B94EF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40D6B-6062-43CD-A7B8-ED47852F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ED5E2-3ACE-4490-9C13-2A5E6E8D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B560B-C3E7-4596-AC07-5D5797E5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3864-24D4-4108-A81F-F87AE91B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32E7F-5CBC-49AF-AC99-6E661857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86EEC-901A-4338-A64B-FD05B26F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F115A-E89F-4F19-8363-A294B748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8B5EB-F02B-4875-B64A-33BBDB71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C69CA-762B-44E6-AE0B-AC919DE05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5E2C-AB71-4251-8B56-BB2CC5AC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BDFFDB7-DF25-4523-AEF6-E92588DCD7B9}" type="slidenum">
              <a: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A5C0690-FAE8-4838-8AD4-E46E9A54ED7A}" type="slidenum">
              <a: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DAED05-2581-4CE4-97D6-E57B673457B8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C4FAC8-97AF-42C3-817A-84467912B841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FC3BA1-48B4-4E67-88F4-A9F4C6CC5828}" type="slidenum">
              <a: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75D15A-F164-4E27-A1DB-0FBEA29E7D05}" type="slidenum">
              <a: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4"/>
          </p:nvPr>
        </p:nvSpPr>
        <p:spPr>
          <a:xfrm>
            <a:off x="6410160" y="-360"/>
            <a:ext cx="532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169D31-7049-409F-9219-C88F9CCC4F64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2050920" y="3716280"/>
            <a:ext cx="5429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8800" spc="-1" strike="noStrike">
                <a:solidFill>
                  <a:srgbClr val="ebddc3"/>
                </a:solidFill>
                <a:latin typeface="Tw Cen MT"/>
              </a:rPr>
              <a:t>WELKOM</a:t>
            </a:r>
            <a:endParaRPr b="0" lang="en-US" sz="8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GZ, H11 (behalve de par. over zorg en beg. en communicatie) 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85-117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VVT2, H2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22-29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HZ, H16.4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Tw Cen MT"/>
              </a:rPr>
              <a:t>Presentatie ‘Depressie onder ouderen ’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http://albertsonnevelt.nl/wp-content/uploads/2013/07/helpen-medicijnen-tegen-depressie.png"/>
          <p:cNvPicPr/>
          <p:nvPr/>
        </p:nvPicPr>
        <p:blipFill>
          <a:blip r:embed="rId1"/>
          <a:stretch/>
        </p:blipFill>
        <p:spPr>
          <a:xfrm>
            <a:off x="3854520" y="476280"/>
            <a:ext cx="5324400" cy="5324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"/>
          <p:cNvSpPr/>
          <p:nvPr/>
        </p:nvSpPr>
        <p:spPr>
          <a:xfrm>
            <a:off x="258840" y="2924280"/>
            <a:ext cx="712152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n gesprek gaan met zorgvrager en of famili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Probleem bespreken in het MDO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Gesprekken regelen met psychiater of psycholoog.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een dagprogramma maken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medicatie geven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Filmpje over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Tips over omgaan met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1332000" y="155736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Hoe te hande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371600" y="2743200"/>
            <a:ext cx="71229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eb je te maken gehad met een depressie in je omgeving/ stage/ werk 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Wat houd een depressie precies in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oe ga je  hier mee om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w Cen MT"/>
              </a:rPr>
              <a:t>Wat weet je al van een depressie?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19" name="Picture 5" descr="http://www.ggznieuws.nl/home/wp-content/uploads/2013/02/depressie-werk1.jpg"/>
          <p:cNvPicPr/>
          <p:nvPr/>
        </p:nvPicPr>
        <p:blipFill>
          <a:blip r:embed="rId1"/>
          <a:stretch/>
        </p:blipFill>
        <p:spPr>
          <a:xfrm>
            <a:off x="6732720" y="3438360"/>
            <a:ext cx="2087280" cy="31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71640" y="2505240"/>
            <a:ext cx="7515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Wanneer er minstens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twee weken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bijna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elke dag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5 van de volgende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symptomen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 aanwezig zijn: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Depressieve/sombere stemmin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lies van belangstelling en interesse in bijna alle activiteit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anderde eetlust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Problemen met slap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jaagd of geremd gedra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oeidheid en verlies van energ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voelens van waardeloosheid of onterechte schuldgevoelens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inderd vermogen tot nadenken of concentrat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Terugkerende gedachten aan de doo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Er is sprake van een depressie als deze symptomen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niet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komen uit een lichamelijke aandoening of een rouwreactie  filmpje over depress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378080" y="148428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Depressie bij de zorgvrager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7116840" y="2997360"/>
            <a:ext cx="18698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371600" y="2743200"/>
            <a:ext cx="71229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gelief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lichamelijke mogelijkhe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sociale status(bijv. ouderrol,werk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financiële statu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cognitieve functies(denken, geheugen, nieuwe informatie opnem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relationeel netwerk(vrienden, kenniss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Oorzaken depressi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65120" y="2565360"/>
            <a:ext cx="712332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Naarmate men ouder wordt bestaat er een groter risico op een depressie. Een aantal risicofactoren op een rijtje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Rou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Slaapstoornis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Lichamelijke beperk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erdere depressi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rouwelijk geslacht(veelal weduwe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sociale contac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andering rolpatroon(o.m. het wegvallen van werk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Traumatische oorlogservar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van naas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Afnemende vitalite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rfelijk bepaald(2 tot 3 keer meer risico bij depressie in familie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71600" y="136044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Risicofactoren bij ouder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8" name="Picture 6" descr="http://www.seniorbeter.nl/wp-content/uploads/2010/12/header_dag1.jpg"/>
          <p:cNvPicPr/>
          <p:nvPr/>
        </p:nvPicPr>
        <p:blipFill>
          <a:blip r:embed="rId1"/>
          <a:stretch/>
        </p:blipFill>
        <p:spPr>
          <a:xfrm>
            <a:off x="2484360" y="0"/>
            <a:ext cx="417528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92160" y="2631960"/>
            <a:ext cx="71233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elal somber en lustelo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minderde eetslus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laapproblem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nerg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mot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libi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temmingswisseling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Geen initiatief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zelfbeel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preekt veel over de d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filmpje over depress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Signa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1" name="Picture 6" descr="http://www.limburg.be/webfiles/limburg/leven/zorgenwelzijn/ouderen_en_depressie_cover_definitief.jpg?hid=img;w=545;q=100"/>
          <p:cNvPicPr/>
          <p:nvPr/>
        </p:nvPicPr>
        <p:blipFill>
          <a:blip r:embed="rId1"/>
          <a:stretch/>
        </p:blipFill>
        <p:spPr>
          <a:xfrm>
            <a:off x="4067280" y="302724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371600" y="2743200"/>
            <a:ext cx="71229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Veel ouderen hebben te maken met eenzaamheid. In Nederland is bekend dat 1 op de 4 ouderen eenzaamheid ervaren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Één van de oorzaken van een depressie bij ouderen heeft te maken met eenzaamheid. Ouderen kunnen door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verminderde sociale contacten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in een zogeheten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sociaal isolement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terecht komen. Het komt voor dat het contact met de caissière in de supermarkt het enige waardevolle contact is op de dag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zaamheid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4" name="Picture 6" descr="http://www.ouderenhart.be/PSYCHISCH_WELBEHAGEN/DEPRESSIE_ZELFDODING/depressie-zelfdoding_bijlagen/klein_depressed-woman2_BW.jpg"/>
          <p:cNvPicPr/>
          <p:nvPr/>
        </p:nvPicPr>
        <p:blipFill>
          <a:blip r:embed="rId1"/>
          <a:stretch/>
        </p:blipFill>
        <p:spPr>
          <a:xfrm>
            <a:off x="7182000" y="28440"/>
            <a:ext cx="18097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357200" y="2786040"/>
            <a:ext cx="712332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Bron: Trimbos Instituu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 aantal cijfer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35804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57200" y="2786040"/>
            <a:ext cx="7123320" cy="9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Een depressie onder ouderen komt veel voor in verpleeg en verzorgingshuiz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hoogbejaarden’ neemt de kans op een depressie to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jongbejaarden’ is de kans op herstel groter mits op tijd herke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In algemene ziekenhuizen zijn ongeveer 6% van de opgenomen ouderen depressief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nkele feiten op een rij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6297480" y="0"/>
            <a:ext cx="28465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8:26:31Z</dcterms:created>
  <dc:creator>A.Rijk</dc:creator>
  <dc:description/>
  <dc:language>en-US</dc:language>
  <cp:lastModifiedBy>Henrieke Groenewold</cp:lastModifiedBy>
  <dcterms:modified xsi:type="dcterms:W3CDTF">2016-09-20T12:50:54Z</dcterms:modified>
  <cp:revision>70</cp:revision>
  <dc:subject/>
  <dc:title>WELKOM</dc:title>
</cp:coreProperties>
</file>