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EB07-D0CA-4866-B28C-518ED1E61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FDBE-7EDC-4F7B-8833-6EA0E62B4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D81B-69B8-4C6B-A7EC-D7389466B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A75B-74B2-48F1-9E9B-79D3A160E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4BFD6-5409-464D-A0E4-B9D512710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5CD3D-DCBE-465F-A6AE-7EE4EF8A8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1EF0C-6C3C-4A2F-A8AE-2E4EFAFBE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19159-D23C-4311-98CF-CCDBB0584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95C03-6485-4F9C-8DB1-E48B15C5C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07B0C-83ED-4865-8338-896E2881D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29B3D-28C0-4520-B03D-F29E262D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2F46-E6E6-45FB-8A10-5710F9DFD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CFFBA-71C6-4A8D-B15E-A5D535B1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2CA14-C068-46C8-B0BC-72C66507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43D8E-528E-458C-9571-BD09DF67A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7D509-20F3-4069-8D02-262737D21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A7DC3-B4F1-46C2-8906-6235583E7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D312AA-C01E-457A-AAD2-65757AAF6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625231-750A-4868-B89A-8914D16BD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756AFD-F09E-44BB-A4DD-948C2BB93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1C6D14-CE67-455E-A32F-A45E33DA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540C79-866C-41F2-A1A1-03B0980AD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2289-5DF3-4F09-AA3D-8E4FBD554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F611CA-C16A-48A8-A4DE-D3BBA3A5D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66ED31-C931-4A17-B819-1970A621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21968E-1FB3-4D22-AE86-3A84006C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362439-0D7B-4877-9570-CFF10EA9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CC6A36-B7A6-48B5-AF2A-A4D677777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1EEC02-FC3D-410E-9457-79E75EF56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3E8E45-415C-424A-AF18-8DAFB7DA6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6A1AA-D1A0-4D01-BB6C-1A5ED844E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E5195-91F0-4128-BE9E-ED6629428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C8FF3-ADFB-490B-AE88-382B5F1D7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0BEF-138A-42F8-A5BD-B1E135195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825B9-FAED-464E-9A26-2B9D77E6D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0BCBE-A932-4A24-BD6F-5C2794070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06AAD-1368-449E-BC42-6AD23088C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B4878-8896-42C6-ACA0-9F3D9A13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8B0CE-AE63-4887-8B1A-4C86ADD5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1A07F-6332-44E9-95C4-144CBEBB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4CEDE-30F4-4B26-AF62-7BD5A4B2D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44936-0065-4351-B666-BF4E7A8DE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A274A-9696-4064-8C87-6C65C2D25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38BA8-C409-4F20-9804-E4A0695A2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56FA-6BE0-459B-8D57-F05E4A0ED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52D7B-6E3F-43ED-9F3C-565FBEA97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B842A-0639-425E-8CD2-D623D1EA9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5F19B-89AD-4B61-B81B-B8DC6F98D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9C3CC-38A9-4836-AFD5-9E48B58EE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B8EE3-6CAC-4435-9D6E-9D6513FFD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27338-BF66-441B-96FC-713E525A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6EB80-34B1-4D29-8CFE-EF38E031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FB2F8-288C-4B4A-A9C8-3D421172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FF0C7-1E0D-4BDF-8ECA-37578D6F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A20AC-1738-4C0D-936B-8AABBDE05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2004-A82B-48B9-8E2B-4269733F7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6DD64-C286-4278-B466-C148BAAC0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98FBC-B58F-4A04-A2B7-42257B0B6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08782-69C0-41C0-BA29-3239CD734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F7623-CF69-4499-A333-6C75126D8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404603-6098-4645-86C8-000CBA35A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46BB4-5385-41F3-94B5-A089C915A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635B64-C180-40F1-A62F-494410093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CB78F-0C64-44D0-B701-FA75A407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772E0-77E8-4661-9AAE-1A28591E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ABC46-A7EC-462D-B706-1BD5BABE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7A90-5EFB-4497-A136-FC922FE3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F8646-B403-4264-850C-7A7BFC2BC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63CEE-2267-486B-8FA5-2EFDFFF89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8D8B4-93A6-4EDB-AB67-426461E02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3FA5-4685-4833-9811-C48EF5FD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A7CE-B2AB-48AD-95FB-D091C49E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F22D7-A89B-448E-8AA0-8F131F15CB7E}" type="slidenum">
              <a:rPr b="0" lang="nl-NL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2D093-776D-4A13-B8FE-9622913B158D}" type="slidenum">
              <a:rPr b="0" lang="nl-NL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F9A57-3B65-4912-BC02-BCD6425D9037}" type="slidenum">
              <a:rPr b="0" lang="nl-NL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ADCBE-626C-40ED-A157-4DAE5E651852}" type="slidenum">
              <a:rPr b="0" lang="nl-NL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336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337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38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1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342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5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346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9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2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2EBE0-5070-4605-89FC-3D9884E87BA9}" type="slidenum">
              <a:rPr b="0" lang="nl-NL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419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420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421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4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425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8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429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2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5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C0B56-13D3-48BD-A223-79027E21D258}" type="slidenum">
              <a:rPr b="0" lang="nl-NL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static.competence.biz/Content/Zuidwester/Reader%20Uitzuigen%20Mond-%20en%20Keelholte%20(hoog)%202010-11.pdf" TargetMode="External"/><Relationship Id="rId2" Type="http://schemas.openxmlformats.org/officeDocument/2006/relationships/hyperlink" Target="http://static.competence.biz/Content/Zuidwester/Reader%20Uitzuigen%20Mond-%20en%20Keelholte%20(hoog)%202010-11.pdf" TargetMode="External"/><Relationship Id="rId3" Type="http://schemas.openxmlformats.org/officeDocument/2006/relationships/hyperlink" Target="http://instructivity.nl/" TargetMode="External"/><Relationship Id="rId4" Type="http://schemas.openxmlformats.org/officeDocument/2006/relationships/hyperlink" Target="http://instructivity.nl/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94c600"/>
                </a:solidFill>
                <a:latin typeface="Century Gothic"/>
              </a:rPr>
              <a:t>Zorg voor ademhaling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424242"/>
                </a:solidFill>
                <a:latin typeface="Century Gothic"/>
              </a:rPr>
              <a:t>Verpleegtechnische handelingen hfst 21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Toedieningssysteme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e3d2d"/>
                </a:solidFill>
                <a:latin typeface="Century Gothic"/>
              </a:rPr>
              <a:t>Neuskatheter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528" name="Picture 6" descr="221568_09i"/>
          <p:cNvPicPr/>
          <p:nvPr/>
        </p:nvPicPr>
        <p:blipFill>
          <a:blip r:embed="rId1"/>
          <a:stretch/>
        </p:blipFill>
        <p:spPr>
          <a:xfrm>
            <a:off x="5508720" y="2492280"/>
            <a:ext cx="25192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Toedieningssysteem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e3d2d"/>
                </a:solidFill>
                <a:latin typeface="Century Gothic"/>
              </a:rPr>
              <a:t>Zuurstofbril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532" name="Picture 6" descr="ANd9GcSmThk-T6M2XEE8ojjJjl5NL-ZE3LXFQ-N_i2gEt8YTTcX7SjgU"/>
          <p:cNvPicPr/>
          <p:nvPr/>
        </p:nvPicPr>
        <p:blipFill>
          <a:blip r:embed="rId1"/>
          <a:stretch/>
        </p:blipFill>
        <p:spPr>
          <a:xfrm>
            <a:off x="5148360" y="2349360"/>
            <a:ext cx="3024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Toedieningssysteme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e3d2d"/>
                </a:solidFill>
                <a:latin typeface="Century Gothic"/>
              </a:rPr>
              <a:t>Zuurstofmasker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536" name="Picture 6" descr="221568_09l"/>
          <p:cNvPicPr/>
          <p:nvPr/>
        </p:nvPicPr>
        <p:blipFill>
          <a:blip r:embed="rId1"/>
          <a:stretch/>
        </p:blipFill>
        <p:spPr>
          <a:xfrm>
            <a:off x="4788000" y="2565360"/>
            <a:ext cx="380988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e3d2d"/>
                </a:solidFill>
                <a:latin typeface="Century Gothic"/>
              </a:rPr>
              <a:t>Transtracheale katheter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539" name="Picture 6" descr="ANd9GcRluskiBxDPpOR-ZaJXqisOVHH8I7AVIZCSBxFBw9va89L_N0pz"/>
          <p:cNvPicPr/>
          <p:nvPr/>
        </p:nvPicPr>
        <p:blipFill>
          <a:blip r:embed="rId1"/>
          <a:stretch/>
        </p:blipFill>
        <p:spPr>
          <a:xfrm>
            <a:off x="5435640" y="2349360"/>
            <a:ext cx="22320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94c600"/>
                </a:solidFill>
                <a:latin typeface="Century Gothic"/>
              </a:rPr>
              <a:t>Emoties van de zorgvrager bij zuurstof toediening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Angst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Onzekerheid en verdrie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Opluchting en rus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Voorlichting geve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De wijze waarop de zuurstof wordt toegediend (apparatuur en hulpmiddelen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Wat de zorgvrager wel en niet kan doen als hij zuurstof krijgt en wat de veiligheidsmaatregelen zij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De reden van toedienen van zuurstof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Voorlichting geve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Hoe de zorgvrager het inbrengen van de zuurstofkatheter en het gebruik van zuurstof kan ervaren (kokhalzen, heel kort benauwd gevoel, geen pijn, kriebel in de neu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Voorlichting geve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Wanneer de zorgvrager moet waarschuwen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09480" indent="-60948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Bij blijvende benauwdheid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09480" indent="-60948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Bij een lege zuurstof cilinder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09480" indent="-60948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Bij een lege luchtbevochtiger (bij toediening boven 2l p/m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09480" indent="-60948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Bij andere problemen of klachte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09480" indent="-6094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Hygiën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Verschoon de luchtbevochter dagelijk om infecties te voorkome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Controleer de luchtbevochter op steriliteitdatum en vacuüm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De zuurstofkatheter of zuurstofmasker verwissel je dagelijk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015560" y="4759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Veiligheid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755280" y="161892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2512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Verboden te roken!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Zorg voor goede ventilati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Concentratier niet in de buurt van een warmtebron (kachel, zon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Zet cilinders goed vast zodat ze niet omvalle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Pas op met statische electriciteit (nylon kleding, haren kammen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Gebruik bij insmeren gezicht geen vette créme, zalf of oli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Opname zuurstof (O2)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De luchtwegen transporteren de ingeademde lucht naar de longe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In de longblaasjes wordt zuurstof opgenomen en koolzuurgas uitgescheide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De zuurstof wordt via het bloed naar de cellen getransporteerd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94c600"/>
                </a:solidFill>
                <a:latin typeface="Century Gothic"/>
              </a:rPr>
              <a:t>Symptomen bij teveel zuurstof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Hoofdpij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Prikkelbaarheid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Slaperigheid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Bewustzijnstoornissen (bij roze huidskleur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94c600"/>
                </a:solidFill>
                <a:latin typeface="Century Gothic"/>
              </a:rPr>
              <a:t>Symptomen bij te weinig zuurstof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Kortademigheid in rust en lichte inspanning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Sufheid, vergeetachtigheid, verwardheid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Raar gevoel in het hoofd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Snelle pol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Blauwe verkleuring van huid en nagel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4c600"/>
                </a:solidFill>
                <a:latin typeface="Century Gothic"/>
              </a:rPr>
              <a:t>Berekenen v.d resterende tijd v.d beschikbare zuurstof in de cilinder.</a:t>
            </a:r>
            <a:br>
              <a:rPr sz="3200"/>
            </a:b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nl-NL" sz="2600" spc="-1" strike="noStrike">
                <a:solidFill>
                  <a:srgbClr val="3e3d2d"/>
                </a:solidFill>
                <a:latin typeface="Century Gothic"/>
              </a:rPr>
              <a:t>Druk x inhoud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3e3d2d"/>
                </a:solidFill>
                <a:latin typeface="Century Gothic"/>
              </a:rPr>
              <a:t>_______________________ : 60 = … uren 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3e3d2d"/>
                </a:solidFill>
                <a:latin typeface="Century Gothic"/>
              </a:rPr>
              <a:t>Liters zuurstof per minuut 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3e3d2d"/>
                </a:solidFill>
                <a:latin typeface="Century Gothic"/>
              </a:rPr>
              <a:t>Vb. De druk van zuurstof in een cilinder van 40 liter bedraagt 120 bar. Toe te dienen zuurstof is 4 L/min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3e3d2d"/>
                </a:solidFill>
                <a:latin typeface="Century Gothic"/>
              </a:rPr>
              <a:t> </a:t>
            </a:r>
            <a:r>
              <a:rPr b="0" lang="nl-NL" sz="2600" spc="-1" strike="noStrike" u="sng">
                <a:solidFill>
                  <a:srgbClr val="3e3d2d"/>
                </a:solidFill>
                <a:uFillTx/>
                <a:latin typeface="Century Gothic"/>
              </a:rPr>
              <a:t>  </a:t>
            </a:r>
            <a:r>
              <a:rPr b="0" lang="nl-NL" sz="2600" spc="-1" strike="noStrike" u="sng">
                <a:solidFill>
                  <a:srgbClr val="3e3d2d"/>
                </a:solidFill>
                <a:uFillTx/>
                <a:latin typeface="Century Gothic"/>
              </a:rPr>
              <a:t>120bar x 40     </a:t>
            </a:r>
            <a:r>
              <a:rPr b="0" lang="nl-NL" sz="2600" spc="-1" strike="noStrike">
                <a:solidFill>
                  <a:srgbClr val="3e3d2d"/>
                </a:solidFill>
                <a:latin typeface="Century Gothic"/>
              </a:rPr>
              <a:t>: 60 = 20 uur 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600" spc="-1" strike="noStrike">
                <a:solidFill>
                  <a:srgbClr val="3e3d2d"/>
                </a:solidFill>
                <a:latin typeface="Century Gothic"/>
              </a:rPr>
              <a:t>  </a:t>
            </a:r>
            <a:r>
              <a:rPr b="0" lang="nb-NO" sz="2600" spc="-1" strike="noStrike">
                <a:solidFill>
                  <a:srgbClr val="3e3d2d"/>
                </a:solidFill>
                <a:latin typeface="Century Gothic"/>
              </a:rPr>
              <a:t>4 L/min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94c600"/>
                </a:solidFill>
                <a:latin typeface="Century Gothic"/>
              </a:rPr>
              <a:t>Trachea canule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800" spc="-1" strike="noStrike">
              <a:solidFill>
                <a:srgbClr val="424242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Filmpje canule verzorging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1"/>
          <a:stretch/>
        </p:blipFill>
        <p:spPr>
          <a:xfrm>
            <a:off x="1042560" y="2323800"/>
            <a:ext cx="6777000" cy="35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4c600"/>
                </a:solidFill>
                <a:latin typeface="Century Gothic"/>
              </a:rPr>
              <a:t>MOND- EN KEELHOLTE UITZUIGEN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800" spc="-1" strike="noStrike">
              <a:solidFill>
                <a:srgbClr val="424242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DOEL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Het vrijmaken van de bovenste luchtwegen van sputum, speeksel, maaginhoud of bloed, zodat de ademweg weer doorgankelijk word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ANATOMI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567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2771640" y="1989000"/>
            <a:ext cx="33847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INDICATIE UITZUIGE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19368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e3d2d"/>
                </a:solidFill>
                <a:latin typeface="Century Gothic"/>
              </a:rPr>
              <a:t>Wanneer een cliënt zelf niet goed kan ophoesten of slikken (bewusteloze of een uitgeputte zorgvrager, zorgvrager met hoge dwarslaesie, zorgvrager met ernstige longproblematiek)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243360" indent="-19368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nl-NL" sz="2800" spc="-1" strike="noStrike">
                <a:solidFill>
                  <a:srgbClr val="3e3d2d"/>
                </a:solidFill>
                <a:latin typeface="Century Gothic"/>
              </a:rPr>
              <a:t>Bij afwijkingen van het hart en van de hersenen, dat ophoesten of een houdingsdrainage  risico met zich mee brengt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243360" indent="-19368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e3d2d"/>
                </a:solidFill>
                <a:latin typeface="Century Gothic"/>
              </a:rPr>
              <a:t>Wanneer de algemene conditie van de cliënt zo slecht is dat alle andere oplossingen voor het vrijmaken van de luchtwegen als extra belasting worden gezien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NADEEL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door het uitzuigen worden luchtwegen geprikkeld tot een verhoogde productie van sputum. Zo krijg je een averechts effect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Uitzuigen gebeurt daarom alleen als preventieve maatregel om de luchtwegen doorgankelijk te houden niet helpen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506" name="Picture 5" descr="ANd9GcSAEoiDreLjWjuAZamtmIO3rxjcU5kdUjTphaaimlBtzLBF3ZIL"/>
          <p:cNvPicPr/>
          <p:nvPr/>
        </p:nvPicPr>
        <p:blipFill>
          <a:blip r:embed="rId1"/>
          <a:stretch/>
        </p:blipFill>
        <p:spPr>
          <a:xfrm>
            <a:off x="2556000" y="981000"/>
            <a:ext cx="38876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PREVENTIEVE MAATRGELE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Houdingsdrainag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Ademhalings- en hoesttechnieke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Medicati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COMPLICATIE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cardiale problemen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beschadiging van het weefs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infecti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Overprikkeling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WEES ALERT BIJ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Verminderd bewustzij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Neuro musculaire aandoeningen (verstoord doorgeven van signalen van en naar de hersenen en/of een ziekte van de spieren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Longemfyseem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Cardiale klachte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MATERIALEN EN APPARATUUR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Afzuigkatheter (45-60 cm lang, variërend 12 tot 16 CH bij volwassenen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Vacuümbreker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Afzuigapparatuur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AANDACHTSPUNTEN BIJ UITZUIGE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Katheter nooit met kracht tegen slijmvlies duwe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Met open katheter in de mond en weer naar buite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Uitzuigen gebeurd tot keelholte (top katheter altijd zichtbaar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Beleving van zorgvrager (angst, onplezierig, opluchting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MONDHOLT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583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2411280" y="2060640"/>
            <a:ext cx="4032360" cy="35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ASEPTISCH WERKE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3e3d2d"/>
                </a:solidFill>
                <a:latin typeface="Century Gothic"/>
              </a:rPr>
              <a:t>Sputum is rijk aan bacteriën, draag handschoenen en evt. mondmasker en schort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3e3d2d"/>
                </a:solidFill>
                <a:latin typeface="Century Gothic"/>
              </a:rPr>
              <a:t>Om infecties te voorkomen zuigkatheter eenmalig gebruiken , opvangfles eenmaal per 24 uur reinigen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3e3d2d"/>
                </a:solidFill>
                <a:latin typeface="Century Gothic"/>
              </a:rPr>
              <a:t>Bekertje water wat je gebruikt bij uitzuigen voor het doorspoelen van katheter na gebruik legen en omspoelen. (stilstaand water bron van bacteriën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EXTRA INFORMATI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e68200"/>
                </a:solidFill>
                <a:uFillTx/>
                <a:latin typeface="Century Gothic"/>
                <a:hlinkClick r:id="rId1"/>
              </a:rPr>
              <a:t>http://static.competence.biz/Content/Zuidwester/Reader%20Uitzuigen%20Mond-%20en%20Keelholte%20(hoog)%</a:t>
            </a:r>
            <a:r>
              <a:rPr b="0" lang="nl-NL" sz="2400" spc="-1" strike="noStrike" u="sng">
                <a:solidFill>
                  <a:srgbClr val="e68200"/>
                </a:solidFill>
                <a:uFillTx/>
                <a:latin typeface="Century Gothic"/>
                <a:hlinkClick r:id="rId2"/>
              </a:rPr>
              <a:t>202010-11.pdf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   </a:t>
            </a: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(theorie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e68200"/>
                </a:solidFill>
                <a:uFillTx/>
                <a:latin typeface="Century Gothic"/>
                <a:hlinkClick r:id="rId3"/>
              </a:rPr>
              <a:t>http://</a:t>
            </a:r>
            <a:r>
              <a:rPr b="0" lang="nl-NL" sz="2400" spc="-1" strike="noStrike" u="sng">
                <a:solidFill>
                  <a:srgbClr val="e68200"/>
                </a:solidFill>
                <a:uFillTx/>
                <a:latin typeface="Century Gothic"/>
                <a:hlinkClick r:id="rId4"/>
              </a:rPr>
              <a:t>instructivity.nl</a:t>
            </a: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   </a:t>
            </a: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(praktijkfilmpje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Wanneer extra zuurstof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Arts schrijft extra zuurstof voor wanneer een zorgvrager te weinig zuurstof in het arteriële bloed heeft (hypoxemie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Bij hypoxemie bevatten de hemoglobinemoleculen onvoldoende zuurstof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Oorzaken opname te weinig zuurstof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Onvoldoende longventilatie,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zorgvrager kan te weinig lucht in- en uitademe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COPD,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neurologische aandoeningen, slaapapneu,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gebruik van slaap- en kalmeringsmiddelen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morfine in hoge doseringen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94c600"/>
                </a:solidFill>
                <a:latin typeface="Century Gothic"/>
              </a:rPr>
              <a:t>Zuurstoftoediening werkt niet bij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Bloedarmoed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Onvoldoende pompwerking van het hart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Verschillende zuurstofbronne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e3d2d"/>
                </a:solidFill>
                <a:latin typeface="Century Gothic"/>
              </a:rPr>
              <a:t>Zuurstofcilinder (met samengeperste zuurstof)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516" name="Picture 6" descr="ANd9GcQK9ZeSRfXed_HkIzOOAsOwpPu17KE15tPVKOBS_quebVoX320O"/>
          <p:cNvPicPr/>
          <p:nvPr/>
        </p:nvPicPr>
        <p:blipFill>
          <a:blip r:embed="rId1"/>
          <a:stretch/>
        </p:blipFill>
        <p:spPr>
          <a:xfrm>
            <a:off x="5148360" y="1844640"/>
            <a:ext cx="3240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Verschillende zuurstofbronne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e3d2d"/>
                </a:solidFill>
                <a:latin typeface="Century Gothic"/>
              </a:rPr>
              <a:t>Concentrator (haalt zuurstof uit de gewone lucht)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520" name="Picture 6" descr="ANd9GcR_3vIOEbQwREG9XO7BbD4AOFVb4qnogOkDEAzcpkDQ_87Z1qgliw"/>
          <p:cNvPicPr/>
          <p:nvPr/>
        </p:nvPicPr>
        <p:blipFill>
          <a:blip r:embed="rId1"/>
          <a:stretch/>
        </p:blipFill>
        <p:spPr>
          <a:xfrm>
            <a:off x="5148360" y="1844640"/>
            <a:ext cx="28083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Verschillende zuurstofbronne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e3d2d"/>
                </a:solidFill>
                <a:latin typeface="Century Gothic"/>
              </a:rPr>
              <a:t>Vloeibare zuurstof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524" name="Picture 6" descr="ANd9GcTxi5DXY6_FPz_cUyQyFYU1yMV7NSgY2TthAzRQtXSInvKmVTYI"/>
          <p:cNvPicPr/>
          <p:nvPr/>
        </p:nvPicPr>
        <p:blipFill>
          <a:blip r:embed="rId1"/>
          <a:stretch/>
        </p:blipFill>
        <p:spPr>
          <a:xfrm>
            <a:off x="5292720" y="1916280"/>
            <a:ext cx="27352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18:11:48Z</dcterms:created>
  <dc:creator>c</dc:creator>
  <dc:description/>
  <dc:language>en-US</dc:language>
  <cp:lastModifiedBy>Henrieke Groenewold</cp:lastModifiedBy>
  <dcterms:modified xsi:type="dcterms:W3CDTF">2016-10-24T15:15:21Z</dcterms:modified>
  <cp:revision>16</cp:revision>
  <dc:subject/>
  <dc:title>ZUURSTOF TOEDIENEN</dc:title>
</cp:coreProperties>
</file>