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D7A6-9133-41A0-94D4-7F3CCB548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7E49-33B2-4431-81D3-F8C224C5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4D6D-6B17-46D0-8ACA-4DCD6213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0870-187A-4048-8329-E2E4EB7B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84D2-CF17-48CB-B61E-26C5AF81D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4FAE-CFC3-4839-8BAE-4A29433C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974E-7649-4374-84AE-44C5FD9B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214A-7951-45EC-B1D9-02BAE7A5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F759-817A-4D7C-A0F5-3880608D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1F92-4E38-4CC0-BFE6-3B5AE45F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F393-712E-4A1B-B8D0-49DB1FB5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42D9-1230-4BDB-8EB0-F0EF66E1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0910-CC5E-489D-9CA6-14BF0054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E291-FE0E-40E9-882E-1BB8ED5A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B81F-6F88-458C-AFF7-81C6841CD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07CC-4515-44F0-A0E4-05B737E88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0792-9AD7-4429-BD96-09A9F4A73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4E837-9105-45E5-9B23-1FD7F6F43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AA4DED-68C0-4551-9505-B143E87B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EB423B-3759-4393-81B9-1C7BB749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A43FDD-654A-4A84-9E55-5F03626A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51C2EF-3BAC-45AE-9536-40CC3BD5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D6E6-6B04-4DA1-9C44-CA83DE09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A6BB4B-E9FB-4863-814F-8177A3A8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4757ED-34D2-491C-B34A-7ACD1F90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60F959-32BD-4F0A-8BCE-7A79B8EF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BFEA1C-D6F9-475A-8586-43E103E2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3054D5-7BF0-4488-9D64-1995B03E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D1760F-58C8-488B-AA0D-D7CD0FA44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07919B-4AE5-4CC3-87F0-CA6F6A30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716A0-E8CB-417E-B0B5-CBC57BAF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41D7F-B37F-4799-B615-9321CA34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937E9-A11E-41A9-8FBF-EB693831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1060-3FC4-4B31-BEE1-A20F877D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54C7D-D469-4C82-BDBC-E3D45E26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8DAD8-E3F1-4707-A253-480C1F64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4588E-EEC5-4FE1-85B7-7CFF07D5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F2132-8A53-42B6-AA5F-BF5BAE10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2B61C-846B-4807-A890-1038CC6F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9078E-0B02-4507-B6F4-5E4C16E7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493E7-D085-4A98-AAC8-78F7EEBE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A9DE1-81AC-423E-A910-81310F4E3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BD6D4-A267-4607-BEB5-89E7C820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B7A52-68C0-41B9-B48B-0C9D8A86C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4128-7C72-4EB2-8D22-455B74A1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DE153-D17E-4B52-86D0-92D89DE6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25F09-B302-45B4-ACD3-73E31D02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81BEC-F1FF-41AC-B000-22636052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16F3F-5D80-4FE4-800D-C1E3546A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B36B6-C9AE-4868-B455-B889FBDA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229D9-64B0-4922-9EBE-CB58B0E0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C9E2B-AF96-4089-9D5F-BE39D0E5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95205-A47E-42E6-9794-11D77A42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0B718-631F-4D9F-BB38-F8A53F44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5EB9A-4C69-484A-94E1-FD506956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DDEA-5262-477D-9753-1358D8CC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66AD2-F816-474B-981C-5B535D20A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6FE74-F372-493E-ADB4-7FA24BD9B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A3235-2357-4D47-94E5-D835A297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D6247-6F06-42C3-9CC5-E149EC69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AB1AF-5FF1-4586-AB2B-36835C8F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F6CA9-3C5C-48E5-9629-55B657F7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F9A5E-FF31-4404-9235-8C1229FB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FC23F-E6D9-4E6E-8104-4CAD3F22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8E3A1-8F10-49A9-89AD-F62EE185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B94B7-99FE-471B-97CC-7BC748AD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8EE5-D95F-4E55-9577-24F9A877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C4EB7-BFAD-4ACC-BC35-FFC974FA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90E4E-F540-4C0E-8FA3-D9DF88359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0550C-2CD0-4F69-A30D-E6B072A89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F097-D62C-47CA-8D2F-91397345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E176-7E83-499C-806F-8D85321C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9BE8-C6B8-474F-881C-A3D34A1F943A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A6B8-D580-4717-97D3-9BC04C5FD9E4}" type="slidenum">
              <a:rPr b="0" lang="nl-NL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AE82-D5B2-4D53-B165-C213523AC03F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82B0-7CD8-4B4C-900B-5F3232B63401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336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337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38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342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346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9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AF6C-638E-4D46-BD07-243427F010AF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419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420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421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425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429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2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AEB5-B1E2-4270-A08E-70FCD1C84B01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static.competence.biz/Content/Zuidwester/Reader%20Uitzuigen%20Mond-%20en%20Keelholte%20(hoog)%202010-11.pdf" TargetMode="External"/><Relationship Id="rId2" Type="http://schemas.openxmlformats.org/officeDocument/2006/relationships/hyperlink" Target="http://static.competence.biz/Content/Zuidwester/Reader%20Uitzuigen%20Mond-%20en%20Keelholte%20(hoog)%202010-11.pdf" TargetMode="External"/><Relationship Id="rId3" Type="http://schemas.openxmlformats.org/officeDocument/2006/relationships/hyperlink" Target="http://instructivity.nl/" TargetMode="External"/><Relationship Id="rId4" Type="http://schemas.openxmlformats.org/officeDocument/2006/relationships/hyperlink" Target="http://instructivity.nl/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org voor ademhaling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424242"/>
                </a:solidFill>
                <a:latin typeface="Century Gothic"/>
              </a:rPr>
              <a:t>Verpleegtechnische handelingen hfst 21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Toedieningssystem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Neuskatheter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28" name="Picture 6" descr="221568_09i"/>
          <p:cNvPicPr/>
          <p:nvPr/>
        </p:nvPicPr>
        <p:blipFill>
          <a:blip r:embed="rId1"/>
          <a:stretch/>
        </p:blipFill>
        <p:spPr>
          <a:xfrm>
            <a:off x="5508720" y="2492280"/>
            <a:ext cx="2519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Toedieningssysteem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Zuurstofbril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32" name="Picture 6" descr="ANd9GcSmThk-T6M2XEE8ojjJjl5NL-ZE3LXFQ-N_i2gEt8YTTcX7SjgU"/>
          <p:cNvPicPr/>
          <p:nvPr/>
        </p:nvPicPr>
        <p:blipFill>
          <a:blip r:embed="rId1"/>
          <a:stretch/>
        </p:blipFill>
        <p:spPr>
          <a:xfrm>
            <a:off x="5148360" y="2349360"/>
            <a:ext cx="302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Toedieningssystem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Zuurstofmasker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36" name="Picture 6" descr="221568_09l"/>
          <p:cNvPicPr/>
          <p:nvPr/>
        </p:nvPicPr>
        <p:blipFill>
          <a:blip r:embed="rId1"/>
          <a:stretch/>
        </p:blipFill>
        <p:spPr>
          <a:xfrm>
            <a:off x="4788000" y="2565360"/>
            <a:ext cx="38098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Transtracheale katheter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39" name="Picture 6" descr="ANd9GcRluskiBxDPpOR-ZaJXqisOVHH8I7AVIZCSBxFBw9va89L_N0pz"/>
          <p:cNvPicPr/>
          <p:nvPr/>
        </p:nvPicPr>
        <p:blipFill>
          <a:blip r:embed="rId1"/>
          <a:stretch/>
        </p:blipFill>
        <p:spPr>
          <a:xfrm>
            <a:off x="5435640" y="2349360"/>
            <a:ext cx="2232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Emoties van de zorgvrager bij zuurstof toediening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Angst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Onzekerheid en verdrie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Opluchting en rus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oorlichting gev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De wijze waarop de zuurstof wordt toegediend (apparatuur en hulpmiddelen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Wat de zorgvrager wel en niet kan doen als hij zuurstof krijgt en wat de veiligheidsmaatregelen zij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De reden van toedienen van zuurstof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oorlichting gev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Hoe de zorgvrager het inbrengen van de zuurstofkatheter en het gebruik van zuurstof kan ervaren (kokhalzen, heel kort benauwd gevoel, geen pijn, kriebel in de neu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oorlichting gev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Wanneer de zorgvrager moet waarschuwen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ij blijvende benauwdhei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ij een lege zuurstof cilinde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ij een lege luchtbevochtiger (bij toediening boven 2l p/m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ij andere problemen of klacht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Hygiën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Verschoon de luchtbevochter dagelijk om infecties te voorkom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Controleer de luchtbevochter op steriliteitdatum en vacuü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De zuurstofkatheter of zuurstofmasker verwissel je dagelijk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15560" y="475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eilighei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755280" y="161892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Verboden te roken!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Zorg voor goede ventilati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Concentratier niet in de buurt van een warmtebron (kachel, zon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Zet cilinders goed vast zodat ze niet omvall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Pas op met statische electriciteit (nylon kleding, haren kammen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Gebruik bij insmeren gezicht geen vette créme, zalf of oli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Opname zuurstof (O2)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De luchtwegen transporteren de ingeademde lucht naar de long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In de longblaasjes wordt zuurstof opgenomen en koolzuurgas uitgescheid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De zuurstof wordt via het bloed naar de cellen getransporteer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Symptomen bij teveel zuurstof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Hoofdpij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Prikkelbaarhei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Slaperighei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ewustzijnstoornissen (bij roze huidskleur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Symptomen bij te weinig zuurstof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Kortademigheid in rust en lichte inspannin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Sufheid, vergeetachtigheid, verwardhei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Raar gevoel in het hoof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Snelle pol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lauwe verkleuring van huid en nagel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4c600"/>
                </a:solidFill>
                <a:latin typeface="Century Gothic"/>
              </a:rPr>
              <a:t>Berekenen v.d resterende tijd v.d beschikbare zuurstof in de cilinder.</a:t>
            </a:r>
            <a:br>
              <a:rPr sz="3200"/>
            </a:b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nl-NL" sz="2600" spc="-1" strike="noStrike">
                <a:solidFill>
                  <a:srgbClr val="3e3d2d"/>
                </a:solidFill>
                <a:latin typeface="Century Gothic"/>
              </a:rPr>
              <a:t>Druk x inhoud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3e3d2d"/>
                </a:solidFill>
                <a:latin typeface="Century Gothic"/>
              </a:rPr>
              <a:t>_______________________ : 60 = … uren 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3e3d2d"/>
                </a:solidFill>
                <a:latin typeface="Century Gothic"/>
              </a:rPr>
              <a:t>Liters zuurstof per minuut 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3e3d2d"/>
                </a:solidFill>
                <a:latin typeface="Century Gothic"/>
              </a:rPr>
              <a:t>Vb. De druk van zuurstof in een cilinder van 40 liter bedraagt 120 bar. Toe te dienen zuurstof is 4 L/min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3e3d2d"/>
                </a:solidFill>
                <a:latin typeface="Century Gothic"/>
              </a:rPr>
              <a:t> </a:t>
            </a:r>
            <a:r>
              <a:rPr b="0" lang="nl-NL" sz="2600" spc="-1" strike="noStrike" u="sng">
                <a:solidFill>
                  <a:srgbClr val="3e3d2d"/>
                </a:solidFill>
                <a:uFillTx/>
                <a:latin typeface="Century Gothic"/>
              </a:rPr>
              <a:t>  </a:t>
            </a:r>
            <a:r>
              <a:rPr b="0" lang="nl-NL" sz="2600" spc="-1" strike="noStrike" u="sng">
                <a:solidFill>
                  <a:srgbClr val="3e3d2d"/>
                </a:solidFill>
                <a:uFillTx/>
                <a:latin typeface="Century Gothic"/>
              </a:rPr>
              <a:t>120bar x 40     </a:t>
            </a:r>
            <a:r>
              <a:rPr b="0" lang="nl-NL" sz="2600" spc="-1" strike="noStrike">
                <a:solidFill>
                  <a:srgbClr val="3e3d2d"/>
                </a:solidFill>
                <a:latin typeface="Century Gothic"/>
              </a:rPr>
              <a:t>: 60 = 20 uur 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600" spc="-1" strike="noStrike">
                <a:solidFill>
                  <a:srgbClr val="3e3d2d"/>
                </a:solidFill>
                <a:latin typeface="Century Gothic"/>
              </a:rPr>
              <a:t>  </a:t>
            </a:r>
            <a:r>
              <a:rPr b="0" lang="nb-NO" sz="2600" spc="-1" strike="noStrike">
                <a:solidFill>
                  <a:srgbClr val="3e3d2d"/>
                </a:solidFill>
                <a:latin typeface="Century Gothic"/>
              </a:rPr>
              <a:t>4 L/min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Trachea canule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42424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Filmpje canule verzorging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1042560" y="2323800"/>
            <a:ext cx="677700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4c600"/>
                </a:solidFill>
                <a:latin typeface="Century Gothic"/>
              </a:rPr>
              <a:t>MOND- EN KEELHOLTE UITZUIGEN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800" spc="-1" strike="noStrike">
              <a:solidFill>
                <a:srgbClr val="424242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DOEL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Het vrijmaken van de bovenste luchtwegen van sputum, speeksel, maaginhoud of bloed, zodat de ademweg weer doorgankelijk word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ANATOMI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56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3384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INDICATIE UITZUIG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19368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Wanneer een cliënt zelf niet goed kan ophoesten of slikken (bewusteloze of een uitgeputte zorgvrager, zorgvrager met hoge dwarslaesie, zorgvrager met ernstige longproblematiek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243360" indent="-19368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Bij afwijkingen van het hart en van de hersenen, dat ophoesten of een houdingsdrainage  risico met zich mee brengt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243360" indent="-19368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Wanneer de algemene conditie van de cliënt zo slecht is dat alle andere oplossingen voor het vrijmaken van de luchtwegen als extra belasting worden gezien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NADEEL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door het uitzuigen worden luchtwegen geprikkeld tot een verhoogde productie van sputum. Zo krijg je een averechts effect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Uitzuigen gebeurt daarom alleen als preventieve maatregel om de luchtwegen doorgankelijk te houden niet helpen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06" name="Picture 5" descr="ANd9GcSAEoiDreLjWjuAZamtmIO3rxjcU5kdUjTphaaimlBtzLBF3ZIL"/>
          <p:cNvPicPr/>
          <p:nvPr/>
        </p:nvPicPr>
        <p:blipFill>
          <a:blip r:embed="rId1"/>
          <a:stretch/>
        </p:blipFill>
        <p:spPr>
          <a:xfrm>
            <a:off x="2556000" y="981000"/>
            <a:ext cx="3887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PREVENTIEVE MAATRGEL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Houdingsdrainag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Ademhalings- en hoesttechniek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Medicati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COMPLICATI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cardiale problemen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eschadiging van het weefs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infecti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Overprikkeling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WEES ALERT BIJ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Verminderd bewustzij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Neuro musculaire aandoeningen (verstoord doorgeven van signalen van en naar de hersenen en/of een ziekte van de spieren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Longemfysee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Cardiale klacht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MATERIALEN EN APPARATUUR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Afzuigkatheter (45-60 cm lang, variërend 12 tot 16 CH bij volwassenen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Vacuümbreke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Afzuigapparatuu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AANDACHTSPUNTEN BIJ UITZUIG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Katheter nooit met kracht tegen slijmvlies duw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Met open katheter in de mond en weer naar buit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Uitzuigen gebeurd tot keelholte (top katheter altijd zichtbaar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eleving van zorgvrager (angst, onplezierig, opluchting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MONDHOLT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583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2411280" y="2060640"/>
            <a:ext cx="403236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ASEPTISCH WERK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3e3d2d"/>
                </a:solidFill>
                <a:latin typeface="Century Gothic"/>
              </a:rPr>
              <a:t>Sputum is rijk aan bacteriën, draag handschoenen en evt. mondmasker en schor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3e3d2d"/>
                </a:solidFill>
                <a:latin typeface="Century Gothic"/>
              </a:rPr>
              <a:t>Om infecties te voorkomen zuigkatheter eenmalig gebruiken , opvangfles eenmaal per 24 uur reinigen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3e3d2d"/>
                </a:solidFill>
                <a:latin typeface="Century Gothic"/>
              </a:rPr>
              <a:t>Bekertje water wat je gebruikt bij uitzuigen voor het doorspoelen van katheter na gebruik legen en omspoelen. (stilstaand water bron van bacteriën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EXTRA INFORMATI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e68200"/>
                </a:solidFill>
                <a:uFillTx/>
                <a:latin typeface="Century Gothic"/>
                <a:hlinkClick r:id="rId1"/>
              </a:rPr>
              <a:t>http://static.competence.biz/Content/Zuidwester/Reader%20Uitzuigen%20Mond-%20en%20Keelholte%20(hoog)%</a:t>
            </a:r>
            <a:r>
              <a:rPr b="0" lang="nl-NL" sz="2400" spc="-1" strike="noStrike" u="sng">
                <a:solidFill>
                  <a:srgbClr val="e68200"/>
                </a:solidFill>
                <a:uFillTx/>
                <a:latin typeface="Century Gothic"/>
                <a:hlinkClick r:id="rId2"/>
              </a:rPr>
              <a:t>202010-11.pdf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(theorie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e68200"/>
                </a:solidFill>
                <a:uFillTx/>
                <a:latin typeface="Century Gothic"/>
                <a:hlinkClick r:id="rId3"/>
              </a:rPr>
              <a:t>http://</a:t>
            </a:r>
            <a:r>
              <a:rPr b="0" lang="nl-NL" sz="2400" spc="-1" strike="noStrike" u="sng">
                <a:solidFill>
                  <a:srgbClr val="e68200"/>
                </a:solidFill>
                <a:uFillTx/>
                <a:latin typeface="Century Gothic"/>
                <a:hlinkClick r:id="rId4"/>
              </a:rPr>
              <a:t>instructivity.nl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(praktijkfilmpje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Wanneer extra zuurstof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Arts schrijft extra zuurstof voor wanneer een zorgvrager te weinig zuurstof in het arteriële bloed heeft (hypoxemie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ij hypoxemie bevatten de hemoglobinemoleculen onvoldoende zuurstof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Oorzaken opname te weinig zuurstof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Onvoldoende longventilatie,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zorgvrager kan te weinig lucht in- en uitadem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COPD,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neurologische aandoeningen, slaapapneu,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gebruik van slaap- en kalmeringsmiddelen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morfine in hoge doseringen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uurstoftoediening werkt niet bij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loedarmoed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Onvoldoende pompwerking van het hart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erschillende zuurstofbronn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Zuurstofcilinder (met samengeperste zuurstof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16" name="Picture 6" descr="ANd9GcQK9ZeSRfXed_HkIzOOAsOwpPu17KE15tPVKOBS_quebVoX320O"/>
          <p:cNvPicPr/>
          <p:nvPr/>
        </p:nvPicPr>
        <p:blipFill>
          <a:blip r:embed="rId1"/>
          <a:stretch/>
        </p:blipFill>
        <p:spPr>
          <a:xfrm>
            <a:off x="5148360" y="1844640"/>
            <a:ext cx="3240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erschillende zuurstofbronn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Concentrator (haalt zuurstof uit de gewone lucht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20" name="Picture 6" descr="ANd9GcR_3vIOEbQwREG9XO7BbD4AOFVb4qnogOkDEAzcpkDQ_87Z1qgliw"/>
          <p:cNvPicPr/>
          <p:nvPr/>
        </p:nvPicPr>
        <p:blipFill>
          <a:blip r:embed="rId1"/>
          <a:stretch/>
        </p:blipFill>
        <p:spPr>
          <a:xfrm>
            <a:off x="5148360" y="1844640"/>
            <a:ext cx="2808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4c600"/>
                </a:solidFill>
                <a:latin typeface="Century Gothic"/>
              </a:rPr>
              <a:t>Verschillende zuurstofbronne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e3d2d"/>
                </a:solidFill>
                <a:latin typeface="Century Gothic"/>
              </a:rPr>
              <a:t>Vloeibare zuurstof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524" name="Picture 6" descr="ANd9GcTxi5DXY6_FPz_cUyQyFYU1yMV7NSgY2TthAzRQtXSInvKmVTYI"/>
          <p:cNvPicPr/>
          <p:nvPr/>
        </p:nvPicPr>
        <p:blipFill>
          <a:blip r:embed="rId1"/>
          <a:stretch/>
        </p:blipFill>
        <p:spPr>
          <a:xfrm>
            <a:off x="5292720" y="1916280"/>
            <a:ext cx="2735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8:11:48Z</dcterms:created>
  <dc:creator>c</dc:creator>
  <dc:description/>
  <dc:language>en-US</dc:language>
  <cp:lastModifiedBy>Henrieke Groenewold</cp:lastModifiedBy>
  <dcterms:modified xsi:type="dcterms:W3CDTF">2016-10-24T15:15:21Z</dcterms:modified>
  <cp:revision>16</cp:revision>
  <dc:subject/>
  <dc:title>ZUURSTOF TOEDIENEN</dc:title>
</cp:coreProperties>
</file>