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dt" idx="15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1FEDE-11E0-45EA-99CA-D7DD91627F4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74201-E79E-445F-A20F-6DB427E2D6D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180490-0A00-42BB-BC4D-921E92893E1B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11A00-20C7-4EC4-96DE-240B7F85113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046C2E-F3BE-4FCD-9128-9E81584E943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17C9-40F1-4417-B04D-536080F15C7F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0E8684-FFEE-4787-BBE9-10787D1F9485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6A9A8-9170-45B2-A58D-5CFC1A80F6C1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FBFFD1-2ADE-4199-A726-86997D2D32FD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ABADF-C66F-4CB5-9BBC-FDC2736909AA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35490E-FC22-4FAA-BADC-354D8A8D2FD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80038-7776-4796-B67E-1B4F4733FCB4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BD1FB1-10DA-4F36-ABDD-9FDC866AC16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8F3C3-B9C2-4099-8B8F-4A2E33B6CF1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13F142-8EAF-485D-8E4D-9DC293B5D40B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45BD6-3802-4BA2-ACBD-7B5FA1EF5AB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4745ED-0A3E-4A0D-87EA-6C6224A87938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A9B66-BF34-4336-B2BD-5F475CBAED4C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F6059-DD05-4B3E-AD8B-09AC4C65E1B6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1D0A8-AFEB-4347-9551-B64152FA986E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A00EFD-9617-4842-AA37-6AD82DED44C7}" type="slidenum">
              <a:rPr b="0" lang="nl-NL" sz="13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419A-145A-4388-8B69-1886C9D34B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7D16-CEAB-4F19-BE45-1C57B171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034F-F4D6-4D03-A5E7-FE9DE44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8261-6A2F-4F09-A479-13544C9118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8C93E-9EE7-4178-9D26-5035474372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15A0C-A041-40D3-9037-26AB8244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C3B23-0CD2-475D-B7D2-470470FB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F947E-40AE-4998-AD5A-11BFCA01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74039-36CB-4EDD-A106-69275AF5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96B1B-41D8-4E5B-85A4-BB7396BE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9D576-DCEF-422E-A2AA-7EE22304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7F3C7-9F33-48B7-B032-80DF7429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8C21E-2702-4E2D-BE8A-69EC003E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31AD7-902E-44C9-8A20-2BA61723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13BF4-1A61-4312-9D61-FB101F21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8A68C-9096-417D-A4BD-F163B7E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34A83-BFEA-42D6-B7C4-3CC6FCD6F5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FE5D-69C2-4C33-A39F-4AE8EB5BCD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61E9-46F1-4E93-A8B5-FD4EC4E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C1B0-12A2-4EE0-87E5-FB0FFA05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DC5F-0A91-46C8-93EE-205CB76B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46A1-9C9A-4F0B-8536-AAA91C49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D37D-B935-4C51-BF86-DC2C1F19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1CE3-8495-4B06-AB98-15905048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77F1-19B1-4762-8E7D-3EA8A748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A36-C542-48B1-8A4D-5F837D8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F486-A917-4AAA-86CA-C9D3AFB3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BDEB-73DA-46FB-92A1-800F044E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F8FE-DCDF-4287-9A04-D6214563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6365-DE93-4DCC-81B7-DF5B7075FD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8434F-AC8F-4028-A00C-1CFDBD72F9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6CBD8-0763-4345-8E93-0176065A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5A3B0-9A35-486B-8FE8-7E3FAA2D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C84B-AB52-4826-BA4D-26685DE1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5905E-C7D5-462F-BF89-EB14568B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48764-EB78-42AD-962D-5C8B51A5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F430E-41E4-4B3D-B239-F13DF10B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0A80FF-9CB0-4660-832F-B91B574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C6217-DDF6-4501-A755-D9365C7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97551-801F-4EF2-800B-A825F4D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8D8E3-FFC8-4E47-99EE-3C3A9385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E746C-FE73-40A9-9F2C-355CD47A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5656E-B82D-458C-959E-8B6136E411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DBDB1C-BC02-4DAB-9E81-794FF19C1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E0B4-80A6-4E95-8AFD-9CCA010E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16F97-D24F-42CF-908B-F25DE94E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C6C5E-9619-4A13-B9DC-36F1993C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6D275-89DB-4B00-8A50-B9337875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124E2-8448-4417-B817-A2790289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F590A-2EF9-40A9-98BE-B1FFB6B4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5E9B9C-84C3-4C0C-B6FA-C2F62382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0CA8C-9912-46B8-87B4-BBDABE3E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1E0DD-1B50-4C10-AB3B-869C694F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F4C8B-CC9E-4805-A546-BBEA7512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41657-5A26-43B0-8285-F0E1A649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5A50-852E-444B-9DC3-3F327098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ECB805-D6F8-4DB5-B3A7-1A8E504E5B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E3F1F-D2B0-456B-8C46-706E5F2D6D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66A2-BC38-40AE-BEBD-C68E8CAD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E1A0-738D-4BE2-8F89-5A1971EB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C82F1-9C98-47DD-A72C-F4844843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EF130-752D-4281-A0F9-6DFA9C26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A2C98-7C68-438B-B22F-F557B67A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12A5C-112F-45FF-99E1-CE8D76DF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8411-755D-45F2-BF7A-458DDB5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313C-1235-4E4A-BE28-291B0D3E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FD3A-F602-4363-84F0-22E98719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9174-C917-431C-B22C-FDD0333C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53653-EF84-4A8B-8910-1F3937C1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D45CA-1674-4A49-BE18-3112D139C0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9C199-B8F4-4754-AB19-6B79FFEC4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9239B9-39D3-40A5-B8A4-0A3DE649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A5859A-A2A8-40CA-95B7-EE81A57F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5AC421-8307-4045-9205-FE35F096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86F53C-570C-46F6-9161-6BB65419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6480"/>
            <a:ext cx="8151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41B3C-FB7D-447B-89E9-479643D9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D1DAD-C6BD-44E8-BF46-D644E4E9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21E2-3786-4747-BFC1-13B96073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6FA53-6118-43C7-B625-0C7A0BF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81D190-109C-4104-86A8-0E2FC600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970E0B-48D2-4EB4-99F9-7D72C3F1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E451FE-88BB-4C82-93B2-3F802F9D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EFAEA-39C7-40B8-BCD8-20EFBEF6A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23DC-D360-4288-B9CE-F6DF2F98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ACD4B53-B9FA-4A7A-B240-1DBDF0F9D024}" type="slidenum">
              <a:rPr b="1" lang="nl-NL" sz="1400" spc="-1" strike="noStrike">
                <a:solidFill>
                  <a:srgbClr val="ebddc3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F8AFDD-12D9-4F63-AF66-F9094C06942E}" type="slidenum">
              <a:rPr b="1" lang="nl-NL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FD055A-7EFB-4AB4-AFEB-D8BA6E3D7A23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3C18ED-1842-4E47-A852-22FA6018CC45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0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3C468D-46B2-4070-9EB5-1B4D371591E1}" type="slidenum">
              <a:rPr b="1" lang="nl-NL" sz="1400" spc="-1" strike="noStrike">
                <a:solidFill>
                  <a:srgbClr val="775f55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1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533C42-590F-4B87-AC3C-E2084F63AF80}" type="slidenum">
              <a:rPr b="1" lang="nl-NL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6480"/>
            <a:ext cx="8151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4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CEBD75-711F-4884-B061-E64CFA7F8D03}" type="slidenum">
              <a:rPr b="1" lang="nl-NL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2050920" y="3716280"/>
            <a:ext cx="54295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nl-NL" sz="8800" spc="-1" strike="noStrike">
                <a:solidFill>
                  <a:srgbClr val="ebddc3"/>
                </a:solidFill>
                <a:latin typeface="Tw Cen MT"/>
              </a:rPr>
              <a:t>WELKOM</a:t>
            </a:r>
            <a:endParaRPr b="0" lang="en-US" sz="8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GZ, H11 (behalve de par. over zorg en beg. en communicatie) 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85-117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VVT2, H2</a:t>
            </a:r>
            <a:br>
              <a:rPr sz="1400"/>
            </a:br>
            <a:r>
              <a:rPr b="0" i="1" lang="nl-NL" sz="1400" spc="-1" strike="noStrike">
                <a:solidFill>
                  <a:srgbClr val="ffffff"/>
                </a:solidFill>
                <a:latin typeface="Tw Cen MT"/>
              </a:rPr>
              <a:t>Schooltas blz. 22-29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w Cen MT"/>
              </a:rPr>
              <a:t>GHZ, H16.4</a:t>
            </a: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5" name="Text Box 2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Tw Cen MT"/>
              </a:rPr>
              <a:t>Presentatie ‘Depressie onder ouderen ’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0" y="62150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5" descr="http://albertsonnevelt.nl/wp-content/uploads/2013/07/helpen-medicijnen-tegen-depressie.png"/>
          <p:cNvPicPr/>
          <p:nvPr/>
        </p:nvPicPr>
        <p:blipFill>
          <a:blip r:embed="rId1"/>
          <a:stretch/>
        </p:blipFill>
        <p:spPr>
          <a:xfrm>
            <a:off x="3854520" y="47628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"/>
          <p:cNvSpPr/>
          <p:nvPr/>
        </p:nvSpPr>
        <p:spPr>
          <a:xfrm>
            <a:off x="258840" y="2924280"/>
            <a:ext cx="7121520" cy="65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775f55"/>
                </a:solidFill>
                <a:latin typeface="Tw Cen MT"/>
              </a:rPr>
              <a:t>I</a:t>
            </a: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n gesprek gaan met zorgvrager en of familie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Probleem bespreken in het MDO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Gesprekken regelen met psychiater of psycholoog.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een dagprogramma maken.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Eventueel medicatie geven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Filmpje over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1" lang="nl-NL" sz="2800" spc="-1" strike="noStrike">
                <a:solidFill>
                  <a:srgbClr val="775f55"/>
                </a:solidFill>
                <a:latin typeface="Tw Cen MT"/>
              </a:rPr>
              <a:t>Tips over omgaan met depressie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1332000" y="155736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Hoe te hande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1371600" y="2743200"/>
            <a:ext cx="712296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eb je te maken gehad met een depressie in je omgeving/ stage/ werk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Wat houd een depressie precies in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Hoe ga je  hier mee om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w Cen MT"/>
              </a:rPr>
              <a:t>Wat weet je al van een depressie?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9" name="Picture 5" descr="http://www.ggznieuws.nl/home/wp-content/uploads/2013/02/depressie-werk1.jpg"/>
          <p:cNvPicPr/>
          <p:nvPr/>
        </p:nvPicPr>
        <p:blipFill>
          <a:blip r:embed="rId1"/>
          <a:stretch/>
        </p:blipFill>
        <p:spPr>
          <a:xfrm>
            <a:off x="6732720" y="3438360"/>
            <a:ext cx="2087280" cy="31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1"/>
          <p:cNvSpPr/>
          <p:nvPr/>
        </p:nvSpPr>
        <p:spPr>
          <a:xfrm>
            <a:off x="971640" y="2505240"/>
            <a:ext cx="7515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Wanneer er minstens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twee weken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bijna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elke dag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5 van de volgende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symptomen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 aanwezig zijn: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Depressieve/sombere stemmin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lies van belangstelling en interesse in bijna alle activiteit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anderde eetlust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Problemen met slape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jaagd of geremd gedra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oeidheid en verlies van energ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Gevoelens van waardeloosheid of onterechte schuldgevoelen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Verminderd vermogen tot nadenken of concentrat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Terugkerende gedachten aan de doo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Er is sprake van een depressie als deze symptomen </a:t>
            </a:r>
            <a:r>
              <a:rPr b="1" lang="nl-NL" sz="1600" spc="-1" strike="noStrike">
                <a:solidFill>
                  <a:srgbClr val="775f55"/>
                </a:solidFill>
                <a:latin typeface="Tw Cen MT"/>
              </a:rPr>
              <a:t>niet </a:t>
            </a:r>
            <a:r>
              <a:rPr b="0" lang="nl-NL" sz="1600" spc="-1" strike="noStrike">
                <a:solidFill>
                  <a:srgbClr val="775f55"/>
                </a:solidFill>
                <a:latin typeface="Tw Cen MT"/>
              </a:rPr>
              <a:t>komen uit een lichamelijke aandoening of een rouwreactie  filmpje over depressie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378080" y="14842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Depressie bij de zorgvrager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2" name="Picture 3" descr=""/>
          <p:cNvPicPr/>
          <p:nvPr/>
        </p:nvPicPr>
        <p:blipFill>
          <a:blip r:embed="rId1"/>
          <a:stretch/>
        </p:blipFill>
        <p:spPr>
          <a:xfrm>
            <a:off x="7116840" y="2997360"/>
            <a:ext cx="1869840" cy="278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371600" y="2743200"/>
            <a:ext cx="712296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gelief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lichamelijke mogelijkhed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sociale status(bijv. ouderrol,werk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financiële statu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cognitieve functies(denken, geheugen, nieuwe informatie opnem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Verlies van relationeel netwerk(vrienden, kennissen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Oorzaken depressie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1"/>
          <p:cNvSpPr/>
          <p:nvPr/>
        </p:nvSpPr>
        <p:spPr>
          <a:xfrm>
            <a:off x="1365120" y="2565360"/>
            <a:ext cx="712332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Naarmate men ouder wordt bestaat er een groter risico op een depressie. Een aantal risicofactoren op een rijtje: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Rou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Slaapstoorniss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Lichamelijke beperk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erdere depressi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rouwelijk geslacht(veelal weduwen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sociale contac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andering rolpatroon(o.m. het wegvallen van werk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Traumatische oorlogservaring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Verlies van naast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Afnemende vitalitei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775f55"/>
                </a:solidFill>
                <a:latin typeface="Tw Cen MT"/>
              </a:rPr>
              <a:t>Erfelijk bepaald(2 tot 3 keer meer risico bij depressie in familie)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371600" y="136044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Risicofactoren bij ouder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28" name="Picture 6" descr="http://www.seniorbeter.nl/wp-content/uploads/2010/12/header_dag1.jpg"/>
          <p:cNvPicPr/>
          <p:nvPr/>
        </p:nvPicPr>
        <p:blipFill>
          <a:blip r:embed="rId1"/>
          <a:stretch/>
        </p:blipFill>
        <p:spPr>
          <a:xfrm>
            <a:off x="2484360" y="0"/>
            <a:ext cx="4175280" cy="15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992160" y="2631960"/>
            <a:ext cx="712332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elal somber en lustelo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minderde eetslus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laapproblem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nerg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Weinig emot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libid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temmingswisseling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Geen initiatief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Verlaagd zelfbeel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Spreekt veel over de doo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775f55"/>
                </a:solidFill>
                <a:latin typeface="Tw Cen MT"/>
              </a:rPr>
              <a:t>filmpje over depressi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Signalen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1" name="Picture 6" descr="http://www.limburg.be/webfiles/limburg/leven/zorgenwelzijn/ouderen_en_depressie_cover_definitief.jpg?hid=img;w=545;q=100"/>
          <p:cNvPicPr/>
          <p:nvPr/>
        </p:nvPicPr>
        <p:blipFill>
          <a:blip r:embed="rId1"/>
          <a:stretch/>
        </p:blipFill>
        <p:spPr>
          <a:xfrm>
            <a:off x="4067280" y="302724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371600" y="2743200"/>
            <a:ext cx="712296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Veel ouderen hebben te maken met eenzaamheid. In Nederland is bekend dat 1 op de 4 ouderen eenzaamheid ervaren.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Één van de oorzaken van een depressie bij ouderen heeft te maken met eenzaamheid. Ouderen kunnen door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verminderde sociale contacten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in een zogeheten </a:t>
            </a:r>
            <a:r>
              <a:rPr b="1" lang="nl-NL" sz="1800" spc="-1" strike="noStrike">
                <a:solidFill>
                  <a:srgbClr val="775f55"/>
                </a:solidFill>
                <a:latin typeface="Tw Cen MT"/>
              </a:rPr>
              <a:t>sociaal isolement </a:t>
            </a:r>
            <a:r>
              <a:rPr b="0" lang="nl-NL" sz="1800" spc="-1" strike="noStrike">
                <a:solidFill>
                  <a:srgbClr val="775f55"/>
                </a:solidFill>
                <a:latin typeface="Tw Cen MT"/>
              </a:rPr>
              <a:t>terecht komen. Het komt voor dat het contact met de caissière in de supermarkt het enige waardevolle contact is op de dag.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zaamheid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4" name="Picture 6" descr="http://www.ouderenhart.be/PSYCHISCH_WELBEHAGEN/DEPRESSIE_ZELFDODING/depressie-zelfdoding_bijlagen/klein_depressed-woman2_BW.jpg"/>
          <p:cNvPicPr/>
          <p:nvPr/>
        </p:nvPicPr>
        <p:blipFill>
          <a:blip r:embed="rId1"/>
          <a:stretch/>
        </p:blipFill>
        <p:spPr>
          <a:xfrm>
            <a:off x="7182000" y="28440"/>
            <a:ext cx="1809720" cy="27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1357200" y="2786040"/>
            <a:ext cx="7123320" cy="34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Bron: Trimbos Instituu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en aantal cijfers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35804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1357200" y="2786040"/>
            <a:ext cx="7123320" cy="95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Een depressie onder ouderen komt veel voor in verpleeg en verzorgingshuize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hoogbejaarden’ neemt de kans op een depressie to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Onder ‘jongbejaarden’ is de kans op herstel groter mits op tijd herken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775f55"/>
                </a:solidFill>
                <a:latin typeface="Tw Cen MT"/>
              </a:rPr>
              <a:t>In algemene ziekenhuizen zijn ongeveer 6% van de opgenomen ouderen depressief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93640"/>
                <a:tab algn="l" pos="1508040"/>
                <a:tab algn="l" pos="2422440"/>
                <a:tab algn="l" pos="3336840"/>
                <a:tab algn="l" pos="4251240"/>
                <a:tab algn="l" pos="5165640"/>
                <a:tab algn="l" pos="6080040"/>
                <a:tab algn="l" pos="6994440"/>
                <a:tab algn="l" pos="7908840"/>
                <a:tab algn="l" pos="8823240"/>
                <a:tab algn="l" pos="97376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37160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w Cen MT"/>
              </a:rPr>
              <a:t>Enkele feiten op een rij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6297480" y="0"/>
            <a:ext cx="2846520" cy="160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18:26:31Z</dcterms:created>
  <dc:creator>A.Rijk</dc:creator>
  <dc:description/>
  <dc:language>en-US</dc:language>
  <cp:lastModifiedBy>Henrieke Groenewold</cp:lastModifiedBy>
  <dcterms:modified xsi:type="dcterms:W3CDTF">2016-09-20T12:50:54Z</dcterms:modified>
  <cp:revision>70</cp:revision>
  <dc:subject/>
  <dc:title>WELKOM</dc:title>
</cp:coreProperties>
</file>